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type.wav" ContentType="audio/x-wav"/>
  <Override PartName="/ppt/media/image3.jpeg" ContentType="image/jpeg"/>
  <Override PartName="/ppt/media/image4.jpeg" ContentType="image/jpeg"/>
  <Override PartName="/ppt/media/image2.png" ContentType="image/png"/>
  <Override PartName="/ppt/media/laser.wav" ContentType="audio/x-wav"/>
  <Override PartName="/ppt/media/projctor.wav" ContentType="audio/x-wav"/>
  <Override PartName="/ppt/media/MTS_003.WAV" ContentType="audio/x-wav"/>
  <Override PartName="/ppt/media/image20.jpeg" ContentType="image/jpeg"/>
  <Override PartName="/ppt/media/image15.jpeg" ContentType="image/jpeg"/>
  <Override PartName="/ppt/media/image19.png" ContentType="image/png"/>
  <Override PartName="/ppt/media/BOB7T.WAV" ContentType="audio/x-wav"/>
  <Override PartName="/ppt/media/applause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D07-9B61-4B60-B1A7-ACDC5B51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3A0-F403-4D8D-AC3F-9A632AEF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5EF-8F5B-4749-9546-2A5E264A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3E4-4FFA-43F1-B806-11A7B3B5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50B-4F6E-41C4-8BD2-FC3B7922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D19-FCB4-4669-B682-85E94DAE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26A-E107-411C-96F3-E57809DF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F80-1ADF-4852-B39E-1CA6D7B9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0A8-02FD-46BF-AFDF-0D0B8BC8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B00-9D39-46F2-A562-0A411EA7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ED8-B7A0-445F-A6B2-B0322E6B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FC4-977B-42BA-898A-7078DFF6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18DB-6854-45F7-9DAF-67B4AF3854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audio" Target="../media/laser.wav"/><Relationship Id="rId6" Type="http://schemas.openxmlformats.org/officeDocument/2006/relationships/audio" Target="../media/BOB7T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MTS_003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MTS_003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371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--Let’s go to visit Australi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624120" cy="302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745080" cy="302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92360" y="3645000"/>
            <a:ext cx="6049800" cy="2997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43280" y="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rigines/ Ko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30064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808360" cy="350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50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320508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622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476280"/>
            <a:ext cx="770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borigines      Kooris          system    spiritual    faith               hand down    elder     curiously   underground   starve         rather than     thus                percenta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480" y="243828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82800" y="31240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9280" y="47242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76440" y="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3680" y="917640"/>
            <a:ext cx="9268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arrival of foreign sett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led thousands and thousands of foreign sett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hit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520" y="933480"/>
            <a:ext cx="53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0400" y="1400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8240" y="2381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9680" y="33814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0400" y="3838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840" y="48196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9680" y="5769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1440" y="-856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5040" y="193680"/>
            <a:ext cx="9459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“Aborigines” means______.      A the oldest races on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a strong system of society      C the first people of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Their spiritual faith and gods were very important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means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hey strongly believed in their spiritual faith and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they didn’t develop a civilization of thei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they wanted to be the most important race on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The Kooris lived by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rowing different crops and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inventing and selling different kinds of fishing nets and hunt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fishing,hunting animals and gathering roots,nuts and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The number of aborigines became smaller quickly because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oreign settlers brought new disease which killed many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foreign settlers seized their land and killed many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of both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Which of the following has nothing to do with koor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Cave paintings           B. Fishing 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School education          D. A curiously shaped piece of wood for h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1080" y="1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5800" y="126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944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9816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3760" y="83808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840" y="8380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840" y="12193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7920" y="167652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2133720"/>
            <a:ext cx="51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7360" y="246384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77440" y="29718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199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160" y="42670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iseases,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9240" y="46483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333360"/>
            <a:ext cx="7596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May I ________ the car this time, Pa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OK. I know you’re a good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Thank you, Paul. ________ exactly are we going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I’m not ______ what do you ________, L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: Shall we go down the valley to ______ a nice place ______ a cam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Good______ ! And we can also have a bush walk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: Yes. I ______ bush wa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 : Oh, God! ______ careful, Bill! The road is not f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68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8748720" cy="6842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164360" y="501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b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16720" y="458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5300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lbou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34160" y="458136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3413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392720" cy="453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3737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nga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5445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5516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ucal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96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32920" y="541008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24080" y="1197000"/>
            <a:ext cx="653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yers R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Northern Terr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1413000"/>
            <a:ext cx="599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section of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Great Barrier Reef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2901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3284640"/>
            <a:ext cx="309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ang Pei and Jack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go camping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1268280"/>
            <a:ext cx="4608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riding       go climb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boating    go fish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shooting   go danc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walking     go swimming           go shopping   go sa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farming      go teach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soli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505400"/>
            <a:ext cx="2089080" cy="2020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400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56000" y="458136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71640" y="6400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camp     ash      ashtray      Bonny    dirt        valley   kangaro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eyo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ix u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cave     thirst          sunbu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06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924280"/>
            <a:ext cx="7921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people are in the ca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they smoke in the bush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do they decide to make their ca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35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No. Because they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y/could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start a bush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61657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n the bush, near some trees and a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07920"/>
            <a:ext cx="432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ake 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put out the fire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w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ound without a su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arm gates behind yo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past cars that have stopped in the bush without st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into the bush without plenty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on the 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125360"/>
            <a:ext cx="457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can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easi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ie 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Otherw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animals will e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needs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start a bush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et  sunbu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n 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 sure the fire is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1268280"/>
            <a:ext cx="93492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35280" y="4508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851280" y="2924280"/>
            <a:ext cx="115236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64000" y="1412640"/>
            <a:ext cx="1152360" cy="36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995640" y="1988640"/>
            <a:ext cx="720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2133720"/>
            <a:ext cx="647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rohibitions and 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5661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e careful: Look out: Take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5:40:03Z</dcterms:created>
  <dc:creator>zeng</dc:creator>
  <dc:description/>
  <dc:language>en-US</dc:language>
  <cp:lastModifiedBy>zds</cp:lastModifiedBy>
  <dcterms:modified xsi:type="dcterms:W3CDTF">2004-07-05T03:05:22Z</dcterms:modified>
  <cp:revision>14</cp:revision>
  <dc:subject/>
  <dc:title>幻灯片 1</dc:title>
</cp:coreProperties>
</file>