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5.png" ContentType="image/pn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type.wav" ContentType="audio/x-wav"/>
  <Override PartName="/ppt/media/image3.jpeg" ContentType="image/jpeg"/>
  <Override PartName="/ppt/media/image4.jpeg" ContentType="image/jpeg"/>
  <Override PartName="/ppt/media/image2.png" ContentType="image/png"/>
  <Override PartName="/ppt/media/laser.wav" ContentType="audio/x-wav"/>
  <Override PartName="/ppt/media/projctor.wav" ContentType="audio/x-wav"/>
  <Override PartName="/ppt/media/MTS_003.WAV" ContentType="audio/x-wav"/>
  <Override PartName="/ppt/media/image20.jpeg" ContentType="image/jpeg"/>
  <Override PartName="/ppt/media/image15.jpeg" ContentType="image/jpeg"/>
  <Override PartName="/ppt/media/image19.png" ContentType="image/png"/>
  <Override PartName="/ppt/media/BOB7T.WAV" ContentType="audio/x-wav"/>
  <Override PartName="/ppt/media/applause.wav" ContentType="audio/x-wav"/>
  <Override PartName="/ppt/media/image18.jpeg" ContentType="image/jpeg"/>
  <Override PartName="/ppt/media/image17.jpeg" ContentType="image/jpeg"/>
  <Override PartName="/ppt/media/image16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CB6F-5BE4-4CE5-BA06-70AEFB3A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B5E5-D8AB-490F-BC06-DB86612F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346-7462-4627-AC2D-6FFD1360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0DF9-B1D9-4960-90E7-9BE6D5A6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20A-246E-4E7D-8B6F-727E3C98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081-12CB-489E-9D31-65974AD7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E48-CCD9-4C49-81AB-D5875309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767-56DF-465F-B1EB-2C52DD33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299-41B7-4E3C-BC4E-08DB615A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474-4264-4F02-9668-076E6352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F97B-ECC2-4B62-B1C8-F96438D8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4D64-800D-4B74-BD0F-C86F8F1E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CB20-0FDA-413A-AA56-E23D6D752A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audio" Target="../media/BOB7T.WAV"/><Relationship Id="rId4" Type="http://schemas.openxmlformats.org/officeDocument/2006/relationships/audio" Target="../media/BOB7T.WAV"/><Relationship Id="rId5" Type="http://schemas.openxmlformats.org/officeDocument/2006/relationships/audio" Target="../media/laser.wav"/><Relationship Id="rId6" Type="http://schemas.openxmlformats.org/officeDocument/2006/relationships/audio" Target="../media/BOB7T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MTS_003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MTS_003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3716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--Let’s go to visit Australia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624120" cy="3022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3745080" cy="3024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692360" y="3645000"/>
            <a:ext cx="6049800" cy="2997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843280" y="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rigines/ Ko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530064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2808360" cy="350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4500720" cy="3500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3205080" cy="350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4643280" cy="3213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5622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4360" y="476280"/>
            <a:ext cx="770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borigines      Kooris          system    spiritual    faith               hand down    elder     curiously   underground   starve         rather than     thus                percenta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1720" y="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-reading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200" y="91440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Where did the Australians come fro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0480" y="2438280"/>
            <a:ext cx="65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What did the Kooris use for hun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8680" y="380988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How many languages were spoken in Austra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7760" y="16002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82800" y="312408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uriously shaped piece of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89280" y="472428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ver 2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76440" y="0"/>
            <a:ext cx="75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story about Australia and then t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ther the sentences are true(T) or false(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13680" y="917640"/>
            <a:ext cx="9268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1 Australia is about 20,000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2 The first people of Australia were kn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bori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3 Maybe the aborigines developed the old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of art on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4 The aborigines lived by farming and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5 The population of Kooris decreased sharp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arrival of foreign settl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6 Whenever the Kooris defended their rights,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led thousands and thousands of foreign settl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7 Koori children enjoy equal rights of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white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520" y="933480"/>
            <a:ext cx="53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0400" y="1400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8240" y="2381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9680" y="33814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0400" y="3838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840" y="48196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9680" y="5769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1440" y="-85680"/>
            <a:ext cx="40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oose the right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5040" y="193680"/>
            <a:ext cx="9459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“Aborigines” means______.      A the oldest races on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a strong system of society      C the first people of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Their spiritual faith and gods were very important to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means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hey strongly believed in their spiritual faith and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they didn’t develop a civilization of thei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they wanted to be the most important race on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The Kooris lived by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rowing different crops and veg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inventing and selling different kinds of fishing nets and hunt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fishing,hunting animals and gathering roots,nuts and 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 The number of aborigines became smaller quickly because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oreign settlers brought new disease which killed many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foreign settlers seized their land and killed many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of both A an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Which of the following has nothing to do with koor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Cave paintings           B. Fishing 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School education          D. A curiously shaped piece of wood for h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61080" y="1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65800" y="126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944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9816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970000" y="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3760" y="838080"/>
            <a:ext cx="885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First people arrived in Australia(date):  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Age of earliest cave paintings:               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Food: 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Tools: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 Special skills: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 Past Kooris population:                      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 Percentage of past population of Australia: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 Percentage of present population of Australia: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 Causes of death:                               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Past number of Kooris languages: 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1 Kooris made citizens of Australia :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840" y="83808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99"/>
                </a:solidFill>
                <a:latin typeface="Times New Roman"/>
              </a:rPr>
              <a:t>53,000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24840" y="121932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20,000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7920" y="1676520"/>
            <a:ext cx="56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nimals,birds,fish,roots,nuts,wild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2133720"/>
            <a:ext cx="51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shing nets,shaped piece of 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7360" y="2463840"/>
            <a:ext cx="42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nding underground sp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77440" y="29718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3000,000—3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19920" y="33433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  little over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160" y="4267080"/>
            <a:ext cx="22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iseases,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49240" y="46483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over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01520" y="51055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333360"/>
            <a:ext cx="7596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: May I ________ the car this time, Pa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: OK. I know you’re a good dr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: Thank you, Paul. ________ exactly are we going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: I’m not ______ what do you ________, Lo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a: Shall we go down the valley to ______ a nice place ______ a cam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: Good______ ! And we can also have a bush walk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a: Yes. I ______ bush wal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a : Oh, God! ______ careful, Bill! The road is not f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5688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8748720" cy="6842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164360" y="501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nb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16720" y="458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43640" y="5300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elbou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2280" y="0"/>
            <a:ext cx="308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3 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4920" y="838080"/>
            <a:ext cx="72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SCOVERY OF 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34160" y="458136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Austr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134136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4392720" cy="4537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537372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nga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5445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5516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eucal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3960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32920" y="5410080"/>
            <a:ext cx="753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pera House in Sydney,with the fa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arbour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24080" y="1197000"/>
            <a:ext cx="653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yers Ro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Northern Terr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32000" y="1413000"/>
            <a:ext cx="599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 section of 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Great Barrier Reef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64000" cy="2901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3284640"/>
            <a:ext cx="309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ang Pei and Jacki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go camping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1268280"/>
            <a:ext cx="4608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riding       go climb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boating    go fish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shooting   go danc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walking     go swimming           go shopping   go sa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farming      go teach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soli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4505400"/>
            <a:ext cx="2089080" cy="2020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6400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556000" y="458136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71640" y="64008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549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camp     ash      ashtray      Bonny    dirt        valley   kangaroo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eyon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fix up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 cave     thirst          sunbu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8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new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306864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924280"/>
            <a:ext cx="7921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people are in the cam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they smoke in the bush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do they decide to make their cam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47640" y="3573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486900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No. Because they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y/could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start a bush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616572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In the bush, near some trees and a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07920"/>
            <a:ext cx="4321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Make 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ou put out the fire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wa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ound without a sun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arm gates behind yo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rive past cars that have stopped in the bush without st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 into the bush without plenty of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on the 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1125360"/>
            <a:ext cx="4572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can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easil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die o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Otherwi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e animals will esc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needs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start a bush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get  sunbur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n 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e sure the fire is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1268280"/>
            <a:ext cx="934920" cy="201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635280" y="4508280"/>
            <a:ext cx="1081080" cy="158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851280" y="2924280"/>
            <a:ext cx="1152360" cy="1009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64000" y="1412640"/>
            <a:ext cx="1152360" cy="367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995640" y="1988640"/>
            <a:ext cx="72072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95640" y="2133720"/>
            <a:ext cx="647640" cy="165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33336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prohibitions and w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566100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e careful: Look out: Take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15:40:03Z</dcterms:created>
  <dc:creator>zeng</dc:creator>
  <dc:description/>
  <dc:language>en-US</dc:language>
  <cp:lastModifiedBy>zds</cp:lastModifiedBy>
  <dcterms:modified xsi:type="dcterms:W3CDTF">2004-07-05T03:05:22Z</dcterms:modified>
  <cp:revision>14</cp:revision>
  <dc:subject/>
  <dc:title>幻灯片 1</dc:title>
</cp:coreProperties>
</file>