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wmf" ContentType="image/x-wmf"/>
  <Override PartName="/ppt/media/image23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5137-8B4E-4F6D-B92F-47D58701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12A8-B90A-4161-94CE-E0945F4D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0564-6551-45C9-B411-A8DB7736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20E4-9F6D-456F-B27F-3B6869A8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B6D6-BF0C-42F6-85E5-D65E0F1B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BB0E-E9BB-49C9-8317-CBAF3B9B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5582-639E-4AA1-9DF8-C0EC8496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54C0-0093-4E32-9755-3AAAD62A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C3CE-1239-49CB-B4FD-19D4EC7E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B85B-04F6-4391-A354-7DCE49DB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D319-6E5A-44C8-A618-47E1FEF4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11C3-AEDD-4AAF-B5AC-6869C1D7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F4D5-CE78-445B-BC46-7BC2CF3A4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jpeg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19051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Times New Roman"/>
              </a:rPr>
              <a:t>Unit 26  People and 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399240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Lesson 10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5477040" y="0"/>
            <a:ext cx="3657600" cy="6553080"/>
            <a:chOff x="5477040" y="0"/>
            <a:chExt cx="3657600" cy="6553080"/>
          </a:xfrm>
        </p:grpSpPr>
        <p:pic>
          <p:nvPicPr>
            <p:cNvPr id="96" name="1101a1" descr=""/>
            <p:cNvPicPr/>
            <p:nvPr/>
          </p:nvPicPr>
          <p:blipFill>
            <a:blip r:embed="rId1"/>
            <a:stretch/>
          </p:blipFill>
          <p:spPr>
            <a:xfrm>
              <a:off x="5553000" y="0"/>
              <a:ext cx="358164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1101b1" descr=""/>
            <p:cNvPicPr/>
            <p:nvPr/>
          </p:nvPicPr>
          <p:blipFill>
            <a:blip r:embed="rId2"/>
            <a:stretch/>
          </p:blipFill>
          <p:spPr>
            <a:xfrm>
              <a:off x="5477040" y="3429000"/>
              <a:ext cx="3657600" cy="312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"/>
          <p:cNvSpPr/>
          <p:nvPr/>
        </p:nvSpPr>
        <p:spPr>
          <a:xfrm>
            <a:off x="380880" y="762120"/>
            <a:ext cx="5105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Where does he wor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He works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a factor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1905120"/>
            <a:ext cx="8915400" cy="3657600"/>
            <a:chOff x="0" y="1905120"/>
            <a:chExt cx="8915400" cy="3657600"/>
          </a:xfrm>
        </p:grpSpPr>
        <p:pic>
          <p:nvPicPr>
            <p:cNvPr id="100" name="1101a3" descr=""/>
            <p:cNvPicPr/>
            <p:nvPr/>
          </p:nvPicPr>
          <p:blipFill>
            <a:blip r:embed="rId1"/>
            <a:stretch/>
          </p:blipFill>
          <p:spPr>
            <a:xfrm>
              <a:off x="0" y="1905120"/>
              <a:ext cx="403848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1101b4" descr=""/>
            <p:cNvPicPr/>
            <p:nvPr/>
          </p:nvPicPr>
          <p:blipFill>
            <a:blip r:embed="rId2"/>
            <a:stretch/>
          </p:blipFill>
          <p:spPr>
            <a:xfrm>
              <a:off x="4495680" y="1905120"/>
              <a:ext cx="4419720" cy="365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4876920" y="487692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1600200"/>
            <a:ext cx="8991720" cy="3807000"/>
            <a:chOff x="0" y="1600200"/>
            <a:chExt cx="8991720" cy="3807000"/>
          </a:xfrm>
        </p:grpSpPr>
        <p:pic>
          <p:nvPicPr>
            <p:cNvPr id="104" name="1101a2" descr=""/>
            <p:cNvPicPr/>
            <p:nvPr/>
          </p:nvPicPr>
          <p:blipFill>
            <a:blip r:embed="rId1"/>
            <a:stretch/>
          </p:blipFill>
          <p:spPr>
            <a:xfrm>
              <a:off x="0" y="1600200"/>
              <a:ext cx="4191120" cy="38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1101b2" descr=""/>
            <p:cNvPicPr/>
            <p:nvPr/>
          </p:nvPicPr>
          <p:blipFill>
            <a:blip r:embed="rId2"/>
            <a:stretch/>
          </p:blipFill>
          <p:spPr>
            <a:xfrm>
              <a:off x="4724280" y="1600200"/>
              <a:ext cx="4267440" cy="3782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1066680"/>
            <a:ext cx="9134640" cy="4419720"/>
            <a:chOff x="0" y="1066680"/>
            <a:chExt cx="9134640" cy="4419720"/>
          </a:xfrm>
        </p:grpSpPr>
        <p:pic>
          <p:nvPicPr>
            <p:cNvPr id="107" name="1101a10" descr=""/>
            <p:cNvPicPr/>
            <p:nvPr/>
          </p:nvPicPr>
          <p:blipFill>
            <a:blip r:embed="rId1"/>
            <a:stretch/>
          </p:blipFill>
          <p:spPr>
            <a:xfrm>
              <a:off x="0" y="1066680"/>
              <a:ext cx="4343400" cy="441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1101b5" descr=""/>
            <p:cNvPicPr/>
            <p:nvPr/>
          </p:nvPicPr>
          <p:blipFill>
            <a:blip r:embed="rId2"/>
            <a:stretch/>
          </p:blipFill>
          <p:spPr>
            <a:xfrm>
              <a:off x="4562640" y="1066680"/>
              <a:ext cx="4572000" cy="4343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76320" y="1219320"/>
            <a:ext cx="8915400" cy="4086000"/>
            <a:chOff x="76320" y="1219320"/>
            <a:chExt cx="8915400" cy="4086000"/>
          </a:xfrm>
        </p:grpSpPr>
        <p:pic>
          <p:nvPicPr>
            <p:cNvPr id="110" name="1101a4" descr=""/>
            <p:cNvPicPr/>
            <p:nvPr/>
          </p:nvPicPr>
          <p:blipFill>
            <a:blip r:embed="rId1"/>
            <a:stretch/>
          </p:blipFill>
          <p:spPr>
            <a:xfrm>
              <a:off x="76320" y="1295280"/>
              <a:ext cx="4419360" cy="40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1101b3" descr=""/>
            <p:cNvPicPr/>
            <p:nvPr/>
          </p:nvPicPr>
          <p:blipFill>
            <a:blip r:embed="rId2"/>
            <a:stretch/>
          </p:blipFill>
          <p:spPr>
            <a:xfrm>
              <a:off x="4952880" y="1219320"/>
              <a:ext cx="4038840" cy="408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57200"/>
            <a:ext cx="38862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:Who’s this m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:He’s Mr Gr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:What does he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B:He is a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1092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887640" y="380880"/>
            <a:ext cx="52563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5152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educl011" descr=""/>
          <p:cNvPicPr/>
          <p:nvPr/>
        </p:nvPicPr>
        <p:blipFill>
          <a:blip r:embed="rId2"/>
          <a:stretch/>
        </p:blipFill>
        <p:spPr>
          <a:xfrm>
            <a:off x="2438280" y="0"/>
            <a:ext cx="4815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2819520" y="0"/>
            <a:ext cx="4798800" cy="6858000"/>
            <a:chOff x="2819520" y="0"/>
            <a:chExt cx="4798800" cy="685800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2819520" y="0"/>
              <a:ext cx="4798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335400" y="1630080"/>
              <a:ext cx="131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doct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514600" y="0"/>
            <a:ext cx="5249880" cy="6858000"/>
            <a:chOff x="2514600" y="0"/>
            <a:chExt cx="5249880" cy="6858000"/>
          </a:xfrm>
        </p:grpSpPr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2514600" y="0"/>
              <a:ext cx="5249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099400" y="5059440"/>
              <a:ext cx="144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work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371600" y="685800"/>
            <a:ext cx="7315200" cy="56545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219320" y="0"/>
            <a:ext cx="7162560" cy="6651720"/>
            <a:chOff x="1219320" y="0"/>
            <a:chExt cx="7162560" cy="6651720"/>
          </a:xfrm>
        </p:grpSpPr>
        <p:pic>
          <p:nvPicPr>
            <p:cNvPr id="57" name="" descr=""/>
            <p:cNvPicPr/>
            <p:nvPr/>
          </p:nvPicPr>
          <p:blipFill>
            <a:blip r:embed="rId6"/>
            <a:stretch/>
          </p:blipFill>
          <p:spPr>
            <a:xfrm>
              <a:off x="1219320" y="0"/>
              <a:ext cx="716256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645720" y="2590920"/>
              <a:ext cx="11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nur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828800" y="0"/>
            <a:ext cx="6431040" cy="6858000"/>
            <a:chOff x="1828800" y="0"/>
            <a:chExt cx="6431040" cy="6858000"/>
          </a:xfrm>
        </p:grpSpPr>
        <p:pic>
          <p:nvPicPr>
            <p:cNvPr id="60" name="" descr=""/>
            <p:cNvPicPr/>
            <p:nvPr/>
          </p:nvPicPr>
          <p:blipFill>
            <a:blip r:embed="rId7"/>
            <a:stretch/>
          </p:blipFill>
          <p:spPr>
            <a:xfrm>
              <a:off x="1828800" y="0"/>
              <a:ext cx="64310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410440" y="5334120"/>
              <a:ext cx="167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postma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057400" y="0"/>
            <a:ext cx="5730840" cy="6400800"/>
            <a:chOff x="2057400" y="0"/>
            <a:chExt cx="5730840" cy="6400800"/>
          </a:xfrm>
        </p:grpSpPr>
        <p:pic>
          <p:nvPicPr>
            <p:cNvPr id="63" name="" descr=""/>
            <p:cNvPicPr/>
            <p:nvPr/>
          </p:nvPicPr>
          <p:blipFill>
            <a:blip r:embed="rId8"/>
            <a:stretch/>
          </p:blipFill>
          <p:spPr>
            <a:xfrm>
              <a:off x="2057400" y="0"/>
              <a:ext cx="573084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258160" y="2392200"/>
              <a:ext cx="144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clean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981080" y="0"/>
            <a:ext cx="6353280" cy="6400800"/>
            <a:chOff x="1981080" y="0"/>
            <a:chExt cx="6353280" cy="6400800"/>
          </a:xfrm>
        </p:grpSpPr>
        <p:pic>
          <p:nvPicPr>
            <p:cNvPr id="66" name="" descr=""/>
            <p:cNvPicPr/>
            <p:nvPr/>
          </p:nvPicPr>
          <p:blipFill>
            <a:blip r:embed="rId9"/>
            <a:stretch/>
          </p:blipFill>
          <p:spPr>
            <a:xfrm>
              <a:off x="1981080" y="0"/>
              <a:ext cx="635328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267440" y="762120"/>
              <a:ext cx="140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farm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905120" y="0"/>
            <a:ext cx="5810040" cy="6858000"/>
            <a:chOff x="1905120" y="0"/>
            <a:chExt cx="5810040" cy="6858000"/>
          </a:xfrm>
        </p:grpSpPr>
        <p:pic>
          <p:nvPicPr>
            <p:cNvPr id="69" name="pplby158" descr=""/>
            <p:cNvPicPr/>
            <p:nvPr/>
          </p:nvPicPr>
          <p:blipFill>
            <a:blip r:embed="rId10"/>
            <a:stretch/>
          </p:blipFill>
          <p:spPr>
            <a:xfrm>
              <a:off x="1905120" y="0"/>
              <a:ext cx="58100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439360" y="2529000"/>
              <a:ext cx="1942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Times New Roman"/>
                </a:rPr>
                <a:t>soldier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066680" y="196920"/>
            <a:ext cx="6781680" cy="6661080"/>
            <a:chOff x="1066680" y="196920"/>
            <a:chExt cx="6781680" cy="6661080"/>
          </a:xfrm>
        </p:grpSpPr>
        <p:pic>
          <p:nvPicPr>
            <p:cNvPr id="72" name="" descr=""/>
            <p:cNvPicPr/>
            <p:nvPr/>
          </p:nvPicPr>
          <p:blipFill>
            <a:blip r:embed="rId11"/>
            <a:stretch/>
          </p:blipFill>
          <p:spPr>
            <a:xfrm>
              <a:off x="1066680" y="196920"/>
              <a:ext cx="6781680" cy="66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438640" y="2494080"/>
              <a:ext cx="1806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Times New Roman"/>
                </a:rPr>
                <a:t>driver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311560" y="0"/>
            <a:ext cx="4317840" cy="6858000"/>
            <a:chOff x="2311560" y="0"/>
            <a:chExt cx="4317840" cy="6858000"/>
          </a:xfrm>
        </p:grpSpPr>
        <p:pic>
          <p:nvPicPr>
            <p:cNvPr id="75" name="" descr=""/>
            <p:cNvPicPr/>
            <p:nvPr/>
          </p:nvPicPr>
          <p:blipFill>
            <a:blip r:embed="rId12"/>
            <a:stretch/>
          </p:blipFill>
          <p:spPr>
            <a:xfrm>
              <a:off x="2311560" y="0"/>
              <a:ext cx="4317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997000" y="1828800"/>
              <a:ext cx="3228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businessma</a:t>
              </a: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educh023" descr=""/>
          <p:cNvPicPr/>
          <p:nvPr/>
        </p:nvPicPr>
        <p:blipFill>
          <a:blip r:embed="rId13"/>
          <a:stretch/>
        </p:blipFill>
        <p:spPr>
          <a:xfrm>
            <a:off x="3048120" y="0"/>
            <a:ext cx="389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1101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68580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1101a1" descr=""/>
          <p:cNvPicPr/>
          <p:nvPr/>
        </p:nvPicPr>
        <p:blipFill>
          <a:blip r:embed="rId1"/>
          <a:stretch/>
        </p:blipFill>
        <p:spPr>
          <a:xfrm>
            <a:off x="5562720" y="0"/>
            <a:ext cx="3581280" cy="2819520"/>
          </a:xfrm>
          <a:prstGeom prst="rect">
            <a:avLst/>
          </a:prstGeom>
          <a:ln w="0">
            <a:noFill/>
          </a:ln>
        </p:spPr>
      </p:pic>
      <p:pic>
        <p:nvPicPr>
          <p:cNvPr id="80" name="1101b1" descr=""/>
          <p:cNvPicPr/>
          <p:nvPr/>
        </p:nvPicPr>
        <p:blipFill>
          <a:blip r:embed="rId2"/>
          <a:stretch/>
        </p:blipFill>
        <p:spPr>
          <a:xfrm>
            <a:off x="5486400" y="34290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4920" y="4572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a work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2880" y="3581280"/>
            <a:ext cx="40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orks in a fa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1905120"/>
            <a:ext cx="8915400" cy="3657600"/>
            <a:chOff x="0" y="1905120"/>
            <a:chExt cx="8915400" cy="3657600"/>
          </a:xfrm>
        </p:grpSpPr>
        <p:pic>
          <p:nvPicPr>
            <p:cNvPr id="84" name="1101a3" descr=""/>
            <p:cNvPicPr/>
            <p:nvPr/>
          </p:nvPicPr>
          <p:blipFill>
            <a:blip r:embed="rId1"/>
            <a:stretch/>
          </p:blipFill>
          <p:spPr>
            <a:xfrm>
              <a:off x="0" y="1905120"/>
              <a:ext cx="403848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1101b4" descr=""/>
            <p:cNvPicPr/>
            <p:nvPr/>
          </p:nvPicPr>
          <p:blipFill>
            <a:blip r:embed="rId2"/>
            <a:stretch/>
          </p:blipFill>
          <p:spPr>
            <a:xfrm>
              <a:off x="4495680" y="1905120"/>
              <a:ext cx="4419720" cy="365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1600200"/>
            <a:ext cx="9144000" cy="3807000"/>
            <a:chOff x="0" y="1600200"/>
            <a:chExt cx="9144000" cy="3807000"/>
          </a:xfrm>
        </p:grpSpPr>
        <p:pic>
          <p:nvPicPr>
            <p:cNvPr id="87" name="1101a2" descr=""/>
            <p:cNvPicPr/>
            <p:nvPr/>
          </p:nvPicPr>
          <p:blipFill>
            <a:blip r:embed="rId1"/>
            <a:stretch/>
          </p:blipFill>
          <p:spPr>
            <a:xfrm>
              <a:off x="0" y="1600200"/>
              <a:ext cx="4191120" cy="38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1101b2" descr=""/>
            <p:cNvPicPr/>
            <p:nvPr/>
          </p:nvPicPr>
          <p:blipFill>
            <a:blip r:embed="rId2"/>
            <a:stretch/>
          </p:blipFill>
          <p:spPr>
            <a:xfrm>
              <a:off x="4876920" y="1600200"/>
              <a:ext cx="4267080" cy="3782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1066680"/>
            <a:ext cx="9144000" cy="4419720"/>
            <a:chOff x="0" y="1066680"/>
            <a:chExt cx="9144000" cy="4419720"/>
          </a:xfrm>
        </p:grpSpPr>
        <p:pic>
          <p:nvPicPr>
            <p:cNvPr id="90" name="1101a10" descr=""/>
            <p:cNvPicPr/>
            <p:nvPr/>
          </p:nvPicPr>
          <p:blipFill>
            <a:blip r:embed="rId1"/>
            <a:stretch/>
          </p:blipFill>
          <p:spPr>
            <a:xfrm>
              <a:off x="0" y="1066680"/>
              <a:ext cx="4343400" cy="441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1101b5" descr=""/>
            <p:cNvPicPr/>
            <p:nvPr/>
          </p:nvPicPr>
          <p:blipFill>
            <a:blip r:embed="rId2"/>
            <a:stretch/>
          </p:blipFill>
          <p:spPr>
            <a:xfrm>
              <a:off x="4572000" y="1066680"/>
              <a:ext cx="4572000" cy="4343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380880" y="1219320"/>
            <a:ext cx="8763120" cy="4086000"/>
            <a:chOff x="380880" y="1219320"/>
            <a:chExt cx="8763120" cy="4086000"/>
          </a:xfrm>
        </p:grpSpPr>
        <p:pic>
          <p:nvPicPr>
            <p:cNvPr id="93" name="1101a4" descr=""/>
            <p:cNvPicPr/>
            <p:nvPr/>
          </p:nvPicPr>
          <p:blipFill>
            <a:blip r:embed="rId1"/>
            <a:stretch/>
          </p:blipFill>
          <p:spPr>
            <a:xfrm>
              <a:off x="380880" y="1295280"/>
              <a:ext cx="4419720" cy="40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1101b3" descr=""/>
            <p:cNvPicPr/>
            <p:nvPr/>
          </p:nvPicPr>
          <p:blipFill>
            <a:blip r:embed="rId2"/>
            <a:stretch/>
          </p:blipFill>
          <p:spPr>
            <a:xfrm>
              <a:off x="5105520" y="1219320"/>
              <a:ext cx="4038480" cy="408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06:32:21Z</dcterms:created>
  <dc:creator> </dc:creator>
  <dc:description/>
  <dc:language>en-US</dc:language>
  <cp:lastModifiedBy>tlxx</cp:lastModifiedBy>
  <dcterms:modified xsi:type="dcterms:W3CDTF">2001-04-27T01:44:33Z</dcterms:modified>
  <cp:revision>11</cp:revision>
  <dc:subject/>
  <dc:title>没有幻灯片标题</dc:title>
</cp:coreProperties>
</file>