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type.wav" ContentType="audio/x-wav"/>
  <Override PartName="/ppt/media/image3.jpeg" ContentType="image/jpeg"/>
  <Override PartName="/ppt/media/image4.jpeg" ContentType="image/jpeg"/>
  <Override PartName="/ppt/media/image2.png" ContentType="image/png"/>
  <Override PartName="/ppt/media/laser.wav" ContentType="audio/x-wav"/>
  <Override PartName="/ppt/media/projctor.wav" ContentType="audio/x-wav"/>
  <Override PartName="/ppt/media/MTS_003.WAV" ContentType="audio/x-wav"/>
  <Override PartName="/ppt/media/image20.jpeg" ContentType="image/jpeg"/>
  <Override PartName="/ppt/media/image15.jpeg" ContentType="image/jpeg"/>
  <Override PartName="/ppt/media/image19.png" ContentType="image/png"/>
  <Override PartName="/ppt/media/BOB7T.WAV" ContentType="audio/x-wav"/>
  <Override PartName="/ppt/media/applause.wav" ContentType="audio/x-wav"/>
  <Override PartName="/ppt/media/image18.jpeg" ContentType="image/jpeg"/>
  <Override PartName="/ppt/media/image17.jpeg" ContentType="image/jpeg"/>
  <Override PartName="/ppt/media/image1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E29-BDE5-4419-9FC6-5AA556D14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EE1-ADC0-4158-80B2-22A227DE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8976-E616-445D-9805-ACA3A094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D267-6095-4F66-B69B-B1A06493D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908-BC1C-462F-88EE-88819BCE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7683-15E4-47E0-82BE-E6B2CABB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4824-CF99-47E0-856C-C36D59D2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294-19BD-4BE9-835C-369F8535D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BD3-AD0A-400E-A375-A3745CA3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0944-B4FC-410D-9630-7DAC1DF9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1F1-17E2-453E-989C-C13A6BC9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3697-A95F-4821-A5C1-CD50121B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33FD-22E3-4686-AD7B-C759D06F30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audio" Target="../media/laser.wav"/><Relationship Id="rId6" Type="http://schemas.openxmlformats.org/officeDocument/2006/relationships/audio" Target="../media/BOB7T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MTS_003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MTS_003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371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--Let’s go to visit Australia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624120" cy="3022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3745080" cy="3024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92360" y="3645000"/>
            <a:ext cx="6049800" cy="2997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43280" y="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rigines/ Ko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30064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2808360" cy="350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500720" cy="3500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3205080" cy="35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5622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4360" y="476280"/>
            <a:ext cx="770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borigines      Kooris          system    spiritual    faith               hand down    elder     curiously   underground   starve         rather than     thus                percenta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0480" y="243828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82800" y="312408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9280" y="47242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76440" y="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3680" y="917640"/>
            <a:ext cx="9268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arrival of foreign sett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led thousands and thousands of foreign sett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whit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520" y="933480"/>
            <a:ext cx="53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0400" y="1400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8240" y="2381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9680" y="33814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0400" y="3838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840" y="48196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9680" y="5769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1440" y="-85680"/>
            <a:ext cx="40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5040" y="193680"/>
            <a:ext cx="9459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“Aborigines” means______.      A the oldest races on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a strong system of society      C the first people of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Their spiritual faith and gods were very important to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means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hey strongly believed in their spiritual faith and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they didn’t develop a civilization of thei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they wanted to be the most important race on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The Kooris lived by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rowing different crops and veg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inventing and selling different kinds of fishing nets and hunt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fishing,hunting animals and gathering roots,nuts and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The number of aborigines became smaller quickly because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oreign settlers brought new disease which killed many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foreign settlers seized their land and killed many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of both A a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Which of the following has nothing to do with koor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Cave paintings           B. Fishing 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School education          D. A curiously shaped piece of wood for h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1080" y="1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5800" y="126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944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9816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3760" y="83808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840" y="83808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24840" y="121932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7920" y="1676520"/>
            <a:ext cx="56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2133720"/>
            <a:ext cx="51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7360" y="2463840"/>
            <a:ext cx="42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77440" y="29718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199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160" y="42670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iseases,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9240" y="46483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333360"/>
            <a:ext cx="7596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: May I ________ the car this time, Pa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OK. I know you’re a good d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: Thank you, Paul. ________ exactly are we going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I’m not ______ what do you ________, Lo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: Shall we go down the valley to ______ a nice place ______ a cam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Good______ ! And we can also have a bush walk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: Yes. I ______ bush wal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 : Oh, God! ______ careful, Bill! The road is not f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568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8748720" cy="6842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164360" y="501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b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16720" y="458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43640" y="5300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lbou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34160" y="458136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34136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392720" cy="453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53737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nga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5445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5516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ucal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3960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32920" y="541008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24080" y="1197000"/>
            <a:ext cx="653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yers Ro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Northern Terr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32000" y="1413000"/>
            <a:ext cx="599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 section of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Great Barrier Reef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2901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3284640"/>
            <a:ext cx="309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ang Pei and Jack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go camping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1268280"/>
            <a:ext cx="4608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riding       go climb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boating    go fish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shooting   go danc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walking     go swimming           go shopping   go sa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farming      go teach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soli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4505400"/>
            <a:ext cx="2089080" cy="2020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6400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56000" y="458136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71640" y="6400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549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camp     ash      ashtray      Bonny    dirt        valley   kangaroo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eyon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fix up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cave     thirst          sunbu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8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new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06864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924280"/>
            <a:ext cx="7921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people are in the cam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they smoke in the bush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do they decide to make their cam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7640" y="357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86900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No. Because they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y/could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start a bush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616572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n the bush, near some trees and a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07920"/>
            <a:ext cx="4321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ake 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ou put out the fire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wa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ound without a sun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arm gates behind yo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ive past cars that have stopped in the bush without st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 into the bush without plenty of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on the 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1125360"/>
            <a:ext cx="4572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can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easil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ie o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Otherw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e animals will esc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needs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start a bush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get  sunbu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n 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 sure the fire is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1268280"/>
            <a:ext cx="934920" cy="201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635280" y="4508280"/>
            <a:ext cx="1081080" cy="158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851280" y="2924280"/>
            <a:ext cx="1152360" cy="100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64000" y="1412640"/>
            <a:ext cx="1152360" cy="36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995640" y="1988640"/>
            <a:ext cx="72072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2133720"/>
            <a:ext cx="647640" cy="165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333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rohibitions and 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566100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e careful: Look out: Take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15:40:03Z</dcterms:created>
  <dc:creator>zeng</dc:creator>
  <dc:description/>
  <dc:language>en-US</dc:language>
  <cp:lastModifiedBy>zds</cp:lastModifiedBy>
  <dcterms:modified xsi:type="dcterms:W3CDTF">2004-07-05T03:05:22Z</dcterms:modified>
  <cp:revision>14</cp:revision>
  <dc:subject/>
  <dc:title>幻灯片 1</dc:title>
</cp:coreProperties>
</file>