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63E-C29F-4DD7-97FD-4416D75A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89A-6104-4D9B-9DC4-4D14EEC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FD1-A217-41C6-8CE5-272C3B54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1F5-6400-4140-90D0-DDE0F23A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58B-4F8A-4BC5-9773-642191D8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E37-1C8B-46FD-A303-94A2FBD3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71A-0316-4BBC-8286-AAEB3640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714-5064-48DC-9544-9B99C252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E33-BEE6-4433-88D7-6BF7A248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6C6-2196-40AF-8F5C-66934F4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E65-E9C6-46B7-8A04-FB0A1B9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A35-907F-4E68-AA3C-163A4D4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F365-6F2C-43B1-91BF-A18340CF72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zeng</cp:lastModifiedBy>
  <dcterms:modified xsi:type="dcterms:W3CDTF">2004-06-13T11:24:36Z</dcterms:modified>
  <cp:revision>15</cp:revision>
  <dc:subject/>
  <dc:title>Welcome to my class!</dc:title>
</cp:coreProperties>
</file>