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281-291E-4005-9839-085B0B21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803-2E6C-4CDC-AE65-D2EEDAE1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68A-328C-45DF-8D0A-7620B13A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B9A-3633-4A42-82B8-6913202B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4DA-3CC2-4BFA-8CBD-645B56C5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78E-1B67-4771-A1E5-5ECE21B3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89F-7313-44E5-819B-9F4A673D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31B-7BF6-4EFE-9594-58FB58D0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3EB-0A43-4159-AB39-C1F7A513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BFE-FA32-4FE8-A27C-3ADBEE0D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366-7E33-438D-933C-15917102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033-9686-4A8F-A348-4CF9944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F96A-4125-4C6A-897A-DAD040F51D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zeng</cp:lastModifiedBy>
  <dcterms:modified xsi:type="dcterms:W3CDTF">2004-06-13T11:24:36Z</dcterms:modified>
  <cp:revision>15</cp:revision>
  <dc:subject/>
  <dc:title>Welcome to my class!</dc:title>
</cp:coreProperties>
</file>