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5.png" ContentType="image/pn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type.wav" ContentType="audio/x-wav"/>
  <Override PartName="/ppt/media/image3.jpeg" ContentType="image/jpeg"/>
  <Override PartName="/ppt/media/image4.jpeg" ContentType="image/jpeg"/>
  <Override PartName="/ppt/media/image2.png" ContentType="image/png"/>
  <Override PartName="/ppt/media/laser.wav" ContentType="audio/x-wav"/>
  <Override PartName="/ppt/media/projctor.wav" ContentType="audio/x-wav"/>
  <Override PartName="/ppt/media/MTS_003.WAV" ContentType="audio/x-wav"/>
  <Override PartName="/ppt/media/image20.jpeg" ContentType="image/jpeg"/>
  <Override PartName="/ppt/media/image15.jpeg" ContentType="image/jpeg"/>
  <Override PartName="/ppt/media/image19.png" ContentType="image/png"/>
  <Override PartName="/ppt/media/BOB7T.WAV" ContentType="audio/x-wav"/>
  <Override PartName="/ppt/media/applause.wav" ContentType="audio/x-wav"/>
  <Override PartName="/ppt/media/image18.jpeg" ContentType="image/jpeg"/>
  <Override PartName="/ppt/media/image17.jpeg" ContentType="image/jpeg"/>
  <Override PartName="/ppt/media/image16.jpeg" ContentType="image/jpeg"/>
  <Override PartName="/ppt/media/chimes.wav" ContentType="audio/x-wav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8CD-571E-4E11-87FA-BB97560E0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4FB7-C822-4DB4-9F8C-BCB91089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38DA-FD3F-4AE3-BF7A-AE93E7A5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E85-2F8E-4ED5-BF11-1728A293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E908-5DB4-4507-BD47-280C9F82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597C-A7B2-4313-8502-667C9553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A01-8B49-49EF-8000-593A7DB1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1315-B2DD-40E8-BC31-3625F041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FD04-CCBC-4535-B50F-539BCA34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3A93-E302-42AB-86D1-693ED83C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90EE-21B5-4C8F-A985-5033E593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B670-8AA3-470C-A21F-37AB80D3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B2C89-35DD-4A6B-B4E6-3CC91C8E68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audio" Target="../media/BOB7T.WAV"/><Relationship Id="rId4" Type="http://schemas.openxmlformats.org/officeDocument/2006/relationships/audio" Target="../media/BOB7T.WAV"/><Relationship Id="rId5" Type="http://schemas.openxmlformats.org/officeDocument/2006/relationships/audio" Target="../media/laser.wav"/><Relationship Id="rId6" Type="http://schemas.openxmlformats.org/officeDocument/2006/relationships/audio" Target="../media/BOB7T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MTS_003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projctor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projctor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MTS_003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3716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--Let’s go to visit Australia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3624120" cy="3022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59280" y="476280"/>
            <a:ext cx="3745080" cy="3024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692360" y="3645000"/>
            <a:ext cx="6049800" cy="2997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843280" y="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origines/ Ko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5300640"/>
            <a:ext cx="17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92360" y="0"/>
            <a:ext cx="2808360" cy="350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4500720" cy="3500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3205080" cy="3500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0" y="3645000"/>
            <a:ext cx="4643280" cy="3213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5622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4360" y="476280"/>
            <a:ext cx="770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borigines      Kooris          system    spiritual    faith               hand down    elder     curiously   underground   starve         rather than     thus                percenta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1720" y="0"/>
            <a:ext cx="41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-reading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1200" y="914400"/>
            <a:ext cx="68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Where did the Australians come from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0480" y="2438280"/>
            <a:ext cx="65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What did the Kooris use for hun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8680" y="3809880"/>
            <a:ext cx="83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How many languages were spoken in Austral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7760" y="1600200"/>
            <a:ext cx="10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82800" y="3124080"/>
            <a:ext cx="58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curiously shaped piece of w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89280" y="472428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ver 25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76440" y="0"/>
            <a:ext cx="75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story about Australia and then te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ther the sentences are true(T) or false(F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-13680" y="917640"/>
            <a:ext cx="92685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1 Australia is about 20,000 years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2 The first people of Australia were know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borig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3 Maybe the aborigines developed the old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 of art on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4 The aborigines lived by farming and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5 The population of Kooris decreased sharp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arrival of foreign settl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6 Whenever the Kooris defended their rights,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led thousands and thousands of foreign settl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7 Koori children enjoy equal rights of edu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white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7520" y="933480"/>
            <a:ext cx="53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0400" y="14000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8240" y="23814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9680" y="33814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0400" y="3838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840" y="48196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9680" y="5769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1440" y="-85680"/>
            <a:ext cx="40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oose the right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5040" y="193680"/>
            <a:ext cx="9459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“Aborigines” means______.      A the oldest races on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a strong system of society      C the first people of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Their spiritual faith and gods were very important to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means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hey strongly believed in their spiritual faith and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they didn’t develop a civilization of their 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they wanted to be the most important race on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The Kooris lived by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rowing different crops and vege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inventing and selling different kinds of fishing nets and hunting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fishing,hunting animals and gathering roots,nuts and fr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 The number of aborigines became smaller quickly because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foreign settlers brought new disease which killed many of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foreign settlers seized their land and killed many of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of both A and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Which of the following has nothing to do with koor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. Cave paintings           B. Fishing 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. School education          D. A curiously shaped piece of wood for h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61080" y="189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65800" y="1268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989440" y="26370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598160" y="4076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970000" y="0"/>
            <a:ext cx="22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3760" y="838080"/>
            <a:ext cx="8858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 First people arrived in Australia(date):  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 Age of earliest cave paintings:               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Food: 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 Tools: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 Special skills: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 Past Kooris population:                      ________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 Percentage of past population of Australia: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 Percentage of present population of Australia: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 Causes of death:                                 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 Past number of Kooris languages:   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1 Kooris made citizens of Australia :      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24840" y="83808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99"/>
                </a:solidFill>
                <a:latin typeface="Times New Roman"/>
              </a:rPr>
              <a:t>53,000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24840" y="1219320"/>
            <a:ext cx="26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20,000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27920" y="1676520"/>
            <a:ext cx="56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nimals,birds,fish,roots,nuts,wild 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81280" y="2133720"/>
            <a:ext cx="51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ishing nets,shaped piece of 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7360" y="2463840"/>
            <a:ext cx="423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finding underground sp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77440" y="29718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3000,000—3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19920" y="3343320"/>
            <a:ext cx="101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8660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a  little over 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48160" y="4267080"/>
            <a:ext cx="224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diseases,ki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49240" y="464832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over 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01520" y="51055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1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333360"/>
            <a:ext cx="7596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: May I ________ the car this time, Pau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: OK. I know you’re a good dri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: Thank you, Paul. ________ exactly are we going 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: I’m not ______ what do you ________, Lo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a: Shall we go down the valley to ______ a nice place ______ a cam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l: Good______ ! And we can also have a bush walk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a: Yes. I ______ bush wal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a : Oh, God! ______ careful, Bill! The road is not fl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5688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8748720" cy="6842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164360" y="501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anb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416720" y="458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y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43640" y="53006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elbou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122280" y="0"/>
            <a:ext cx="308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t 3 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94920" y="838080"/>
            <a:ext cx="720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DISCOVERY OF AUSTR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34160" y="458136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Austr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19640" y="134136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h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4392720" cy="4537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537372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ngaro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59280" y="544500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5516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eucaly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859280" y="476280"/>
            <a:ext cx="39607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32920" y="5410080"/>
            <a:ext cx="753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pera House in Sydney,with the fam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arbour 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24080" y="1197000"/>
            <a:ext cx="653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yers Ro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n the Northern Terri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32000" y="1413000"/>
            <a:ext cx="599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 section of </a:t>
            </a: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Great Barrier Reef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64000" cy="2901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9280" y="3284640"/>
            <a:ext cx="3097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Yang Pei and Jacki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go camping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bu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1268280"/>
            <a:ext cx="46083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riding       go climb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boating    go fish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shooting   go danc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walking     go swimming           go shopping   go sa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farming      go teaching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go soli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0920" y="4505400"/>
            <a:ext cx="2089080" cy="2020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16000" y="64008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556000" y="4581360"/>
            <a:ext cx="1800000" cy="172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71640" y="64008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68360" y="54936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camp     ash      ashtray      Bonny    dirt        valley   kangaroo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beyon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fix up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 cave     thirst          sunbur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189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new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306864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2924280"/>
            <a:ext cx="79218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people are in the cam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they smoke in the bush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re do they decide to make their cam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47640" y="3573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f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486900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No. Because they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may/could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start a bush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616572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In the bush, near some trees and a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907920"/>
            <a:ext cx="43210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Make 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ou put out the fire prope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 wa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ound without a sun h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lo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farm gates behind yo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rive past cars that have stopped in the bush without sto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e into the bush without plenty of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o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on the 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1125360"/>
            <a:ext cx="4572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can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easil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die o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th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Otherwi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the animals will esc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migh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needs hel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migh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start a bush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’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get  sunbur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n you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’ll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e sure the fire is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24360" y="1268280"/>
            <a:ext cx="934920" cy="201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635280" y="4508280"/>
            <a:ext cx="1081080" cy="158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851280" y="2924280"/>
            <a:ext cx="1152360" cy="1009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564000" y="1412640"/>
            <a:ext cx="1152360" cy="3671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995640" y="1988640"/>
            <a:ext cx="720720" cy="863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95640" y="2133720"/>
            <a:ext cx="647640" cy="165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19280" y="33336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prohibitions and war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5661000"/>
            <a:ext cx="57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e careful: Look out: Take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2T15:40:03Z</dcterms:created>
  <dc:creator>zeng</dc:creator>
  <dc:description/>
  <dc:language>en-US</dc:language>
  <cp:lastModifiedBy>zds</cp:lastModifiedBy>
  <dcterms:modified xsi:type="dcterms:W3CDTF">2004-07-05T03:05:22Z</dcterms:modified>
  <cp:revision>14</cp:revision>
  <dc:subject/>
  <dc:title>幻灯片 1</dc:title>
</cp:coreProperties>
</file>