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312-9A5C-4315-908D-49D0576F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11C-B819-450B-AC1C-821CB0E6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7D6-357E-4C9B-8607-1EE53B76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4B1-E3D7-4A42-939E-C64F1972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40D-1236-4A9D-98CD-3CF9E54D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080-2E48-4754-9AC5-00A584C9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889-9623-4366-86B4-18FF25E2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E75-6194-48A8-936D-BF821E36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96F-B4DF-4692-BEAC-936E6082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26E-F29F-4D86-82AF-7FF820E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E70-332E-4A37-A105-AB42E200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A9C-2B90-4EBB-B995-DA981F08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707A-6323-4F83-941A-3EBC0326F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png"/><Relationship Id="rId17" Type="http://schemas.openxmlformats.org/officeDocument/2006/relationships/image" Target="../media/image13.gi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6440" y="37980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九年义务教育六年制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1219320"/>
            <a:ext cx="327672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34484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一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6760" y="21326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shux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342900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九加几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316120" y="5333040"/>
            <a:ext cx="2430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成都市盐道街小学   曾绍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627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209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1 =          9 + 2 =             9 + 3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5840" y="2514600"/>
            <a:ext cx="10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5600" y="25146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9840" y="25146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4290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4 =          9 + 5 =             9 + 6 =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3040" y="342900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37480" y="34290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34340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7 =           9 + 8 =             9 +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24360" y="43434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96080" y="4343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马1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176" name="蜜蜂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177" name="鸟" descr=""/>
          <p:cNvPicPr/>
          <p:nvPr/>
        </p:nvPicPr>
        <p:blipFill>
          <a:blip r:embed="rId4"/>
          <a:stretch/>
        </p:blipFill>
        <p:spPr>
          <a:xfrm>
            <a:off x="7162920" y="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78" name="豹" descr=""/>
          <p:cNvPicPr/>
          <p:nvPr/>
        </p:nvPicPr>
        <p:blipFill>
          <a:blip r:embed="rId5"/>
          <a:stretch/>
        </p:blipFill>
        <p:spPr>
          <a:xfrm>
            <a:off x="0" y="5486400"/>
            <a:ext cx="2209680" cy="947880"/>
          </a:xfrm>
          <a:prstGeom prst="rect">
            <a:avLst/>
          </a:prstGeom>
          <a:ln w="0">
            <a:noFill/>
          </a:ln>
        </p:spPr>
      </p:pic>
      <p:pic>
        <p:nvPicPr>
          <p:cNvPr id="179" name="house" descr=""/>
          <p:cNvPicPr/>
          <p:nvPr/>
        </p:nvPicPr>
        <p:blipFill>
          <a:blip r:embed="rId6"/>
          <a:stretch/>
        </p:blipFill>
        <p:spPr>
          <a:xfrm>
            <a:off x="228600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0" name="house" descr=""/>
          <p:cNvPicPr/>
          <p:nvPr/>
        </p:nvPicPr>
        <p:blipFill>
          <a:blip r:embed="rId7"/>
          <a:stretch/>
        </p:blipFill>
        <p:spPr>
          <a:xfrm>
            <a:off x="449568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house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house" descr=""/>
          <p:cNvPicPr/>
          <p:nvPr/>
        </p:nvPicPr>
        <p:blipFill>
          <a:blip r:embed="rId9"/>
          <a:stretch/>
        </p:blipFill>
        <p:spPr>
          <a:xfrm>
            <a:off x="449568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house" descr=""/>
          <p:cNvPicPr/>
          <p:nvPr/>
        </p:nvPicPr>
        <p:blipFill>
          <a:blip r:embed="rId10"/>
          <a:stretch/>
        </p:blipFill>
        <p:spPr>
          <a:xfrm>
            <a:off x="228600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house" descr=""/>
          <p:cNvPicPr/>
          <p:nvPr/>
        </p:nvPicPr>
        <p:blipFill>
          <a:blip r:embed="rId11"/>
          <a:stretch/>
        </p:blipFill>
        <p:spPr>
          <a:xfrm>
            <a:off x="449568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5" name="house" descr=""/>
          <p:cNvPicPr/>
          <p:nvPr/>
        </p:nvPicPr>
        <p:blipFill>
          <a:blip r:embed="rId12"/>
          <a:stretch/>
        </p:blipFill>
        <p:spPr>
          <a:xfrm>
            <a:off x="220968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house" descr=""/>
          <p:cNvPicPr/>
          <p:nvPr/>
        </p:nvPicPr>
        <p:blipFill>
          <a:blip r:embed="rId13"/>
          <a:stretch/>
        </p:blipFill>
        <p:spPr>
          <a:xfrm>
            <a:off x="441972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7" name="lion" descr=""/>
          <p:cNvPicPr/>
          <p:nvPr/>
        </p:nvPicPr>
        <p:blipFill>
          <a:blip r:embed="rId14"/>
          <a:stretch/>
        </p:blipFill>
        <p:spPr>
          <a:xfrm>
            <a:off x="7467480" y="5257800"/>
            <a:ext cx="1676520" cy="878040"/>
          </a:xfrm>
          <a:prstGeom prst="rect">
            <a:avLst/>
          </a:prstGeom>
          <a:ln w="0">
            <a:noFill/>
          </a:ln>
        </p:spPr>
      </p:pic>
      <p:pic>
        <p:nvPicPr>
          <p:cNvPr id="188" name="AN02542_" descr=""/>
          <p:cNvPicPr/>
          <p:nvPr/>
        </p:nvPicPr>
        <p:blipFill>
          <a:blip r:embed="rId15"/>
          <a:stretch/>
        </p:blipFill>
        <p:spPr>
          <a:xfrm>
            <a:off x="7238880" y="1828800"/>
            <a:ext cx="1219320" cy="117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7315200" y="3581280"/>
            <a:ext cx="1295280" cy="1028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20920" y="16606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1840" y="28954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1840" y="4175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552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0600" y="16765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1520" y="29559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1520" y="41911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56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7520" y="1542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7520" y="322272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897440"/>
            <a:ext cx="10666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" y="61786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73240" y="108900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3240" y="27687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73240" y="4368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73240" y="60418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600200"/>
            <a:ext cx="1371600" cy="137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828440"/>
            <a:ext cx="129528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4495680"/>
            <a:ext cx="114300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81080" y="4419720"/>
            <a:ext cx="1219320" cy="1295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00800" y="990720"/>
            <a:ext cx="1143000" cy="22860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981080"/>
            <a:ext cx="1447920" cy="762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495680"/>
            <a:ext cx="1295640" cy="838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72200" y="4038480"/>
            <a:ext cx="129528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3047400" y="320004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        家</a:t>
            </a:r>
            <a:endParaRPr b="1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狗" descr=""/>
          <p:cNvPicPr/>
          <p:nvPr/>
        </p:nvPicPr>
        <p:blipFill>
          <a:blip r:embed="rId17"/>
          <a:stretch/>
        </p:blipFill>
        <p:spPr>
          <a:xfrm>
            <a:off x="304920" y="4114800"/>
            <a:ext cx="16570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1752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743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708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380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748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6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3664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0984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772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460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8476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5796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75480" y="3044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560" y="289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419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09320" y="4419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532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72160" y="3965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2300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1316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86360" y="4956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38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997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数的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838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600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1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10552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971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971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657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1337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911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053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算一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74320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76360" y="27432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581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514600"/>
            <a:ext cx="800280" cy="1219320"/>
          </a:xfrm>
          <a:custGeom>
            <a:avLst/>
            <a:gdLst/>
            <a:ahLst/>
            <a:rect l="l" t="t" r="r" b="b"/>
            <a:pathLst>
              <a:path w="552" h="768">
                <a:moveTo>
                  <a:pt x="0" y="0"/>
                </a:moveTo>
                <a:cubicBezTo>
                  <a:pt x="204" y="56"/>
                  <a:pt x="408" y="112"/>
                  <a:pt x="480" y="240"/>
                </a:cubicBezTo>
                <a:cubicBezTo>
                  <a:pt x="552" y="368"/>
                  <a:pt x="440" y="672"/>
                  <a:pt x="432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867280" y="2362320"/>
            <a:ext cx="2057400" cy="1676160"/>
            <a:chOff x="5867280" y="2362320"/>
            <a:chExt cx="2057400" cy="1676160"/>
          </a:xfrm>
        </p:grpSpPr>
        <p:pic>
          <p:nvPicPr>
            <p:cNvPr id="115" name="CROW1" descr=""/>
            <p:cNvPicPr/>
            <p:nvPr/>
          </p:nvPicPr>
          <p:blipFill>
            <a:blip r:embed="rId3"/>
            <a:stretch/>
          </p:blipFill>
          <p:spPr>
            <a:xfrm>
              <a:off x="6476760" y="2362320"/>
              <a:ext cx="14479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球" descr=""/>
            <p:cNvPicPr/>
            <p:nvPr/>
          </p:nvPicPr>
          <p:blipFill>
            <a:blip r:embed="rId4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球" descr=""/>
            <p:cNvPicPr/>
            <p:nvPr/>
          </p:nvPicPr>
          <p:blipFill>
            <a:blip r:embed="rId5"/>
            <a:stretch/>
          </p:blipFill>
          <p:spPr>
            <a:xfrm>
              <a:off x="650880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638680" y="2286000"/>
            <a:ext cx="228600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67280" y="3200400"/>
            <a:ext cx="1460160" cy="838080"/>
            <a:chOff x="5867280" y="3200400"/>
            <a:chExt cx="1460160" cy="838080"/>
          </a:xfrm>
        </p:grpSpPr>
        <p:pic>
          <p:nvPicPr>
            <p:cNvPr id="120" name="球" descr=""/>
            <p:cNvPicPr/>
            <p:nvPr/>
          </p:nvPicPr>
          <p:blipFill>
            <a:blip r:embed="rId6"/>
            <a:stretch/>
          </p:blipFill>
          <p:spPr>
            <a:xfrm>
              <a:off x="652104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球" descr=""/>
            <p:cNvPicPr/>
            <p:nvPr/>
          </p:nvPicPr>
          <p:blipFill>
            <a:blip r:embed="rId7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23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8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1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3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4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5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5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50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3520" y="11430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743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971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1 + 3 =                 9 + 1 + 5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657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4 =                        9 + 6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1T22:45:46Z</dcterms:created>
  <dc:creator>zsg</dc:creator>
  <dc:description/>
  <dc:language>en-US</dc:language>
  <cp:lastModifiedBy>hj</cp:lastModifiedBy>
  <dcterms:modified xsi:type="dcterms:W3CDTF">2000-03-28T03:14:40Z</dcterms:modified>
  <cp:revision>60</cp:revision>
  <dc:subject/>
  <dc:title>没有幻灯片标题</dc:title>
</cp:coreProperties>
</file>