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63D-2A4F-4A12-86AB-894474C7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A12-239A-4618-8377-F95958C0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00D-A9FB-4391-9DC6-5D4DF63B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E96A-8368-4665-9455-286969C1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2284-D9CA-465F-A34F-2CC50E5A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82BD-D22F-4303-88BE-EA244A47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00AA-150C-4247-896D-482C4B6D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EB6A-9075-4219-8EF6-12FAE83B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C4E2-3387-4073-A5E5-A87CD680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C25D-0A15-4661-AF52-56BD2D4D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60B0-1692-47B0-B0F7-08C5CF71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4D0-CCE4-425E-9E02-73BBE170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2AC3-98FF-4885-871C-D611B293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524B-E508-4425-BDB2-FB5349A4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74C1-C5F6-438B-91B8-71B6567D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047A-EB09-4F14-AF14-5D212285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54A3-D68F-492E-845C-F88D1BA2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8D0-553E-455C-87EB-7EF6A768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70A-E58C-40D5-9319-09368780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C18-0E1A-49AB-8C8C-523DC6F7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C13-303D-4425-8A9E-1D13577C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C9D-8FEC-4462-9028-7364F8CD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4AB-5079-480D-A4B0-3C4B1A77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DB9-6D88-4123-B2C5-064044ED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8347-DB9B-4523-9C3B-E361F31E201F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A66E-90DB-4F12-B62A-E19BD6CA8EC5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1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一、口算。                              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+5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+3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                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+8=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9+10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 </a:t>
            </a: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二、填空。</a:t>
            </a:r>
            <a:br>
              <a:rPr sz="4400"/>
            </a:b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9+1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+6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9+1+7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143000"/>
            <a:ext cx="76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480" y="533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800" y="1143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800" y="1143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36232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88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480" y="45720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5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959000">
            <a:off x="2819520" y="4037760"/>
            <a:ext cx="666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5029200"/>
            <a:ext cx="45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3886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8098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80880" y="3657600"/>
            <a:ext cx="609840" cy="457200"/>
          </a:xfrm>
          <a:prstGeom prst="rect">
            <a:avLst/>
          </a:prstGeom>
          <a:noFill/>
          <a:ln w="190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809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809880"/>
            <a:ext cx="60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8862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40384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3733920"/>
            <a:ext cx="609840" cy="533160"/>
          </a:xfrm>
          <a:prstGeom prst="rect">
            <a:avLst/>
          </a:prstGeom>
          <a:noFill/>
          <a:ln w="190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6576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41148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200400"/>
            <a:ext cx="0" cy="2286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429000"/>
            <a:ext cx="60948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657600"/>
            <a:ext cx="0" cy="1522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76520" y="350496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14400" y="3200040"/>
            <a:ext cx="0" cy="228600"/>
          </a:xfrm>
          <a:prstGeom prst="line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3124080"/>
            <a:ext cx="0" cy="3049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429000"/>
            <a:ext cx="60984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876920" y="3123720"/>
            <a:ext cx="0" cy="304920"/>
          </a:xfrm>
          <a:prstGeom prst="line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7391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6400"/>
                </a:solidFill>
                <a:latin typeface="Times New Roman"/>
              </a:rPr>
              <a:t>回到首页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83059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673" h="21600">
                <a:moveTo>
                  <a:pt x="1233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673" h="21600">
                <a:moveTo>
                  <a:pt x="9760" y="8224"/>
                </a:moveTo>
                <a:lnTo>
                  <a:pt x="13625" y="8224"/>
                </a:lnTo>
                <a:lnTo>
                  <a:pt x="13625" y="15221"/>
                </a:lnTo>
                <a:lnTo>
                  <a:pt x="14913" y="15221"/>
                </a:lnTo>
                <a:lnTo>
                  <a:pt x="14913" y="16144"/>
                </a:lnTo>
                <a:lnTo>
                  <a:pt x="9760" y="16144"/>
                </a:lnTo>
                <a:lnTo>
                  <a:pt x="9760" y="15221"/>
                </a:lnTo>
                <a:lnTo>
                  <a:pt x="11048" y="15221"/>
                </a:lnTo>
                <a:lnTo>
                  <a:pt x="11048" y="9129"/>
                </a:lnTo>
                <a:lnTo>
                  <a:pt x="9760" y="9129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71d09"/>
                </a:solidFill>
                <a:latin typeface="Times New Roman"/>
                <a:ea typeface="华文宋体"/>
              </a:rPr>
              <a:t>下一页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a3d7a"/>
                </a:solidFill>
                <a:latin typeface="宋体"/>
              </a:rPr>
              <a:t>9</a:t>
            </a:r>
            <a:r>
              <a:rPr b="0" lang="zh-CN" sz="8800" spc="-1" strike="noStrike">
                <a:solidFill>
                  <a:srgbClr val="2a3d7a"/>
                </a:solidFill>
                <a:latin typeface="宋体"/>
              </a:rPr>
              <a:t>加几</a:t>
            </a:r>
            <a:endParaRPr b="0" lang="en-US" sz="8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50840" y="2506680"/>
            <a:ext cx="5578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一、复习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    </a:t>
            </a: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二、例题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      </a:t>
            </a: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三、练一练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         </a:t>
            </a: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四、拓展游戏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6019920" y="6400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复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6400800"/>
            <a:ext cx="609840" cy="4572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20306"/>
                </a:solidFill>
                <a:latin typeface="Times New Roman"/>
              </a:rPr>
              <a:t>例题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6324480"/>
            <a:ext cx="609480" cy="5335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练一练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18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游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213372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三、分一分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8400" y="3049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75248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733920" y="1752480"/>
            <a:ext cx="457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828440" y="1600200"/>
            <a:ext cx="609480" cy="6094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1676520"/>
            <a:ext cx="609480" cy="6094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243828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2590920"/>
            <a:ext cx="1676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1066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10666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1828800"/>
            <a:ext cx="609840" cy="6858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619760" y="1828800"/>
            <a:ext cx="609480" cy="6858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251460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25146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24382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1d0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10666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1d0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381880" y="6400800"/>
            <a:ext cx="762120" cy="457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71d09"/>
                </a:solidFill>
                <a:latin typeface="Times New Roman"/>
              </a:rPr>
              <a:t>回到首页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914400"/>
            <a:ext cx="1523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13372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143000" y="1143000"/>
            <a:ext cx="457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990720"/>
            <a:ext cx="2133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33160" y="1447560"/>
            <a:ext cx="7596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05120" y="228600"/>
            <a:ext cx="1523880" cy="1295280"/>
            <a:chOff x="1905120" y="228600"/>
            <a:chExt cx="1523880" cy="1295280"/>
          </a:xfrm>
        </p:grpSpPr>
        <p:grpSp>
          <p:nvGrpSpPr>
            <p:cNvPr id="151" name=""/>
            <p:cNvGrpSpPr/>
            <p:nvPr/>
          </p:nvGrpSpPr>
          <p:grpSpPr>
            <a:xfrm>
              <a:off x="1905120" y="228600"/>
              <a:ext cx="1523880" cy="1295280"/>
              <a:chOff x="1905120" y="228600"/>
              <a:chExt cx="1523880" cy="1295280"/>
            </a:xfrm>
          </p:grpSpPr>
          <p:sp>
            <p:nvSpPr>
              <p:cNvPr id="152" name=""/>
              <p:cNvSpPr/>
              <p:nvPr/>
            </p:nvSpPr>
            <p:spPr>
              <a:xfrm>
                <a:off x="205740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0512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0968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97180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0040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20932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51424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28600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flipV="1">
              <a:off x="2286000" y="144756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28600" y="1752480"/>
            <a:ext cx="1523880" cy="1295280"/>
            <a:chOff x="228600" y="1752480"/>
            <a:chExt cx="1523880" cy="1295280"/>
          </a:xfrm>
        </p:grpSpPr>
        <p:grpSp>
          <p:nvGrpSpPr>
            <p:cNvPr id="163" name=""/>
            <p:cNvGrpSpPr/>
            <p:nvPr/>
          </p:nvGrpSpPr>
          <p:grpSpPr>
            <a:xfrm>
              <a:off x="228600" y="1752480"/>
              <a:ext cx="1523880" cy="1295280"/>
              <a:chOff x="228600" y="1752480"/>
              <a:chExt cx="1523880" cy="1295280"/>
            </a:xfrm>
          </p:grpSpPr>
          <p:sp>
            <p:nvSpPr>
              <p:cNvPr id="164" name=""/>
              <p:cNvSpPr/>
              <p:nvPr/>
            </p:nvSpPr>
            <p:spPr>
              <a:xfrm>
                <a:off x="380880" y="190476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600" y="175248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33160" y="304776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1295280" y="297144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3880" y="1828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23880" y="213336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532800" y="198108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837720" y="213336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609480" y="205740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 flipV="1">
              <a:off x="609480" y="297144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981080" y="1752480"/>
            <a:ext cx="1523880" cy="1295280"/>
            <a:chOff x="1981080" y="1752480"/>
            <a:chExt cx="1523880" cy="1295280"/>
          </a:xfrm>
        </p:grpSpPr>
        <p:grpSp>
          <p:nvGrpSpPr>
            <p:cNvPr id="175" name=""/>
            <p:cNvGrpSpPr/>
            <p:nvPr/>
          </p:nvGrpSpPr>
          <p:grpSpPr>
            <a:xfrm>
              <a:off x="1981080" y="1752480"/>
              <a:ext cx="1523880" cy="1295280"/>
              <a:chOff x="1981080" y="1752480"/>
              <a:chExt cx="1523880" cy="1295280"/>
            </a:xfrm>
          </p:grpSpPr>
          <p:sp>
            <p:nvSpPr>
              <p:cNvPr id="176" name=""/>
              <p:cNvSpPr/>
              <p:nvPr/>
            </p:nvSpPr>
            <p:spPr>
              <a:xfrm>
                <a:off x="2133360" y="190476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81080" y="175248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85640" y="304776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3047760" y="297144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76360" y="1828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76360" y="213336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285280" y="198108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590200" y="213336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361960" y="205740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2361960" y="297144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V="1">
            <a:off x="449568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28600" y="4876920"/>
            <a:ext cx="1523880" cy="1295280"/>
            <a:chOff x="228600" y="4876920"/>
            <a:chExt cx="1523880" cy="1295280"/>
          </a:xfrm>
        </p:grpSpPr>
        <p:grpSp>
          <p:nvGrpSpPr>
            <p:cNvPr id="188" name=""/>
            <p:cNvGrpSpPr/>
            <p:nvPr/>
          </p:nvGrpSpPr>
          <p:grpSpPr>
            <a:xfrm>
              <a:off x="228600" y="4876920"/>
              <a:ext cx="1523880" cy="1295280"/>
              <a:chOff x="228600" y="4876920"/>
              <a:chExt cx="1523880" cy="1295280"/>
            </a:xfrm>
          </p:grpSpPr>
          <p:sp>
            <p:nvSpPr>
              <p:cNvPr id="189" name=""/>
              <p:cNvSpPr/>
              <p:nvPr/>
            </p:nvSpPr>
            <p:spPr>
              <a:xfrm>
                <a:off x="380880" y="502920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8600" y="487692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160" y="617220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1295280" y="609588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523880" y="49532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523880" y="525780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32800" y="510552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837720" y="525780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09480" y="518184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V="1">
              <a:off x="609480" y="609588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981080" y="3276720"/>
            <a:ext cx="1523880" cy="1295280"/>
            <a:chOff x="1981080" y="3276720"/>
            <a:chExt cx="1523880" cy="1295280"/>
          </a:xfrm>
        </p:grpSpPr>
        <p:grpSp>
          <p:nvGrpSpPr>
            <p:cNvPr id="200" name=""/>
            <p:cNvGrpSpPr/>
            <p:nvPr/>
          </p:nvGrpSpPr>
          <p:grpSpPr>
            <a:xfrm>
              <a:off x="1981080" y="3276720"/>
              <a:ext cx="1523880" cy="1295280"/>
              <a:chOff x="1981080" y="3276720"/>
              <a:chExt cx="1523880" cy="1295280"/>
            </a:xfrm>
          </p:grpSpPr>
          <p:sp>
            <p:nvSpPr>
              <p:cNvPr id="201" name=""/>
              <p:cNvSpPr/>
              <p:nvPr/>
            </p:nvSpPr>
            <p:spPr>
              <a:xfrm>
                <a:off x="2133360" y="342900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81080" y="327672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5640" y="457200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3047760" y="449568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76360" y="33530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76360" y="365760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285280" y="350532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590200" y="365760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361960" y="358164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2361960" y="449568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6172200" y="46479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3276720"/>
            <a:ext cx="1523880" cy="1295280"/>
            <a:chOff x="228600" y="3276720"/>
            <a:chExt cx="1523880" cy="1295280"/>
          </a:xfrm>
        </p:grpSpPr>
        <p:grpSp>
          <p:nvGrpSpPr>
            <p:cNvPr id="213" name=""/>
            <p:cNvGrpSpPr/>
            <p:nvPr/>
          </p:nvGrpSpPr>
          <p:grpSpPr>
            <a:xfrm>
              <a:off x="228600" y="3276720"/>
              <a:ext cx="1523880" cy="1295280"/>
              <a:chOff x="228600" y="3276720"/>
              <a:chExt cx="1523880" cy="1295280"/>
            </a:xfrm>
          </p:grpSpPr>
          <p:sp>
            <p:nvSpPr>
              <p:cNvPr id="214" name=""/>
              <p:cNvSpPr/>
              <p:nvPr/>
            </p:nvSpPr>
            <p:spPr>
              <a:xfrm>
                <a:off x="380880" y="342900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8600" y="327672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3160" y="457200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1295280" y="449568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23880" y="33530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23880" y="365760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32800" y="350532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837720" y="365760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09480" y="358164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V="1">
              <a:off x="609480" y="449568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4495680" y="46479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324480" y="2971800"/>
            <a:ext cx="0" cy="763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24852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0100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001000" y="46479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14800" y="228600"/>
            <a:ext cx="5029200" cy="4495680"/>
            <a:chOff x="4114800" y="228600"/>
            <a:chExt cx="5029200" cy="4495680"/>
          </a:xfrm>
        </p:grpSpPr>
        <p:grpSp>
          <p:nvGrpSpPr>
            <p:cNvPr id="230" name=""/>
            <p:cNvGrpSpPr/>
            <p:nvPr/>
          </p:nvGrpSpPr>
          <p:grpSpPr>
            <a:xfrm>
              <a:off x="5867280" y="228600"/>
              <a:ext cx="1523880" cy="1295280"/>
              <a:chOff x="5867280" y="228600"/>
              <a:chExt cx="1523880" cy="1295280"/>
            </a:xfrm>
          </p:grpSpPr>
          <p:sp>
            <p:nvSpPr>
              <p:cNvPr id="231" name=""/>
              <p:cNvSpPr/>
              <p:nvPr/>
            </p:nvSpPr>
            <p:spPr>
              <a:xfrm>
                <a:off x="601956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86728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7184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693396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6256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16256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17148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47640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24816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114800" y="228600"/>
              <a:ext cx="1523880" cy="1295280"/>
              <a:chOff x="4114800" y="228600"/>
              <a:chExt cx="1523880" cy="1295280"/>
            </a:xfrm>
          </p:grpSpPr>
          <p:sp>
            <p:nvSpPr>
              <p:cNvPr id="241" name=""/>
              <p:cNvSpPr/>
              <p:nvPr/>
            </p:nvSpPr>
            <p:spPr>
              <a:xfrm>
                <a:off x="426708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11480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1936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518148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1008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1008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441900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72392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449568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5791320" y="3429000"/>
              <a:ext cx="1523880" cy="1295280"/>
              <a:chOff x="5791320" y="3429000"/>
              <a:chExt cx="1523880" cy="1295280"/>
            </a:xfrm>
          </p:grpSpPr>
          <p:sp>
            <p:nvSpPr>
              <p:cNvPr id="251" name=""/>
              <p:cNvSpPr/>
              <p:nvPr/>
            </p:nvSpPr>
            <p:spPr>
              <a:xfrm>
                <a:off x="5943600" y="35812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91320" y="34290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95880" y="47242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6858000" y="46479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8660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086600" y="38098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095520" y="36576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400440" y="38098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172200" y="37339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4114800" y="3429000"/>
              <a:ext cx="1523880" cy="1295280"/>
              <a:chOff x="4114800" y="3429000"/>
              <a:chExt cx="1523880" cy="1295280"/>
            </a:xfrm>
          </p:grpSpPr>
          <p:sp>
            <p:nvSpPr>
              <p:cNvPr id="261" name=""/>
              <p:cNvSpPr/>
              <p:nvPr/>
            </p:nvSpPr>
            <p:spPr>
              <a:xfrm>
                <a:off x="4267080" y="35812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14800" y="34290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19360" y="47242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5181480" y="46479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1008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10080" y="38098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4419000" y="36576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4723920" y="38098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495680" y="37339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943600" y="1752480"/>
              <a:ext cx="1523880" cy="1295280"/>
              <a:chOff x="5943600" y="1752480"/>
              <a:chExt cx="1523880" cy="1295280"/>
            </a:xfrm>
          </p:grpSpPr>
          <p:sp>
            <p:nvSpPr>
              <p:cNvPr id="271" name=""/>
              <p:cNvSpPr/>
              <p:nvPr/>
            </p:nvSpPr>
            <p:spPr>
              <a:xfrm>
                <a:off x="6095880" y="190476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3600" y="175248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248160" y="304776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010280" y="297144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38880" y="1828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238880" y="213336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247800" y="198108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6552720" y="213336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324480" y="205740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7620120" y="228600"/>
              <a:ext cx="1523880" cy="1295280"/>
              <a:chOff x="7620120" y="228600"/>
              <a:chExt cx="1523880" cy="1295280"/>
            </a:xfrm>
          </p:grpSpPr>
          <p:sp>
            <p:nvSpPr>
              <p:cNvPr id="281" name=""/>
              <p:cNvSpPr/>
              <p:nvPr/>
            </p:nvSpPr>
            <p:spPr>
              <a:xfrm>
                <a:off x="777240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2012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2468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868680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91540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91540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792432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822924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800100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620120" y="3429000"/>
              <a:ext cx="1523880" cy="1295280"/>
              <a:chOff x="7620120" y="3429000"/>
              <a:chExt cx="1523880" cy="1295280"/>
            </a:xfrm>
          </p:grpSpPr>
          <p:sp>
            <p:nvSpPr>
              <p:cNvPr id="291" name=""/>
              <p:cNvSpPr/>
              <p:nvPr/>
            </p:nvSpPr>
            <p:spPr>
              <a:xfrm>
                <a:off x="7772400" y="35812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20120" y="34290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24680" y="47242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8686800" y="46479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91540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915400" y="38098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7924320" y="36576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8229240" y="38098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8001000" y="37339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620120" y="1752480"/>
              <a:ext cx="1523880" cy="1295640"/>
              <a:chOff x="7620120" y="1752480"/>
              <a:chExt cx="1523880" cy="129564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7620120" y="1752480"/>
                <a:ext cx="1523880" cy="1295280"/>
                <a:chOff x="7620120" y="1752480"/>
                <a:chExt cx="1523880" cy="12952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7772400" y="1904760"/>
                  <a:ext cx="914400" cy="762120"/>
                </a:xfrm>
                <a:prstGeom prst="rect">
                  <a:avLst/>
                </a:prstGeom>
                <a:noFill/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620120" y="1752480"/>
                  <a:ext cx="1523880" cy="1219320"/>
                </a:xfrm>
                <a:prstGeom prst="rect">
                  <a:avLst/>
                </a:prstGeom>
                <a:noFill/>
                <a:ln w="381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924680" y="3047760"/>
                  <a:ext cx="76212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8686800" y="2971440"/>
                  <a:ext cx="0" cy="7596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915400" y="18288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915400" y="2133360"/>
                  <a:ext cx="152280" cy="228600"/>
                </a:xfrm>
                <a:prstGeom prst="ellipse">
                  <a:avLst/>
                </a:prstGeom>
                <a:noFill/>
                <a:ln w="572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7924320" y="19810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8229240" y="2133360"/>
                  <a:ext cx="304920" cy="3812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8001000" y="205740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 flipV="1">
                <a:off x="8001000" y="2971800"/>
                <a:ext cx="0" cy="763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14800" y="1752480"/>
              <a:ext cx="1523880" cy="1295640"/>
              <a:chOff x="4114800" y="1752480"/>
              <a:chExt cx="1523880" cy="12956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4114800" y="1752480"/>
                <a:ext cx="1523880" cy="1295280"/>
                <a:chOff x="4114800" y="1752480"/>
                <a:chExt cx="1523880" cy="12952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4267080" y="1904760"/>
                  <a:ext cx="914400" cy="762120"/>
                </a:xfrm>
                <a:prstGeom prst="rect">
                  <a:avLst/>
                </a:prstGeom>
                <a:noFill/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114800" y="1752480"/>
                  <a:ext cx="1523880" cy="1219320"/>
                </a:xfrm>
                <a:prstGeom prst="rect">
                  <a:avLst/>
                </a:prstGeom>
                <a:noFill/>
                <a:ln w="381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419360" y="3047760"/>
                  <a:ext cx="76212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5181480" y="2971440"/>
                  <a:ext cx="0" cy="7596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410080" y="18288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410080" y="2133360"/>
                  <a:ext cx="152280" cy="228600"/>
                </a:xfrm>
                <a:prstGeom prst="ellipse">
                  <a:avLst/>
                </a:prstGeom>
                <a:noFill/>
                <a:ln w="572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4419000" y="19810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4723920" y="2133360"/>
                  <a:ext cx="304920" cy="3812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4495680" y="205740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 flipV="1">
                <a:off x="4495680" y="2971800"/>
                <a:ext cx="0" cy="763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228600" y="228600"/>
            <a:ext cx="1523880" cy="1295280"/>
            <a:chOff x="228600" y="228600"/>
            <a:chExt cx="1523880" cy="1295280"/>
          </a:xfrm>
        </p:grpSpPr>
        <p:sp>
          <p:nvSpPr>
            <p:cNvPr id="325" name=""/>
            <p:cNvSpPr/>
            <p:nvPr/>
          </p:nvSpPr>
          <p:spPr>
            <a:xfrm>
              <a:off x="380880" y="380880"/>
              <a:ext cx="914400" cy="762120"/>
            </a:xfrm>
            <a:prstGeom prst="rect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600" y="228600"/>
              <a:ext cx="1523880" cy="1219320"/>
            </a:xfrm>
            <a:prstGeom prst="rect">
              <a:avLst/>
            </a:prstGeom>
            <a:noFill/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3160" y="1523880"/>
              <a:ext cx="7621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1295280" y="1447560"/>
              <a:ext cx="0" cy="759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3880" y="304920"/>
              <a:ext cx="152280" cy="152280"/>
            </a:xfrm>
            <a:prstGeom prst="ellipse">
              <a:avLst/>
            </a:prstGeom>
            <a:noFill/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23880" y="609480"/>
              <a:ext cx="152280" cy="228600"/>
            </a:xfrm>
            <a:prstGeom prst="ellipse">
              <a:avLst/>
            </a:pr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32800" y="457200"/>
              <a:ext cx="304920" cy="3049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37720" y="609480"/>
              <a:ext cx="304920" cy="3812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609480" y="533520"/>
              <a:ext cx="457200" cy="457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 flipV="1">
            <a:off x="60948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556272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7  + (    )  =  (    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5638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9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38680" y="56386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5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05920" y="64008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下一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AN02479_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633680" cy="1219320"/>
          </a:xfrm>
          <a:prstGeom prst="rect">
            <a:avLst/>
          </a:prstGeom>
          <a:ln w="0">
            <a:noFill/>
          </a:ln>
        </p:spPr>
      </p:pic>
      <p:pic>
        <p:nvPicPr>
          <p:cNvPr id="340" name="AN02479_" descr=""/>
          <p:cNvPicPr/>
          <p:nvPr/>
        </p:nvPicPr>
        <p:blipFill>
          <a:blip r:embed="rId3"/>
          <a:stretch/>
        </p:blipFill>
        <p:spPr>
          <a:xfrm>
            <a:off x="228600" y="1447920"/>
            <a:ext cx="1633680" cy="1218960"/>
          </a:xfrm>
          <a:prstGeom prst="rect">
            <a:avLst/>
          </a:prstGeom>
          <a:ln w="0">
            <a:noFill/>
          </a:ln>
        </p:spPr>
      </p:pic>
      <p:pic>
        <p:nvPicPr>
          <p:cNvPr id="341" name="AN02479_" descr=""/>
          <p:cNvPicPr/>
          <p:nvPr/>
        </p:nvPicPr>
        <p:blipFill>
          <a:blip r:embed="rId4"/>
          <a:stretch/>
        </p:blipFill>
        <p:spPr>
          <a:xfrm>
            <a:off x="228600" y="2819520"/>
            <a:ext cx="1633680" cy="1218960"/>
          </a:xfrm>
          <a:prstGeom prst="rect">
            <a:avLst/>
          </a:prstGeom>
          <a:ln w="0">
            <a:noFill/>
          </a:ln>
        </p:spPr>
      </p:pic>
      <p:pic>
        <p:nvPicPr>
          <p:cNvPr id="342" name="AN02479_" descr=""/>
          <p:cNvPicPr/>
          <p:nvPr/>
        </p:nvPicPr>
        <p:blipFill>
          <a:blip r:embed="rId5"/>
          <a:stretch/>
        </p:blipFill>
        <p:spPr>
          <a:xfrm>
            <a:off x="228600" y="4191120"/>
            <a:ext cx="1633680" cy="1218960"/>
          </a:xfrm>
          <a:prstGeom prst="rect">
            <a:avLst/>
          </a:prstGeom>
          <a:ln w="0">
            <a:noFill/>
          </a:ln>
        </p:spPr>
      </p:pic>
      <p:pic>
        <p:nvPicPr>
          <p:cNvPr id="343" name="AN02479_" descr=""/>
          <p:cNvPicPr/>
          <p:nvPr/>
        </p:nvPicPr>
        <p:blipFill>
          <a:blip r:embed="rId6"/>
          <a:stretch/>
        </p:blipFill>
        <p:spPr>
          <a:xfrm>
            <a:off x="228600" y="5638680"/>
            <a:ext cx="1633680" cy="1219320"/>
          </a:xfrm>
          <a:prstGeom prst="rect">
            <a:avLst/>
          </a:prstGeom>
          <a:ln w="0">
            <a:noFill/>
          </a:ln>
        </p:spPr>
      </p:pic>
      <p:pic>
        <p:nvPicPr>
          <p:cNvPr id="344" name="AN02479_" descr=""/>
          <p:cNvPicPr/>
          <p:nvPr/>
        </p:nvPicPr>
        <p:blipFill>
          <a:blip r:embed="rId7"/>
          <a:stretch/>
        </p:blipFill>
        <p:spPr>
          <a:xfrm>
            <a:off x="1905120" y="4419720"/>
            <a:ext cx="1633320" cy="1218960"/>
          </a:xfrm>
          <a:prstGeom prst="rect">
            <a:avLst/>
          </a:prstGeom>
          <a:ln w="0">
            <a:noFill/>
          </a:ln>
        </p:spPr>
      </p:pic>
      <p:pic>
        <p:nvPicPr>
          <p:cNvPr id="345" name="AN02479_" descr=""/>
          <p:cNvPicPr/>
          <p:nvPr/>
        </p:nvPicPr>
        <p:blipFill>
          <a:blip r:embed="rId8"/>
          <a:stretch/>
        </p:blipFill>
        <p:spPr>
          <a:xfrm>
            <a:off x="1905120" y="2971800"/>
            <a:ext cx="1633320" cy="1219320"/>
          </a:xfrm>
          <a:prstGeom prst="rect">
            <a:avLst/>
          </a:prstGeom>
          <a:ln w="0">
            <a:noFill/>
          </a:ln>
        </p:spPr>
      </p:pic>
      <p:pic>
        <p:nvPicPr>
          <p:cNvPr id="346" name="AN02479_" descr=""/>
          <p:cNvPicPr/>
          <p:nvPr/>
        </p:nvPicPr>
        <p:blipFill>
          <a:blip r:embed="rId9"/>
          <a:stretch/>
        </p:blipFill>
        <p:spPr>
          <a:xfrm>
            <a:off x="1905120" y="1600200"/>
            <a:ext cx="1633320" cy="1219320"/>
          </a:xfrm>
          <a:prstGeom prst="rect">
            <a:avLst/>
          </a:prstGeom>
          <a:ln w="0">
            <a:noFill/>
          </a:ln>
        </p:spPr>
      </p:pic>
      <p:pic>
        <p:nvPicPr>
          <p:cNvPr id="347" name="AN02479_" descr=""/>
          <p:cNvPicPr/>
          <p:nvPr/>
        </p:nvPicPr>
        <p:blipFill>
          <a:blip r:embed="rId10"/>
          <a:stretch/>
        </p:blipFill>
        <p:spPr>
          <a:xfrm>
            <a:off x="1905120" y="228600"/>
            <a:ext cx="1633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5410080" y="228600"/>
            <a:ext cx="3733920" cy="3962520"/>
            <a:chOff x="5410080" y="228600"/>
            <a:chExt cx="3733920" cy="3962520"/>
          </a:xfrm>
        </p:grpSpPr>
        <p:pic>
          <p:nvPicPr>
            <p:cNvPr id="349" name="AN02479_" descr=""/>
            <p:cNvPicPr/>
            <p:nvPr/>
          </p:nvPicPr>
          <p:blipFill>
            <a:blip r:embed="rId11"/>
            <a:stretch/>
          </p:blipFill>
          <p:spPr>
            <a:xfrm>
              <a:off x="5410080" y="2971800"/>
              <a:ext cx="1633680" cy="121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0" name=""/>
            <p:cNvGrpSpPr/>
            <p:nvPr/>
          </p:nvGrpSpPr>
          <p:grpSpPr>
            <a:xfrm>
              <a:off x="5410080" y="228600"/>
              <a:ext cx="3733920" cy="2590920"/>
              <a:chOff x="5410080" y="228600"/>
              <a:chExt cx="3733920" cy="2590920"/>
            </a:xfrm>
          </p:grpSpPr>
          <p:pic>
            <p:nvPicPr>
              <p:cNvPr id="351" name="AN02479_" descr=""/>
              <p:cNvPicPr/>
              <p:nvPr/>
            </p:nvPicPr>
            <p:blipFill>
              <a:blip r:embed="rId12"/>
              <a:stretch/>
            </p:blipFill>
            <p:spPr>
              <a:xfrm>
                <a:off x="7510320" y="16002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AN02479_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10080" y="16002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AN02479_" descr=""/>
              <p:cNvPicPr/>
              <p:nvPr/>
            </p:nvPicPr>
            <p:blipFill>
              <a:blip r:embed="rId14"/>
              <a:stretch/>
            </p:blipFill>
            <p:spPr>
              <a:xfrm>
                <a:off x="5410080" y="2286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AN02479_" descr=""/>
              <p:cNvPicPr/>
              <p:nvPr/>
            </p:nvPicPr>
            <p:blipFill>
              <a:blip r:embed="rId15"/>
              <a:stretch/>
            </p:blipFill>
            <p:spPr>
              <a:xfrm>
                <a:off x="7510320" y="2286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5" name=""/>
          <p:cNvSpPr/>
          <p:nvPr/>
        </p:nvSpPr>
        <p:spPr>
          <a:xfrm>
            <a:off x="0" y="228600"/>
            <a:ext cx="3809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114800" y="4800600"/>
            <a:ext cx="5029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9   +  5   =    (       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162920" y="4876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9152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下一页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352320" y="-33526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7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-173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1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2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3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4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5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6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7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8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9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10 =(     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4572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15000" y="15238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15000" y="10666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0574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25909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2004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62720" y="37339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42670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4876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4120" y="54100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32120" y="198360"/>
            <a:ext cx="3548880" cy="2296440"/>
            <a:chOff x="132120" y="198360"/>
            <a:chExt cx="3548880" cy="2296440"/>
          </a:xfrm>
        </p:grpSpPr>
        <p:sp>
          <p:nvSpPr>
            <p:cNvPr id="374" name=""/>
            <p:cNvSpPr/>
            <p:nvPr/>
          </p:nvSpPr>
          <p:spPr>
            <a:xfrm rot="20730000">
              <a:off x="228240" y="837720"/>
              <a:ext cx="3262320" cy="1152720"/>
            </a:xfrm>
            <a:prstGeom prst="cloudCallout">
              <a:avLst>
                <a:gd name="adj1" fmla="val -63782"/>
                <a:gd name="adj2" fmla="val 88930"/>
              </a:avLst>
            </a:prstGeom>
            <a:solidFill>
              <a:srgbClr val="f1f3d9"/>
            </a:solidFill>
            <a:ln w="3492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335800">
              <a:off x="230040" y="761760"/>
              <a:ext cx="33526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a3d7a"/>
                  </a:solidFill>
                  <a:latin typeface="Times New Roman"/>
                  <a:ea typeface="华文隶书"/>
                </a:rPr>
                <a:t>你发现了什么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a3d7a"/>
                  </a:solidFill>
                  <a:latin typeface="Times New Roman"/>
                  <a:ea typeface="华文隶书"/>
                </a:rPr>
                <a:t>规律吗？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822960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8660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1%20副本" descr=""/>
          <p:cNvPicPr/>
          <p:nvPr/>
        </p:nvPicPr>
        <p:blipFill>
          <a:blip r:embed="rId2"/>
          <a:stretch/>
        </p:blipFill>
        <p:spPr>
          <a:xfrm>
            <a:off x="1752480" y="-1295280"/>
            <a:ext cx="5105520" cy="8153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20791200">
            <a:off x="228240" y="1066680"/>
            <a:ext cx="2133720" cy="1067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4038480"/>
            <a:ext cx="1981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76320" y="5715000"/>
            <a:ext cx="22100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2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45720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7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350532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6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243828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8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81680" y="57913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2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48520" y="4572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7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34290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6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2438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8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304920"/>
            <a:ext cx="175248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20826600">
            <a:off x="228600" y="12193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Arial Unicode MS"/>
              </a:rPr>
              <a:t>夺红旗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5791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572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82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24382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81880" y="5867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96080" y="4572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2514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151320" y="228600"/>
            <a:ext cx="3013920" cy="1219320"/>
            <a:chOff x="6151320" y="228600"/>
            <a:chExt cx="3013920" cy="1219320"/>
          </a:xfrm>
        </p:grpSpPr>
        <p:sp>
          <p:nvSpPr>
            <p:cNvPr id="400" name=""/>
            <p:cNvSpPr/>
            <p:nvPr/>
          </p:nvSpPr>
          <p:spPr>
            <a:xfrm>
              <a:off x="6245280" y="228600"/>
              <a:ext cx="2895480" cy="1219320"/>
            </a:xfrm>
            <a:prstGeom prst="cloudCallout">
              <a:avLst>
                <a:gd name="adj1" fmla="val -19078"/>
                <a:gd name="adj2" fmla="val 78777"/>
              </a:avLst>
            </a:prstGeom>
            <a:solidFill>
              <a:srgbClr val="ffcc99"/>
            </a:solidFill>
            <a:ln w="3168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1157200">
              <a:off x="6172200" y="53316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20306"/>
                  </a:solidFill>
                  <a:latin typeface="Times New Roman"/>
                  <a:ea typeface="华文隶书"/>
                </a:rPr>
                <a:t>你发现了什么吗？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458200" y="66294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9+3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9+7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9+8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6+9=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5+9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4+9=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10+9=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2 +9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29000" y="1371600"/>
            <a:ext cx="533520" cy="236232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62120" y="0"/>
            <a:ext cx="4190760" cy="1523880"/>
            <a:chOff x="762120" y="0"/>
            <a:chExt cx="4190760" cy="1523880"/>
          </a:xfrm>
        </p:grpSpPr>
        <p:sp>
          <p:nvSpPr>
            <p:cNvPr id="406" name=""/>
            <p:cNvSpPr/>
            <p:nvPr/>
          </p:nvSpPr>
          <p:spPr>
            <a:xfrm>
              <a:off x="762120" y="0"/>
              <a:ext cx="4190760" cy="1523880"/>
            </a:xfrm>
            <a:prstGeom prst="cloudCallout">
              <a:avLst>
                <a:gd name="adj1" fmla="val -43865"/>
                <a:gd name="adj2" fmla="val 76041"/>
              </a:avLst>
            </a:prstGeom>
            <a:solidFill>
              <a:srgbClr val="cc99ff"/>
            </a:solidFill>
            <a:ln w="2844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66680" y="380880"/>
              <a:ext cx="3733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隶书"/>
                </a:rPr>
                <a:t>你会算了吗？</a:t>
              </a:r>
              <a:endParaRPr b="0" lang="en-US" sz="4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209680" y="20574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21337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57400" y="27432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2819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3880" y="34290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91320" y="34290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2819160" y="4114800"/>
            <a:ext cx="1447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1320" y="41148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590920" y="4952880"/>
            <a:ext cx="6553080" cy="1905120"/>
            <a:chOff x="2590920" y="4952880"/>
            <a:chExt cx="6553080" cy="1905120"/>
          </a:xfrm>
        </p:grpSpPr>
        <p:sp>
          <p:nvSpPr>
            <p:cNvPr id="417" name=""/>
            <p:cNvSpPr/>
            <p:nvPr/>
          </p:nvSpPr>
          <p:spPr>
            <a:xfrm>
              <a:off x="2590920" y="4952880"/>
              <a:ext cx="5410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8000"/>
                  </a:solidFill>
                  <a:latin typeface="Times New Roman"/>
                  <a:ea typeface="华文隶书"/>
                </a:rPr>
                <a:t>真  棒  ！</a:t>
              </a:r>
              <a:endParaRPr b="0" lang="en-US" sz="9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418" name="PE01832_" descr=""/>
            <p:cNvPicPr/>
            <p:nvPr/>
          </p:nvPicPr>
          <p:blipFill>
            <a:blip r:embed="rId2"/>
            <a:stretch/>
          </p:blipFill>
          <p:spPr>
            <a:xfrm>
              <a:off x="7162920" y="5105520"/>
              <a:ext cx="198108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2:14:22Z</dcterms:created>
  <dc:creator>双语学校</dc:creator>
  <dc:description/>
  <dc:language>en-US</dc:language>
  <cp:lastModifiedBy>Roberto</cp:lastModifiedBy>
  <dcterms:modified xsi:type="dcterms:W3CDTF">2002-11-19T05:00:34Z</dcterms:modified>
  <cp:revision>39</cp:revision>
  <dc:subject/>
  <dc:title>一、口算。                                    10+5=（  ）  10+3=（  ）                        10+8=（  ）     9+10=（  ）    二、填空。 9+1+6=（  ） 9+1+7=（  ）   三、分一分。 10 </dc:title>
</cp:coreProperties>
</file>