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DFB-EC6B-4204-AB21-589D9EF8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AEA-CD39-4939-BC9D-ABB1F4B9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9A2-0842-451B-8B73-B0C0A659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99F-2412-4347-88A4-168178F1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43B-34F6-42E3-8ED2-0BD199D0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113-CF8C-4017-A9D3-A6CEF7F4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A77-53CF-42ED-BBDE-017AA1C7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073-B9A1-4AE6-9F09-8E688FC4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A2E-6CB7-4324-BBB1-9ADE0EC2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512F-759E-4487-A74F-95771D17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559-7380-45CD-89EF-F4C9CC34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FA8-2C8F-4B64-8CCD-B2F61615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D4FC-AF39-4004-9D51-996650024B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" Target="slide3.xml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6.xml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image" Target="../media/image8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9.png"/><Relationship Id="rId19" Type="http://schemas.openxmlformats.org/officeDocument/2006/relationships/slide" Target="slide3.xml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3.gif"/><Relationship Id="rId23" Type="http://schemas.openxmlformats.org/officeDocument/2006/relationships/image" Target="../media/image2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8.jpeg"/><Relationship Id="rId8" Type="http://schemas.openxmlformats.org/officeDocument/2006/relationships/slide" Target="slide3.xml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99640" y="2174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  <a:ea typeface="隶书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1440" y="1139760"/>
            <a:ext cx="30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出算式和得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1981080"/>
            <a:ext cx="4049280" cy="703440"/>
            <a:chOff x="1295280" y="1981080"/>
            <a:chExt cx="4049280" cy="703440"/>
          </a:xfrm>
        </p:grpSpPr>
        <p:sp>
          <p:nvSpPr>
            <p:cNvPr id="45" name=""/>
            <p:cNvSpPr/>
            <p:nvPr/>
          </p:nvSpPr>
          <p:spPr>
            <a:xfrm>
              <a:off x="2084760" y="1981080"/>
              <a:ext cx="325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的和是多少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95280" y="2288880"/>
              <a:ext cx="45720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295280" y="3505320"/>
            <a:ext cx="4219200" cy="703440"/>
            <a:chOff x="1295280" y="3505320"/>
            <a:chExt cx="4219200" cy="703440"/>
          </a:xfrm>
        </p:grpSpPr>
        <p:sp>
          <p:nvSpPr>
            <p:cNvPr id="48" name=""/>
            <p:cNvSpPr/>
            <p:nvPr/>
          </p:nvSpPr>
          <p:spPr>
            <a:xfrm>
              <a:off x="2325960" y="3505320"/>
              <a:ext cx="318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的和是多少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5280" y="3737160"/>
              <a:ext cx="45720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106360" y="2743200"/>
            <a:ext cx="36234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8×3=24    3 ×8=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30040" y="4267080"/>
            <a:ext cx="3852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5 ×4=20     4 ×5=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21a%5B1%5D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914400" y="0"/>
            <a:ext cx="5647680" cy="5893200"/>
            <a:chOff x="914400" y="0"/>
            <a:chExt cx="5647680" cy="5893200"/>
          </a:xfrm>
        </p:grpSpPr>
        <p:pic>
          <p:nvPicPr>
            <p:cNvPr id="295" name="004a%5B2%5D" descr=""/>
            <p:cNvPicPr/>
            <p:nvPr/>
          </p:nvPicPr>
          <p:blipFill>
            <a:blip r:embed="rId1"/>
            <a:stretch/>
          </p:blipFill>
          <p:spPr>
            <a:xfrm>
              <a:off x="914400" y="0"/>
              <a:ext cx="380988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7815000">
              <a:off x="3778200" y="3002400"/>
              <a:ext cx="2233800" cy="2476440"/>
            </a:xfrm>
            <a:prstGeom prst="wedgeEllipseCallout">
              <a:avLst>
                <a:gd name="adj1" fmla="val -26351"/>
                <a:gd name="adj2" fmla="val 8320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95680" y="2895480"/>
              <a:ext cx="609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  <a:ea typeface="隶书"/>
                </a:rPr>
                <a:t>真棒！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114120 w 762120"/>
              <a:gd name="textAreaRight" fmla="*/ 648000 w 762120"/>
              <a:gd name="textAreaTop" fmla="*/ 114120 h 609480"/>
              <a:gd name="textAreaBottom" fmla="*/ 49536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2956" y="4050"/>
                </a:lnTo>
                <a:lnTo>
                  <a:pt x="4050" y="405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2956" y="17550"/>
                </a:lnTo>
                <a:lnTo>
                  <a:pt x="22956" y="405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22956" y="1755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27006" h="21600">
                <a:moveTo>
                  <a:pt x="8472" y="8425"/>
                </a:moveTo>
                <a:lnTo>
                  <a:pt x="10991" y="8425"/>
                </a:lnTo>
                <a:lnTo>
                  <a:pt x="10991" y="12256"/>
                </a:lnTo>
                <a:cubicBezTo>
                  <a:pt x="10991" y="12919"/>
                  <a:pt x="11566" y="13444"/>
                  <a:pt x="12309" y="13444"/>
                </a:cubicBezTo>
                <a:lnTo>
                  <a:pt x="13503" y="13444"/>
                </a:lnTo>
                <a:cubicBezTo>
                  <a:pt x="14247" y="13444"/>
                  <a:pt x="14822" y="12919"/>
                  <a:pt x="14822" y="12256"/>
                </a:cubicBezTo>
                <a:lnTo>
                  <a:pt x="14822" y="8425"/>
                </a:lnTo>
                <a:lnTo>
                  <a:pt x="13503" y="8425"/>
                </a:lnTo>
                <a:lnTo>
                  <a:pt x="16022" y="5906"/>
                </a:lnTo>
                <a:lnTo>
                  <a:pt x="18659" y="8425"/>
                </a:lnTo>
                <a:lnTo>
                  <a:pt x="17341" y="8425"/>
                </a:lnTo>
                <a:lnTo>
                  <a:pt x="17341" y="12256"/>
                </a:lnTo>
                <a:cubicBezTo>
                  <a:pt x="17341" y="14244"/>
                  <a:pt x="15491" y="16081"/>
                  <a:pt x="13503" y="16081"/>
                </a:cubicBezTo>
                <a:lnTo>
                  <a:pt x="12309" y="16081"/>
                </a:lnTo>
                <a:cubicBezTo>
                  <a:pt x="10322" y="16081"/>
                  <a:pt x="8472" y="14244"/>
                  <a:pt x="8472" y="1225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7724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1600200"/>
            <a:ext cx="5029200" cy="342900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84960" y="160020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个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几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是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几个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这个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和是多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04920" y="388620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乘法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762120" cy="533520"/>
          </a:xfrm>
          <a:custGeom>
            <a:avLst/>
            <a:gdLst>
              <a:gd name="textAreaLeft" fmla="*/ 71280 w 762120"/>
              <a:gd name="textAreaRight" fmla="*/ 690840 w 762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956" y="2893"/>
                </a:lnTo>
                <a:lnTo>
                  <a:pt x="2893" y="2893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956" y="18707"/>
                </a:lnTo>
                <a:lnTo>
                  <a:pt x="27956" y="2893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56" y="18707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49" h="21600">
                <a:moveTo>
                  <a:pt x="9531" y="8018"/>
                </a:moveTo>
                <a:lnTo>
                  <a:pt x="12481" y="8018"/>
                </a:lnTo>
                <a:lnTo>
                  <a:pt x="12481" y="12506"/>
                </a:lnTo>
                <a:cubicBezTo>
                  <a:pt x="12481" y="13282"/>
                  <a:pt x="13155" y="13897"/>
                  <a:pt x="14026" y="13897"/>
                </a:cubicBezTo>
                <a:lnTo>
                  <a:pt x="15424" y="13897"/>
                </a:lnTo>
                <a:cubicBezTo>
                  <a:pt x="16296" y="13897"/>
                  <a:pt x="16969" y="13282"/>
                  <a:pt x="16969" y="12506"/>
                </a:cubicBezTo>
                <a:lnTo>
                  <a:pt x="16969" y="8018"/>
                </a:lnTo>
                <a:lnTo>
                  <a:pt x="15424" y="8018"/>
                </a:lnTo>
                <a:lnTo>
                  <a:pt x="18375" y="5067"/>
                </a:lnTo>
                <a:lnTo>
                  <a:pt x="21464" y="8018"/>
                </a:lnTo>
                <a:lnTo>
                  <a:pt x="19920" y="8018"/>
                </a:lnTo>
                <a:lnTo>
                  <a:pt x="19920" y="12506"/>
                </a:lnTo>
                <a:cubicBezTo>
                  <a:pt x="19920" y="14834"/>
                  <a:pt x="17753" y="16986"/>
                  <a:pt x="15424" y="16986"/>
                </a:cubicBezTo>
                <a:lnTo>
                  <a:pt x="14026" y="16986"/>
                </a:lnTo>
                <a:cubicBezTo>
                  <a:pt x="11698" y="16986"/>
                  <a:pt x="9531" y="14834"/>
                  <a:pt x="9531" y="1250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38720" y="1828800"/>
            <a:ext cx="23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04960" y="2685960"/>
            <a:ext cx="25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67880" y="360036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×3=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求一个数的几倍是多少的应用题</a:t>
            </a:r>
            <a:endParaRPr b="1" lang="en-US" sz="2400" spc="1" strike="noStrike">
              <a:ln w="2232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8088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43920" y="1295280"/>
            <a:ext cx="3727800" cy="642600"/>
            <a:chOff x="943920" y="1295280"/>
            <a:chExt cx="3727800" cy="642600"/>
          </a:xfrm>
        </p:grpSpPr>
        <p:grpSp>
          <p:nvGrpSpPr>
            <p:cNvPr id="56" name=""/>
            <p:cNvGrpSpPr/>
            <p:nvPr/>
          </p:nvGrpSpPr>
          <p:grpSpPr>
            <a:xfrm>
              <a:off x="2514600" y="1371600"/>
              <a:ext cx="2157120" cy="565200"/>
              <a:chOff x="2514600" y="1371600"/>
              <a:chExt cx="2157120" cy="565200"/>
            </a:xfrm>
          </p:grpSpPr>
          <p:pic>
            <p:nvPicPr>
              <p:cNvPr id="57" name="绿球" descr=""/>
              <p:cNvPicPr/>
              <p:nvPr/>
            </p:nvPicPr>
            <p:blipFill>
              <a:blip r:embed="rId2"/>
              <a:stretch/>
            </p:blipFill>
            <p:spPr>
              <a:xfrm>
                <a:off x="2514600" y="1371600"/>
                <a:ext cx="5569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绿球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7760" y="1379520"/>
                <a:ext cx="55728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绿球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379520"/>
                <a:ext cx="5569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绿球" descr=""/>
              <p:cNvPicPr/>
              <p:nvPr/>
            </p:nvPicPr>
            <p:blipFill>
              <a:blip r:embed="rId5"/>
              <a:stretch/>
            </p:blipFill>
            <p:spPr>
              <a:xfrm>
                <a:off x="3581280" y="1379520"/>
                <a:ext cx="557280" cy="55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" name=""/>
            <p:cNvSpPr/>
            <p:nvPr/>
          </p:nvSpPr>
          <p:spPr>
            <a:xfrm>
              <a:off x="943920" y="1295280"/>
              <a:ext cx="89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一行摆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8040" y="2209680"/>
            <a:ext cx="6197400" cy="642600"/>
            <a:chOff x="608040" y="2209680"/>
            <a:chExt cx="6197400" cy="642600"/>
          </a:xfrm>
        </p:grpSpPr>
        <p:grpSp>
          <p:nvGrpSpPr>
            <p:cNvPr id="63" name=""/>
            <p:cNvGrpSpPr/>
            <p:nvPr/>
          </p:nvGrpSpPr>
          <p:grpSpPr>
            <a:xfrm>
              <a:off x="2514600" y="2286000"/>
              <a:ext cx="4290840" cy="565200"/>
              <a:chOff x="2514600" y="2286000"/>
              <a:chExt cx="4290840" cy="565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2514600" y="2286000"/>
                <a:ext cx="2157120" cy="565200"/>
                <a:chOff x="2514600" y="2286000"/>
                <a:chExt cx="2157120" cy="565200"/>
              </a:xfrm>
            </p:grpSpPr>
            <p:pic>
              <p:nvPicPr>
                <p:cNvPr id="65" name="绿球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14600" y="228600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绿球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4776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绿球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114800" y="229392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绿球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8128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" name=""/>
              <p:cNvGrpSpPr/>
              <p:nvPr/>
            </p:nvGrpSpPr>
            <p:grpSpPr>
              <a:xfrm>
                <a:off x="4648320" y="2286000"/>
                <a:ext cx="2157120" cy="565200"/>
                <a:chOff x="4648320" y="2286000"/>
                <a:chExt cx="2157120" cy="565200"/>
              </a:xfrm>
            </p:grpSpPr>
            <p:pic>
              <p:nvPicPr>
                <p:cNvPr id="70" name="绿球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48320" y="228600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绿球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8148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绿球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248520" y="229392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绿球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71500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4" name=""/>
            <p:cNvSpPr/>
            <p:nvPr/>
          </p:nvSpPr>
          <p:spPr>
            <a:xfrm>
              <a:off x="608040" y="2209680"/>
              <a:ext cx="153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二行摆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692720" y="3124080"/>
            <a:ext cx="4313520" cy="660240"/>
            <a:chOff x="1692720" y="3124080"/>
            <a:chExt cx="4313520" cy="660240"/>
          </a:xfrm>
        </p:grpSpPr>
        <p:pic>
          <p:nvPicPr>
            <p:cNvPr id="76" name="绿球" descr=""/>
            <p:cNvPicPr/>
            <p:nvPr/>
          </p:nvPicPr>
          <p:blipFill>
            <a:blip r:embed="rId14"/>
            <a:stretch/>
          </p:blipFill>
          <p:spPr>
            <a:xfrm>
              <a:off x="1828800" y="3200400"/>
              <a:ext cx="58392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692720" y="3124080"/>
              <a:ext cx="431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二行     的个数是第一行的几倍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335560" y="1219320"/>
            <a:ext cx="40932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94080" y="2209680"/>
            <a:ext cx="177876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 (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048120"/>
            <a:ext cx="38124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781680" y="2286000"/>
            <a:ext cx="2157120" cy="565200"/>
            <a:chOff x="6781680" y="2286000"/>
            <a:chExt cx="2157120" cy="565200"/>
          </a:xfrm>
        </p:grpSpPr>
        <p:pic>
          <p:nvPicPr>
            <p:cNvPr id="82" name="绿球" descr=""/>
            <p:cNvPicPr/>
            <p:nvPr/>
          </p:nvPicPr>
          <p:blipFill>
            <a:blip r:embed="rId15"/>
            <a:stretch/>
          </p:blipFill>
          <p:spPr>
            <a:xfrm>
              <a:off x="6781680" y="2286000"/>
              <a:ext cx="556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绿球" descr=""/>
            <p:cNvPicPr/>
            <p:nvPr/>
          </p:nvPicPr>
          <p:blipFill>
            <a:blip r:embed="rId16"/>
            <a:stretch/>
          </p:blipFill>
          <p:spPr>
            <a:xfrm>
              <a:off x="7314840" y="2293920"/>
              <a:ext cx="55728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绿球" descr=""/>
            <p:cNvPicPr/>
            <p:nvPr/>
          </p:nvPicPr>
          <p:blipFill>
            <a:blip r:embed="rId17"/>
            <a:stretch/>
          </p:blipFill>
          <p:spPr>
            <a:xfrm>
              <a:off x="8381880" y="2293920"/>
              <a:ext cx="556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绿球" descr=""/>
            <p:cNvPicPr/>
            <p:nvPr/>
          </p:nvPicPr>
          <p:blipFill>
            <a:blip r:embed="rId18"/>
            <a:stretch/>
          </p:blipFill>
          <p:spPr>
            <a:xfrm>
              <a:off x="7848360" y="2293920"/>
              <a:ext cx="557280" cy="5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6097680" y="3048120"/>
            <a:ext cx="40932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209680"/>
            <a:ext cx="6629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9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28195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28195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2895480"/>
            <a:ext cx="1523880" cy="22860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封面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09480" y="1981080"/>
            <a:ext cx="7543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33cc"/>
                </a:solidFill>
                <a:latin typeface="隶书"/>
              </a:rPr>
              <a:t>求一个数的几倍是多少的应用题</a:t>
            </a:r>
            <a:endParaRPr b="1" lang="en-US" sz="2400" spc="1" strike="noStrike">
              <a:ln w="22320">
                <a:solidFill>
                  <a:srgbClr val="ffffff"/>
                </a:solidFill>
                <a:miter/>
              </a:ln>
              <a:solidFill>
                <a:srgbClr val="ff33cc"/>
              </a:solidFill>
              <a:latin typeface="隶书"/>
              <a:ea typeface="隶书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685800"/>
            <a:ext cx="1676160" cy="1066680"/>
            <a:chOff x="457200" y="685800"/>
            <a:chExt cx="1676160" cy="1066680"/>
          </a:xfrm>
        </p:grpSpPr>
        <p:sp>
          <p:nvSpPr>
            <p:cNvPr id="95" name="">
              <a:hlinkClick r:id="rId2" action="ppaction://hlinksldjump"/>
            </p:cNvPr>
            <p:cNvSpPr/>
            <p:nvPr/>
          </p:nvSpPr>
          <p:spPr>
            <a:xfrm>
              <a:off x="457200" y="761760"/>
              <a:ext cx="1676160" cy="914400"/>
            </a:xfrm>
            <a:custGeom>
              <a:avLst/>
              <a:gdLst>
                <a:gd name="textAreaLeft" fmla="*/ 133200 w 1676160"/>
                <a:gd name="textAreaRight" fmla="*/ 1542960 w 167616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39587" h="21600">
                  <a:moveTo>
                    <a:pt x="0" y="0"/>
                  </a:moveTo>
                  <a:lnTo>
                    <a:pt x="39587" y="0"/>
                  </a:lnTo>
                  <a:lnTo>
                    <a:pt x="39587" y="21600"/>
                  </a:lnTo>
                  <a:lnTo>
                    <a:pt x="0" y="21600"/>
                  </a:lnTo>
                  <a:close/>
                </a:path>
                <a:path fill="lightenLess" w="39587" h="21600">
                  <a:moveTo>
                    <a:pt x="0" y="0"/>
                  </a:moveTo>
                  <a:lnTo>
                    <a:pt x="39587" y="0"/>
                  </a:lnTo>
                  <a:lnTo>
                    <a:pt x="36437" y="3150"/>
                  </a:lnTo>
                  <a:lnTo>
                    <a:pt x="3150" y="3150"/>
                  </a:lnTo>
                  <a:close/>
                </a:path>
                <a:path fill="darken" w="39587" h="21600">
                  <a:moveTo>
                    <a:pt x="39587" y="0"/>
                  </a:moveTo>
                  <a:lnTo>
                    <a:pt x="39587" y="21600"/>
                  </a:lnTo>
                  <a:lnTo>
                    <a:pt x="36437" y="18450"/>
                  </a:lnTo>
                  <a:lnTo>
                    <a:pt x="36437" y="3150"/>
                  </a:lnTo>
                  <a:close/>
                </a:path>
                <a:path fill="darkenLess" w="39587" h="21600">
                  <a:moveTo>
                    <a:pt x="39587" y="21600"/>
                  </a:moveTo>
                  <a:lnTo>
                    <a:pt x="0" y="21600"/>
                  </a:lnTo>
                  <a:lnTo>
                    <a:pt x="3150" y="18450"/>
                  </a:lnTo>
                  <a:lnTo>
                    <a:pt x="36437" y="18450"/>
                  </a:lnTo>
                  <a:close/>
                </a:path>
                <a:path fill="lighten" w="39587" h="21600">
                  <a:moveTo>
                    <a:pt x="0" y="21600"/>
                  </a:moveTo>
                  <a:lnTo>
                    <a:pt x="0" y="0"/>
                  </a:lnTo>
                  <a:lnTo>
                    <a:pt x="3150" y="3150"/>
                  </a:lnTo>
                  <a:lnTo>
                    <a:pt x="3150" y="1845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609480" y="685800"/>
              <a:ext cx="13716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726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25560">
                    <a:solidFill>
                      <a:srgbClr val="660033"/>
                    </a:solidFill>
                    <a:miter/>
                  </a:ln>
                  <a:solidFill>
                    <a:srgbClr val="ff6600"/>
                  </a:solidFill>
                  <a:latin typeface="隶书"/>
                </a:rPr>
                <a:t>例</a:t>
              </a:r>
              <a:r>
                <a:rPr b="1" lang="en-US" sz="4000" spc="1" strike="noStrike">
                  <a:ln w="25560">
                    <a:solidFill>
                      <a:srgbClr val="660033"/>
                    </a:solidFill>
                    <a:miter/>
                  </a:ln>
                  <a:solidFill>
                    <a:srgbClr val="ff6600"/>
                  </a:solidFill>
                  <a:latin typeface="隶书"/>
                </a:rPr>
                <a:t>3</a:t>
              </a:r>
              <a:endParaRPr b="1" lang="en-US" sz="4000" spc="1" strike="noStrike">
                <a:ln w="25560">
                  <a:solidFill>
                    <a:srgbClr val="660033"/>
                  </a:solidFill>
                  <a:miter/>
                </a:ln>
                <a:solidFill>
                  <a:srgbClr val="ff6600"/>
                </a:solidFill>
                <a:latin typeface="隶书"/>
                <a:ea typeface="隶书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81280" y="304920"/>
            <a:ext cx="1676520" cy="1066680"/>
            <a:chOff x="3581280" y="304920"/>
            <a:chExt cx="1676520" cy="1066680"/>
          </a:xfrm>
        </p:grpSpPr>
        <p:sp>
          <p:nvSpPr>
            <p:cNvPr id="98" name="">
              <a:hlinkClick r:id="rId4" action="ppaction://hlinksldjump"/>
            </p:cNvPr>
            <p:cNvSpPr/>
            <p:nvPr/>
          </p:nvSpPr>
          <p:spPr>
            <a:xfrm>
              <a:off x="3581280" y="304920"/>
              <a:ext cx="1676520" cy="1066680"/>
            </a:xfrm>
            <a:custGeom>
              <a:avLst/>
              <a:gdLst>
                <a:gd name="textAreaLeft" fmla="*/ 139320 w 1676520"/>
                <a:gd name="textAreaRight" fmla="*/ 1537200 w 1676520"/>
                <a:gd name="textAreaTop" fmla="*/ 139320 h 1066680"/>
                <a:gd name="textAreaBottom" fmla="*/ 927360 h 1066680"/>
              </a:gdLst>
              <a:ahLst/>
              <a:rect l="textAreaLeft" t="textAreaTop" r="textAreaRight" b="textAreaBottom"/>
              <a:pathLst>
                <a:path w="33945" h="21600">
                  <a:moveTo>
                    <a:pt x="0" y="0"/>
                  </a:moveTo>
                  <a:lnTo>
                    <a:pt x="33945" y="0"/>
                  </a:lnTo>
                  <a:lnTo>
                    <a:pt x="33945" y="21600"/>
                  </a:lnTo>
                  <a:lnTo>
                    <a:pt x="0" y="21600"/>
                  </a:lnTo>
                  <a:close/>
                </a:path>
                <a:path fill="lightenLess" w="33945" h="21600">
                  <a:moveTo>
                    <a:pt x="0" y="0"/>
                  </a:moveTo>
                  <a:lnTo>
                    <a:pt x="33945" y="0"/>
                  </a:lnTo>
                  <a:lnTo>
                    <a:pt x="31122" y="2823"/>
                  </a:lnTo>
                  <a:lnTo>
                    <a:pt x="2823" y="2823"/>
                  </a:lnTo>
                  <a:close/>
                </a:path>
                <a:path fill="darken" w="33945" h="21600">
                  <a:moveTo>
                    <a:pt x="33945" y="0"/>
                  </a:moveTo>
                  <a:lnTo>
                    <a:pt x="33945" y="21600"/>
                  </a:lnTo>
                  <a:lnTo>
                    <a:pt x="31122" y="18777"/>
                  </a:lnTo>
                  <a:lnTo>
                    <a:pt x="31122" y="2823"/>
                  </a:lnTo>
                  <a:close/>
                </a:path>
                <a:path fill="darkenLess" w="33945" h="21600">
                  <a:moveTo>
                    <a:pt x="33945" y="21600"/>
                  </a:moveTo>
                  <a:lnTo>
                    <a:pt x="0" y="21600"/>
                  </a:lnTo>
                  <a:lnTo>
                    <a:pt x="2823" y="18777"/>
                  </a:lnTo>
                  <a:lnTo>
                    <a:pt x="31122" y="18777"/>
                  </a:lnTo>
                  <a:close/>
                </a:path>
                <a:path fill="lighten" w="33945" h="21600">
                  <a:moveTo>
                    <a:pt x="0" y="21600"/>
                  </a:moveTo>
                  <a:lnTo>
                    <a:pt x="0" y="0"/>
                  </a:lnTo>
                  <a:lnTo>
                    <a:pt x="2823" y="2823"/>
                  </a:lnTo>
                  <a:lnTo>
                    <a:pt x="2823" y="18777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657600" y="304920"/>
              <a:ext cx="16002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704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66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例</a:t>
              </a:r>
              <a:r>
                <a:rPr b="1" lang="en-US" sz="4000" spc="1" strike="noStrike">
                  <a:ln w="936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66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4</a:t>
              </a:r>
              <a:endParaRPr b="1" lang="en-US" sz="40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660066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  <a:ea typeface="隶书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629400" y="609480"/>
            <a:ext cx="1676520" cy="1447920"/>
            <a:chOff x="6629400" y="609480"/>
            <a:chExt cx="1676520" cy="1447920"/>
          </a:xfrm>
        </p:grpSpPr>
        <p:sp>
          <p:nvSpPr>
            <p:cNvPr id="101" name="">
              <a:hlinkClick r:id="rId6" action="ppaction://hlinksldjump"/>
            </p:cNvPr>
            <p:cNvSpPr/>
            <p:nvPr/>
          </p:nvSpPr>
          <p:spPr>
            <a:xfrm>
              <a:off x="6629400" y="990720"/>
              <a:ext cx="1676520" cy="1066680"/>
            </a:xfrm>
            <a:custGeom>
              <a:avLst/>
              <a:gdLst>
                <a:gd name="textAreaLeft" fmla="*/ 139320 w 1676520"/>
                <a:gd name="textAreaRight" fmla="*/ 1537200 w 1676520"/>
                <a:gd name="textAreaTop" fmla="*/ 139320 h 1066680"/>
                <a:gd name="textAreaBottom" fmla="*/ 927360 h 1066680"/>
              </a:gdLst>
              <a:ahLst/>
              <a:rect l="textAreaLeft" t="textAreaTop" r="textAreaRight" b="textAreaBottom"/>
              <a:pathLst>
                <a:path w="33945" h="21600">
                  <a:moveTo>
                    <a:pt x="0" y="0"/>
                  </a:moveTo>
                  <a:lnTo>
                    <a:pt x="33945" y="0"/>
                  </a:lnTo>
                  <a:lnTo>
                    <a:pt x="33945" y="21600"/>
                  </a:lnTo>
                  <a:lnTo>
                    <a:pt x="0" y="21600"/>
                  </a:lnTo>
                  <a:close/>
                </a:path>
                <a:path fill="lightenLess" w="33945" h="21600">
                  <a:moveTo>
                    <a:pt x="0" y="0"/>
                  </a:moveTo>
                  <a:lnTo>
                    <a:pt x="33945" y="0"/>
                  </a:lnTo>
                  <a:lnTo>
                    <a:pt x="31122" y="2823"/>
                  </a:lnTo>
                  <a:lnTo>
                    <a:pt x="2823" y="2823"/>
                  </a:lnTo>
                  <a:close/>
                </a:path>
                <a:path fill="darken" w="33945" h="21600">
                  <a:moveTo>
                    <a:pt x="33945" y="0"/>
                  </a:moveTo>
                  <a:lnTo>
                    <a:pt x="33945" y="21600"/>
                  </a:lnTo>
                  <a:lnTo>
                    <a:pt x="31122" y="18777"/>
                  </a:lnTo>
                  <a:lnTo>
                    <a:pt x="31122" y="2823"/>
                  </a:lnTo>
                  <a:close/>
                </a:path>
                <a:path fill="darkenLess" w="33945" h="21600">
                  <a:moveTo>
                    <a:pt x="33945" y="21600"/>
                  </a:moveTo>
                  <a:lnTo>
                    <a:pt x="0" y="21600"/>
                  </a:lnTo>
                  <a:lnTo>
                    <a:pt x="2823" y="18777"/>
                  </a:lnTo>
                  <a:lnTo>
                    <a:pt x="31122" y="18777"/>
                  </a:lnTo>
                  <a:close/>
                </a:path>
                <a:path fill="lighten" w="33945" h="21600">
                  <a:moveTo>
                    <a:pt x="0" y="21600"/>
                  </a:moveTo>
                  <a:lnTo>
                    <a:pt x="0" y="0"/>
                  </a:lnTo>
                  <a:lnTo>
                    <a:pt x="2823" y="2823"/>
                  </a:lnTo>
                  <a:lnTo>
                    <a:pt x="2823" y="18777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6705720" y="609480"/>
              <a:ext cx="152388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347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隶书"/>
                </a:rPr>
                <a:t>练习</a:t>
              </a:r>
              <a:endPara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1981080" y="5181480"/>
            <a:ext cx="2629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草原音乐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952880"/>
            <a:ext cx="91440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2240" y="120600"/>
            <a:ext cx="7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7560" y="164448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88760" y="1676520"/>
            <a:ext cx="13597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7600" y="654120"/>
            <a:ext cx="3120120" cy="718560"/>
            <a:chOff x="867600" y="654120"/>
            <a:chExt cx="3120120" cy="718560"/>
          </a:xfrm>
        </p:grpSpPr>
        <p:sp>
          <p:nvSpPr>
            <p:cNvPr id="109" name=""/>
            <p:cNvSpPr/>
            <p:nvPr/>
          </p:nvSpPr>
          <p:spPr>
            <a:xfrm>
              <a:off x="867600" y="730080"/>
              <a:ext cx="89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第一行摆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590920" y="654120"/>
              <a:ext cx="1396800" cy="711000"/>
              <a:chOff x="2590920" y="654120"/>
              <a:chExt cx="1396800" cy="711000"/>
            </a:xfrm>
          </p:grpSpPr>
          <p:pic>
            <p:nvPicPr>
              <p:cNvPr id="111" name="绿球" descr=""/>
              <p:cNvPicPr/>
              <p:nvPr/>
            </p:nvPicPr>
            <p:blipFill>
              <a:blip r:embed="rId1"/>
              <a:stretch/>
            </p:blipFill>
            <p:spPr>
              <a:xfrm>
                <a:off x="2590920" y="65412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绿球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65412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" name=""/>
          <p:cNvSpPr/>
          <p:nvPr/>
        </p:nvSpPr>
        <p:spPr>
          <a:xfrm>
            <a:off x="902520" y="2451240"/>
            <a:ext cx="27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 _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？" descr=""/>
          <p:cNvPicPr/>
          <p:nvPr/>
        </p:nvPicPr>
        <p:blipFill>
          <a:blip r:embed="rId3"/>
          <a:stretch/>
        </p:blipFill>
        <p:spPr>
          <a:xfrm>
            <a:off x="7543800" y="15685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46880" y="136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1644480"/>
            <a:ext cx="11430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6040" y="2330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90920" y="1568520"/>
            <a:ext cx="1752480" cy="786960"/>
            <a:chOff x="2590920" y="1568520"/>
            <a:chExt cx="1752480" cy="786960"/>
          </a:xfrm>
        </p:grpSpPr>
        <p:sp>
          <p:nvSpPr>
            <p:cNvPr id="119" name=""/>
            <p:cNvSpPr/>
            <p:nvPr/>
          </p:nvSpPr>
          <p:spPr>
            <a:xfrm>
              <a:off x="3962520" y="156852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590920" y="1644480"/>
              <a:ext cx="1396800" cy="711000"/>
              <a:chOff x="2590920" y="1644480"/>
              <a:chExt cx="1396800" cy="711000"/>
            </a:xfrm>
          </p:grpSpPr>
          <p:pic>
            <p:nvPicPr>
              <p:cNvPr id="121" name="绿球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164448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绿球" descr=""/>
              <p:cNvPicPr/>
              <p:nvPr/>
            </p:nvPicPr>
            <p:blipFill>
              <a:blip r:embed="rId5"/>
              <a:stretch/>
            </p:blipFill>
            <p:spPr>
              <a:xfrm>
                <a:off x="3276720" y="164448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3" name=""/>
          <p:cNvGrpSpPr/>
          <p:nvPr/>
        </p:nvGrpSpPr>
        <p:grpSpPr>
          <a:xfrm>
            <a:off x="600120" y="3200400"/>
            <a:ext cx="1762200" cy="658440"/>
            <a:chOff x="600120" y="3200400"/>
            <a:chExt cx="1762200" cy="658440"/>
          </a:xfrm>
        </p:grpSpPr>
        <p:sp>
          <p:nvSpPr>
            <p:cNvPr id="124" name=""/>
            <p:cNvSpPr/>
            <p:nvPr/>
          </p:nvSpPr>
          <p:spPr>
            <a:xfrm>
              <a:off x="600120" y="3216240"/>
              <a:ext cx="63792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600200" y="3200400"/>
              <a:ext cx="762120" cy="609480"/>
              <a:chOff x="1600200" y="3200400"/>
              <a:chExt cx="762120" cy="609480"/>
            </a:xfrm>
          </p:grpSpPr>
          <p:sp>
            <p:nvSpPr>
              <p:cNvPr id="126" name=""/>
              <p:cNvSpPr/>
              <p:nvPr/>
            </p:nvSpPr>
            <p:spPr>
              <a:xfrm>
                <a:off x="1600200" y="3200400"/>
                <a:ext cx="76212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1676520" y="3580920"/>
                <a:ext cx="6858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09680" y="35053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32004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943920" y="3854520"/>
            <a:ext cx="8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3880" y="46926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8000" y="5454720"/>
            <a:ext cx="26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 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8080" y="4692600"/>
            <a:ext cx="135972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90920" y="3625920"/>
          <a:ext cx="1106280" cy="76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3625920"/>
                    <a:ext cx="11062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？" descr=""/>
          <p:cNvPicPr/>
          <p:nvPr/>
        </p:nvPicPr>
        <p:blipFill>
          <a:blip r:embed="rId8"/>
          <a:stretch/>
        </p:blipFill>
        <p:spPr>
          <a:xfrm>
            <a:off x="7924680" y="47689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29040" y="4692600"/>
            <a:ext cx="113112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6400" y="5402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4616280"/>
          <a:ext cx="110628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4616280"/>
                    <a:ext cx="1106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429000" y="4616280"/>
          <a:ext cx="1106640" cy="76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4616280"/>
                    <a:ext cx="110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495680" y="4616280"/>
          <a:ext cx="110664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4616280"/>
                    <a:ext cx="110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bar兰花" descr=""/>
          <p:cNvPicPr/>
          <p:nvPr/>
        </p:nvPicPr>
        <p:blipFill>
          <a:blip r:embed="rId15"/>
          <a:stretch/>
        </p:blipFill>
        <p:spPr>
          <a:xfrm>
            <a:off x="0" y="0"/>
            <a:ext cx="8915400" cy="347760"/>
          </a:xfrm>
          <a:prstGeom prst="rect">
            <a:avLst/>
          </a:prstGeom>
          <a:ln w="0">
            <a:noFill/>
          </a:ln>
        </p:spPr>
      </p:pic>
      <p:pic>
        <p:nvPicPr>
          <p:cNvPr id="146" name="bar兰花" descr=""/>
          <p:cNvPicPr/>
          <p:nvPr/>
        </p:nvPicPr>
        <p:blipFill>
          <a:blip r:embed="rId16"/>
          <a:stretch/>
        </p:blipFill>
        <p:spPr>
          <a:xfrm>
            <a:off x="0" y="6510240"/>
            <a:ext cx="89154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5562720" y="4616280"/>
          <a:ext cx="110628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62720" y="4616280"/>
                    <a:ext cx="1106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>
            <a:hlinkClick r:id="rId19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021a%5B1%5D" descr=""/>
          <p:cNvPicPr/>
          <p:nvPr/>
        </p:nvPicPr>
        <p:blipFill>
          <a:blip r:embed="rId22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086600" y="2362320"/>
            <a:ext cx="159084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×3=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7240" y="5302080"/>
            <a:ext cx="17305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 ×4=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6248520"/>
            <a:ext cx="914400" cy="609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91120" y="1600200"/>
            <a:ext cx="1752480" cy="786960"/>
            <a:chOff x="4191120" y="1600200"/>
            <a:chExt cx="1752480" cy="786960"/>
          </a:xfrm>
        </p:grpSpPr>
        <p:sp>
          <p:nvSpPr>
            <p:cNvPr id="156" name=""/>
            <p:cNvSpPr/>
            <p:nvPr/>
          </p:nvSpPr>
          <p:spPr>
            <a:xfrm>
              <a:off x="5562720" y="160020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191120" y="1676160"/>
              <a:ext cx="1396800" cy="711000"/>
              <a:chOff x="4191120" y="1676160"/>
              <a:chExt cx="1396800" cy="711000"/>
            </a:xfrm>
          </p:grpSpPr>
          <p:pic>
            <p:nvPicPr>
              <p:cNvPr id="158" name="绿球" descr=""/>
              <p:cNvPicPr/>
              <p:nvPr/>
            </p:nvPicPr>
            <p:blipFill>
              <a:blip r:embed="rId24"/>
              <a:stretch/>
            </p:blipFill>
            <p:spPr>
              <a:xfrm>
                <a:off x="419112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绿球" descr=""/>
              <p:cNvPicPr/>
              <p:nvPr/>
            </p:nvPicPr>
            <p:blipFill>
              <a:blip r:embed="rId25"/>
              <a:stretch/>
            </p:blipFill>
            <p:spPr>
              <a:xfrm>
                <a:off x="487692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0" name=""/>
          <p:cNvGrpSpPr/>
          <p:nvPr/>
        </p:nvGrpSpPr>
        <p:grpSpPr>
          <a:xfrm>
            <a:off x="5715000" y="1600200"/>
            <a:ext cx="1752480" cy="786960"/>
            <a:chOff x="5715000" y="1600200"/>
            <a:chExt cx="1752480" cy="786960"/>
          </a:xfrm>
        </p:grpSpPr>
        <p:sp>
          <p:nvSpPr>
            <p:cNvPr id="161" name=""/>
            <p:cNvSpPr/>
            <p:nvPr/>
          </p:nvSpPr>
          <p:spPr>
            <a:xfrm>
              <a:off x="7086600" y="160020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715000" y="1676160"/>
              <a:ext cx="1396800" cy="711000"/>
              <a:chOff x="5715000" y="1676160"/>
              <a:chExt cx="1396800" cy="711000"/>
            </a:xfrm>
          </p:grpSpPr>
          <p:pic>
            <p:nvPicPr>
              <p:cNvPr id="163" name="绿球" descr=""/>
              <p:cNvPicPr/>
              <p:nvPr/>
            </p:nvPicPr>
            <p:blipFill>
              <a:blip r:embed="rId26"/>
              <a:stretch/>
            </p:blipFill>
            <p:spPr>
              <a:xfrm>
                <a:off x="571500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绿球" descr=""/>
              <p:cNvPicPr/>
              <p:nvPr/>
            </p:nvPicPr>
            <p:blipFill>
              <a:blip r:embed="rId27"/>
              <a:stretch/>
            </p:blipFill>
            <p:spPr>
              <a:xfrm>
                <a:off x="640080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5" name=""/>
          <p:cNvSpPr/>
          <p:nvPr/>
        </p:nvSpPr>
        <p:spPr>
          <a:xfrm>
            <a:off x="2666880" y="1676520"/>
            <a:ext cx="43434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红格底" descr=""/>
            <p:cNvPicPr/>
            <p:nvPr/>
          </p:nvPicPr>
          <p:blipFill>
            <a:blip r:embed="rId1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0" y="0"/>
              <a:ext cx="9144000" cy="3657600"/>
              <a:chOff x="0" y="0"/>
              <a:chExt cx="9144000" cy="3657600"/>
            </a:xfrm>
          </p:grpSpPr>
          <p:pic>
            <p:nvPicPr>
              <p:cNvPr id="169" name="红格底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红格底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600" y="0"/>
                <a:ext cx="3200400" cy="25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1" name=""/>
          <p:cNvSpPr txBox="1"/>
          <p:nvPr/>
        </p:nvSpPr>
        <p:spPr>
          <a:xfrm>
            <a:off x="0" y="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楷体_GB2312"/>
              </a:rPr>
              <a:t>例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楷体_GB2312"/>
              </a:rPr>
              <a:t>4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172" name=""/>
          <p:cNvSpPr/>
          <p:nvPr/>
        </p:nvSpPr>
        <p:spPr>
          <a:xfrm>
            <a:off x="136440" y="955800"/>
            <a:ext cx="67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美术小组做黄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朵，做红花的朵数是黄花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。做了多少朵红花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796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2133720"/>
            <a:ext cx="914400" cy="228600"/>
            <a:chOff x="1600200" y="2133720"/>
            <a:chExt cx="914400" cy="228600"/>
          </a:xfrm>
        </p:grpSpPr>
        <p:sp>
          <p:nvSpPr>
            <p:cNvPr id="175" name=""/>
            <p:cNvSpPr/>
            <p:nvPr/>
          </p:nvSpPr>
          <p:spPr>
            <a:xfrm>
              <a:off x="1600200" y="21337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0200" y="236232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14600" y="21337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94280" y="327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16040" y="3408480"/>
            <a:ext cx="914400" cy="228600"/>
            <a:chOff x="1616040" y="3408480"/>
            <a:chExt cx="914400" cy="228600"/>
          </a:xfrm>
        </p:grpSpPr>
        <p:sp>
          <p:nvSpPr>
            <p:cNvPr id="180" name=""/>
            <p:cNvSpPr/>
            <p:nvPr/>
          </p:nvSpPr>
          <p:spPr>
            <a:xfrm>
              <a:off x="16160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160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304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73640" y="3408480"/>
            <a:ext cx="914400" cy="228600"/>
            <a:chOff x="5273640" y="3408480"/>
            <a:chExt cx="914400" cy="228600"/>
          </a:xfrm>
        </p:grpSpPr>
        <p:sp>
          <p:nvSpPr>
            <p:cNvPr id="184" name=""/>
            <p:cNvSpPr/>
            <p:nvPr/>
          </p:nvSpPr>
          <p:spPr>
            <a:xfrm>
              <a:off x="52736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36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80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359240" y="3408480"/>
            <a:ext cx="914400" cy="228600"/>
            <a:chOff x="4359240" y="3408480"/>
            <a:chExt cx="914400" cy="228600"/>
          </a:xfrm>
        </p:grpSpPr>
        <p:sp>
          <p:nvSpPr>
            <p:cNvPr id="188" name=""/>
            <p:cNvSpPr/>
            <p:nvPr/>
          </p:nvSpPr>
          <p:spPr>
            <a:xfrm>
              <a:off x="43592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592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36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44840" y="3408480"/>
            <a:ext cx="914400" cy="228600"/>
            <a:chOff x="3444840" y="3408480"/>
            <a:chExt cx="914400" cy="228600"/>
          </a:xfrm>
        </p:grpSpPr>
        <p:sp>
          <p:nvSpPr>
            <p:cNvPr id="192" name=""/>
            <p:cNvSpPr/>
            <p:nvPr/>
          </p:nvSpPr>
          <p:spPr>
            <a:xfrm>
              <a:off x="34448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48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92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530440" y="3408480"/>
            <a:ext cx="914400" cy="228600"/>
            <a:chOff x="2530440" y="3408480"/>
            <a:chExt cx="914400" cy="228600"/>
          </a:xfrm>
        </p:grpSpPr>
        <p:sp>
          <p:nvSpPr>
            <p:cNvPr id="196" name=""/>
            <p:cNvSpPr/>
            <p:nvPr/>
          </p:nvSpPr>
          <p:spPr>
            <a:xfrm>
              <a:off x="25304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304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448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599840" y="2436840"/>
            <a:ext cx="914760" cy="598320"/>
            <a:chOff x="1599840" y="2436840"/>
            <a:chExt cx="914760" cy="598320"/>
          </a:xfrm>
        </p:grpSpPr>
        <p:sp>
          <p:nvSpPr>
            <p:cNvPr id="200" name=""/>
            <p:cNvSpPr/>
            <p:nvPr/>
          </p:nvSpPr>
          <p:spPr>
            <a:xfrm rot="16211400">
              <a:off x="1980720" y="205740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32"/>
                  </a:lnTo>
                  <a:cubicBezTo>
                    <a:pt x="10800" y="10432"/>
                    <a:pt x="5400" y="11332"/>
                    <a:pt x="0" y="11332"/>
                  </a:cubicBezTo>
                  <a:cubicBezTo>
                    <a:pt x="5400" y="11332"/>
                    <a:pt x="10800" y="12232"/>
                    <a:pt x="10800" y="1313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83800" y="251460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175200" y="297180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是黄花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00200" y="3733560"/>
            <a:ext cx="4572000" cy="673200"/>
            <a:chOff x="1600200" y="3733560"/>
            <a:chExt cx="4572000" cy="673200"/>
          </a:xfrm>
        </p:grpSpPr>
        <p:sp>
          <p:nvSpPr>
            <p:cNvPr id="204" name=""/>
            <p:cNvSpPr/>
            <p:nvPr/>
          </p:nvSpPr>
          <p:spPr>
            <a:xfrm rot="16200000">
              <a:off x="3771720" y="1561680"/>
              <a:ext cx="228600" cy="4572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9160 h 4572000"/>
                <a:gd name="textAreaBottom" fmla="*/ 445284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72"/>
                  </a:lnTo>
                  <a:cubicBezTo>
                    <a:pt x="10800" y="9772"/>
                    <a:pt x="5400" y="10672"/>
                    <a:pt x="0" y="10672"/>
                  </a:cubicBezTo>
                  <a:cubicBezTo>
                    <a:pt x="5400" y="10672"/>
                    <a:pt x="10800" y="11572"/>
                    <a:pt x="10800" y="1247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581280" y="3886200"/>
              <a:ext cx="773280" cy="520560"/>
              <a:chOff x="3581280" y="3886200"/>
              <a:chExt cx="773280" cy="520560"/>
            </a:xfrm>
          </p:grpSpPr>
          <p:pic>
            <p:nvPicPr>
              <p:cNvPr id="206" name="？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1280" y="3962520"/>
                <a:ext cx="33336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3960360" y="38862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1827000" y="4368960"/>
            <a:ext cx="45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：求做多少朵红花，要算＿＿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多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6600" y="4245120"/>
            <a:ext cx="3848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17400" y="5781600"/>
            <a:ext cx="17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答：做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朵红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82160" y="5027760"/>
            <a:ext cx="3591000" cy="659160"/>
            <a:chOff x="1982160" y="5027760"/>
            <a:chExt cx="3591000" cy="659160"/>
          </a:xfrm>
        </p:grpSpPr>
        <p:sp>
          <p:nvSpPr>
            <p:cNvPr id="212" name=""/>
            <p:cNvSpPr/>
            <p:nvPr/>
          </p:nvSpPr>
          <p:spPr>
            <a:xfrm>
              <a:off x="2240640" y="5105520"/>
              <a:ext cx="333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×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 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（朵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2160" y="502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9200" y="5029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5160" y="50292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>
            <a:hlinkClick r:id="rId8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9" name="红格底" descr=""/>
            <p:cNvPicPr/>
            <p:nvPr/>
          </p:nvPicPr>
          <p:blipFill>
            <a:blip r:embed="rId1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"/>
            <p:cNvGrpSpPr/>
            <p:nvPr/>
          </p:nvGrpSpPr>
          <p:grpSpPr>
            <a:xfrm>
              <a:off x="0" y="0"/>
              <a:ext cx="9144000" cy="3657600"/>
              <a:chOff x="0" y="0"/>
              <a:chExt cx="9144000" cy="3657600"/>
            </a:xfrm>
          </p:grpSpPr>
          <p:pic>
            <p:nvPicPr>
              <p:cNvPr id="221" name="红格底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红格底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600" y="0"/>
                <a:ext cx="3200400" cy="25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451440" y="0"/>
            <a:ext cx="1773720" cy="658440"/>
            <a:chOff x="451440" y="0"/>
            <a:chExt cx="1773720" cy="658440"/>
          </a:xfrm>
        </p:grpSpPr>
        <p:sp>
          <p:nvSpPr>
            <p:cNvPr id="224" name=""/>
            <p:cNvSpPr/>
            <p:nvPr/>
          </p:nvSpPr>
          <p:spPr>
            <a:xfrm>
              <a:off x="451440" y="15840"/>
              <a:ext cx="63792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463400" y="0"/>
              <a:ext cx="761760" cy="609480"/>
              <a:chOff x="1463400" y="0"/>
              <a:chExt cx="761760" cy="609480"/>
            </a:xfrm>
          </p:grpSpPr>
          <p:sp>
            <p:nvSpPr>
              <p:cNvPr id="226" name=""/>
              <p:cNvSpPr/>
              <p:nvPr/>
            </p:nvSpPr>
            <p:spPr>
              <a:xfrm>
                <a:off x="1463400" y="0"/>
                <a:ext cx="76176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539360" y="380520"/>
                <a:ext cx="6854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72520" y="304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39360" y="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2462400" y="1173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妈妈买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米白布，买花布的米数是白布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。买了多少米花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0280" y="17938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09680" y="1905120"/>
            <a:ext cx="914400" cy="228600"/>
            <a:chOff x="2209680" y="1905120"/>
            <a:chExt cx="914400" cy="228600"/>
          </a:xfrm>
        </p:grpSpPr>
        <p:sp>
          <p:nvSpPr>
            <p:cNvPr id="234" name=""/>
            <p:cNvSpPr/>
            <p:nvPr/>
          </p:nvSpPr>
          <p:spPr>
            <a:xfrm>
              <a:off x="2209680" y="19051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9680" y="213372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19051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rot="16211400">
            <a:off x="2590200" y="18288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2"/>
                </a:lnTo>
                <a:cubicBezTo>
                  <a:pt x="10800" y="10432"/>
                  <a:pt x="5400" y="11332"/>
                  <a:pt x="0" y="11332"/>
                </a:cubicBezTo>
                <a:cubicBezTo>
                  <a:pt x="5400" y="11332"/>
                  <a:pt x="10800" y="12232"/>
                  <a:pt x="10800" y="131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08800" y="23623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）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9800" y="3124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3720" y="3124080"/>
            <a:ext cx="914400" cy="228600"/>
            <a:chOff x="2133720" y="3124080"/>
            <a:chExt cx="914400" cy="228600"/>
          </a:xfrm>
        </p:grpSpPr>
        <p:sp>
          <p:nvSpPr>
            <p:cNvPr id="241" name=""/>
            <p:cNvSpPr/>
            <p:nvPr/>
          </p:nvSpPr>
          <p:spPr>
            <a:xfrm>
              <a:off x="21337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37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81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8120" y="3124080"/>
            <a:ext cx="914400" cy="228600"/>
            <a:chOff x="3048120" y="3124080"/>
            <a:chExt cx="914400" cy="228600"/>
          </a:xfrm>
        </p:grpSpPr>
        <p:sp>
          <p:nvSpPr>
            <p:cNvPr id="245" name=""/>
            <p:cNvSpPr/>
            <p:nvPr/>
          </p:nvSpPr>
          <p:spPr>
            <a:xfrm>
              <a:off x="30481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481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625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962520" y="3124080"/>
            <a:ext cx="914400" cy="228600"/>
            <a:chOff x="3962520" y="3124080"/>
            <a:chExt cx="914400" cy="228600"/>
          </a:xfrm>
        </p:grpSpPr>
        <p:sp>
          <p:nvSpPr>
            <p:cNvPr id="249" name=""/>
            <p:cNvSpPr/>
            <p:nvPr/>
          </p:nvSpPr>
          <p:spPr>
            <a:xfrm>
              <a:off x="39625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69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6211400">
            <a:off x="3391560" y="2170440"/>
            <a:ext cx="227160" cy="2743200"/>
          </a:xfrm>
          <a:custGeom>
            <a:avLst/>
            <a:gdLst>
              <a:gd name="textAreaLeft" fmla="*/ 145080 w 227160"/>
              <a:gd name="textAreaRight" fmla="*/ 227520 w 2271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2"/>
                </a:lnTo>
                <a:cubicBezTo>
                  <a:pt x="10800" y="10432"/>
                  <a:pt x="5400" y="11332"/>
                  <a:pt x="0" y="11332"/>
                </a:cubicBezTo>
                <a:cubicBezTo>
                  <a:pt x="5400" y="11332"/>
                  <a:pt x="10800" y="12232"/>
                  <a:pt x="10800" y="131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98080" y="3657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9960" y="1752480"/>
            <a:ext cx="394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3640" y="3048120"/>
            <a:ext cx="394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2362320"/>
            <a:ext cx="457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72840" y="2971800"/>
            <a:ext cx="8143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3657600"/>
            <a:ext cx="6094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86480" y="4572000"/>
            <a:ext cx="17596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×3=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021a%5B1%5D" descr=""/>
          <p:cNvPicPr/>
          <p:nvPr/>
        </p:nvPicPr>
        <p:blipFill>
          <a:blip r:embed="rId7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304920" y="380880"/>
            <a:ext cx="220968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综合练习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65" name=""/>
          <p:cNvSpPr/>
          <p:nvPr/>
        </p:nvSpPr>
        <p:spPr>
          <a:xfrm>
            <a:off x="1070640" y="1295280"/>
            <a:ext cx="28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加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13760" y="2701800"/>
            <a:ext cx="25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19840" y="1981080"/>
            <a:ext cx="2500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×5=4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×8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96160" y="3429000"/>
            <a:ext cx="2500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×5=4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×8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724280" y="685800"/>
            <a:ext cx="3962520" cy="2590560"/>
            <a:chOff x="4724280" y="685800"/>
            <a:chExt cx="3962520" cy="2590560"/>
          </a:xfrm>
        </p:grpSpPr>
        <p:sp>
          <p:nvSpPr>
            <p:cNvPr id="270" name=""/>
            <p:cNvSpPr/>
            <p:nvPr/>
          </p:nvSpPr>
          <p:spPr>
            <a:xfrm>
              <a:off x="4724280" y="685800"/>
              <a:ext cx="3962520" cy="25905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800600" y="1143000"/>
              <a:ext cx="381924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求一个数的几倍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就是求几个这个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数的和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72" name="">
            <a:hlinkClick r:id="rId4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021a%5B1%5D" descr=""/>
          <p:cNvPicPr/>
          <p:nvPr/>
        </p:nvPicPr>
        <p:blipFill>
          <a:blip r:embed="rId7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动物%20副本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2819520" y="2209680"/>
            <a:ext cx="2628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草原音乐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021a%5B1%5D" descr=""/>
          <p:cNvPicPr/>
          <p:nvPr/>
        </p:nvPicPr>
        <p:blipFill>
          <a:blip r:embed="rId5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70102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底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2590920" y="990720"/>
            <a:ext cx="1218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66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问题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62320" y="320040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牛的数目是马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牛有几头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362320" y="464832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3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鸟的数目是马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4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鸟有几只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362320" y="182880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马的数目是猪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马有几匹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743200" y="380880"/>
            <a:ext cx="2581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(</a:t>
            </a:r>
            <a:r>
              <a:rPr b="1" lang="zh-CN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已知有</a:t>
            </a: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1</a:t>
            </a:r>
            <a:r>
              <a:rPr b="1" lang="zh-CN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头猪</a:t>
            </a: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)</a:t>
            </a:r>
            <a:endParaRPr b="1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10800"/>
                </a:moveTo>
                <a:lnTo>
                  <a:pt x="21311" y="4906"/>
                </a:lnTo>
                <a:lnTo>
                  <a:pt x="21311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021a%5B1%5D" descr=""/>
          <p:cNvPicPr/>
          <p:nvPr/>
        </p:nvPicPr>
        <p:blipFill>
          <a:blip r:embed="rId5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547160" y="23274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×2=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1720" y="274320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马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14400" y="373392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×2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牛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38440" y="518148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×4=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鸟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2:37:06Z</dcterms:created>
  <dc:creator>liuxian</dc:creator>
  <dc:description/>
  <dc:language>en-US</dc:language>
  <cp:lastModifiedBy>Legend User</cp:lastModifiedBy>
  <dcterms:modified xsi:type="dcterms:W3CDTF">2003-06-02T02:58:44Z</dcterms:modified>
  <cp:revision>36</cp:revision>
  <dc:subject/>
  <dc:title>PowerPoint 演示文稿</dc:title>
</cp:coreProperties>
</file>