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A05-C201-4784-9DFB-840516F1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088-BAE9-45A4-BF0A-DE0E8999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D66-6710-4880-A90D-E57E879F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94E-8E8A-4EBF-B86B-BCA9D9C7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C1A-3DCC-451B-85DF-864218CC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6B7-988D-49F2-85BB-0BD81801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912-574E-4397-BA52-C268674A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79A-9E30-4884-B33D-77546E79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AEC-028C-44FD-92B6-99D0964A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D90-5145-4484-B1B1-EB62D014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7B8-58EB-413D-BEAF-7174DEED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400-DBAB-42E2-8228-902F2A83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49BE-B816-488D-A54A-2CE88F5C1C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9320" y="55404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北  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58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柏油马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6095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60958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名胜古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读读记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60958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认读词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049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读一读，记一记。再用下面的词语说两三句话，能用几个用几个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绿树成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2004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鲜花盛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2004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风景优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44956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名胜古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4495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高楼大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495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来来往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03480" y="1698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中央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03480" y="167652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黄瓦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03480" y="167652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庄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35360" y="173664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宽阔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2360" y="1828800"/>
            <a:ext cx="475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纪念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752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周围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2752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似的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0348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拼图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0348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图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980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花坛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0348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古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4520" y="2241720"/>
            <a:ext cx="50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高楼大厦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10210680" cy="8153280"/>
            <a:chOff x="0" y="0"/>
            <a:chExt cx="10210680" cy="8153280"/>
          </a:xfrm>
        </p:grpSpPr>
        <p:pic>
          <p:nvPicPr>
            <p:cNvPr id="100" name="sqkq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210680" cy="815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091880" y="38088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十七孔桥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-457200" y="-380880"/>
            <a:ext cx="10515600" cy="8076960"/>
            <a:chOff x="-457200" y="-380880"/>
            <a:chExt cx="10515600" cy="8076960"/>
          </a:xfrm>
        </p:grpSpPr>
        <p:pic>
          <p:nvPicPr>
            <p:cNvPr id="103" name="yhy1" descr=""/>
            <p:cNvPicPr/>
            <p:nvPr/>
          </p:nvPicPr>
          <p:blipFill>
            <a:blip r:embed="rId2"/>
            <a:stretch/>
          </p:blipFill>
          <p:spPr>
            <a:xfrm>
              <a:off x="-457200" y="-380880"/>
              <a:ext cx="10515600" cy="80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31960" y="-23760"/>
              <a:ext cx="219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颐和园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-609480" y="-533520"/>
            <a:ext cx="10591200" cy="8153280"/>
            <a:chOff x="-609480" y="-533520"/>
            <a:chExt cx="10591200" cy="8153280"/>
          </a:xfrm>
        </p:grpSpPr>
        <p:pic>
          <p:nvPicPr>
            <p:cNvPr id="106" name="长城2" descr=""/>
            <p:cNvPicPr/>
            <p:nvPr/>
          </p:nvPicPr>
          <p:blipFill>
            <a:blip r:embed="rId3"/>
            <a:stretch/>
          </p:blipFill>
          <p:spPr>
            <a:xfrm>
              <a:off x="-609480" y="-533520"/>
              <a:ext cx="5190480" cy="398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长城1" descr=""/>
            <p:cNvPicPr/>
            <p:nvPr/>
          </p:nvPicPr>
          <p:blipFill>
            <a:blip r:embed="rId4"/>
            <a:stretch/>
          </p:blipFill>
          <p:spPr>
            <a:xfrm>
              <a:off x="4581000" y="-533520"/>
              <a:ext cx="5400720" cy="39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长城3" descr=""/>
            <p:cNvPicPr/>
            <p:nvPr/>
          </p:nvPicPr>
          <p:blipFill>
            <a:blip r:embed="rId5"/>
            <a:stretch/>
          </p:blipFill>
          <p:spPr>
            <a:xfrm>
              <a:off x="-609480" y="3413160"/>
              <a:ext cx="5120280" cy="39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长城4" descr=""/>
            <p:cNvPicPr/>
            <p:nvPr/>
          </p:nvPicPr>
          <p:blipFill>
            <a:blip r:embed="rId6"/>
            <a:stretch/>
          </p:blipFill>
          <p:spPr>
            <a:xfrm>
              <a:off x="4510800" y="3413160"/>
              <a:ext cx="5470920" cy="42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121200" y="3341160"/>
              <a:ext cx="286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长　城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-685800" y="-609480"/>
            <a:ext cx="10972800" cy="8458200"/>
            <a:chOff x="-685800" y="-609480"/>
            <a:chExt cx="10972800" cy="8458200"/>
          </a:xfrm>
        </p:grpSpPr>
        <p:pic>
          <p:nvPicPr>
            <p:cNvPr id="112" name="gg" descr=""/>
            <p:cNvPicPr/>
            <p:nvPr/>
          </p:nvPicPr>
          <p:blipFill>
            <a:blip r:embed="rId7"/>
            <a:stretch/>
          </p:blipFill>
          <p:spPr>
            <a:xfrm>
              <a:off x="-685800" y="-609480"/>
              <a:ext cx="10972800" cy="84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42080" y="-5796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故宫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85800" y="-533520"/>
            <a:ext cx="11049120" cy="8458200"/>
            <a:chOff x="-685800" y="-533520"/>
            <a:chExt cx="11049120" cy="8458200"/>
          </a:xfrm>
        </p:grpSpPr>
        <p:pic>
          <p:nvPicPr>
            <p:cNvPr id="115" name="xs" descr=""/>
            <p:cNvPicPr/>
            <p:nvPr/>
          </p:nvPicPr>
          <p:blipFill>
            <a:blip r:embed="rId8">
              <a:lum contrast="24000"/>
            </a:blip>
            <a:stretch/>
          </p:blipFill>
          <p:spPr>
            <a:xfrm>
              <a:off x="-685800" y="-533520"/>
              <a:ext cx="11049120" cy="84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060800" y="-78120"/>
              <a:ext cx="2863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香山秋景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-838080" y="-685800"/>
            <a:ext cx="11125080" cy="8610480"/>
            <a:chOff x="-838080" y="-685800"/>
            <a:chExt cx="11125080" cy="8610480"/>
          </a:xfrm>
        </p:grpSpPr>
        <p:pic>
          <p:nvPicPr>
            <p:cNvPr id="118" name="tt1" descr=""/>
            <p:cNvPicPr/>
            <p:nvPr/>
          </p:nvPicPr>
          <p:blipFill>
            <a:blip r:embed="rId9"/>
            <a:stretch/>
          </p:blipFill>
          <p:spPr>
            <a:xfrm>
              <a:off x="-838080" y="-685800"/>
              <a:ext cx="11125080" cy="86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02880" y="43128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天坛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914400" y="-685800"/>
            <a:ext cx="10744200" cy="8077320"/>
            <a:chOff x="-914400" y="-685800"/>
            <a:chExt cx="10744200" cy="8077320"/>
          </a:xfrm>
        </p:grpSpPr>
        <p:pic>
          <p:nvPicPr>
            <p:cNvPr id="121" name="王府井大街1" descr=""/>
            <p:cNvPicPr/>
            <p:nvPr/>
          </p:nvPicPr>
          <p:blipFill>
            <a:blip r:embed="rId10"/>
            <a:stretch/>
          </p:blipFill>
          <p:spPr>
            <a:xfrm>
              <a:off x="-914400" y="-685800"/>
              <a:ext cx="10744200" cy="807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53520" y="504360"/>
              <a:ext cx="160164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王府井大街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-380880" y="-380880"/>
            <a:ext cx="10134360" cy="7696080"/>
            <a:chOff x="-380880" y="-380880"/>
            <a:chExt cx="10134360" cy="7696080"/>
          </a:xfrm>
        </p:grpSpPr>
        <p:pic>
          <p:nvPicPr>
            <p:cNvPr id="124" name="圆明园2" descr=""/>
            <p:cNvPicPr/>
            <p:nvPr/>
          </p:nvPicPr>
          <p:blipFill>
            <a:blip r:embed="rId11"/>
            <a:stretch/>
          </p:blipFill>
          <p:spPr>
            <a:xfrm>
              <a:off x="-380880" y="-380880"/>
              <a:ext cx="10134360" cy="76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801560" y="-51840"/>
              <a:ext cx="1171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</a:rPr>
                <a:t>圆明园遗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-457200" y="-380880"/>
            <a:ext cx="10363320" cy="7520040"/>
            <a:chOff x="-457200" y="-380880"/>
            <a:chExt cx="10363320" cy="7520040"/>
          </a:xfrm>
        </p:grpSpPr>
        <p:pic>
          <p:nvPicPr>
            <p:cNvPr id="127" name="孔庙" descr=""/>
            <p:cNvPicPr/>
            <p:nvPr/>
          </p:nvPicPr>
          <p:blipFill>
            <a:blip r:embed="rId12"/>
            <a:stretch/>
          </p:blipFill>
          <p:spPr>
            <a:xfrm>
              <a:off x="-457200" y="-380880"/>
              <a:ext cx="10363320" cy="75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213960" y="527832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  <a:ea typeface="方正姚体"/>
                </a:rPr>
                <a:t>孔庙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457200" y="-380880"/>
            <a:ext cx="10210680" cy="7238880"/>
            <a:chOff x="-457200" y="-380880"/>
            <a:chExt cx="10210680" cy="7238880"/>
          </a:xfrm>
        </p:grpSpPr>
        <p:pic>
          <p:nvPicPr>
            <p:cNvPr id="130" name="颐和园2" descr=""/>
            <p:cNvPicPr/>
            <p:nvPr/>
          </p:nvPicPr>
          <p:blipFill>
            <a:blip r:embed="rId13"/>
            <a:stretch/>
          </p:blipFill>
          <p:spPr>
            <a:xfrm>
              <a:off x="-457200" y="-380880"/>
              <a:ext cx="10210680" cy="72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431720" y="0"/>
              <a:ext cx="26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3399ff"/>
                  </a:solidFill>
                  <a:latin typeface="方正姚体"/>
                  <a:ea typeface="方正姚体"/>
                </a:rPr>
                <a:t>颐和园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572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8406"/>
                </a:moveTo>
                <a:lnTo>
                  <a:pt x="13630" y="8406"/>
                </a:lnTo>
                <a:lnTo>
                  <a:pt x="18052" y="3794"/>
                </a:lnTo>
                <a:lnTo>
                  <a:pt x="18052" y="17806"/>
                </a:lnTo>
                <a:lnTo>
                  <a:pt x="13630" y="13194"/>
                </a:lnTo>
                <a:lnTo>
                  <a:pt x="9200" y="13194"/>
                </a:lnTo>
                <a:close/>
              </a:path>
              <a:path fill="darken" w="32413" h="21600">
                <a:moveTo>
                  <a:pt x="19705" y="10800"/>
                </a:moveTo>
                <a:lnTo>
                  <a:pt x="23213" y="10800"/>
                </a:lnTo>
              </a:path>
              <a:path fill="darken" w="32413" h="21600">
                <a:moveTo>
                  <a:pt x="19705" y="8406"/>
                </a:moveTo>
                <a:lnTo>
                  <a:pt x="23213" y="5639"/>
                </a:lnTo>
              </a:path>
              <a:path fill="darken" w="32413" h="21600">
                <a:moveTo>
                  <a:pt x="19705" y="13194"/>
                </a:moveTo>
                <a:lnTo>
                  <a:pt x="23213" y="15961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199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59320" y="55404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北  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609480" y="60958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114300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柏油马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1828800" y="6095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60958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名胜古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312408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读读记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3809880" y="60958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认读词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2133720" y="0"/>
            <a:ext cx="11277360" cy="6858000"/>
            <a:chOff x="-2133720" y="0"/>
            <a:chExt cx="11277360" cy="6858000"/>
          </a:xfrm>
        </p:grpSpPr>
        <p:pic>
          <p:nvPicPr>
            <p:cNvPr id="56" name="Wsv009" descr=""/>
            <p:cNvPicPr/>
            <p:nvPr/>
          </p:nvPicPr>
          <p:blipFill>
            <a:blip r:embed="rId1"/>
            <a:stretch/>
          </p:blipFill>
          <p:spPr>
            <a:xfrm>
              <a:off x="3035160" y="0"/>
              <a:ext cx="6108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2133720" y="0"/>
              <a:ext cx="51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52280" y="6094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天安门在北京城的中央，红墙、黄瓦，又庄严，又美丽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天安门1" descr="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80536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天安门前面是宽阔的广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人民英雄纪念碑1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2720" y="11430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广场中间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矗立着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民英雄纪念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472428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52280" y="47242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许多又宽又长的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柏油马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724280" y="0"/>
          <a:ext cx="441972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0"/>
                    <a:ext cx="4419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09480" y="5105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道路两旁，绿树成阴，鲜花盛开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立交桥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4419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新建了许多立交桥。立交桥的四周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绿毯似的草坪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拼成图案的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花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lijiaoqiao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00800" y="5335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各种车辆在桥上桥下来来往往，川流不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4:27:34Z</dcterms:created>
  <dc:creator>qin</dc:creator>
  <dc:description/>
  <dc:language>en-US</dc:language>
  <cp:lastModifiedBy>qin</cp:lastModifiedBy>
  <dcterms:modified xsi:type="dcterms:W3CDTF">2003-09-14T07:47:55Z</dcterms:modified>
  <cp:revision>56</cp:revision>
  <dc:subject/>
  <dc:title>PowerPoint 演示文稿</dc:title>
</cp:coreProperties>
</file>