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wmf" ContentType="image/x-wmf"/>
  <Override PartName="/ppt/media/image7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9449-4EAD-43C1-83D8-FAE596998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038320" y="50680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6E27-9E32-46D3-96C5-32206D634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03832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1828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4ECB-951B-4ABF-A5AB-C2CBB63AE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202280" y="435132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66600" y="435132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038320" y="5068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202280" y="5068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66600" y="5068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974B-DDEA-4F9F-9E70-4A8172628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C1DA0-6934-4153-AFD1-F04C8FDEA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F26E6-1B25-4C07-AD21-5A2C6C28F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DC28C-7EA4-4203-B7B9-DFC389FE1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CFF65-9422-4651-8B7F-0B156A521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1E77B-A744-4FC5-B9D6-C0D7E35D1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198FB-F9A0-4070-851E-0B3A885E1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03832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4260F-B6E5-4865-A449-C0725151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A91C-51BB-4BF0-A74B-84E02478D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1828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54099-E251-41DA-8CBA-0FFDFA34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038320" y="50680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87169-6BD0-493B-A2D9-D41F1A9D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038320" y="50680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BC96A-3DB4-4FC9-8557-3FEA1268A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03832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1828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68E48-A28A-4310-9774-3001D3EC7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02280" y="435132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66600" y="435132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2038320" y="5068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202280" y="5068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66600" y="5068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B004E-D7A1-419A-8146-2B25FE23F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49DD-EF36-46DE-90CB-E0A6E5911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0BD6-ED32-4515-AEF3-0787D0BCF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2FDA-2740-490C-ABE8-D42E11195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71BA-3952-4061-BC94-0D8B8940A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03832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427B-44E4-4C32-89F2-9813FD46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1828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816E-1CC6-4B4F-8180-2283D378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038320" y="50680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66AD-C3FE-4E8E-953D-36410F21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0170A-61C5-4355-BCD7-6F8B4E905896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EF91-DCED-4A4C-A2CF-61B587845811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6.wmf"/><Relationship Id="rId12" Type="http://schemas.openxmlformats.org/officeDocument/2006/relationships/image" Target="../media/image6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9144000" cy="71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一、口算。                                    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10+5=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（  ）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10+3=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（  ）                        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10+8= 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（  ）  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9+10=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（  ）   </a:t>
            </a:r>
            <a:br>
              <a:rPr sz="4400"/>
            </a:b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二、填空。</a:t>
            </a:r>
            <a:br>
              <a:rPr sz="4400"/>
            </a:br>
            <a:r>
              <a:rPr b="0" lang="zh-CN" sz="4400" spc="-1" strike="noStrike">
                <a:solidFill>
                  <a:srgbClr val="5b5249"/>
                </a:solidFill>
                <a:latin typeface="Times New Roman"/>
              </a:rPr>
              <a:t>9+1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+6=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（  ）      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9+1+7=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（  ）</a:t>
            </a:r>
            <a:br>
              <a:rPr sz="4400"/>
            </a:br>
            <a:br>
              <a:rPr sz="4400"/>
            </a:b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1143000"/>
            <a:ext cx="762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77480" y="5335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c164"/>
                </a:solidFill>
                <a:latin typeface="Times New Roman"/>
              </a:rPr>
              <a:t>13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1800" y="11430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c164"/>
                </a:solidFill>
                <a:latin typeface="Times New Roman"/>
              </a:rPr>
              <a:t>18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800" y="11430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c164"/>
                </a:solidFill>
                <a:latin typeface="Times New Roman"/>
              </a:rPr>
              <a:t>19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09680" y="2362320"/>
            <a:ext cx="74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c164"/>
                </a:solidFill>
                <a:latin typeface="Times New Roman"/>
              </a:rPr>
              <a:t>16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48880" y="23623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c164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05480" y="457200"/>
            <a:ext cx="8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c164"/>
                </a:solidFill>
                <a:latin typeface="Times New Roman"/>
              </a:rPr>
              <a:t>15 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0959000">
            <a:off x="2819520" y="4037760"/>
            <a:ext cx="6667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95480" y="5029200"/>
            <a:ext cx="457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388620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8098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380880" y="3657600"/>
            <a:ext cx="609840" cy="457200"/>
          </a:xfrm>
          <a:prstGeom prst="rect">
            <a:avLst/>
          </a:prstGeom>
          <a:noFill/>
          <a:ln w="1908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80988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3809880"/>
            <a:ext cx="609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05520" y="38862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05520" y="4038480"/>
            <a:ext cx="838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67080" y="3733920"/>
            <a:ext cx="609840" cy="533160"/>
          </a:xfrm>
          <a:prstGeom prst="rect">
            <a:avLst/>
          </a:prstGeom>
          <a:noFill/>
          <a:ln w="1908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429000"/>
            <a:ext cx="121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c164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91120" y="365760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c164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971800" y="4114800"/>
            <a:ext cx="0" cy="30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3200400"/>
            <a:ext cx="0" cy="22860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3429000"/>
            <a:ext cx="609480" cy="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76520" y="3657600"/>
            <a:ext cx="0" cy="15228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676520" y="3504960"/>
            <a:ext cx="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914400" y="3200040"/>
            <a:ext cx="0" cy="228600"/>
          </a:xfrm>
          <a:prstGeom prst="line">
            <a:avLst/>
          </a:prstGeom>
          <a:ln w="2844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43400" y="3124080"/>
            <a:ext cx="0" cy="30492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267080" y="3429000"/>
            <a:ext cx="609840" cy="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876920" y="3123720"/>
            <a:ext cx="0" cy="304920"/>
          </a:xfrm>
          <a:prstGeom prst="line">
            <a:avLst/>
          </a:prstGeom>
          <a:ln w="2844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0" name="">
            <a:hlinkClick r:id="rId2" action="ppaction://hlinksldjump"/>
          </p:cNvPr>
          <p:cNvSpPr/>
          <p:nvPr/>
        </p:nvSpPr>
        <p:spPr>
          <a:xfrm>
            <a:off x="7391520" y="63244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6400"/>
                </a:solidFill>
                <a:latin typeface="Times New Roman"/>
              </a:rPr>
              <a:t>回到首页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">
            <a:hlinkClick r:id="rId3" action="ppaction://hlinksldjump"/>
          </p:cNvPr>
          <p:cNvSpPr/>
          <p:nvPr/>
        </p:nvSpPr>
        <p:spPr>
          <a:xfrm>
            <a:off x="8305920" y="63244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12337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673" h="21600">
                <a:moveTo>
                  <a:pt x="12337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673" h="21600">
                <a:moveTo>
                  <a:pt x="9760" y="8224"/>
                </a:moveTo>
                <a:lnTo>
                  <a:pt x="13625" y="8224"/>
                </a:lnTo>
                <a:lnTo>
                  <a:pt x="13625" y="15221"/>
                </a:lnTo>
                <a:lnTo>
                  <a:pt x="14913" y="15221"/>
                </a:lnTo>
                <a:lnTo>
                  <a:pt x="14913" y="16144"/>
                </a:lnTo>
                <a:lnTo>
                  <a:pt x="9760" y="16144"/>
                </a:lnTo>
                <a:lnTo>
                  <a:pt x="9760" y="15221"/>
                </a:lnTo>
                <a:lnTo>
                  <a:pt x="11048" y="15221"/>
                </a:lnTo>
                <a:lnTo>
                  <a:pt x="11048" y="9129"/>
                </a:lnTo>
                <a:lnTo>
                  <a:pt x="9760" y="9129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71d09"/>
                </a:solidFill>
                <a:latin typeface="Times New Roman"/>
                <a:ea typeface="华文宋体"/>
              </a:rPr>
              <a:t>下一页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819160" y="83772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2a3d7a"/>
                </a:solidFill>
                <a:latin typeface="宋体"/>
              </a:rPr>
              <a:t>9</a:t>
            </a:r>
            <a:r>
              <a:rPr b="0" lang="zh-CN" sz="8800" spc="-1" strike="noStrike">
                <a:solidFill>
                  <a:srgbClr val="2a3d7a"/>
                </a:solidFill>
                <a:latin typeface="宋体"/>
              </a:rPr>
              <a:t>加几</a:t>
            </a:r>
            <a:endParaRPr b="0" lang="en-US" sz="8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50840" y="2506680"/>
            <a:ext cx="55785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99ff"/>
                </a:solidFill>
                <a:latin typeface="华文隶书"/>
                <a:ea typeface="华文隶书"/>
              </a:rPr>
              <a:t>一、复习 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99ff"/>
                </a:solidFill>
                <a:latin typeface="华文隶书"/>
                <a:ea typeface="华文隶书"/>
              </a:rPr>
              <a:t>    </a:t>
            </a:r>
            <a:r>
              <a:rPr b="0" lang="zh-CN" sz="4000" spc="-1" strike="noStrike">
                <a:solidFill>
                  <a:srgbClr val="6699ff"/>
                </a:solidFill>
                <a:latin typeface="华文隶书"/>
                <a:ea typeface="华文隶书"/>
              </a:rPr>
              <a:t>二、例题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99ff"/>
                </a:solidFill>
                <a:latin typeface="华文隶书"/>
                <a:ea typeface="华文隶书"/>
              </a:rPr>
              <a:t>      </a:t>
            </a:r>
            <a:r>
              <a:rPr b="0" lang="zh-CN" sz="4000" spc="-1" strike="noStrike">
                <a:solidFill>
                  <a:srgbClr val="6699ff"/>
                </a:solidFill>
                <a:latin typeface="华文隶书"/>
                <a:ea typeface="华文隶书"/>
              </a:rPr>
              <a:t>三、练一练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99ff"/>
                </a:solidFill>
                <a:latin typeface="华文隶书"/>
                <a:ea typeface="华文隶书"/>
              </a:rPr>
              <a:t>         </a:t>
            </a:r>
            <a:r>
              <a:rPr b="0" lang="zh-CN" sz="4000" spc="-1" strike="noStrike">
                <a:solidFill>
                  <a:srgbClr val="6699ff"/>
                </a:solidFill>
                <a:latin typeface="华文隶书"/>
                <a:ea typeface="华文隶书"/>
              </a:rPr>
              <a:t>四、拓展游戏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">
            <a:hlinkClick r:id="rId2" action="ppaction://hlinksldjump"/>
          </p:cNvPr>
          <p:cNvSpPr/>
          <p:nvPr/>
        </p:nvSpPr>
        <p:spPr>
          <a:xfrm>
            <a:off x="6019920" y="64008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19599" y="10800"/>
                </a:lnTo>
                <a:lnTo>
                  <a:pt x="5586" y="17806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复习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781680" y="6400800"/>
            <a:ext cx="609840" cy="45720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20306"/>
                </a:solidFill>
                <a:latin typeface="Times New Roman"/>
              </a:rPr>
              <a:t>例题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20120" y="6324480"/>
            <a:ext cx="609480" cy="53352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练一练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81880" y="64008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游戏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-2133720" y="0"/>
            <a:ext cx="9144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三、分一分。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78400" y="30492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23880" y="1752480"/>
            <a:ext cx="533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3733920" y="1752480"/>
            <a:ext cx="45720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1828440" y="1600200"/>
            <a:ext cx="609480" cy="60948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90920" y="1676520"/>
            <a:ext cx="609480" cy="60948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81080" y="2438280"/>
            <a:ext cx="221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（  ）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343400" y="2590920"/>
            <a:ext cx="1676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705720" y="106668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391520" y="106668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（  ）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010280" y="1828800"/>
            <a:ext cx="609840" cy="68580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7619760" y="1828800"/>
            <a:ext cx="609480" cy="68580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62920" y="2514600"/>
            <a:ext cx="1066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086600" y="251460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666880" y="2438280"/>
            <a:ext cx="99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1d09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96080" y="1066680"/>
            <a:ext cx="99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1d09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>
            <a:hlinkClick r:id="rId2" action="ppaction://hlinksldjump"/>
          </p:cNvPr>
          <p:cNvSpPr/>
          <p:nvPr/>
        </p:nvSpPr>
        <p:spPr>
          <a:xfrm>
            <a:off x="8381880" y="6400800"/>
            <a:ext cx="762120" cy="4572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71d09"/>
                </a:solidFill>
                <a:latin typeface="Times New Roman"/>
              </a:rPr>
              <a:t>回到首页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762120" y="914400"/>
            <a:ext cx="1523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2133720"/>
            <a:ext cx="0" cy="7596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143000" y="1143000"/>
            <a:ext cx="45720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733920" y="990720"/>
            <a:ext cx="21333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533160" y="1447560"/>
            <a:ext cx="75960" cy="75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905120" y="228600"/>
            <a:ext cx="1523880" cy="1295280"/>
            <a:chOff x="1905120" y="228600"/>
            <a:chExt cx="1523880" cy="1295280"/>
          </a:xfrm>
        </p:grpSpPr>
        <p:grpSp>
          <p:nvGrpSpPr>
            <p:cNvPr id="151" name=""/>
            <p:cNvGrpSpPr/>
            <p:nvPr/>
          </p:nvGrpSpPr>
          <p:grpSpPr>
            <a:xfrm>
              <a:off x="1905120" y="228600"/>
              <a:ext cx="1523880" cy="1295280"/>
              <a:chOff x="1905120" y="228600"/>
              <a:chExt cx="1523880" cy="1295280"/>
            </a:xfrm>
          </p:grpSpPr>
          <p:sp>
            <p:nvSpPr>
              <p:cNvPr id="152" name=""/>
              <p:cNvSpPr/>
              <p:nvPr/>
            </p:nvSpPr>
            <p:spPr>
              <a:xfrm>
                <a:off x="2057400" y="380880"/>
                <a:ext cx="914400" cy="762120"/>
              </a:xfrm>
              <a:prstGeom prst="rect">
                <a:avLst/>
              </a:prstGeom>
              <a:noFill/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905120" y="228600"/>
                <a:ext cx="1523880" cy="1219320"/>
              </a:xfrm>
              <a:prstGeom prst="rect">
                <a:avLst/>
              </a:prstGeom>
              <a:noFill/>
              <a:ln w="381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209680" y="1523880"/>
                <a:ext cx="762120" cy="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2971800" y="1447560"/>
                <a:ext cx="0" cy="7596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00400" y="30492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200400" y="609480"/>
                <a:ext cx="152280" cy="228600"/>
              </a:xfrm>
              <a:prstGeom prst="ellipse">
                <a:avLst/>
              </a:prstGeom>
              <a:noFill/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2209320" y="457200"/>
                <a:ext cx="304920" cy="30492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2514240" y="609480"/>
                <a:ext cx="304920" cy="38124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>
                <a:off x="2286000" y="533520"/>
                <a:ext cx="457200" cy="45720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 flipV="1">
              <a:off x="2286000" y="1447560"/>
              <a:ext cx="0" cy="7632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28600" y="1752480"/>
            <a:ext cx="1523880" cy="1295280"/>
            <a:chOff x="228600" y="1752480"/>
            <a:chExt cx="1523880" cy="1295280"/>
          </a:xfrm>
        </p:grpSpPr>
        <p:grpSp>
          <p:nvGrpSpPr>
            <p:cNvPr id="163" name=""/>
            <p:cNvGrpSpPr/>
            <p:nvPr/>
          </p:nvGrpSpPr>
          <p:grpSpPr>
            <a:xfrm>
              <a:off x="228600" y="1752480"/>
              <a:ext cx="1523880" cy="1295280"/>
              <a:chOff x="228600" y="1752480"/>
              <a:chExt cx="1523880" cy="1295280"/>
            </a:xfrm>
          </p:grpSpPr>
          <p:sp>
            <p:nvSpPr>
              <p:cNvPr id="164" name=""/>
              <p:cNvSpPr/>
              <p:nvPr/>
            </p:nvSpPr>
            <p:spPr>
              <a:xfrm>
                <a:off x="380880" y="1904760"/>
                <a:ext cx="914400" cy="762120"/>
              </a:xfrm>
              <a:prstGeom prst="rect">
                <a:avLst/>
              </a:prstGeom>
              <a:noFill/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28600" y="1752480"/>
                <a:ext cx="1523880" cy="1219320"/>
              </a:xfrm>
              <a:prstGeom prst="rect">
                <a:avLst/>
              </a:prstGeom>
              <a:noFill/>
              <a:ln w="381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33160" y="3047760"/>
                <a:ext cx="762120" cy="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1295280" y="2971440"/>
                <a:ext cx="0" cy="7596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523880" y="182880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523880" y="2133360"/>
                <a:ext cx="152280" cy="228600"/>
              </a:xfrm>
              <a:prstGeom prst="ellipse">
                <a:avLst/>
              </a:prstGeom>
              <a:noFill/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532800" y="1981080"/>
                <a:ext cx="304920" cy="30492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>
                <a:off x="837720" y="2133360"/>
                <a:ext cx="304920" cy="38124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>
                <a:off x="609480" y="2057400"/>
                <a:ext cx="457200" cy="45720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 flipV="1">
              <a:off x="609480" y="2971440"/>
              <a:ext cx="0" cy="7632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981080" y="1752480"/>
            <a:ext cx="1523880" cy="1295280"/>
            <a:chOff x="1981080" y="1752480"/>
            <a:chExt cx="1523880" cy="1295280"/>
          </a:xfrm>
        </p:grpSpPr>
        <p:grpSp>
          <p:nvGrpSpPr>
            <p:cNvPr id="175" name=""/>
            <p:cNvGrpSpPr/>
            <p:nvPr/>
          </p:nvGrpSpPr>
          <p:grpSpPr>
            <a:xfrm>
              <a:off x="1981080" y="1752480"/>
              <a:ext cx="1523880" cy="1295280"/>
              <a:chOff x="1981080" y="1752480"/>
              <a:chExt cx="1523880" cy="1295280"/>
            </a:xfrm>
          </p:grpSpPr>
          <p:sp>
            <p:nvSpPr>
              <p:cNvPr id="176" name=""/>
              <p:cNvSpPr/>
              <p:nvPr/>
            </p:nvSpPr>
            <p:spPr>
              <a:xfrm>
                <a:off x="2133360" y="1904760"/>
                <a:ext cx="914400" cy="762120"/>
              </a:xfrm>
              <a:prstGeom prst="rect">
                <a:avLst/>
              </a:prstGeom>
              <a:noFill/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981080" y="1752480"/>
                <a:ext cx="1523880" cy="1219320"/>
              </a:xfrm>
              <a:prstGeom prst="rect">
                <a:avLst/>
              </a:prstGeom>
              <a:noFill/>
              <a:ln w="381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285640" y="3047760"/>
                <a:ext cx="762120" cy="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>
                <a:off x="3047760" y="2971440"/>
                <a:ext cx="0" cy="7596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276360" y="182880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276360" y="2133360"/>
                <a:ext cx="152280" cy="228600"/>
              </a:xfrm>
              <a:prstGeom prst="ellipse">
                <a:avLst/>
              </a:prstGeom>
              <a:noFill/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>
                <a:off x="2285280" y="1981080"/>
                <a:ext cx="304920" cy="30492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>
                <a:off x="2590200" y="2133360"/>
                <a:ext cx="304920" cy="38124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>
                <a:off x="2361960" y="2057400"/>
                <a:ext cx="457200" cy="45720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 flipV="1">
              <a:off x="2361960" y="2971440"/>
              <a:ext cx="0" cy="7632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 flipV="1">
            <a:off x="4495680" y="1447560"/>
            <a:ext cx="0" cy="7596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28600" y="4876920"/>
            <a:ext cx="1523880" cy="1295280"/>
            <a:chOff x="228600" y="4876920"/>
            <a:chExt cx="1523880" cy="1295280"/>
          </a:xfrm>
        </p:grpSpPr>
        <p:grpSp>
          <p:nvGrpSpPr>
            <p:cNvPr id="188" name=""/>
            <p:cNvGrpSpPr/>
            <p:nvPr/>
          </p:nvGrpSpPr>
          <p:grpSpPr>
            <a:xfrm>
              <a:off x="228600" y="4876920"/>
              <a:ext cx="1523880" cy="1295280"/>
              <a:chOff x="228600" y="4876920"/>
              <a:chExt cx="1523880" cy="1295280"/>
            </a:xfrm>
          </p:grpSpPr>
          <p:sp>
            <p:nvSpPr>
              <p:cNvPr id="189" name=""/>
              <p:cNvSpPr/>
              <p:nvPr/>
            </p:nvSpPr>
            <p:spPr>
              <a:xfrm>
                <a:off x="380880" y="5029200"/>
                <a:ext cx="914400" cy="762120"/>
              </a:xfrm>
              <a:prstGeom prst="rect">
                <a:avLst/>
              </a:prstGeom>
              <a:noFill/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28600" y="4876920"/>
                <a:ext cx="1523880" cy="1219320"/>
              </a:xfrm>
              <a:prstGeom prst="rect">
                <a:avLst/>
              </a:prstGeom>
              <a:noFill/>
              <a:ln w="381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33160" y="6172200"/>
                <a:ext cx="762120" cy="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V="1">
                <a:off x="1295280" y="6095880"/>
                <a:ext cx="0" cy="7596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523880" y="495324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523880" y="5257800"/>
                <a:ext cx="152280" cy="228600"/>
              </a:xfrm>
              <a:prstGeom prst="ellipse">
                <a:avLst/>
              </a:prstGeom>
              <a:noFill/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532800" y="5105520"/>
                <a:ext cx="304920" cy="30492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>
                <a:off x="837720" y="5257800"/>
                <a:ext cx="304920" cy="38124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>
                <a:off x="609480" y="5181840"/>
                <a:ext cx="457200" cy="45720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 flipV="1">
              <a:off x="609480" y="6095880"/>
              <a:ext cx="0" cy="7632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1981080" y="3276720"/>
            <a:ext cx="1523880" cy="1295280"/>
            <a:chOff x="1981080" y="3276720"/>
            <a:chExt cx="1523880" cy="1295280"/>
          </a:xfrm>
        </p:grpSpPr>
        <p:grpSp>
          <p:nvGrpSpPr>
            <p:cNvPr id="200" name=""/>
            <p:cNvGrpSpPr/>
            <p:nvPr/>
          </p:nvGrpSpPr>
          <p:grpSpPr>
            <a:xfrm>
              <a:off x="1981080" y="3276720"/>
              <a:ext cx="1523880" cy="1295280"/>
              <a:chOff x="1981080" y="3276720"/>
              <a:chExt cx="1523880" cy="1295280"/>
            </a:xfrm>
          </p:grpSpPr>
          <p:sp>
            <p:nvSpPr>
              <p:cNvPr id="201" name=""/>
              <p:cNvSpPr/>
              <p:nvPr/>
            </p:nvSpPr>
            <p:spPr>
              <a:xfrm>
                <a:off x="2133360" y="3429000"/>
                <a:ext cx="914400" cy="762120"/>
              </a:xfrm>
              <a:prstGeom prst="rect">
                <a:avLst/>
              </a:prstGeom>
              <a:noFill/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981080" y="3276720"/>
                <a:ext cx="1523880" cy="1219320"/>
              </a:xfrm>
              <a:prstGeom prst="rect">
                <a:avLst/>
              </a:prstGeom>
              <a:noFill/>
              <a:ln w="381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285640" y="4572000"/>
                <a:ext cx="762120" cy="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V="1">
                <a:off x="3047760" y="4495680"/>
                <a:ext cx="0" cy="7596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276360" y="335304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276360" y="3657600"/>
                <a:ext cx="152280" cy="228600"/>
              </a:xfrm>
              <a:prstGeom prst="ellipse">
                <a:avLst/>
              </a:prstGeom>
              <a:noFill/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>
                <a:off x="2285280" y="3505320"/>
                <a:ext cx="304920" cy="30492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>
                <a:off x="2590200" y="3657600"/>
                <a:ext cx="304920" cy="38124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2361960" y="3581640"/>
                <a:ext cx="457200" cy="45720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 flipV="1">
              <a:off x="2361960" y="4495680"/>
              <a:ext cx="0" cy="7632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 flipV="1">
            <a:off x="6172200" y="4647960"/>
            <a:ext cx="0" cy="7596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228600" y="3276720"/>
            <a:ext cx="1523880" cy="1295280"/>
            <a:chOff x="228600" y="3276720"/>
            <a:chExt cx="1523880" cy="1295280"/>
          </a:xfrm>
        </p:grpSpPr>
        <p:grpSp>
          <p:nvGrpSpPr>
            <p:cNvPr id="213" name=""/>
            <p:cNvGrpSpPr/>
            <p:nvPr/>
          </p:nvGrpSpPr>
          <p:grpSpPr>
            <a:xfrm>
              <a:off x="228600" y="3276720"/>
              <a:ext cx="1523880" cy="1295280"/>
              <a:chOff x="228600" y="3276720"/>
              <a:chExt cx="1523880" cy="1295280"/>
            </a:xfrm>
          </p:grpSpPr>
          <p:sp>
            <p:nvSpPr>
              <p:cNvPr id="214" name=""/>
              <p:cNvSpPr/>
              <p:nvPr/>
            </p:nvSpPr>
            <p:spPr>
              <a:xfrm>
                <a:off x="380880" y="3429000"/>
                <a:ext cx="914400" cy="762120"/>
              </a:xfrm>
              <a:prstGeom prst="rect">
                <a:avLst/>
              </a:prstGeom>
              <a:noFill/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28600" y="3276720"/>
                <a:ext cx="1523880" cy="1219320"/>
              </a:xfrm>
              <a:prstGeom prst="rect">
                <a:avLst/>
              </a:prstGeom>
              <a:noFill/>
              <a:ln w="381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33160" y="4572000"/>
                <a:ext cx="762120" cy="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V="1">
                <a:off x="1295280" y="4495680"/>
                <a:ext cx="0" cy="7596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523880" y="335304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523880" y="3657600"/>
                <a:ext cx="152280" cy="228600"/>
              </a:xfrm>
              <a:prstGeom prst="ellipse">
                <a:avLst/>
              </a:prstGeom>
              <a:noFill/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532800" y="3505320"/>
                <a:ext cx="304920" cy="30492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837720" y="3657600"/>
                <a:ext cx="304920" cy="38124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609480" y="3581640"/>
                <a:ext cx="457200" cy="45720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 flipV="1">
              <a:off x="609480" y="4495680"/>
              <a:ext cx="0" cy="7632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 flipV="1">
            <a:off x="4495680" y="4647960"/>
            <a:ext cx="0" cy="7596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324480" y="2971800"/>
            <a:ext cx="0" cy="7632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6248520" y="1447560"/>
            <a:ext cx="0" cy="7596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8001000" y="1447560"/>
            <a:ext cx="0" cy="7596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8001000" y="4647960"/>
            <a:ext cx="0" cy="7596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4114800" y="228600"/>
            <a:ext cx="5029200" cy="4495680"/>
            <a:chOff x="4114800" y="228600"/>
            <a:chExt cx="5029200" cy="4495680"/>
          </a:xfrm>
        </p:grpSpPr>
        <p:grpSp>
          <p:nvGrpSpPr>
            <p:cNvPr id="230" name=""/>
            <p:cNvGrpSpPr/>
            <p:nvPr/>
          </p:nvGrpSpPr>
          <p:grpSpPr>
            <a:xfrm>
              <a:off x="5867280" y="228600"/>
              <a:ext cx="1523880" cy="1295280"/>
              <a:chOff x="5867280" y="228600"/>
              <a:chExt cx="1523880" cy="1295280"/>
            </a:xfrm>
          </p:grpSpPr>
          <p:sp>
            <p:nvSpPr>
              <p:cNvPr id="231" name=""/>
              <p:cNvSpPr/>
              <p:nvPr/>
            </p:nvSpPr>
            <p:spPr>
              <a:xfrm>
                <a:off x="6019560" y="380880"/>
                <a:ext cx="914400" cy="762120"/>
              </a:xfrm>
              <a:prstGeom prst="rect">
                <a:avLst/>
              </a:prstGeom>
              <a:noFill/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867280" y="228600"/>
                <a:ext cx="1523880" cy="1219320"/>
              </a:xfrm>
              <a:prstGeom prst="rect">
                <a:avLst/>
              </a:prstGeom>
              <a:noFill/>
              <a:ln w="381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171840" y="1523880"/>
                <a:ext cx="762120" cy="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V="1">
                <a:off x="6933960" y="1447560"/>
                <a:ext cx="0" cy="7596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162560" y="30492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162560" y="609480"/>
                <a:ext cx="152280" cy="228600"/>
              </a:xfrm>
              <a:prstGeom prst="ellipse">
                <a:avLst/>
              </a:prstGeom>
              <a:noFill/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>
                <a:off x="6171480" y="457200"/>
                <a:ext cx="304920" cy="30492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>
                <a:off x="6476400" y="609480"/>
                <a:ext cx="304920" cy="38124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6248160" y="533520"/>
                <a:ext cx="457200" cy="45720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4114800" y="228600"/>
              <a:ext cx="1523880" cy="1295280"/>
              <a:chOff x="4114800" y="228600"/>
              <a:chExt cx="1523880" cy="1295280"/>
            </a:xfrm>
          </p:grpSpPr>
          <p:sp>
            <p:nvSpPr>
              <p:cNvPr id="241" name=""/>
              <p:cNvSpPr/>
              <p:nvPr/>
            </p:nvSpPr>
            <p:spPr>
              <a:xfrm>
                <a:off x="4267080" y="380880"/>
                <a:ext cx="914400" cy="762120"/>
              </a:xfrm>
              <a:prstGeom prst="rect">
                <a:avLst/>
              </a:prstGeom>
              <a:noFill/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114800" y="228600"/>
                <a:ext cx="1523880" cy="1219320"/>
              </a:xfrm>
              <a:prstGeom prst="rect">
                <a:avLst/>
              </a:prstGeom>
              <a:noFill/>
              <a:ln w="381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419360" y="1523880"/>
                <a:ext cx="762120" cy="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V="1">
                <a:off x="5181480" y="1447560"/>
                <a:ext cx="0" cy="7596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410080" y="30492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410080" y="609480"/>
                <a:ext cx="152280" cy="228600"/>
              </a:xfrm>
              <a:prstGeom prst="ellipse">
                <a:avLst/>
              </a:prstGeom>
              <a:noFill/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4419000" y="457200"/>
                <a:ext cx="304920" cy="30492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4723920" y="609480"/>
                <a:ext cx="304920" cy="38124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>
                <a:off x="4495680" y="533520"/>
                <a:ext cx="457200" cy="45720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5791320" y="3429000"/>
              <a:ext cx="1523880" cy="1295280"/>
              <a:chOff x="5791320" y="3429000"/>
              <a:chExt cx="1523880" cy="1295280"/>
            </a:xfrm>
          </p:grpSpPr>
          <p:sp>
            <p:nvSpPr>
              <p:cNvPr id="251" name=""/>
              <p:cNvSpPr/>
              <p:nvPr/>
            </p:nvSpPr>
            <p:spPr>
              <a:xfrm>
                <a:off x="5943600" y="3581280"/>
                <a:ext cx="914400" cy="762120"/>
              </a:xfrm>
              <a:prstGeom prst="rect">
                <a:avLst/>
              </a:prstGeom>
              <a:noFill/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791320" y="3429000"/>
                <a:ext cx="1523880" cy="1219320"/>
              </a:xfrm>
              <a:prstGeom prst="rect">
                <a:avLst/>
              </a:prstGeom>
              <a:noFill/>
              <a:ln w="381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095880" y="4724280"/>
                <a:ext cx="762120" cy="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>
                <a:off x="6858000" y="4647960"/>
                <a:ext cx="0" cy="7596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086600" y="350532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086600" y="3809880"/>
                <a:ext cx="152280" cy="228600"/>
              </a:xfrm>
              <a:prstGeom prst="ellipse">
                <a:avLst/>
              </a:prstGeom>
              <a:noFill/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6095520" y="3657600"/>
                <a:ext cx="304920" cy="30492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6400440" y="3809880"/>
                <a:ext cx="304920" cy="38124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6172200" y="3733920"/>
                <a:ext cx="457200" cy="45720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4114800" y="3429000"/>
              <a:ext cx="1523880" cy="1295280"/>
              <a:chOff x="4114800" y="3429000"/>
              <a:chExt cx="1523880" cy="1295280"/>
            </a:xfrm>
          </p:grpSpPr>
          <p:sp>
            <p:nvSpPr>
              <p:cNvPr id="261" name=""/>
              <p:cNvSpPr/>
              <p:nvPr/>
            </p:nvSpPr>
            <p:spPr>
              <a:xfrm>
                <a:off x="4267080" y="3581280"/>
                <a:ext cx="914400" cy="762120"/>
              </a:xfrm>
              <a:prstGeom prst="rect">
                <a:avLst/>
              </a:prstGeom>
              <a:noFill/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114800" y="3429000"/>
                <a:ext cx="1523880" cy="1219320"/>
              </a:xfrm>
              <a:prstGeom prst="rect">
                <a:avLst/>
              </a:prstGeom>
              <a:noFill/>
              <a:ln w="381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419360" y="4724280"/>
                <a:ext cx="762120" cy="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V="1">
                <a:off x="5181480" y="4647960"/>
                <a:ext cx="0" cy="7596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410080" y="350532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10080" y="3809880"/>
                <a:ext cx="152280" cy="228600"/>
              </a:xfrm>
              <a:prstGeom prst="ellipse">
                <a:avLst/>
              </a:prstGeom>
              <a:noFill/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>
                <a:off x="4419000" y="3657600"/>
                <a:ext cx="304920" cy="30492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>
                <a:off x="4723920" y="3809880"/>
                <a:ext cx="304920" cy="38124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4495680" y="3733920"/>
                <a:ext cx="457200" cy="45720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5943600" y="1752480"/>
              <a:ext cx="1523880" cy="1295280"/>
              <a:chOff x="5943600" y="1752480"/>
              <a:chExt cx="1523880" cy="1295280"/>
            </a:xfrm>
          </p:grpSpPr>
          <p:sp>
            <p:nvSpPr>
              <p:cNvPr id="271" name=""/>
              <p:cNvSpPr/>
              <p:nvPr/>
            </p:nvSpPr>
            <p:spPr>
              <a:xfrm>
                <a:off x="6095880" y="1904760"/>
                <a:ext cx="914400" cy="762120"/>
              </a:xfrm>
              <a:prstGeom prst="rect">
                <a:avLst/>
              </a:prstGeom>
              <a:noFill/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943600" y="1752480"/>
                <a:ext cx="1523880" cy="1219320"/>
              </a:xfrm>
              <a:prstGeom prst="rect">
                <a:avLst/>
              </a:prstGeom>
              <a:noFill/>
              <a:ln w="381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248160" y="3047760"/>
                <a:ext cx="762120" cy="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7010280" y="2971440"/>
                <a:ext cx="0" cy="7596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238880" y="182880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238880" y="2133360"/>
                <a:ext cx="152280" cy="228600"/>
              </a:xfrm>
              <a:prstGeom prst="ellipse">
                <a:avLst/>
              </a:prstGeom>
              <a:noFill/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>
                <a:off x="6247800" y="1981080"/>
                <a:ext cx="304920" cy="30492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>
                <a:off x="6552720" y="2133360"/>
                <a:ext cx="304920" cy="38124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>
                <a:off x="6324480" y="2057400"/>
                <a:ext cx="457200" cy="45720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7620120" y="228600"/>
              <a:ext cx="1523880" cy="1295280"/>
              <a:chOff x="7620120" y="228600"/>
              <a:chExt cx="1523880" cy="1295280"/>
            </a:xfrm>
          </p:grpSpPr>
          <p:sp>
            <p:nvSpPr>
              <p:cNvPr id="281" name=""/>
              <p:cNvSpPr/>
              <p:nvPr/>
            </p:nvSpPr>
            <p:spPr>
              <a:xfrm>
                <a:off x="7772400" y="380880"/>
                <a:ext cx="914400" cy="762120"/>
              </a:xfrm>
              <a:prstGeom prst="rect">
                <a:avLst/>
              </a:prstGeom>
              <a:noFill/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620120" y="228600"/>
                <a:ext cx="1523880" cy="1219320"/>
              </a:xfrm>
              <a:prstGeom prst="rect">
                <a:avLst/>
              </a:prstGeom>
              <a:noFill/>
              <a:ln w="381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924680" y="1523880"/>
                <a:ext cx="762120" cy="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V="1">
                <a:off x="8686800" y="1447560"/>
                <a:ext cx="0" cy="7596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8915400" y="30492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915400" y="609480"/>
                <a:ext cx="152280" cy="228600"/>
              </a:xfrm>
              <a:prstGeom prst="ellipse">
                <a:avLst/>
              </a:prstGeom>
              <a:noFill/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7924320" y="457200"/>
                <a:ext cx="304920" cy="30492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>
                <a:off x="8229240" y="609480"/>
                <a:ext cx="304920" cy="38124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H="1">
                <a:off x="8001000" y="533520"/>
                <a:ext cx="457200" cy="45720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7620120" y="3429000"/>
              <a:ext cx="1523880" cy="1295280"/>
              <a:chOff x="7620120" y="3429000"/>
              <a:chExt cx="1523880" cy="1295280"/>
            </a:xfrm>
          </p:grpSpPr>
          <p:sp>
            <p:nvSpPr>
              <p:cNvPr id="291" name=""/>
              <p:cNvSpPr/>
              <p:nvPr/>
            </p:nvSpPr>
            <p:spPr>
              <a:xfrm>
                <a:off x="7772400" y="3581280"/>
                <a:ext cx="914400" cy="762120"/>
              </a:xfrm>
              <a:prstGeom prst="rect">
                <a:avLst/>
              </a:prstGeom>
              <a:noFill/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620120" y="3429000"/>
                <a:ext cx="1523880" cy="1219320"/>
              </a:xfrm>
              <a:prstGeom prst="rect">
                <a:avLst/>
              </a:prstGeom>
              <a:noFill/>
              <a:ln w="381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924680" y="4724280"/>
                <a:ext cx="762120" cy="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V="1">
                <a:off x="8686800" y="4647960"/>
                <a:ext cx="0" cy="7596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8915400" y="350532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8915400" y="3809880"/>
                <a:ext cx="152280" cy="228600"/>
              </a:xfrm>
              <a:prstGeom prst="ellipse">
                <a:avLst/>
              </a:prstGeom>
              <a:noFill/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7924320" y="3657600"/>
                <a:ext cx="304920" cy="30492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8229240" y="3809880"/>
                <a:ext cx="304920" cy="38124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8001000" y="3733920"/>
                <a:ext cx="457200" cy="45720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7620120" y="1752480"/>
              <a:ext cx="1523880" cy="1295640"/>
              <a:chOff x="7620120" y="1752480"/>
              <a:chExt cx="1523880" cy="1295640"/>
            </a:xfrm>
          </p:grpSpPr>
          <p:grpSp>
            <p:nvGrpSpPr>
              <p:cNvPr id="301" name=""/>
              <p:cNvGrpSpPr/>
              <p:nvPr/>
            </p:nvGrpSpPr>
            <p:grpSpPr>
              <a:xfrm>
                <a:off x="7620120" y="1752480"/>
                <a:ext cx="1523880" cy="1295280"/>
                <a:chOff x="7620120" y="1752480"/>
                <a:chExt cx="1523880" cy="129528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7772400" y="1904760"/>
                  <a:ext cx="914400" cy="762120"/>
                </a:xfrm>
                <a:prstGeom prst="rect">
                  <a:avLst/>
                </a:prstGeom>
                <a:noFill/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7620120" y="1752480"/>
                  <a:ext cx="1523880" cy="1219320"/>
                </a:xfrm>
                <a:prstGeom prst="rect">
                  <a:avLst/>
                </a:prstGeom>
                <a:noFill/>
                <a:ln w="381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924680" y="3047760"/>
                  <a:ext cx="762120" cy="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flipV="1">
                  <a:off x="8686800" y="2971440"/>
                  <a:ext cx="0" cy="7596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8915400" y="1828800"/>
                  <a:ext cx="152280" cy="152280"/>
                </a:xfrm>
                <a:prstGeom prst="ellipse">
                  <a:avLst/>
                </a:prstGeom>
                <a:noFill/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8915400" y="2133360"/>
                  <a:ext cx="152280" cy="228600"/>
                </a:xfrm>
                <a:prstGeom prst="ellipse">
                  <a:avLst/>
                </a:prstGeom>
                <a:noFill/>
                <a:ln w="572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flipH="1">
                  <a:off x="7924320" y="1981080"/>
                  <a:ext cx="304920" cy="30492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flipH="1">
                  <a:off x="8229240" y="2133360"/>
                  <a:ext cx="304920" cy="38124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flipH="1">
                  <a:off x="8001000" y="2057400"/>
                  <a:ext cx="457200" cy="45720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1" name=""/>
              <p:cNvSpPr/>
              <p:nvPr/>
            </p:nvSpPr>
            <p:spPr>
              <a:xfrm flipV="1">
                <a:off x="8001000" y="2971800"/>
                <a:ext cx="0" cy="7632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4114800" y="1752480"/>
              <a:ext cx="1523880" cy="1295640"/>
              <a:chOff x="4114800" y="1752480"/>
              <a:chExt cx="1523880" cy="12956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4114800" y="1752480"/>
                <a:ext cx="1523880" cy="1295280"/>
                <a:chOff x="4114800" y="1752480"/>
                <a:chExt cx="1523880" cy="129528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4267080" y="1904760"/>
                  <a:ext cx="914400" cy="762120"/>
                </a:xfrm>
                <a:prstGeom prst="rect">
                  <a:avLst/>
                </a:prstGeom>
                <a:noFill/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4114800" y="1752480"/>
                  <a:ext cx="1523880" cy="1219320"/>
                </a:xfrm>
                <a:prstGeom prst="rect">
                  <a:avLst/>
                </a:prstGeom>
                <a:noFill/>
                <a:ln w="381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4419360" y="3047760"/>
                  <a:ext cx="762120" cy="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flipV="1">
                  <a:off x="5181480" y="2971440"/>
                  <a:ext cx="0" cy="7596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5410080" y="1828800"/>
                  <a:ext cx="152280" cy="152280"/>
                </a:xfrm>
                <a:prstGeom prst="ellipse">
                  <a:avLst/>
                </a:prstGeom>
                <a:noFill/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5410080" y="2133360"/>
                  <a:ext cx="152280" cy="228600"/>
                </a:xfrm>
                <a:prstGeom prst="ellipse">
                  <a:avLst/>
                </a:prstGeom>
                <a:noFill/>
                <a:ln w="572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 flipH="1">
                  <a:off x="4419000" y="1981080"/>
                  <a:ext cx="304920" cy="30492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flipH="1">
                  <a:off x="4723920" y="2133360"/>
                  <a:ext cx="304920" cy="38124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 flipH="1">
                  <a:off x="4495680" y="2057400"/>
                  <a:ext cx="457200" cy="45720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3" name=""/>
              <p:cNvSpPr/>
              <p:nvPr/>
            </p:nvSpPr>
            <p:spPr>
              <a:xfrm flipV="1">
                <a:off x="4495680" y="2971800"/>
                <a:ext cx="0" cy="7632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4" name=""/>
          <p:cNvGrpSpPr/>
          <p:nvPr/>
        </p:nvGrpSpPr>
        <p:grpSpPr>
          <a:xfrm>
            <a:off x="228600" y="228600"/>
            <a:ext cx="1523880" cy="1295280"/>
            <a:chOff x="228600" y="228600"/>
            <a:chExt cx="1523880" cy="1295280"/>
          </a:xfrm>
        </p:grpSpPr>
        <p:sp>
          <p:nvSpPr>
            <p:cNvPr id="325" name=""/>
            <p:cNvSpPr/>
            <p:nvPr/>
          </p:nvSpPr>
          <p:spPr>
            <a:xfrm>
              <a:off x="380880" y="380880"/>
              <a:ext cx="914400" cy="762120"/>
            </a:xfrm>
            <a:prstGeom prst="rect">
              <a:avLst/>
            </a:prstGeom>
            <a:noFill/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28600" y="228600"/>
              <a:ext cx="1523880" cy="1219320"/>
            </a:xfrm>
            <a:prstGeom prst="rect">
              <a:avLst/>
            </a:prstGeom>
            <a:noFill/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33160" y="1523880"/>
              <a:ext cx="762120" cy="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1295280" y="1447560"/>
              <a:ext cx="0" cy="7596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523880" y="304920"/>
              <a:ext cx="152280" cy="152280"/>
            </a:xfrm>
            <a:prstGeom prst="ellipse">
              <a:avLst/>
            </a:prstGeom>
            <a:noFill/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523880" y="609480"/>
              <a:ext cx="152280" cy="228600"/>
            </a:xfrm>
            <a:prstGeom prst="ellipse">
              <a:avLst/>
            </a:prstGeom>
            <a:noFill/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532800" y="457200"/>
              <a:ext cx="304920" cy="30492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837720" y="609480"/>
              <a:ext cx="304920" cy="38124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609480" y="533520"/>
              <a:ext cx="457200" cy="45720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 flipV="1">
            <a:off x="609480" y="1447560"/>
            <a:ext cx="0" cy="7596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981080" y="5562720"/>
            <a:ext cx="609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7  + (    )  =  (    )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343400" y="563868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c164"/>
                </a:solidFill>
                <a:latin typeface="Times New Roman"/>
              </a:rPr>
              <a:t>9 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638680" y="5638680"/>
            <a:ext cx="152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c164"/>
                </a:solidFill>
                <a:latin typeface="Times New Roman"/>
              </a:rPr>
              <a:t>15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305920" y="640080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下一页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AN02479_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633680" cy="1219320"/>
          </a:xfrm>
          <a:prstGeom prst="rect">
            <a:avLst/>
          </a:prstGeom>
          <a:ln w="0">
            <a:noFill/>
          </a:ln>
        </p:spPr>
      </p:pic>
      <p:pic>
        <p:nvPicPr>
          <p:cNvPr id="340" name="AN02479_" descr=""/>
          <p:cNvPicPr/>
          <p:nvPr/>
        </p:nvPicPr>
        <p:blipFill>
          <a:blip r:embed="rId3"/>
          <a:stretch/>
        </p:blipFill>
        <p:spPr>
          <a:xfrm>
            <a:off x="228600" y="1447920"/>
            <a:ext cx="1633680" cy="1218960"/>
          </a:xfrm>
          <a:prstGeom prst="rect">
            <a:avLst/>
          </a:prstGeom>
          <a:ln w="0">
            <a:noFill/>
          </a:ln>
        </p:spPr>
      </p:pic>
      <p:pic>
        <p:nvPicPr>
          <p:cNvPr id="341" name="AN02479_" descr=""/>
          <p:cNvPicPr/>
          <p:nvPr/>
        </p:nvPicPr>
        <p:blipFill>
          <a:blip r:embed="rId4"/>
          <a:stretch/>
        </p:blipFill>
        <p:spPr>
          <a:xfrm>
            <a:off x="228600" y="2819520"/>
            <a:ext cx="1633680" cy="1218960"/>
          </a:xfrm>
          <a:prstGeom prst="rect">
            <a:avLst/>
          </a:prstGeom>
          <a:ln w="0">
            <a:noFill/>
          </a:ln>
        </p:spPr>
      </p:pic>
      <p:pic>
        <p:nvPicPr>
          <p:cNvPr id="342" name="AN02479_" descr=""/>
          <p:cNvPicPr/>
          <p:nvPr/>
        </p:nvPicPr>
        <p:blipFill>
          <a:blip r:embed="rId5"/>
          <a:stretch/>
        </p:blipFill>
        <p:spPr>
          <a:xfrm>
            <a:off x="228600" y="4191120"/>
            <a:ext cx="1633680" cy="1218960"/>
          </a:xfrm>
          <a:prstGeom prst="rect">
            <a:avLst/>
          </a:prstGeom>
          <a:ln w="0">
            <a:noFill/>
          </a:ln>
        </p:spPr>
      </p:pic>
      <p:pic>
        <p:nvPicPr>
          <p:cNvPr id="343" name="AN02479_" descr=""/>
          <p:cNvPicPr/>
          <p:nvPr/>
        </p:nvPicPr>
        <p:blipFill>
          <a:blip r:embed="rId6"/>
          <a:stretch/>
        </p:blipFill>
        <p:spPr>
          <a:xfrm>
            <a:off x="228600" y="5638680"/>
            <a:ext cx="1633680" cy="1219320"/>
          </a:xfrm>
          <a:prstGeom prst="rect">
            <a:avLst/>
          </a:prstGeom>
          <a:ln w="0">
            <a:noFill/>
          </a:ln>
        </p:spPr>
      </p:pic>
      <p:pic>
        <p:nvPicPr>
          <p:cNvPr id="344" name="AN02479_" descr=""/>
          <p:cNvPicPr/>
          <p:nvPr/>
        </p:nvPicPr>
        <p:blipFill>
          <a:blip r:embed="rId7"/>
          <a:stretch/>
        </p:blipFill>
        <p:spPr>
          <a:xfrm>
            <a:off x="1905120" y="4419720"/>
            <a:ext cx="1633320" cy="1218960"/>
          </a:xfrm>
          <a:prstGeom prst="rect">
            <a:avLst/>
          </a:prstGeom>
          <a:ln w="0">
            <a:noFill/>
          </a:ln>
        </p:spPr>
      </p:pic>
      <p:pic>
        <p:nvPicPr>
          <p:cNvPr id="345" name="AN02479_" descr=""/>
          <p:cNvPicPr/>
          <p:nvPr/>
        </p:nvPicPr>
        <p:blipFill>
          <a:blip r:embed="rId8"/>
          <a:stretch/>
        </p:blipFill>
        <p:spPr>
          <a:xfrm>
            <a:off x="1905120" y="2971800"/>
            <a:ext cx="1633320" cy="1219320"/>
          </a:xfrm>
          <a:prstGeom prst="rect">
            <a:avLst/>
          </a:prstGeom>
          <a:ln w="0">
            <a:noFill/>
          </a:ln>
        </p:spPr>
      </p:pic>
      <p:pic>
        <p:nvPicPr>
          <p:cNvPr id="346" name="AN02479_" descr=""/>
          <p:cNvPicPr/>
          <p:nvPr/>
        </p:nvPicPr>
        <p:blipFill>
          <a:blip r:embed="rId9"/>
          <a:stretch/>
        </p:blipFill>
        <p:spPr>
          <a:xfrm>
            <a:off x="1905120" y="1600200"/>
            <a:ext cx="1633320" cy="1219320"/>
          </a:xfrm>
          <a:prstGeom prst="rect">
            <a:avLst/>
          </a:prstGeom>
          <a:ln w="0">
            <a:noFill/>
          </a:ln>
        </p:spPr>
      </p:pic>
      <p:pic>
        <p:nvPicPr>
          <p:cNvPr id="347" name="AN02479_" descr=""/>
          <p:cNvPicPr/>
          <p:nvPr/>
        </p:nvPicPr>
        <p:blipFill>
          <a:blip r:embed="rId10"/>
          <a:stretch/>
        </p:blipFill>
        <p:spPr>
          <a:xfrm>
            <a:off x="1905120" y="228600"/>
            <a:ext cx="1633320" cy="1219320"/>
          </a:xfrm>
          <a:prstGeom prst="rect">
            <a:avLst/>
          </a:prstGeom>
          <a:ln w="0">
            <a:noFill/>
          </a:ln>
        </p:spPr>
      </p:pic>
      <p:grpSp>
        <p:nvGrpSpPr>
          <p:cNvPr id="348" name=""/>
          <p:cNvGrpSpPr/>
          <p:nvPr/>
        </p:nvGrpSpPr>
        <p:grpSpPr>
          <a:xfrm>
            <a:off x="5410080" y="228600"/>
            <a:ext cx="3733920" cy="3962520"/>
            <a:chOff x="5410080" y="228600"/>
            <a:chExt cx="3733920" cy="3962520"/>
          </a:xfrm>
        </p:grpSpPr>
        <p:pic>
          <p:nvPicPr>
            <p:cNvPr id="349" name="AN02479_" descr=""/>
            <p:cNvPicPr/>
            <p:nvPr/>
          </p:nvPicPr>
          <p:blipFill>
            <a:blip r:embed="rId11"/>
            <a:stretch/>
          </p:blipFill>
          <p:spPr>
            <a:xfrm>
              <a:off x="5410080" y="2971800"/>
              <a:ext cx="1633680" cy="1219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0" name=""/>
            <p:cNvGrpSpPr/>
            <p:nvPr/>
          </p:nvGrpSpPr>
          <p:grpSpPr>
            <a:xfrm>
              <a:off x="5410080" y="228600"/>
              <a:ext cx="3733920" cy="2590920"/>
              <a:chOff x="5410080" y="228600"/>
              <a:chExt cx="3733920" cy="2590920"/>
            </a:xfrm>
          </p:grpSpPr>
          <p:pic>
            <p:nvPicPr>
              <p:cNvPr id="351" name="AN02479_" descr=""/>
              <p:cNvPicPr/>
              <p:nvPr/>
            </p:nvPicPr>
            <p:blipFill>
              <a:blip r:embed="rId12"/>
              <a:stretch/>
            </p:blipFill>
            <p:spPr>
              <a:xfrm>
                <a:off x="7510320" y="1600200"/>
                <a:ext cx="1633680" cy="1219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2" name="AN02479_" descr=""/>
              <p:cNvPicPr/>
              <p:nvPr/>
            </p:nvPicPr>
            <p:blipFill>
              <a:blip r:embed="rId13"/>
              <a:stretch/>
            </p:blipFill>
            <p:spPr>
              <a:xfrm>
                <a:off x="5410080" y="1600200"/>
                <a:ext cx="1633680" cy="1219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3" name="AN02479_" descr=""/>
              <p:cNvPicPr/>
              <p:nvPr/>
            </p:nvPicPr>
            <p:blipFill>
              <a:blip r:embed="rId14"/>
              <a:stretch/>
            </p:blipFill>
            <p:spPr>
              <a:xfrm>
                <a:off x="5410080" y="228600"/>
                <a:ext cx="1633680" cy="1219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4" name="AN02479_" descr=""/>
              <p:cNvPicPr/>
              <p:nvPr/>
            </p:nvPicPr>
            <p:blipFill>
              <a:blip r:embed="rId15"/>
              <a:stretch/>
            </p:blipFill>
            <p:spPr>
              <a:xfrm>
                <a:off x="7510320" y="228600"/>
                <a:ext cx="1633680" cy="1219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55" name=""/>
          <p:cNvSpPr/>
          <p:nvPr/>
        </p:nvSpPr>
        <p:spPr>
          <a:xfrm>
            <a:off x="0" y="228600"/>
            <a:ext cx="3809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0"/>
            <a:ext cx="36576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4114800" y="4800600"/>
            <a:ext cx="50292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b5249"/>
                </a:solidFill>
                <a:latin typeface="Times New Roman"/>
              </a:rPr>
              <a:t>9   +  5   =    (       )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162920" y="487692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0000"/>
                </a:solidFill>
                <a:latin typeface="Times New Roman"/>
              </a:rPr>
              <a:t>14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39152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回到首页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381880" y="63244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3794"/>
                </a:moveTo>
                <a:lnTo>
                  <a:pt x="22431" y="10800"/>
                </a:lnTo>
                <a:lnTo>
                  <a:pt x="8418" y="17806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下一页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352320" y="-3352680"/>
            <a:ext cx="541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7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173520" indent="-17352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17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17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17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9  +  1 = (     )</a:t>
            </a:r>
            <a:br>
              <a:rPr sz="4000"/>
            </a:b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9  +  2 = (     )</a:t>
            </a:r>
            <a:br>
              <a:rPr sz="4000"/>
            </a:b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9  +  3 = (     )</a:t>
            </a:r>
            <a:br>
              <a:rPr sz="4000"/>
            </a:b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9  +  4 = (     )</a:t>
            </a:r>
            <a:br>
              <a:rPr sz="4000"/>
            </a:b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9  +  5 = (     )</a:t>
            </a:r>
            <a:br>
              <a:rPr sz="4000"/>
            </a:b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9  +  6 = (     )</a:t>
            </a:r>
            <a:br>
              <a:rPr sz="4000"/>
            </a:b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9  +  7 = (     )</a:t>
            </a:r>
            <a:br>
              <a:rPr sz="4000"/>
            </a:b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9  +  8 = (     )</a:t>
            </a:r>
            <a:br>
              <a:rPr sz="4000"/>
            </a:b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9  +  9 = (     )</a:t>
            </a:r>
            <a:br>
              <a:rPr sz="4000"/>
            </a:b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9  + 10 =(     )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17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17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638680" y="457200"/>
            <a:ext cx="99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c164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715000" y="152388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c164"/>
                </a:solidFill>
                <a:latin typeface="Times New Roman"/>
              </a:rPr>
              <a:t>12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715000" y="10666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c164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86400" y="2057400"/>
            <a:ext cx="121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c164"/>
                </a:solidFill>
                <a:latin typeface="Times New Roman"/>
              </a:rPr>
              <a:t>13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105520" y="259092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c164"/>
                </a:solidFill>
                <a:latin typeface="Times New Roman"/>
              </a:rPr>
              <a:t>14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86400" y="320040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c164"/>
                </a:solidFill>
                <a:latin typeface="Times New Roman"/>
              </a:rPr>
              <a:t>15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562720" y="373392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c164"/>
                </a:solidFill>
                <a:latin typeface="Times New Roman"/>
              </a:rPr>
              <a:t>16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410080" y="4267080"/>
            <a:ext cx="152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c164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410080" y="487692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c164"/>
                </a:solidFill>
                <a:latin typeface="Times New Roman"/>
              </a:rPr>
              <a:t>18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334120" y="541008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c164"/>
                </a:solidFill>
                <a:latin typeface="Times New Roman"/>
              </a:rPr>
              <a:t>19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132120" y="198360"/>
            <a:ext cx="3548880" cy="2296440"/>
            <a:chOff x="132120" y="198360"/>
            <a:chExt cx="3548880" cy="2296440"/>
          </a:xfrm>
        </p:grpSpPr>
        <p:sp>
          <p:nvSpPr>
            <p:cNvPr id="374" name=""/>
            <p:cNvSpPr/>
            <p:nvPr/>
          </p:nvSpPr>
          <p:spPr>
            <a:xfrm rot="20730000">
              <a:off x="228240" y="837720"/>
              <a:ext cx="3262320" cy="1152720"/>
            </a:xfrm>
            <a:prstGeom prst="cloudCallout">
              <a:avLst>
                <a:gd name="adj1" fmla="val -63782"/>
                <a:gd name="adj2" fmla="val 88930"/>
              </a:avLst>
            </a:prstGeom>
            <a:solidFill>
              <a:srgbClr val="f1f3d9"/>
            </a:solidFill>
            <a:ln w="34920">
              <a:solidFill>
                <a:srgbClr val="2a3d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20335800">
              <a:off x="230040" y="761760"/>
              <a:ext cx="335268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2a3d7a"/>
                  </a:solidFill>
                  <a:latin typeface="Times New Roman"/>
                  <a:ea typeface="华文隶书"/>
                </a:rPr>
                <a:t>你发现了什么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2a3d7a"/>
                  </a:solidFill>
                  <a:latin typeface="Times New Roman"/>
                  <a:ea typeface="华文隶书"/>
                </a:rPr>
                <a:t>规律吗？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8229600" y="63244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回到首页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086600" y="64008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回到首页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1%20副本" descr=""/>
          <p:cNvPicPr/>
          <p:nvPr/>
        </p:nvPicPr>
        <p:blipFill>
          <a:blip r:embed="rId2"/>
          <a:stretch/>
        </p:blipFill>
        <p:spPr>
          <a:xfrm>
            <a:off x="1752480" y="-1295280"/>
            <a:ext cx="5105520" cy="815328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 rot="20791200">
            <a:off x="228240" y="1066680"/>
            <a:ext cx="2133720" cy="10670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715000" y="4038480"/>
            <a:ext cx="19810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-76320" y="5715000"/>
            <a:ext cx="221004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9900"/>
                </a:solidFill>
                <a:latin typeface="Times New Roman"/>
              </a:rPr>
              <a:t>9+2=</a:t>
            </a:r>
            <a:r>
              <a:rPr b="0" lang="zh-CN" sz="4400" spc="-1" strike="noStrike">
                <a:solidFill>
                  <a:srgbClr val="cc9900"/>
                </a:solidFill>
                <a:latin typeface="Times New Roman"/>
              </a:rPr>
              <a:t>（ ）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09480" y="4572000"/>
            <a:ext cx="281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9900"/>
                </a:solidFill>
                <a:latin typeface="Times New Roman"/>
              </a:rPr>
              <a:t>9+7=</a:t>
            </a:r>
            <a:r>
              <a:rPr b="0" lang="zh-CN" sz="4400" spc="-1" strike="noStrike">
                <a:solidFill>
                  <a:srgbClr val="cc9900"/>
                </a:solidFill>
                <a:latin typeface="Times New Roman"/>
              </a:rPr>
              <a:t>（ ）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066680" y="3505320"/>
            <a:ext cx="266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9900"/>
                </a:solidFill>
                <a:latin typeface="Times New Roman"/>
              </a:rPr>
              <a:t>9+6=</a:t>
            </a:r>
            <a:r>
              <a:rPr b="0" lang="zh-CN" sz="4400" spc="-1" strike="noStrike">
                <a:solidFill>
                  <a:srgbClr val="cc9900"/>
                </a:solidFill>
                <a:latin typeface="Times New Roman"/>
              </a:rPr>
              <a:t>（ ）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752480" y="2438280"/>
            <a:ext cx="228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9900"/>
                </a:solidFill>
                <a:latin typeface="Times New Roman"/>
              </a:rPr>
              <a:t>9+8=</a:t>
            </a:r>
            <a:r>
              <a:rPr b="0" lang="zh-CN" sz="4400" spc="-1" strike="noStrike">
                <a:solidFill>
                  <a:srgbClr val="cc9900"/>
                </a:solidFill>
                <a:latin typeface="Times New Roman"/>
              </a:rPr>
              <a:t>（ ）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781680" y="579132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99ff"/>
                </a:solidFill>
                <a:latin typeface="Times New Roman"/>
              </a:rPr>
              <a:t>2+9=</a:t>
            </a:r>
            <a:r>
              <a:rPr b="0" lang="zh-CN" sz="4400" spc="-1" strike="noStrike">
                <a:solidFill>
                  <a:srgbClr val="6699ff"/>
                </a:solidFill>
                <a:latin typeface="Times New Roman"/>
              </a:rPr>
              <a:t>（ ）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248520" y="457200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99ff"/>
                </a:solidFill>
                <a:latin typeface="Times New Roman"/>
              </a:rPr>
              <a:t>7+9=</a:t>
            </a:r>
            <a:r>
              <a:rPr b="0" lang="zh-CN" sz="4400" spc="-1" strike="noStrike">
                <a:solidFill>
                  <a:srgbClr val="6699ff"/>
                </a:solidFill>
                <a:latin typeface="Times New Roman"/>
              </a:rPr>
              <a:t>（ ）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486400" y="342900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99ff"/>
                </a:solidFill>
                <a:latin typeface="Times New Roman"/>
              </a:rPr>
              <a:t>6+9=</a:t>
            </a:r>
            <a:r>
              <a:rPr b="0" lang="zh-CN" sz="4400" spc="-1" strike="noStrike">
                <a:solidFill>
                  <a:srgbClr val="6699ff"/>
                </a:solidFill>
                <a:latin typeface="Times New Roman"/>
              </a:rPr>
              <a:t>（ ）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572000" y="243828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99ff"/>
                </a:solidFill>
                <a:latin typeface="Times New Roman"/>
              </a:rPr>
              <a:t>8+9=</a:t>
            </a:r>
            <a:r>
              <a:rPr b="0" lang="zh-CN" sz="4400" spc="-1" strike="noStrike">
                <a:solidFill>
                  <a:srgbClr val="6699ff"/>
                </a:solidFill>
                <a:latin typeface="Times New Roman"/>
              </a:rPr>
              <a:t>（ ）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520" y="304920"/>
            <a:ext cx="175248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rot="20826600">
            <a:off x="228600" y="1219320"/>
            <a:ext cx="236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  <a:ea typeface="Arial Unicode MS"/>
              </a:rPr>
              <a:t>夺红旗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23880" y="57913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11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133720" y="45720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438280" y="35053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15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124080" y="243828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17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381880" y="58672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11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696080" y="45720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858000" y="35053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15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095880" y="251460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17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6151320" y="228600"/>
            <a:ext cx="3013920" cy="1219320"/>
            <a:chOff x="6151320" y="228600"/>
            <a:chExt cx="3013920" cy="1219320"/>
          </a:xfrm>
        </p:grpSpPr>
        <p:sp>
          <p:nvSpPr>
            <p:cNvPr id="400" name=""/>
            <p:cNvSpPr/>
            <p:nvPr/>
          </p:nvSpPr>
          <p:spPr>
            <a:xfrm>
              <a:off x="6245280" y="228600"/>
              <a:ext cx="2895480" cy="1219320"/>
            </a:xfrm>
            <a:prstGeom prst="cloudCallout">
              <a:avLst>
                <a:gd name="adj1" fmla="val -19078"/>
                <a:gd name="adj2" fmla="val 78777"/>
              </a:avLst>
            </a:prstGeom>
            <a:solidFill>
              <a:srgbClr val="ffcc99"/>
            </a:solidFill>
            <a:ln w="31680">
              <a:solidFill>
                <a:srgbClr val="2a3d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rot="21157200">
              <a:off x="6172200" y="533160"/>
              <a:ext cx="29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20306"/>
                  </a:solidFill>
                  <a:latin typeface="Times New Roman"/>
                  <a:ea typeface="华文隶书"/>
                </a:rPr>
                <a:t>你发现了什么吗？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8458200" y="6629400"/>
            <a:ext cx="685800" cy="228600"/>
          </a:xfrm>
          <a:custGeom>
            <a:avLst/>
            <a:gdLst>
              <a:gd name="textAreaLeft" fmla="*/ 14760 w 685800"/>
              <a:gd name="textAreaRight" fmla="*/ 671040 w 6858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64732" h="21600">
                <a:moveTo>
                  <a:pt x="0" y="0"/>
                </a:moveTo>
                <a:lnTo>
                  <a:pt x="64732" y="0"/>
                </a:lnTo>
                <a:lnTo>
                  <a:pt x="64732" y="21600"/>
                </a:lnTo>
                <a:lnTo>
                  <a:pt x="0" y="21600"/>
                </a:lnTo>
                <a:close/>
              </a:path>
              <a:path fill="lightenLess" w="64732" h="21600">
                <a:moveTo>
                  <a:pt x="0" y="0"/>
                </a:moveTo>
                <a:lnTo>
                  <a:pt x="64732" y="0"/>
                </a:lnTo>
                <a:lnTo>
                  <a:pt x="63332" y="1400"/>
                </a:lnTo>
                <a:lnTo>
                  <a:pt x="1400" y="1400"/>
                </a:lnTo>
                <a:close/>
              </a:path>
              <a:path fill="darken" w="64732" h="21600">
                <a:moveTo>
                  <a:pt x="64732" y="0"/>
                </a:moveTo>
                <a:lnTo>
                  <a:pt x="64732" y="21600"/>
                </a:lnTo>
                <a:lnTo>
                  <a:pt x="63332" y="20200"/>
                </a:lnTo>
                <a:lnTo>
                  <a:pt x="63332" y="1400"/>
                </a:lnTo>
                <a:close/>
              </a:path>
              <a:path fill="darkenLess" w="64732" h="21600">
                <a:moveTo>
                  <a:pt x="647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32" y="20200"/>
                </a:lnTo>
                <a:close/>
              </a:path>
              <a:path fill="lighten" w="647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回到首页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440" y="2286000"/>
            <a:ext cx="8001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9+3=</a:t>
            </a: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（    ）    </a:t>
            </a: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9+7=</a:t>
            </a: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（    ）  </a:t>
            </a:r>
            <a:br>
              <a:rPr sz="4400"/>
            </a:b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9+8=</a:t>
            </a: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（    ）    </a:t>
            </a: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6+9= </a:t>
            </a: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（    ）</a:t>
            </a:r>
            <a:br>
              <a:rPr sz="4400"/>
            </a:b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5+9=</a:t>
            </a: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（    ）    </a:t>
            </a: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4+9= </a:t>
            </a: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（    ）</a:t>
            </a:r>
            <a:br>
              <a:rPr sz="4400"/>
            </a:b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10+9= </a:t>
            </a: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（    ）   </a:t>
            </a: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2 +9=</a:t>
            </a: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（    ）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429000" y="1371600"/>
            <a:ext cx="533520" cy="2362320"/>
          </a:xfrm>
          <a:prstGeom prst="flowChartMagneticTap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762120" y="0"/>
            <a:ext cx="4190760" cy="1523880"/>
            <a:chOff x="762120" y="0"/>
            <a:chExt cx="4190760" cy="1523880"/>
          </a:xfrm>
        </p:grpSpPr>
        <p:sp>
          <p:nvSpPr>
            <p:cNvPr id="406" name=""/>
            <p:cNvSpPr/>
            <p:nvPr/>
          </p:nvSpPr>
          <p:spPr>
            <a:xfrm>
              <a:off x="762120" y="0"/>
              <a:ext cx="4190760" cy="1523880"/>
            </a:xfrm>
            <a:prstGeom prst="cloudCallout">
              <a:avLst>
                <a:gd name="adj1" fmla="val -43865"/>
                <a:gd name="adj2" fmla="val 76041"/>
              </a:avLst>
            </a:prstGeom>
            <a:solidFill>
              <a:srgbClr val="cc99ff"/>
            </a:solidFill>
            <a:ln w="28440">
              <a:solidFill>
                <a:srgbClr val="2a3d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066680" y="380880"/>
              <a:ext cx="3733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00"/>
                  </a:solidFill>
                  <a:latin typeface="Times New Roman"/>
                  <a:ea typeface="华文隶书"/>
                </a:rPr>
                <a:t>你会算了吗？</a:t>
              </a:r>
              <a:endParaRPr b="0" lang="en-US" sz="4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2209680" y="2057400"/>
            <a:ext cx="152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22f02"/>
                </a:solidFill>
                <a:latin typeface="Times New Roman"/>
              </a:rPr>
              <a:t>12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410080" y="213372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22f02"/>
                </a:solidFill>
                <a:latin typeface="Times New Roman"/>
              </a:rPr>
              <a:t>16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057400" y="27432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22f02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791320" y="2819520"/>
            <a:ext cx="121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22f02"/>
                </a:solidFill>
                <a:latin typeface="Times New Roman"/>
              </a:rPr>
              <a:t>15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523880" y="3429000"/>
            <a:ext cx="281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22f02"/>
                </a:solidFill>
                <a:latin typeface="Times New Roman"/>
              </a:rPr>
              <a:t>14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791320" y="342900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22f02"/>
                </a:solidFill>
                <a:latin typeface="Times New Roman"/>
              </a:rPr>
              <a:t>13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2819160" y="4114800"/>
            <a:ext cx="1447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22f02"/>
                </a:solidFill>
                <a:latin typeface="Times New Roman"/>
              </a:rPr>
              <a:t>19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791320" y="411480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22f02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2590920" y="4952880"/>
            <a:ext cx="6553080" cy="1905120"/>
            <a:chOff x="2590920" y="4952880"/>
            <a:chExt cx="6553080" cy="1905120"/>
          </a:xfrm>
        </p:grpSpPr>
        <p:sp>
          <p:nvSpPr>
            <p:cNvPr id="417" name=""/>
            <p:cNvSpPr/>
            <p:nvPr/>
          </p:nvSpPr>
          <p:spPr>
            <a:xfrm>
              <a:off x="2590920" y="4952880"/>
              <a:ext cx="54100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8000"/>
                  </a:solidFill>
                  <a:latin typeface="Times New Roman"/>
                  <a:ea typeface="华文隶书"/>
                </a:rPr>
                <a:t>真  棒  ！</a:t>
              </a:r>
              <a:endParaRPr b="0" lang="en-US" sz="9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pic>
          <p:nvPicPr>
            <p:cNvPr id="418" name="PE01832_" descr=""/>
            <p:cNvPicPr/>
            <p:nvPr/>
          </p:nvPicPr>
          <p:blipFill>
            <a:blip r:embed="rId2"/>
            <a:stretch/>
          </p:blipFill>
          <p:spPr>
            <a:xfrm>
              <a:off x="7162920" y="5105520"/>
              <a:ext cx="1981080" cy="175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9" name=""/>
          <p:cNvSpPr/>
          <p:nvPr/>
        </p:nvSpPr>
        <p:spPr>
          <a:xfrm>
            <a:off x="8381880" y="64008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回到首页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2:14:22Z</dcterms:created>
  <dc:creator>双语学校</dc:creator>
  <dc:description/>
  <dc:language>en-US</dc:language>
  <cp:lastModifiedBy>Roberto</cp:lastModifiedBy>
  <dcterms:modified xsi:type="dcterms:W3CDTF">2002-11-19T05:00:34Z</dcterms:modified>
  <cp:revision>39</cp:revision>
  <dc:subject/>
  <dc:title>一、口算。                                    10+5=（  ）  10+3=（  ）                        10+8=（  ）     9+10=（  ）    二、填空。 9+1+6=（  ） 9+1+7=（  ）   三、分一分。 10 </dc:title>
</cp:coreProperties>
</file>