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gif" ContentType="image/gif"/>
  <Override PartName="/ppt/media/image10.jpeg" ContentType="image/jpeg"/>
  <Override PartName="/ppt/media/image2.gif" ContentType="image/gif"/>
  <Override PartName="/ppt/media/image25.gif" ContentType="image/gif"/>
  <Override PartName="/ppt/media/image12.gif" ContentType="image/gif"/>
  <Override PartName="/ppt/media/image3.jpeg" ContentType="image/jpeg"/>
  <Override PartName="/ppt/media/image24.jpeg" ContentType="image/jpeg"/>
  <Override PartName="/ppt/media/image7.gif" ContentType="image/gif"/>
  <Override PartName="/ppt/media/image26.jpeg" ContentType="image/jpeg"/>
  <Override PartName="/ppt/media/image9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23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17.gif" ContentType="image/gif"/>
  <Override PartName="/ppt/media/image16.gif" ContentType="image/gif"/>
  <Override PartName="/ppt/media/image21.gif" ContentType="image/gif"/>
  <Override PartName="/ppt/media/image19.gif" ContentType="image/gif"/>
  <Override PartName="/ppt/media/image1.png" ContentType="image/png"/>
  <Override PartName="/ppt/media/image4.gif" ContentType="image/gif"/>
  <Override PartName="/ppt/media/image22.jpeg" ContentType="image/jpe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823-9F55-48C0-B738-35C366C7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A0B3-7208-4CD9-A670-ADB5AF1A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B8D-F6BD-4307-BD63-8DA27AD8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1E3-2F65-4235-A075-D9C93F32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6D2-B98B-48B0-839E-63733DB4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895E-B074-4FA6-BAC3-BE268BA1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73F-6D39-4341-B62D-77F9FA4B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6838-428D-4354-BF97-E99BEF4D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072D-C286-4826-8751-6F74EA14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00B-2D56-4D54-BEBA-9C7910A1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20B5-99DE-4798-B26A-F7C29DE9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689-9FB8-4CA1-B826-EE1F8539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5137-67CA-4AE4-84F0-E83A1D597C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orderpic.com/cn/search/80140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orderpic.com/cn/search/79367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www.orderpic.com/cn/search/79367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502128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1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431280" y="457200"/>
            <a:ext cx="10036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ff"/>
                </a:solidFill>
                <a:latin typeface="华文行楷"/>
                <a:ea typeface="华文行楷"/>
              </a:rPr>
              <a:t>A   Perfect   Day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8840" y="259092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Liste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8620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ow many times do we have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hrase “perfect day” in the poem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ird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1406520" cy="743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3164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1999" descr=""/>
          <p:cNvPicPr/>
          <p:nvPr/>
        </p:nvPicPr>
        <p:blipFill>
          <a:blip r:embed="rId1"/>
          <a:stretch/>
        </p:blipFill>
        <p:spPr>
          <a:xfrm>
            <a:off x="0" y="0"/>
            <a:ext cx="44053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495680" y="304920"/>
            <a:ext cx="464832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’m a big big gir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big big _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not a big big _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______ 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I do do fe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 do do will ______ you             much,miss you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side it’s now _______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ears are falling from my      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id it have to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id it have to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838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le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girl3" descr=""/>
          <p:cNvPicPr/>
          <p:nvPr/>
        </p:nvPicPr>
        <p:blipFill>
          <a:blip r:embed="rId2"/>
          <a:stretch/>
        </p:blipFill>
        <p:spPr>
          <a:xfrm>
            <a:off x="7913520" y="0"/>
            <a:ext cx="1230480" cy="144792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3164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7800" y="17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185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139680"/>
            <a:ext cx="617220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’m a big big girl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 a big big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’s not a big big 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f you _____ 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 I do do f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at I do do will miss you much,miss you mu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have your arms ______ 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ooh like f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 when I open my ey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ou’re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838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14479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20574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441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6324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sing" descr=""/>
          <p:cNvPicPr/>
          <p:nvPr/>
        </p:nvPicPr>
        <p:blipFill>
          <a:blip r:embed="rId2"/>
          <a:stretch/>
        </p:blipFill>
        <p:spPr>
          <a:xfrm>
            <a:off x="6858000" y="5072040"/>
            <a:ext cx="2286000" cy="178596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53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343400" y="0"/>
            <a:ext cx="45720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’m a big big girl 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a big big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’s not a big big 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f you leave m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t I do do f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I do do will miss you much,miss you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irls2" descr=""/>
          <p:cNvPicPr/>
          <p:nvPr/>
        </p:nvPicPr>
        <p:blipFill>
          <a:blip r:embed="rId2"/>
          <a:stretch/>
        </p:blipFill>
        <p:spPr>
          <a:xfrm>
            <a:off x="5867280" y="5649840"/>
            <a:ext cx="2427480" cy="1208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4280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80133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0" y="457200"/>
            <a:ext cx="45720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’m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big big girl 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ig big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t’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ot a big big 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 leave m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u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 do do f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 I do do will mis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uch,miss you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u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9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-1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-142920"/>
            <a:ext cx="9144000" cy="7143840"/>
            <a:chOff x="0" y="-142920"/>
            <a:chExt cx="9144000" cy="7143840"/>
          </a:xfrm>
        </p:grpSpPr>
        <p:sp>
          <p:nvSpPr>
            <p:cNvPr id="134" name=""/>
            <p:cNvSpPr/>
            <p:nvPr/>
          </p:nvSpPr>
          <p:spPr>
            <a:xfrm>
              <a:off x="0" y="-142920"/>
              <a:ext cx="9144000" cy="71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-142920"/>
              <a:ext cx="17622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zh-CN" sz="56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82600" y="18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8014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600200"/>
            <a:ext cx="83059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oo</a:t>
            </a:r>
            <a:r>
              <a:rPr b="1" lang="zh-CN" sz="25000" spc="-1" strike="noStrike">
                <a:solidFill>
                  <a:srgbClr val="ffffff"/>
                </a:solidFill>
                <a:latin typeface="华文行楷"/>
                <a:ea typeface="华文行楷"/>
              </a:rPr>
              <a:t>D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15000" spc="-1" strike="noStrike">
                <a:solidFill>
                  <a:srgbClr val="ffffff"/>
                </a:solidFill>
                <a:latin typeface="Monotype Corsiva"/>
                <a:ea typeface="方正舒体"/>
              </a:rPr>
              <a:t>y</a:t>
            </a:r>
            <a:r>
              <a:rPr b="1" lang="zh-CN" sz="9600" spc="-1" strike="noStrike">
                <a:solidFill>
                  <a:srgbClr val="ffffff"/>
                </a:solidFill>
                <a:latin typeface="华文彩云"/>
                <a:ea typeface="华文彩云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8229600" cy="73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   Perfect   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Monotype Corsiva"/>
                <a:ea typeface="方正舒体"/>
              </a:rPr>
              <a:t>by Carrie Jacobs-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hen you come to the end of a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And you sit alone with your though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hile the chimes ring out with a carol g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For the joy that the day has brough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Do you think what the end of a perfect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Can mean to a tired hear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hen the sun goes down with a flaming r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And the dear friends have to p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ell,this is the end of a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Near the end of  a journey to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But it leaves a thought that is big and stro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ith a wish that is kind and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For memory has painted this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ith colours that never fa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And we find at the end of a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The soul of a friend we’ve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2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9" name="female2" descr=""/>
          <p:cNvPicPr/>
          <p:nvPr/>
        </p:nvPicPr>
        <p:blipFill>
          <a:blip r:embed="rId3"/>
          <a:stretch/>
        </p:blipFill>
        <p:spPr>
          <a:xfrm>
            <a:off x="7162920" y="5668920"/>
            <a:ext cx="1981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09480"/>
            <a:ext cx="8915400" cy="59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                  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美好的日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美好的日子即将流过，                  啊，这是一个美好日子的终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沉思着独自静坐；                          也是一次旅行的了结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钟声伴随着快乐的颂歌响起，      但它留下了强烈的思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为了这美好日子带来的快乐；          还有那亲切而真诚的祝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太阳带着红霞西沉，                      这美好日子的回忆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亲爱的朋友你又得奔波，                  永不消退，永远新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可曾想到对于一颗疲惫的心，      我们在这美好日子的终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这美好日子的结束会意味着什么？  看到了朋友的神圣的心田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53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12392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371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1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1828800"/>
            <a:ext cx="7772400" cy="438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1. Is this at the beginning of a day or at the end of a day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2. Is the writer alone or with                                someon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3. Is the writer meeting someone or saying goodbye to some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7080" y="380880"/>
            <a:ext cx="198684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30800" y="579132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10552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ay/j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4120" y="4648320"/>
            <a:ext cx="45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With colours that never f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1480" y="4114800"/>
            <a:ext cx="76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  With colours that will never become less b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9600" y="3657600"/>
            <a:ext cx="68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en the sun goes down with a flaming 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440" y="2819520"/>
            <a:ext cx="89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  When the light from the sun going down looks like       fl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752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  While the bells ring out with a happy song being s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0040" y="50292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  happ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9680" y="5867280"/>
            <a:ext cx="24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  Say good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80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Find the words or phrases in the poem which mean the same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286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ile the chimes ring out with a carol g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228600"/>
            <a:ext cx="9144000" cy="64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Monotype Corsiva"/>
              </a:rPr>
              <a:t>by Thomas Nas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pring, the sweet spring, is the year’s pleasant k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hen blooms each thing, then maids dance in a r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ld doth not sting, the pretty birds do s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uckoo, jug-jug, pu-we,to-witta-wo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he palm and may make country houses g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Lambs frisk and play,the shepherds pipe all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nd we hear ay birds tune this merry l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uckoo,jug-jug, pu-we, to-witta-wo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he fields breathe sweet, the daisies kiss our fe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Young lovers meet, old wives a-sunning si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n every street these tunes our ears do gre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uckoo, jug-jug, pu-we,to-witta-w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pring! The sweet Sp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04920"/>
            <a:ext cx="94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FL55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-1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-142920"/>
            <a:ext cx="9144000" cy="7143840"/>
            <a:chOff x="0" y="-142920"/>
            <a:chExt cx="9144000" cy="7143840"/>
          </a:xfrm>
        </p:grpSpPr>
        <p:sp>
          <p:nvSpPr>
            <p:cNvPr id="81" name=""/>
            <p:cNvSpPr/>
            <p:nvPr/>
          </p:nvSpPr>
          <p:spPr>
            <a:xfrm>
              <a:off x="0" y="-142920"/>
              <a:ext cx="9144000" cy="71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-142920"/>
              <a:ext cx="17622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zh-CN" sz="56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3488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80130" descr=""/>
          <p:cNvPicPr/>
          <p:nvPr/>
        </p:nvPicPr>
        <p:blipFill>
          <a:blip r:embed="rId3"/>
          <a:stretch/>
        </p:blipFill>
        <p:spPr>
          <a:xfrm>
            <a:off x="4648320" y="4800600"/>
            <a:ext cx="1639800" cy="2057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228600"/>
            <a:ext cx="91440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Stopping by Woods on a Snowy Ev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                                        </a:t>
            </a:r>
            <a:r>
              <a:rPr b="0" lang="zh-CN" sz="2400" spc="-1" strike="noStrike">
                <a:solidFill>
                  <a:srgbClr val="00cc99"/>
                </a:solidFill>
                <a:latin typeface="Monotype Corsiva"/>
              </a:rPr>
              <a:t>by Robert Fr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Whose woods these are I think I know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e gives his harness bells a sh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is house is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in the village, though;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o ask if there is som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He will not see me stopping here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he only other sound’s the sw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To watch his woods fill up with snow.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f easy wind and downy fl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My little horse must think it queer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he woods are lovely,dark,and deep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To stop without a farmhouse near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ut I have promises to kee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Between the woods and frozen lake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 miles to go before I slee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The darkness evening of the year.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 miles to go before I sle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" y="1371600"/>
            <a:ext cx="693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600" spc="-1" strike="noStrike">
                <a:solidFill>
                  <a:srgbClr val="3333ff"/>
                </a:solidFill>
                <a:latin typeface="Monotype Corsiva"/>
              </a:rPr>
              <a:t>Big Big</a:t>
            </a:r>
            <a:r>
              <a:rPr b="1" lang="en-US" sz="7200" spc="-1" strike="noStrike">
                <a:solidFill>
                  <a:srgbClr val="3333ff"/>
                </a:solidFill>
                <a:latin typeface="Monotype Corsiva"/>
              </a:rPr>
              <a:t> worl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380880"/>
            <a:ext cx="190512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d22" descr=""/>
          <p:cNvPicPr/>
          <p:nvPr/>
        </p:nvPicPr>
        <p:blipFill>
          <a:blip r:embed="rId2"/>
          <a:stretch/>
        </p:blipFill>
        <p:spPr>
          <a:xfrm>
            <a:off x="0" y="5686560"/>
            <a:ext cx="9144000" cy="1171440"/>
          </a:xfrm>
          <a:prstGeom prst="rect">
            <a:avLst/>
          </a:prstGeom>
          <a:ln w="0">
            <a:noFill/>
          </a:ln>
        </p:spPr>
      </p:pic>
      <p:pic>
        <p:nvPicPr>
          <p:cNvPr id="90" name="dance2" descr=""/>
          <p:cNvPicPr/>
          <p:nvPr/>
        </p:nvPicPr>
        <p:blipFill>
          <a:blip r:embed="rId3"/>
          <a:stretch/>
        </p:blipFill>
        <p:spPr>
          <a:xfrm>
            <a:off x="3809880" y="5734080"/>
            <a:ext cx="1143000" cy="1123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3812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FL4913" descr=""/>
          <p:cNvPicPr/>
          <p:nvPr/>
        </p:nvPicPr>
        <p:blipFill>
          <a:blip r:embed="rId1"/>
          <a:stretch/>
        </p:blipFill>
        <p:spPr>
          <a:xfrm>
            <a:off x="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76920" y="380880"/>
            <a:ext cx="4267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’m a big big gir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big big 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not a big big 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_____ 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I do do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 do do will _____ you much,miss you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can see the first leaves 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all so yellow and n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so very cold 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the way I’m feeling ins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8660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le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10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f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05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ut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1" descr=""/>
          <p:cNvPicPr/>
          <p:nvPr/>
        </p:nvPicPr>
        <p:blipFill>
          <a:blip r:embed="rId2"/>
          <a:stretch/>
        </p:blipFill>
        <p:spPr>
          <a:xfrm>
            <a:off x="2133720" y="6066000"/>
            <a:ext cx="5486400" cy="79200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7:59:02Z</dcterms:created>
  <dc:creator>hh</dc:creator>
  <dc:description/>
  <dc:language>en-US</dc:language>
  <cp:lastModifiedBy>hh</cp:lastModifiedBy>
  <dcterms:modified xsi:type="dcterms:W3CDTF">2002-05-23T07:28:07Z</dcterms:modified>
  <cp:revision>38</cp:revision>
  <dc:subject/>
  <dc:title>PowerPoint 演示文稿</dc:title>
</cp:coreProperties>
</file>