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C95-A462-464F-AC8A-BBB18714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024-9C62-49E7-BEF6-BE8A72E4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538-8DD7-4059-A7E7-1901C85B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9D12-D9D9-4EB4-8B7D-25FE20CE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26A59-F080-4990-BA7B-55DE2279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B270-43C7-4B13-B9B2-E94E477A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7B66-8E6A-4CBA-ACED-D75D9E6E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BD53-F508-4E4E-8C8E-A1B4BB89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4DC5-4E82-4C5D-830A-CE2EDAAC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1009-56DF-4090-A815-4140E4B0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090C-8829-4F1B-A42D-CB4D78CA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7842-AA8B-4886-AEEA-CA4CD77B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0522-D90F-4D6E-9432-53F4F01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AA88-7792-4239-AB64-120F78C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3B52-EA73-4E07-B4AB-53BA22CB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1C6A-662C-448F-8EB3-47825397A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0228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66600" y="435132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03832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0228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66600" y="50680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CEF2-BAAD-41E7-8944-BBFBC4B3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A0A-499F-44A7-8235-193BBA67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243-66ED-45A2-A1FD-5E53826B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3237-5455-4F42-BDD8-51148AAF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9EF-6834-4083-9BD1-35690729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F3C-317D-468E-BA2D-BFAB59AD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18280" y="50680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5442-F31B-4B56-BA79-9118FE1D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3832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18280" y="435132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38320" y="50680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04FE-37E0-4CBD-862A-49407B10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ADF9-61FC-4B9D-A693-2A99F0D3EA4B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81DC-ED97-493C-8D9F-D48291D54623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1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一、口算。            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5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3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            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+8=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0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</a:t>
            </a: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二、填空。</a:t>
            </a:r>
            <a:br>
              <a:rPr sz="4400"/>
            </a:b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9+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+6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      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+1+7=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1143000"/>
            <a:ext cx="762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480" y="533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800" y="11430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36232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880" y="23623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480" y="457200"/>
            <a:ext cx="8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959000">
            <a:off x="2819520" y="4037760"/>
            <a:ext cx="666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5480" y="5029200"/>
            <a:ext cx="457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88620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8098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380880" y="3657600"/>
            <a:ext cx="609840" cy="45720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80988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09880"/>
            <a:ext cx="60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8862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4038480"/>
            <a:ext cx="838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733920"/>
            <a:ext cx="609840" cy="53316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36576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411480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320040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429000"/>
            <a:ext cx="60948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657600"/>
            <a:ext cx="0" cy="1522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676520" y="350496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914400" y="3200040"/>
            <a:ext cx="0" cy="22860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12408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429000"/>
            <a:ext cx="60984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876920" y="3123720"/>
            <a:ext cx="0" cy="30492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391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6400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83059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673" h="21600">
                <a:moveTo>
                  <a:pt x="1233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673" h="21600">
                <a:moveTo>
                  <a:pt x="9760" y="8224"/>
                </a:moveTo>
                <a:lnTo>
                  <a:pt x="13625" y="8224"/>
                </a:lnTo>
                <a:lnTo>
                  <a:pt x="13625" y="15221"/>
                </a:lnTo>
                <a:lnTo>
                  <a:pt x="14913" y="15221"/>
                </a:lnTo>
                <a:lnTo>
                  <a:pt x="14913" y="16144"/>
                </a:lnTo>
                <a:lnTo>
                  <a:pt x="9760" y="16144"/>
                </a:lnTo>
                <a:lnTo>
                  <a:pt x="9760" y="15221"/>
                </a:lnTo>
                <a:lnTo>
                  <a:pt x="11048" y="15221"/>
                </a:lnTo>
                <a:lnTo>
                  <a:pt x="11048" y="9129"/>
                </a:lnTo>
                <a:lnTo>
                  <a:pt x="9760" y="9129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  <a:ea typeface="华文宋体"/>
              </a:rPr>
              <a:t>下一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8377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3d7a"/>
                </a:solidFill>
                <a:latin typeface="宋体"/>
              </a:rPr>
              <a:t>9</a:t>
            </a:r>
            <a:r>
              <a:rPr b="0" lang="zh-CN" sz="8800" spc="-1" strike="noStrike">
                <a:solidFill>
                  <a:srgbClr val="2a3d7a"/>
                </a:solidFill>
                <a:latin typeface="宋体"/>
              </a:rPr>
              <a:t>加几</a:t>
            </a:r>
            <a:endParaRPr b="0" lang="en-US" sz="8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50840" y="2506680"/>
            <a:ext cx="55785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一、复习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二、例题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三、练一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         </a:t>
            </a:r>
            <a:r>
              <a:rPr b="0" lang="zh-CN" sz="4000" spc="-1" strike="noStrike">
                <a:solidFill>
                  <a:srgbClr val="6699ff"/>
                </a:solidFill>
                <a:latin typeface="华文隶书"/>
                <a:ea typeface="华文隶书"/>
              </a:rPr>
              <a:t>四、拓展游戏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6019920" y="6400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复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6400800"/>
            <a:ext cx="609840" cy="4572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20306"/>
                </a:solidFill>
                <a:latin typeface="Times New Roman"/>
              </a:rPr>
              <a:t>例题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0120" y="6324480"/>
            <a:ext cx="609480" cy="5335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练一练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1880" y="64008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游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-2133720" y="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三、分一分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400" y="30492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752480"/>
            <a:ext cx="5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33920" y="175248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828440" y="160020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90920" y="1676520"/>
            <a:ext cx="609480" cy="60948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1080" y="243828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2590920"/>
            <a:ext cx="1676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1066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91520" y="10666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（ 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1828800"/>
            <a:ext cx="60984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619760" y="1828800"/>
            <a:ext cx="60948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25146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5146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438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10666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71d0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8381880" y="6400800"/>
            <a:ext cx="762120" cy="457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d71d09"/>
                </a:solidFill>
                <a:latin typeface="Times New Roman"/>
              </a:rPr>
              <a:t>回到首页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914400"/>
            <a:ext cx="1523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13372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43000" y="1143000"/>
            <a:ext cx="457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990720"/>
            <a:ext cx="2133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33160" y="1447560"/>
            <a:ext cx="7596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905120" y="228600"/>
            <a:ext cx="1523880" cy="1295280"/>
            <a:chOff x="1905120" y="228600"/>
            <a:chExt cx="1523880" cy="1295280"/>
          </a:xfrm>
        </p:grpSpPr>
        <p:grpSp>
          <p:nvGrpSpPr>
            <p:cNvPr id="151" name=""/>
            <p:cNvGrpSpPr/>
            <p:nvPr/>
          </p:nvGrpSpPr>
          <p:grpSpPr>
            <a:xfrm>
              <a:off x="1905120" y="228600"/>
              <a:ext cx="1523880" cy="1295280"/>
              <a:chOff x="1905120" y="228600"/>
              <a:chExt cx="1523880" cy="1295280"/>
            </a:xfrm>
          </p:grpSpPr>
          <p:sp>
            <p:nvSpPr>
              <p:cNvPr id="152" name=""/>
              <p:cNvSpPr/>
              <p:nvPr/>
            </p:nvSpPr>
            <p:spPr>
              <a:xfrm>
                <a:off x="2057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05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09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971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0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200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09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514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86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 flipV="1">
              <a:off x="2286000" y="144756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28600" y="1752480"/>
            <a:ext cx="1523880" cy="1295280"/>
            <a:chOff x="228600" y="1752480"/>
            <a:chExt cx="1523880" cy="1295280"/>
          </a:xfrm>
        </p:grpSpPr>
        <p:grpSp>
          <p:nvGrpSpPr>
            <p:cNvPr id="163" name=""/>
            <p:cNvGrpSpPr/>
            <p:nvPr/>
          </p:nvGrpSpPr>
          <p:grpSpPr>
            <a:xfrm>
              <a:off x="228600" y="1752480"/>
              <a:ext cx="1523880" cy="1295280"/>
              <a:chOff x="228600" y="1752480"/>
              <a:chExt cx="1523880" cy="1295280"/>
            </a:xfrm>
          </p:grpSpPr>
          <p:sp>
            <p:nvSpPr>
              <p:cNvPr id="164" name=""/>
              <p:cNvSpPr/>
              <p:nvPr/>
            </p:nvSpPr>
            <p:spPr>
              <a:xfrm>
                <a:off x="380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3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295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3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3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532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837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609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60948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981080" y="1752480"/>
            <a:ext cx="1523880" cy="1295280"/>
            <a:chOff x="1981080" y="1752480"/>
            <a:chExt cx="1523880" cy="1295280"/>
          </a:xfrm>
        </p:grpSpPr>
        <p:grpSp>
          <p:nvGrpSpPr>
            <p:cNvPr id="175" name=""/>
            <p:cNvGrpSpPr/>
            <p:nvPr/>
          </p:nvGrpSpPr>
          <p:grpSpPr>
            <a:xfrm>
              <a:off x="1981080" y="1752480"/>
              <a:ext cx="1523880" cy="1295280"/>
              <a:chOff x="1981080" y="1752480"/>
              <a:chExt cx="1523880" cy="1295280"/>
            </a:xfrm>
          </p:grpSpPr>
          <p:sp>
            <p:nvSpPr>
              <p:cNvPr id="176" name=""/>
              <p:cNvSpPr/>
              <p:nvPr/>
            </p:nvSpPr>
            <p:spPr>
              <a:xfrm>
                <a:off x="213336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98108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564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304776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7636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7636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28528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9020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36196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V="1">
              <a:off x="2361960" y="297144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V="1">
            <a:off x="44956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28600" y="4876920"/>
            <a:ext cx="1523880" cy="1295280"/>
            <a:chOff x="228600" y="4876920"/>
            <a:chExt cx="1523880" cy="1295280"/>
          </a:xfrm>
        </p:grpSpPr>
        <p:grpSp>
          <p:nvGrpSpPr>
            <p:cNvPr id="188" name=""/>
            <p:cNvGrpSpPr/>
            <p:nvPr/>
          </p:nvGrpSpPr>
          <p:grpSpPr>
            <a:xfrm>
              <a:off x="228600" y="4876920"/>
              <a:ext cx="1523880" cy="1295280"/>
              <a:chOff x="228600" y="4876920"/>
              <a:chExt cx="1523880" cy="1295280"/>
            </a:xfrm>
          </p:grpSpPr>
          <p:sp>
            <p:nvSpPr>
              <p:cNvPr id="189" name=""/>
              <p:cNvSpPr/>
              <p:nvPr/>
            </p:nvSpPr>
            <p:spPr>
              <a:xfrm>
                <a:off x="380880" y="50292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8600" y="48769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160" y="61722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295280" y="60958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523880" y="49532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523880" y="52578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532800" y="51055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837720" y="52578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09480" y="51818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 flipV="1">
              <a:off x="609480" y="60958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981080" y="3276720"/>
            <a:ext cx="1523880" cy="1295280"/>
            <a:chOff x="1981080" y="3276720"/>
            <a:chExt cx="1523880" cy="1295280"/>
          </a:xfrm>
        </p:grpSpPr>
        <p:grpSp>
          <p:nvGrpSpPr>
            <p:cNvPr id="200" name=""/>
            <p:cNvGrpSpPr/>
            <p:nvPr/>
          </p:nvGrpSpPr>
          <p:grpSpPr>
            <a:xfrm>
              <a:off x="1981080" y="3276720"/>
              <a:ext cx="1523880" cy="1295280"/>
              <a:chOff x="1981080" y="3276720"/>
              <a:chExt cx="1523880" cy="1295280"/>
            </a:xfrm>
          </p:grpSpPr>
          <p:sp>
            <p:nvSpPr>
              <p:cNvPr id="201" name=""/>
              <p:cNvSpPr/>
              <p:nvPr/>
            </p:nvSpPr>
            <p:spPr>
              <a:xfrm>
                <a:off x="213336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8108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564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04776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27636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27636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28528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59020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6196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36196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 flipV="1">
            <a:off x="61722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276720"/>
            <a:ext cx="1523880" cy="1295280"/>
            <a:chOff x="228600" y="3276720"/>
            <a:chExt cx="1523880" cy="1295280"/>
          </a:xfrm>
        </p:grpSpPr>
        <p:grpSp>
          <p:nvGrpSpPr>
            <p:cNvPr id="213" name=""/>
            <p:cNvGrpSpPr/>
            <p:nvPr/>
          </p:nvGrpSpPr>
          <p:grpSpPr>
            <a:xfrm>
              <a:off x="228600" y="3276720"/>
              <a:ext cx="1523880" cy="1295280"/>
              <a:chOff x="228600" y="3276720"/>
              <a:chExt cx="1523880" cy="1295280"/>
            </a:xfrm>
          </p:grpSpPr>
          <p:sp>
            <p:nvSpPr>
              <p:cNvPr id="214" name=""/>
              <p:cNvSpPr/>
              <p:nvPr/>
            </p:nvSpPr>
            <p:spPr>
              <a:xfrm>
                <a:off x="380880" y="342900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8600" y="327672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3160" y="457200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1295280" y="449568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23880" y="335304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23880" y="365760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32800" y="350532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837720" y="365760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609480" y="358164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609480" y="4495680"/>
              <a:ext cx="0" cy="763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 flipV="1">
            <a:off x="449568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324480" y="2971800"/>
            <a:ext cx="0" cy="7632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24852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800100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8001000" y="46479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114800" y="228600"/>
            <a:ext cx="5029200" cy="4495680"/>
            <a:chOff x="4114800" y="228600"/>
            <a:chExt cx="5029200" cy="4495680"/>
          </a:xfrm>
        </p:grpSpPr>
        <p:grpSp>
          <p:nvGrpSpPr>
            <p:cNvPr id="230" name=""/>
            <p:cNvGrpSpPr/>
            <p:nvPr/>
          </p:nvGrpSpPr>
          <p:grpSpPr>
            <a:xfrm>
              <a:off x="5867280" y="228600"/>
              <a:ext cx="1523880" cy="1295280"/>
              <a:chOff x="5867280" y="228600"/>
              <a:chExt cx="1523880" cy="1295280"/>
            </a:xfrm>
          </p:grpSpPr>
          <p:sp>
            <p:nvSpPr>
              <p:cNvPr id="231" name=""/>
              <p:cNvSpPr/>
              <p:nvPr/>
            </p:nvSpPr>
            <p:spPr>
              <a:xfrm>
                <a:off x="601956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6728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17184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693396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6256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6256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17148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47640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24816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114800" y="228600"/>
              <a:ext cx="1523880" cy="1295280"/>
              <a:chOff x="4114800" y="228600"/>
              <a:chExt cx="1523880" cy="1295280"/>
            </a:xfrm>
          </p:grpSpPr>
          <p:sp>
            <p:nvSpPr>
              <p:cNvPr id="241" name=""/>
              <p:cNvSpPr/>
              <p:nvPr/>
            </p:nvSpPr>
            <p:spPr>
              <a:xfrm>
                <a:off x="426708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11480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41936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518148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41008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1008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41900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72392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449568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5791320" y="3429000"/>
              <a:ext cx="1523880" cy="1295280"/>
              <a:chOff x="5791320" y="3429000"/>
              <a:chExt cx="1523880" cy="1295280"/>
            </a:xfrm>
          </p:grpSpPr>
          <p:sp>
            <p:nvSpPr>
              <p:cNvPr id="251" name=""/>
              <p:cNvSpPr/>
              <p:nvPr/>
            </p:nvSpPr>
            <p:spPr>
              <a:xfrm>
                <a:off x="59436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913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0958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68580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866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866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60955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64004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61722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114800" y="3429000"/>
              <a:ext cx="1523880" cy="1295280"/>
              <a:chOff x="4114800" y="3429000"/>
              <a:chExt cx="1523880" cy="1295280"/>
            </a:xfrm>
          </p:grpSpPr>
          <p:sp>
            <p:nvSpPr>
              <p:cNvPr id="261" name=""/>
              <p:cNvSpPr/>
              <p:nvPr/>
            </p:nvSpPr>
            <p:spPr>
              <a:xfrm>
                <a:off x="426708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1480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1936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18148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41008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1008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441900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472392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49568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943600" y="1752480"/>
              <a:ext cx="1523880" cy="1295280"/>
              <a:chOff x="5943600" y="1752480"/>
              <a:chExt cx="1523880" cy="1295280"/>
            </a:xfrm>
          </p:grpSpPr>
          <p:sp>
            <p:nvSpPr>
              <p:cNvPr id="271" name=""/>
              <p:cNvSpPr/>
              <p:nvPr/>
            </p:nvSpPr>
            <p:spPr>
              <a:xfrm>
                <a:off x="6095880" y="190476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943600" y="175248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248160" y="304776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010280" y="297144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38880" y="182880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238880" y="213336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6247800" y="198108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6552720" y="213336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6324480" y="205740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620120" y="228600"/>
              <a:ext cx="1523880" cy="1295280"/>
              <a:chOff x="7620120" y="228600"/>
              <a:chExt cx="1523880" cy="1295280"/>
            </a:xfrm>
          </p:grpSpPr>
          <p:sp>
            <p:nvSpPr>
              <p:cNvPr id="281" name=""/>
              <p:cNvSpPr/>
              <p:nvPr/>
            </p:nvSpPr>
            <p:spPr>
              <a:xfrm>
                <a:off x="7772400" y="3808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20120" y="2286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924680" y="15238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8686800" y="14475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915400" y="3049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915400" y="6094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924320" y="4572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8229240" y="6094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8001000" y="5335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7620120" y="3429000"/>
              <a:ext cx="1523880" cy="1295280"/>
              <a:chOff x="7620120" y="3429000"/>
              <a:chExt cx="1523880" cy="1295280"/>
            </a:xfrm>
          </p:grpSpPr>
          <p:sp>
            <p:nvSpPr>
              <p:cNvPr id="291" name=""/>
              <p:cNvSpPr/>
              <p:nvPr/>
            </p:nvSpPr>
            <p:spPr>
              <a:xfrm>
                <a:off x="7772400" y="3581280"/>
                <a:ext cx="914400" cy="762120"/>
              </a:xfrm>
              <a:prstGeom prst="rect">
                <a:avLst/>
              </a:prstGeom>
              <a:noFill/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620120" y="3429000"/>
                <a:ext cx="1523880" cy="1219320"/>
              </a:xfrm>
              <a:prstGeom prst="rect">
                <a:avLst/>
              </a:prstGeom>
              <a:noFill/>
              <a:ln w="381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924680" y="4724280"/>
                <a:ext cx="762120" cy="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8686800" y="4647960"/>
                <a:ext cx="0" cy="7596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15400" y="3505320"/>
                <a:ext cx="152280" cy="152280"/>
              </a:xfrm>
              <a:prstGeom prst="ellipse">
                <a:avLst/>
              </a:prstGeom>
              <a:noFill/>
              <a:ln w="381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915400" y="3809880"/>
                <a:ext cx="152280" cy="228600"/>
              </a:xfrm>
              <a:prstGeom prst="ellipse">
                <a:avLst/>
              </a:prstGeom>
              <a:noFill/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924320" y="3657600"/>
                <a:ext cx="304920" cy="3049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8229240" y="3809880"/>
                <a:ext cx="304920" cy="38124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8001000" y="3733920"/>
                <a:ext cx="457200" cy="45720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20120" y="1752480"/>
              <a:ext cx="1523880" cy="1295640"/>
              <a:chOff x="7620120" y="1752480"/>
              <a:chExt cx="1523880" cy="129564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7620120" y="1752480"/>
                <a:ext cx="1523880" cy="1295280"/>
                <a:chOff x="7620120" y="1752480"/>
                <a:chExt cx="1523880" cy="12952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77240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62012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92468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868680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91540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891540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H="1">
                  <a:off x="792432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822924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800100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 flipV="1">
                <a:off x="800100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4114800" y="1752480"/>
              <a:ext cx="1523880" cy="1295640"/>
              <a:chOff x="4114800" y="1752480"/>
              <a:chExt cx="1523880" cy="12956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4114800" y="1752480"/>
                <a:ext cx="1523880" cy="1295280"/>
                <a:chOff x="4114800" y="1752480"/>
                <a:chExt cx="1523880" cy="1295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267080" y="1904760"/>
                  <a:ext cx="914400" cy="762120"/>
                </a:xfrm>
                <a:prstGeom prst="rect">
                  <a:avLst/>
                </a:prstGeom>
                <a:noFill/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114800" y="1752480"/>
                  <a:ext cx="1523880" cy="1219320"/>
                </a:xfrm>
                <a:prstGeom prst="rect">
                  <a:avLst/>
                </a:prstGeom>
                <a:noFill/>
                <a:ln w="381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19360" y="3047760"/>
                  <a:ext cx="762120" cy="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5181480" y="2971440"/>
                  <a:ext cx="0" cy="7596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410080" y="1828800"/>
                  <a:ext cx="152280" cy="152280"/>
                </a:xfrm>
                <a:prstGeom prst="ellipse">
                  <a:avLst/>
                </a:prstGeom>
                <a:noFill/>
                <a:ln w="3816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10080" y="2133360"/>
                  <a:ext cx="152280" cy="228600"/>
                </a:xfrm>
                <a:prstGeom prst="ellipse">
                  <a:avLst/>
                </a:prstGeom>
                <a:noFill/>
                <a:ln w="572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419000" y="1981080"/>
                  <a:ext cx="304920" cy="30492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flipH="1">
                  <a:off x="4723920" y="2133360"/>
                  <a:ext cx="304920" cy="38124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>
                  <a:off x="4495680" y="2057400"/>
                  <a:ext cx="457200" cy="457200"/>
                </a:xfrm>
                <a:prstGeom prst="line">
                  <a:avLst/>
                </a:prstGeom>
                <a:ln w="2844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5b524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 flipV="1">
                <a:off x="4495680" y="2971800"/>
                <a:ext cx="0" cy="76320"/>
              </a:xfrm>
              <a:prstGeom prst="line">
                <a:avLst/>
              </a:prstGeom>
              <a:ln w="2844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5b524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4" name=""/>
          <p:cNvGrpSpPr/>
          <p:nvPr/>
        </p:nvGrpSpPr>
        <p:grpSpPr>
          <a:xfrm>
            <a:off x="228600" y="228600"/>
            <a:ext cx="1523880" cy="1295280"/>
            <a:chOff x="228600" y="228600"/>
            <a:chExt cx="1523880" cy="1295280"/>
          </a:xfrm>
        </p:grpSpPr>
        <p:sp>
          <p:nvSpPr>
            <p:cNvPr id="325" name=""/>
            <p:cNvSpPr/>
            <p:nvPr/>
          </p:nvSpPr>
          <p:spPr>
            <a:xfrm>
              <a:off x="380880" y="380880"/>
              <a:ext cx="914400" cy="762120"/>
            </a:xfrm>
            <a:prstGeom prst="rect">
              <a:avLst/>
            </a:prstGeom>
            <a:noFill/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00" y="228600"/>
              <a:ext cx="1523880" cy="1219320"/>
            </a:xfrm>
            <a:prstGeom prst="rect">
              <a:avLst/>
            </a:pr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33160" y="1523880"/>
              <a:ext cx="762120" cy="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1295280" y="1447560"/>
              <a:ext cx="0" cy="7596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04920"/>
              <a:ext cx="152280" cy="152280"/>
            </a:xfrm>
            <a:prstGeom prst="ellipse">
              <a:avLst/>
            </a:prstGeom>
            <a:noFill/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23880" y="609480"/>
              <a:ext cx="152280" cy="22860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2800" y="457200"/>
              <a:ext cx="304920" cy="30492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37720" y="609480"/>
              <a:ext cx="304920" cy="38124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609480" y="533520"/>
              <a:ext cx="457200" cy="457200"/>
            </a:xfrm>
            <a:prstGeom prst="line">
              <a:avLst/>
            </a:prstGeom>
            <a:ln w="284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 flipV="1">
            <a:off x="609480" y="1447560"/>
            <a:ext cx="0" cy="75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5562720"/>
            <a:ext cx="609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7  + (    )  =  (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43400" y="563868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9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38680" y="56386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AN02479_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0" name="AN02479_" descr=""/>
          <p:cNvPicPr/>
          <p:nvPr/>
        </p:nvPicPr>
        <p:blipFill>
          <a:blip r:embed="rId3"/>
          <a:stretch/>
        </p:blipFill>
        <p:spPr>
          <a:xfrm>
            <a:off x="228600" y="14479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1" name="AN02479_" descr=""/>
          <p:cNvPicPr/>
          <p:nvPr/>
        </p:nvPicPr>
        <p:blipFill>
          <a:blip r:embed="rId4"/>
          <a:stretch/>
        </p:blipFill>
        <p:spPr>
          <a:xfrm>
            <a:off x="228600" y="28195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2" name="AN02479_" descr=""/>
          <p:cNvPicPr/>
          <p:nvPr/>
        </p:nvPicPr>
        <p:blipFill>
          <a:blip r:embed="rId5"/>
          <a:stretch/>
        </p:blipFill>
        <p:spPr>
          <a:xfrm>
            <a:off x="228600" y="4191120"/>
            <a:ext cx="1633680" cy="1218960"/>
          </a:xfrm>
          <a:prstGeom prst="rect">
            <a:avLst/>
          </a:prstGeom>
          <a:ln w="0">
            <a:noFill/>
          </a:ln>
        </p:spPr>
      </p:pic>
      <p:pic>
        <p:nvPicPr>
          <p:cNvPr id="343" name="AN02479_" descr=""/>
          <p:cNvPicPr/>
          <p:nvPr/>
        </p:nvPicPr>
        <p:blipFill>
          <a:blip r:embed="rId6"/>
          <a:stretch/>
        </p:blipFill>
        <p:spPr>
          <a:xfrm>
            <a:off x="228600" y="5638680"/>
            <a:ext cx="1633680" cy="1219320"/>
          </a:xfrm>
          <a:prstGeom prst="rect">
            <a:avLst/>
          </a:prstGeom>
          <a:ln w="0">
            <a:noFill/>
          </a:ln>
        </p:spPr>
      </p:pic>
      <p:pic>
        <p:nvPicPr>
          <p:cNvPr id="344" name="AN02479_" descr=""/>
          <p:cNvPicPr/>
          <p:nvPr/>
        </p:nvPicPr>
        <p:blipFill>
          <a:blip r:embed="rId7"/>
          <a:stretch/>
        </p:blipFill>
        <p:spPr>
          <a:xfrm>
            <a:off x="1905120" y="4419720"/>
            <a:ext cx="1633320" cy="1218960"/>
          </a:xfrm>
          <a:prstGeom prst="rect">
            <a:avLst/>
          </a:prstGeom>
          <a:ln w="0">
            <a:noFill/>
          </a:ln>
        </p:spPr>
      </p:pic>
      <p:pic>
        <p:nvPicPr>
          <p:cNvPr id="345" name="AN02479_" descr=""/>
          <p:cNvPicPr/>
          <p:nvPr/>
        </p:nvPicPr>
        <p:blipFill>
          <a:blip r:embed="rId8"/>
          <a:stretch/>
        </p:blipFill>
        <p:spPr>
          <a:xfrm>
            <a:off x="1905120" y="29718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6" name="AN02479_" descr=""/>
          <p:cNvPicPr/>
          <p:nvPr/>
        </p:nvPicPr>
        <p:blipFill>
          <a:blip r:embed="rId9"/>
          <a:stretch/>
        </p:blipFill>
        <p:spPr>
          <a:xfrm>
            <a:off x="1905120" y="1600200"/>
            <a:ext cx="1633320" cy="1219320"/>
          </a:xfrm>
          <a:prstGeom prst="rect">
            <a:avLst/>
          </a:prstGeom>
          <a:ln w="0">
            <a:noFill/>
          </a:ln>
        </p:spPr>
      </p:pic>
      <p:pic>
        <p:nvPicPr>
          <p:cNvPr id="347" name="AN02479_" descr=""/>
          <p:cNvPicPr/>
          <p:nvPr/>
        </p:nvPicPr>
        <p:blipFill>
          <a:blip r:embed="rId10"/>
          <a:stretch/>
        </p:blipFill>
        <p:spPr>
          <a:xfrm>
            <a:off x="1905120" y="228600"/>
            <a:ext cx="1633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5410080" y="228600"/>
            <a:ext cx="3733920" cy="3962520"/>
            <a:chOff x="5410080" y="228600"/>
            <a:chExt cx="3733920" cy="3962520"/>
          </a:xfrm>
        </p:grpSpPr>
        <p:pic>
          <p:nvPicPr>
            <p:cNvPr id="349" name="AN02479_" descr=""/>
            <p:cNvPicPr/>
            <p:nvPr/>
          </p:nvPicPr>
          <p:blipFill>
            <a:blip r:embed="rId11"/>
            <a:stretch/>
          </p:blipFill>
          <p:spPr>
            <a:xfrm>
              <a:off x="5410080" y="2971800"/>
              <a:ext cx="1633680" cy="121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0" name=""/>
            <p:cNvGrpSpPr/>
            <p:nvPr/>
          </p:nvGrpSpPr>
          <p:grpSpPr>
            <a:xfrm>
              <a:off x="5410080" y="228600"/>
              <a:ext cx="3733920" cy="2590920"/>
              <a:chOff x="5410080" y="228600"/>
              <a:chExt cx="3733920" cy="2590920"/>
            </a:xfrm>
          </p:grpSpPr>
          <p:pic>
            <p:nvPicPr>
              <p:cNvPr id="351" name="AN02479_" descr=""/>
              <p:cNvPicPr/>
              <p:nvPr/>
            </p:nvPicPr>
            <p:blipFill>
              <a:blip r:embed="rId12"/>
              <a:stretch/>
            </p:blipFill>
            <p:spPr>
              <a:xfrm>
                <a:off x="751032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AN02479_" descr=""/>
              <p:cNvPicPr/>
              <p:nvPr/>
            </p:nvPicPr>
            <p:blipFill>
              <a:blip r:embed="rId13"/>
              <a:stretch/>
            </p:blipFill>
            <p:spPr>
              <a:xfrm>
                <a:off x="5410080" y="16002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AN02479_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1008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AN02479_" descr=""/>
              <p:cNvPicPr/>
              <p:nvPr/>
            </p:nvPicPr>
            <p:blipFill>
              <a:blip r:embed="rId15"/>
              <a:stretch/>
            </p:blipFill>
            <p:spPr>
              <a:xfrm>
                <a:off x="7510320" y="228600"/>
                <a:ext cx="1633680" cy="121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"/>
          <p:cNvSpPr/>
          <p:nvPr/>
        </p:nvSpPr>
        <p:spPr>
          <a:xfrm>
            <a:off x="0" y="228600"/>
            <a:ext cx="3809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3657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114800" y="4800600"/>
            <a:ext cx="5029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9   +  5   =    (       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162920" y="4876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3915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b5249"/>
                </a:solidFill>
                <a:latin typeface="Times New Roman"/>
              </a:rPr>
              <a:t>下一页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352320" y="-33526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7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-173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1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2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3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4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5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6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7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8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 9 = (     )</a:t>
            </a:r>
            <a:br>
              <a:rPr sz="4000"/>
            </a:b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9  + 10 =(     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17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38680" y="4572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15000" y="15238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15000" y="106668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0574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05520" y="25909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32004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7339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10080" y="426708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48769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54100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c164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32120" y="198360"/>
            <a:ext cx="3548880" cy="2296440"/>
            <a:chOff x="132120" y="198360"/>
            <a:chExt cx="3548880" cy="2296440"/>
          </a:xfrm>
        </p:grpSpPr>
        <p:sp>
          <p:nvSpPr>
            <p:cNvPr id="374" name=""/>
            <p:cNvSpPr/>
            <p:nvPr/>
          </p:nvSpPr>
          <p:spPr>
            <a:xfrm rot="20730000">
              <a:off x="228240" y="837720"/>
              <a:ext cx="3262320" cy="1152720"/>
            </a:xfrm>
            <a:prstGeom prst="cloudCallout">
              <a:avLst>
                <a:gd name="adj1" fmla="val -63782"/>
                <a:gd name="adj2" fmla="val 88930"/>
              </a:avLst>
            </a:prstGeom>
            <a:solidFill>
              <a:srgbClr val="f1f3d9"/>
            </a:solidFill>
            <a:ln w="3492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0335800">
              <a:off x="230040" y="761760"/>
              <a:ext cx="33526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你发现了什么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2a3d7a"/>
                  </a:solidFill>
                  <a:latin typeface="Times New Roman"/>
                  <a:ea typeface="华文隶书"/>
                </a:rPr>
                <a:t>规律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8229600" y="63244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866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1%20副本" descr=""/>
          <p:cNvPicPr/>
          <p:nvPr/>
        </p:nvPicPr>
        <p:blipFill>
          <a:blip r:embed="rId2"/>
          <a:stretch/>
        </p:blipFill>
        <p:spPr>
          <a:xfrm>
            <a:off x="1752480" y="-1295280"/>
            <a:ext cx="5105520" cy="8153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 rot="20791200">
            <a:off x="228240" y="1066680"/>
            <a:ext cx="2133720" cy="10670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15000" y="4038480"/>
            <a:ext cx="1981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-76320" y="5715000"/>
            <a:ext cx="22100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2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572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7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066680" y="350532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6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752480" y="2438280"/>
            <a:ext cx="228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9+8=</a:t>
            </a: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781680" y="57913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2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45720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7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3429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6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2438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8+9=</a:t>
            </a:r>
            <a:r>
              <a:rPr b="0" lang="zh-CN" sz="4400" spc="-1" strike="noStrike">
                <a:solidFill>
                  <a:srgbClr val="6699ff"/>
                </a:solidFill>
                <a:latin typeface="Times New Roman"/>
              </a:rPr>
              <a:t>（ 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304920"/>
            <a:ext cx="1752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20826600">
            <a:off x="228600" y="1219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  <a:ea typeface="Arial Unicode MS"/>
              </a:rPr>
              <a:t>夺红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57913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13372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24080" y="243828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5867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080" y="45720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95880" y="251460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151320" y="228600"/>
            <a:ext cx="3013920" cy="1219320"/>
            <a:chOff x="6151320" y="228600"/>
            <a:chExt cx="3013920" cy="1219320"/>
          </a:xfrm>
        </p:grpSpPr>
        <p:sp>
          <p:nvSpPr>
            <p:cNvPr id="400" name=""/>
            <p:cNvSpPr/>
            <p:nvPr/>
          </p:nvSpPr>
          <p:spPr>
            <a:xfrm>
              <a:off x="6245280" y="228600"/>
              <a:ext cx="2895480" cy="1219320"/>
            </a:xfrm>
            <a:prstGeom prst="cloudCallout">
              <a:avLst>
                <a:gd name="adj1" fmla="val -19078"/>
                <a:gd name="adj2" fmla="val 78777"/>
              </a:avLst>
            </a:prstGeom>
            <a:solidFill>
              <a:srgbClr val="ffcc99"/>
            </a:solidFill>
            <a:ln w="3168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1157200">
              <a:off x="6172200" y="5331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20306"/>
                  </a:solidFill>
                  <a:latin typeface="Times New Roman"/>
                  <a:ea typeface="华文隶书"/>
                </a:rPr>
                <a:t>你发现了什么吗？</a:t>
              </a:r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8458200" y="6629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3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7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9+8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6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5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4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br>
              <a:rPr sz="4400"/>
            </a:b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10+9=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2 +9=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（    ）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29000" y="1371600"/>
            <a:ext cx="533520" cy="2362320"/>
          </a:xfrm>
          <a:prstGeom prst="flowChartMagnetic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762120" y="0"/>
            <a:ext cx="4190760" cy="1523880"/>
            <a:chOff x="762120" y="0"/>
            <a:chExt cx="4190760" cy="1523880"/>
          </a:xfrm>
        </p:grpSpPr>
        <p:sp>
          <p:nvSpPr>
            <p:cNvPr id="406" name=""/>
            <p:cNvSpPr/>
            <p:nvPr/>
          </p:nvSpPr>
          <p:spPr>
            <a:xfrm>
              <a:off x="762120" y="0"/>
              <a:ext cx="4190760" cy="1523880"/>
            </a:xfrm>
            <a:prstGeom prst="cloudCallout">
              <a:avLst>
                <a:gd name="adj1" fmla="val -43865"/>
                <a:gd name="adj2" fmla="val 76041"/>
              </a:avLst>
            </a:prstGeom>
            <a:solidFill>
              <a:srgbClr val="cc99ff"/>
            </a:solidFill>
            <a:ln w="28440">
              <a:solidFill>
                <a:srgbClr val="2a3d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66680" y="380880"/>
              <a:ext cx="373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00"/>
                  </a:solidFill>
                  <a:latin typeface="Times New Roman"/>
                  <a:ea typeface="华文隶书"/>
                </a:rPr>
                <a:t>你会算了吗？</a:t>
              </a:r>
              <a:endParaRPr b="0" lang="en-US" sz="4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09680" y="20574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10080" y="213372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274320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791320" y="2819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23880" y="342900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4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791320" y="342900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2819160" y="4114800"/>
            <a:ext cx="1447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791320" y="41148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22f02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90920" y="4952880"/>
            <a:ext cx="6553080" cy="1905120"/>
            <a:chOff x="2590920" y="4952880"/>
            <a:chExt cx="6553080" cy="1905120"/>
          </a:xfrm>
        </p:grpSpPr>
        <p:sp>
          <p:nvSpPr>
            <p:cNvPr id="417" name=""/>
            <p:cNvSpPr/>
            <p:nvPr/>
          </p:nvSpPr>
          <p:spPr>
            <a:xfrm>
              <a:off x="2590920" y="4952880"/>
              <a:ext cx="5410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600" spc="-1" strike="noStrike">
                  <a:solidFill>
                    <a:srgbClr val="008000"/>
                  </a:solidFill>
                  <a:latin typeface="Times New Roman"/>
                  <a:ea typeface="华文隶书"/>
                </a:rPr>
                <a:t>真  棒  ！</a:t>
              </a:r>
              <a:endParaRPr b="0" lang="en-US" sz="9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pic>
          <p:nvPicPr>
            <p:cNvPr id="418" name="PE01832_" descr=""/>
            <p:cNvPicPr/>
            <p:nvPr/>
          </p:nvPicPr>
          <p:blipFill>
            <a:blip r:embed="rId2"/>
            <a:stretch/>
          </p:blipFill>
          <p:spPr>
            <a:xfrm>
              <a:off x="7162920" y="5105520"/>
              <a:ext cx="198108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9" name="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b5249"/>
                </a:solidFill>
                <a:latin typeface="Times New Roman"/>
              </a:rPr>
              <a:t>回到首页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14:22Z</dcterms:created>
  <dc:creator>双语学校</dc:creator>
  <dc:description/>
  <dc:language>en-US</dc:language>
  <cp:lastModifiedBy>Roberto</cp:lastModifiedBy>
  <dcterms:modified xsi:type="dcterms:W3CDTF">2002-11-19T05:00:34Z</dcterms:modified>
  <cp:revision>39</cp:revision>
  <dc:subject/>
  <dc:title>一、口算。                                    10+5=（  ）  10+3=（  ）                        10+8=（  ）     9+10=（  ）    二、填空。 9+1+6=（  ） 9+1+7=（  ）   三、分一分。 10 </dc:title>
</cp:coreProperties>
</file>