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76E-FE79-4B5B-9C28-4AC4485D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56E-61B5-42A3-954B-85B7A45B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CFA-7558-4F96-9879-76C70A8A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04D-B896-4902-832C-4DC70E2F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0C0-DAD0-4D66-83C0-83D7304C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504-0632-4244-AF0B-3BF35CD0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4F7-54C5-409D-887D-CE52281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2E9-C87A-4DC4-BBEF-A43E76D6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F19-82CA-4C21-929F-78E2875B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581-1662-4C1C-BE8F-0F86C768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BC9-63A2-495A-A3B6-A249A9D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A4A-7D08-49C1-8F45-D430C490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E960-5644-4F6A-AED6-74A9B5777A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rderpic.com/cn/search/8014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derpic.com/cn/search/7936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orderpic.com/cn/search/79367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0212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1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31280" y="457200"/>
            <a:ext cx="10036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ff"/>
                </a:solidFill>
                <a:latin typeface="华文行楷"/>
                <a:ea typeface="华文行楷"/>
              </a:rPr>
              <a:t>A   Perfect   Da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590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many times do we hav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rase “perfect day” in the poem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rd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14065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999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304920"/>
            <a:ext cx="46483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_ you            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it’s now _______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ears are falling from my     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irl3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85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39680"/>
            <a:ext cx="61722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a big big girl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a big big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ot a big big 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at I do do will miss you much,miss you m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your arms _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oh like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when I open my e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re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324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ing" descr=""/>
          <p:cNvPicPr/>
          <p:nvPr/>
        </p:nvPicPr>
        <p:blipFill>
          <a:blip r:embed="rId2"/>
          <a:stretch/>
        </p:blipFill>
        <p:spPr>
          <a:xfrm>
            <a:off x="6858000" y="50720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3400" y="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a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yo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 do do will miss you much,miss you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rls2" descr=""/>
          <p:cNvPicPr/>
          <p:nvPr/>
        </p:nvPicPr>
        <p:blipFill>
          <a:blip r:embed="rId2"/>
          <a:stretch/>
        </p:blipFill>
        <p:spPr>
          <a:xfrm>
            <a:off x="5867280" y="5649840"/>
            <a:ext cx="242748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80133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45720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I do do will mis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uch,miss you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134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8260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801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8305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oo</a:t>
            </a:r>
            <a:r>
              <a:rPr b="1" lang="zh-CN" sz="25000" spc="-1" strike="noStrike">
                <a:solidFill>
                  <a:srgbClr val="ffffff"/>
                </a:solidFill>
                <a:latin typeface="华文行楷"/>
                <a:ea typeface="华文行楷"/>
              </a:rPr>
              <a:t>D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15000" spc="-1" strike="noStrike">
                <a:solidFill>
                  <a:srgbClr val="ffffff"/>
                </a:solidFill>
                <a:latin typeface="Monotype Corsiva"/>
                <a:ea typeface="方正舒体"/>
              </a:rPr>
              <a:t>y</a:t>
            </a:r>
            <a:r>
              <a:rPr b="1" lang="zh-CN" sz="9600" spc="-1" strike="noStrike">
                <a:solidFill>
                  <a:srgbClr val="ffffff"/>
                </a:solidFill>
                <a:latin typeface="华文彩云"/>
                <a:ea typeface="华文彩云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2296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  Perfect   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Monotype Corsiva"/>
                <a:ea typeface="方正舒体"/>
              </a:rPr>
              <a:t>by Carrie Jacobs-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you come to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you sit alone with your th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ile the chimes ring out with a carol 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the joy that the day has br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Do you think what the end of a perfec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Can mean to a tired he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the sun goes down with a flaming 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the dear friends have to 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ell,this is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ear the end of  a journey to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ut it leaves a thought that is big and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a wish that is kind and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memory has painted this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colours that never fa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we find at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 soul of a friend we’v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2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female2" descr=""/>
          <p:cNvPicPr/>
          <p:nvPr/>
        </p:nvPicPr>
        <p:blipFill>
          <a:blip r:embed="rId3"/>
          <a:stretch/>
        </p:blipFill>
        <p:spPr>
          <a:xfrm>
            <a:off x="7162920" y="5668920"/>
            <a:ext cx="198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480"/>
            <a:ext cx="89154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好的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美好的日子即将流过，                  啊，这是一个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沉思着独自静坐；                          也是一次旅行的了结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钟声伴随着快乐的颂歌响起，      但它留下了强烈的思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了这美好日子带来的快乐；          还有那亲切而真诚的祝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太阳带着红霞西沉，                      这美好日子的回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亲爱的朋友你又得奔波，                  永不消退，永远新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曾想到对于一颗疲惫的心，      我们在这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美好日子的结束会意味着什么？  看到了朋友的神圣的心田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828800"/>
            <a:ext cx="7772400" cy="438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 Is this at the beginning of a day or at the end of a da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 Is the writer alone or with                                someon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 Is the writer meeting someone or saying goodbye to some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80880"/>
            <a:ext cx="19868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30800" y="5791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105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y/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4120" y="46483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th colours that never f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80" y="4114800"/>
            <a:ext cx="76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With colours that will never become less b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600" y="365760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en the sun goes down with a flaming 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281952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When the light from the sun going down looks like      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 While the bells ring out with a happy song being 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5029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 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867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  Say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Find the words or phrases in the poem which mean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286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ile the chimes ring out with a carol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914400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Monotype Corsiva"/>
              </a:rPr>
              <a:t>by Thomas Nas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, the sweet spring, is the year’s pleasant k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n blooms each thing, then maids dance in a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ld doth not sting, the pretty birds do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palm and may make country houses g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Lambs frisk and play,the shepherds pipe all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we hear ay birds tune this merry 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jug-jug, pu-we, 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fields breathe sweet, the daisies kiss our f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oung lovers meet, old wives a-sunning s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every street these tunes our ears do g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! The sweet Sp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L55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81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348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0130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163980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Stopping by Woods on a Snow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cc99"/>
                </a:solidFill>
                <a:latin typeface="Monotype Corsiva"/>
              </a:rPr>
              <a:t>by Robert 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Whose woods these are I think I know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 gives his harness bells a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ouse i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in the village, though;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o ask if there is som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e will not see me stopping here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only other sound’s the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watch his woods fill up with snow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 easy wind and downy f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My little horse must think it queer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woods are lovely,dark,and deep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stop without a farmhouse near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ut I have promises to k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Between the woods and frozen lake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he darkness evening of the year.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600" spc="-1" strike="noStrike">
                <a:solidFill>
                  <a:srgbClr val="3333ff"/>
                </a:solidFill>
                <a:latin typeface="Monotype Corsiva"/>
              </a:rPr>
              <a:t>Big Big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 worl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880"/>
            <a:ext cx="19051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d22" descr=""/>
          <p:cNvPicPr/>
          <p:nvPr/>
        </p:nvPicPr>
        <p:blipFill>
          <a:blip r:embed="rId2"/>
          <a:stretch/>
        </p:blipFill>
        <p:spPr>
          <a:xfrm>
            <a:off x="0" y="568656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dance2" descr=""/>
          <p:cNvPicPr/>
          <p:nvPr/>
        </p:nvPicPr>
        <p:blipFill>
          <a:blip r:embed="rId3"/>
          <a:stretch/>
        </p:blipFill>
        <p:spPr>
          <a:xfrm>
            <a:off x="3809880" y="5734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812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L4913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380880"/>
            <a:ext cx="4267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 you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see the first leaves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ll so yellow and n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o very cold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he way I’m feeling 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" descr=""/>
          <p:cNvPicPr/>
          <p:nvPr/>
        </p:nvPicPr>
        <p:blipFill>
          <a:blip r:embed="rId2"/>
          <a:stretch/>
        </p:blipFill>
        <p:spPr>
          <a:xfrm>
            <a:off x="2133720" y="6066000"/>
            <a:ext cx="548640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59:02Z</dcterms:created>
  <dc:creator>hh</dc:creator>
  <dc:description/>
  <dc:language>en-US</dc:language>
  <cp:lastModifiedBy>hh</cp:lastModifiedBy>
  <dcterms:modified xsi:type="dcterms:W3CDTF">2002-05-23T07:28:07Z</dcterms:modified>
  <cp:revision>38</cp:revision>
  <dc:subject/>
  <dc:title>PowerPoint 演示文稿</dc:title>
</cp:coreProperties>
</file>