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9770-5ACD-4D09-8D47-820EF069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AC2F-7A5D-40F3-A883-D6EBDF7E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6793-41FB-41E8-A22B-F77C1FF7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54A8-D64D-4C76-942F-95C086EFF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188C-A2FE-43CA-BAC2-6D91E2F0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534D-7887-42C1-8666-75339F9A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7785-27FC-4B1B-AD75-1C8A2824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97C4-0512-4A54-A4C9-24AC71EA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5A25-6CC8-4FF1-BA01-CDE6E32D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E844-F9AA-4279-BEEC-E75285BF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F67A-4EF4-46F6-9C18-5D4E7839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A8B4-7917-4562-8C87-C538DE32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B4C9-0B28-4AD8-A020-028F064A4D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pn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9320" y="554040"/>
            <a:ext cx="210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北  京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588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天安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60958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柏油马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60958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立交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609588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名胜古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0958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读读记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9880" y="609588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认读词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304920"/>
            <a:ext cx="861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读一读，记一记。再用下面的词语说两三句话，能用几个用几个。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华文中宋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20040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绿树成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32004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鲜花盛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320040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风景优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449568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名胜古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43600" y="449568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高楼大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449568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来来往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8153280" y="624852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03480" y="169848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中央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03480" y="167652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黄瓦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03480" y="167652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庄严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35360" y="173664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宽阔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42360" y="1828800"/>
            <a:ext cx="4752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纪念碑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27520" y="175248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周围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27520" y="175248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似的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03480" y="175248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拼图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03480" y="182880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图案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79800" y="182880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花坛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03480" y="182880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古迹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44520" y="2241720"/>
            <a:ext cx="505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高楼大厦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8153280" y="624852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0"/>
            <a:ext cx="10210680" cy="8153280"/>
            <a:chOff x="0" y="0"/>
            <a:chExt cx="10210680" cy="8153280"/>
          </a:xfrm>
        </p:grpSpPr>
        <p:pic>
          <p:nvPicPr>
            <p:cNvPr id="100" name="sqkq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0210680" cy="815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091880" y="380880"/>
              <a:ext cx="237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十七孔桥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-457200" y="-380880"/>
            <a:ext cx="10515600" cy="8076960"/>
            <a:chOff x="-457200" y="-380880"/>
            <a:chExt cx="10515600" cy="8076960"/>
          </a:xfrm>
        </p:grpSpPr>
        <p:pic>
          <p:nvPicPr>
            <p:cNvPr id="103" name="yhy1" descr=""/>
            <p:cNvPicPr/>
            <p:nvPr/>
          </p:nvPicPr>
          <p:blipFill>
            <a:blip r:embed="rId2"/>
            <a:stretch/>
          </p:blipFill>
          <p:spPr>
            <a:xfrm>
              <a:off x="-457200" y="-380880"/>
              <a:ext cx="10515600" cy="807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831960" y="-23760"/>
              <a:ext cx="2192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颐和园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-609480" y="-533520"/>
            <a:ext cx="10591200" cy="8153280"/>
            <a:chOff x="-609480" y="-533520"/>
            <a:chExt cx="10591200" cy="8153280"/>
          </a:xfrm>
        </p:grpSpPr>
        <p:pic>
          <p:nvPicPr>
            <p:cNvPr id="106" name="长城2" descr=""/>
            <p:cNvPicPr/>
            <p:nvPr/>
          </p:nvPicPr>
          <p:blipFill>
            <a:blip r:embed="rId3"/>
            <a:stretch/>
          </p:blipFill>
          <p:spPr>
            <a:xfrm>
              <a:off x="-609480" y="-533520"/>
              <a:ext cx="5190480" cy="398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长城1" descr=""/>
            <p:cNvPicPr/>
            <p:nvPr/>
          </p:nvPicPr>
          <p:blipFill>
            <a:blip r:embed="rId4"/>
            <a:stretch/>
          </p:blipFill>
          <p:spPr>
            <a:xfrm>
              <a:off x="4581000" y="-533520"/>
              <a:ext cx="5400720" cy="393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长城3" descr=""/>
            <p:cNvPicPr/>
            <p:nvPr/>
          </p:nvPicPr>
          <p:blipFill>
            <a:blip r:embed="rId5"/>
            <a:stretch/>
          </p:blipFill>
          <p:spPr>
            <a:xfrm>
              <a:off x="-609480" y="3413160"/>
              <a:ext cx="5120280" cy="393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长城4" descr=""/>
            <p:cNvPicPr/>
            <p:nvPr/>
          </p:nvPicPr>
          <p:blipFill>
            <a:blip r:embed="rId6"/>
            <a:stretch/>
          </p:blipFill>
          <p:spPr>
            <a:xfrm>
              <a:off x="4510800" y="3413160"/>
              <a:ext cx="5470920" cy="42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121200" y="3341160"/>
              <a:ext cx="2863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长　城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-685800" y="-609480"/>
            <a:ext cx="10972800" cy="8458200"/>
            <a:chOff x="-685800" y="-609480"/>
            <a:chExt cx="10972800" cy="8458200"/>
          </a:xfrm>
        </p:grpSpPr>
        <p:pic>
          <p:nvPicPr>
            <p:cNvPr id="112" name="gg" descr=""/>
            <p:cNvPicPr/>
            <p:nvPr/>
          </p:nvPicPr>
          <p:blipFill>
            <a:blip r:embed="rId7"/>
            <a:stretch/>
          </p:blipFill>
          <p:spPr>
            <a:xfrm>
              <a:off x="-685800" y="-609480"/>
              <a:ext cx="10972800" cy="845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42080" y="-57960"/>
              <a:ext cx="1643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故宫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-685800" y="-533520"/>
            <a:ext cx="11049120" cy="8458200"/>
            <a:chOff x="-685800" y="-533520"/>
            <a:chExt cx="11049120" cy="8458200"/>
          </a:xfrm>
        </p:grpSpPr>
        <p:pic>
          <p:nvPicPr>
            <p:cNvPr id="115" name="xs" descr=""/>
            <p:cNvPicPr/>
            <p:nvPr/>
          </p:nvPicPr>
          <p:blipFill>
            <a:blip r:embed="rId8">
              <a:lum contrast="24000"/>
            </a:blip>
            <a:stretch/>
          </p:blipFill>
          <p:spPr>
            <a:xfrm>
              <a:off x="-685800" y="-533520"/>
              <a:ext cx="11049120" cy="845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060800" y="-78120"/>
              <a:ext cx="28630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香山秋景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-838080" y="-685800"/>
            <a:ext cx="11125080" cy="8610480"/>
            <a:chOff x="-838080" y="-685800"/>
            <a:chExt cx="11125080" cy="8610480"/>
          </a:xfrm>
        </p:grpSpPr>
        <p:pic>
          <p:nvPicPr>
            <p:cNvPr id="118" name="tt1" descr=""/>
            <p:cNvPicPr/>
            <p:nvPr/>
          </p:nvPicPr>
          <p:blipFill>
            <a:blip r:embed="rId9"/>
            <a:stretch/>
          </p:blipFill>
          <p:spPr>
            <a:xfrm>
              <a:off x="-838080" y="-685800"/>
              <a:ext cx="11125080" cy="861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902880" y="431280"/>
              <a:ext cx="1643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天坛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-914400" y="-685800"/>
            <a:ext cx="10744200" cy="8077320"/>
            <a:chOff x="-914400" y="-685800"/>
            <a:chExt cx="10744200" cy="8077320"/>
          </a:xfrm>
        </p:grpSpPr>
        <p:pic>
          <p:nvPicPr>
            <p:cNvPr id="121" name="王府井大街1" descr=""/>
            <p:cNvPicPr/>
            <p:nvPr/>
          </p:nvPicPr>
          <p:blipFill>
            <a:blip r:embed="rId10"/>
            <a:stretch/>
          </p:blipFill>
          <p:spPr>
            <a:xfrm>
              <a:off x="-914400" y="-685800"/>
              <a:ext cx="10744200" cy="807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53520" y="504360"/>
              <a:ext cx="1601640" cy="37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王府井大街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-380880" y="-380880"/>
            <a:ext cx="10134360" cy="7696080"/>
            <a:chOff x="-380880" y="-380880"/>
            <a:chExt cx="10134360" cy="7696080"/>
          </a:xfrm>
        </p:grpSpPr>
        <p:pic>
          <p:nvPicPr>
            <p:cNvPr id="124" name="圆明园2" descr=""/>
            <p:cNvPicPr/>
            <p:nvPr/>
          </p:nvPicPr>
          <p:blipFill>
            <a:blip r:embed="rId11"/>
            <a:stretch/>
          </p:blipFill>
          <p:spPr>
            <a:xfrm>
              <a:off x="-380880" y="-380880"/>
              <a:ext cx="10134360" cy="769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7801560" y="-51840"/>
              <a:ext cx="117180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Times New Roman"/>
                </a:rPr>
                <a:t>圆明园遗址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-457200" y="-380880"/>
            <a:ext cx="10363320" cy="7520040"/>
            <a:chOff x="-457200" y="-380880"/>
            <a:chExt cx="10363320" cy="7520040"/>
          </a:xfrm>
        </p:grpSpPr>
        <p:pic>
          <p:nvPicPr>
            <p:cNvPr id="127" name="孔庙" descr=""/>
            <p:cNvPicPr/>
            <p:nvPr/>
          </p:nvPicPr>
          <p:blipFill>
            <a:blip r:embed="rId12"/>
            <a:stretch/>
          </p:blipFill>
          <p:spPr>
            <a:xfrm>
              <a:off x="-457200" y="-380880"/>
              <a:ext cx="10363320" cy="752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6213960" y="5278320"/>
              <a:ext cx="1643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000000"/>
                  </a:solidFill>
                  <a:latin typeface="Times New Roman"/>
                  <a:ea typeface="方正姚体"/>
                </a:rPr>
                <a:t>孔庙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-457200" y="-380880"/>
            <a:ext cx="10210680" cy="7238880"/>
            <a:chOff x="-457200" y="-380880"/>
            <a:chExt cx="10210680" cy="7238880"/>
          </a:xfrm>
        </p:grpSpPr>
        <p:pic>
          <p:nvPicPr>
            <p:cNvPr id="130" name="颐和园2" descr=""/>
            <p:cNvPicPr/>
            <p:nvPr/>
          </p:nvPicPr>
          <p:blipFill>
            <a:blip r:embed="rId13"/>
            <a:stretch/>
          </p:blipFill>
          <p:spPr>
            <a:xfrm>
              <a:off x="-457200" y="-380880"/>
              <a:ext cx="10210680" cy="72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431720" y="0"/>
              <a:ext cx="2692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3399ff"/>
                  </a:solidFill>
                  <a:latin typeface="方正姚体"/>
                  <a:ea typeface="方正姚体"/>
                </a:rPr>
                <a:t>颐和园 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5720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8406"/>
                </a:moveTo>
                <a:lnTo>
                  <a:pt x="13630" y="8406"/>
                </a:lnTo>
                <a:lnTo>
                  <a:pt x="18052" y="3794"/>
                </a:lnTo>
                <a:lnTo>
                  <a:pt x="18052" y="17806"/>
                </a:lnTo>
                <a:lnTo>
                  <a:pt x="13630" y="13194"/>
                </a:lnTo>
                <a:lnTo>
                  <a:pt x="9200" y="13194"/>
                </a:lnTo>
                <a:close/>
              </a:path>
              <a:path fill="darken" w="32413" h="21600">
                <a:moveTo>
                  <a:pt x="19705" y="10800"/>
                </a:moveTo>
                <a:lnTo>
                  <a:pt x="23213" y="10800"/>
                </a:lnTo>
              </a:path>
              <a:path fill="darken" w="32413" h="21600">
                <a:moveTo>
                  <a:pt x="19705" y="8406"/>
                </a:moveTo>
                <a:lnTo>
                  <a:pt x="23213" y="5639"/>
                </a:lnTo>
              </a:path>
              <a:path fill="darken" w="32413" h="21600">
                <a:moveTo>
                  <a:pt x="19705" y="13194"/>
                </a:moveTo>
                <a:lnTo>
                  <a:pt x="23213" y="15961"/>
                </a:lnTo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48720" y="601992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59320" y="554040"/>
            <a:ext cx="210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北  京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609480" y="609588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天安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1143000" y="60958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柏油马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4" action="ppaction://hlinksldjump"/>
          </p:cNvPr>
          <p:cNvSpPr/>
          <p:nvPr/>
        </p:nvSpPr>
        <p:spPr>
          <a:xfrm>
            <a:off x="1828800" y="60958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立交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609588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名胜古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5" action="ppaction://hlinksldjump"/>
          </p:cNvPr>
          <p:cNvSpPr/>
          <p:nvPr/>
        </p:nvSpPr>
        <p:spPr>
          <a:xfrm>
            <a:off x="3124080" y="60958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读读记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6" action="ppaction://hlinksldjump"/>
          </p:cNvPr>
          <p:cNvSpPr/>
          <p:nvPr/>
        </p:nvSpPr>
        <p:spPr>
          <a:xfrm>
            <a:off x="3809880" y="609588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认读词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2133720" y="0"/>
            <a:ext cx="11277360" cy="6858000"/>
            <a:chOff x="-2133720" y="0"/>
            <a:chExt cx="11277360" cy="6858000"/>
          </a:xfrm>
        </p:grpSpPr>
        <p:pic>
          <p:nvPicPr>
            <p:cNvPr id="56" name="Wsv009" descr=""/>
            <p:cNvPicPr/>
            <p:nvPr/>
          </p:nvPicPr>
          <p:blipFill>
            <a:blip r:embed="rId1"/>
            <a:stretch/>
          </p:blipFill>
          <p:spPr>
            <a:xfrm>
              <a:off x="3035160" y="0"/>
              <a:ext cx="61084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-2133720" y="0"/>
              <a:ext cx="51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52280" y="60948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天安门在北京城的中央，红墙、黄瓦，又庄严，又美丽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天安门1" descr=""/>
          <p:cNvPicPr/>
          <p:nvPr/>
        </p:nvPicPr>
        <p:blipFill>
          <a:blip r:embed="rId1"/>
          <a:stretch/>
        </p:blipFill>
        <p:spPr>
          <a:xfrm>
            <a:off x="457200" y="0"/>
            <a:ext cx="8305920" cy="5846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580536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天安门前面是宽阔的广场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人民英雄纪念碑1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562720" y="114300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广场中间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矗立着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民英雄纪念碑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153280" y="624852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0" y="0"/>
          <a:ext cx="4724280" cy="43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72428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52280" y="4724280"/>
            <a:ext cx="899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北京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有许多又宽又长的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柏油马路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724280" y="0"/>
          <a:ext cx="4419720" cy="434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0"/>
                    <a:ext cx="44197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609480" y="51055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道路两旁，绿树成阴，鲜花盛开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153280" y="624852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立交桥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486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280" y="44197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北京新建了许多立交桥。立交桥的四周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有绿毯似的草坪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和拼成图案的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花坛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lijiaoqiao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400800" y="53352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　　各种车辆在桥上桥下来来往往，川流不息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2" action="ppaction://hlinksldjump"/>
          </p:cNvPr>
          <p:cNvSpPr/>
          <p:nvPr/>
        </p:nvSpPr>
        <p:spPr>
          <a:xfrm>
            <a:off x="8153280" y="624852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04:27:34Z</dcterms:created>
  <dc:creator>qin</dc:creator>
  <dc:description/>
  <dc:language>en-US</dc:language>
  <cp:lastModifiedBy>qin</cp:lastModifiedBy>
  <dcterms:modified xsi:type="dcterms:W3CDTF">2003-09-14T07:47:55Z</dcterms:modified>
  <cp:revision>56</cp:revision>
  <dc:subject/>
  <dc:title>PowerPoint 演示文稿</dc:title>
</cp:coreProperties>
</file>