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24.wmf" ContentType="image/x-wmf"/>
  <Override PartName="/ppt/media/CAMERA.WAV" ContentType="audio/x-wav"/>
  <Override PartName="/ppt/media/image12.wmf" ContentType="image/x-wmf"/>
  <Override PartName="/ppt/media/image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9.wmf" ContentType="image/x-wmf"/>
  <Override PartName="/ppt/media/image38.jpeg" ContentType="image/jpeg"/>
  <Override PartName="/ppt/media/image31.wmf" ContentType="image/x-wmf"/>
  <Override PartName="/ppt/media/image6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A11-59B0-45B4-BB4E-D0AA128E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120-34C2-49FD-B788-D85FF647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5BC-6FA3-4FD9-9CB5-6DFE375D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01F-1F0E-4781-8ACB-08EBB88E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B97-57D3-463D-978C-0C8F7733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192-051A-4D46-B9AE-7C551B3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775-FE6B-419D-86CC-A15FE723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4C4-A8D0-4277-B57B-03343CDA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C05-EA8C-4A45-B7F8-7E2EDED9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AB9-C6C2-4C02-BFD6-DADF3837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046-D0A5-4A9D-9DE3-4263B40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FAF-FB60-4AA2-AD9E-BCE3D29C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ADB6-FB68-438C-95B5-FA4A87536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0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0.wmf"/><Relationship Id="rId12" Type="http://schemas.openxmlformats.org/officeDocument/2006/relationships/image" Target="../media/image30.wmf"/><Relationship Id="rId13" Type="http://schemas.openxmlformats.org/officeDocument/2006/relationships/image" Target="../media/image30.wmf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6.jpeg"/><Relationship Id="rId7" Type="http://schemas.openxmlformats.org/officeDocument/2006/relationships/image" Target="../media/image37.wm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0320" y="4564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九年义务教育三年制初级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20560" y="1644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隶书"/>
                <a:ea typeface="隶书"/>
              </a:rPr>
              <a:t>初二英语  上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11800" y="3183840"/>
            <a:ext cx="36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Unit 1— Uni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99880" y="5378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制作人：邱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48720" y="5410080"/>
            <a:ext cx="1001520" cy="10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8280" y="1160640"/>
            <a:ext cx="847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Unit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How do you come to schoo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59560" y="614520"/>
            <a:ext cx="2481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般现在时：表示动作的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习惯性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经常性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1168560"/>
            <a:ext cx="7594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 go to school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 sometimes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0720" y="2743200"/>
            <a:ext cx="7404120" cy="3805200"/>
            <a:chOff x="450720" y="2743200"/>
            <a:chExt cx="7404120" cy="3805200"/>
          </a:xfrm>
        </p:grpSpPr>
        <p:sp>
          <p:nvSpPr>
            <p:cNvPr id="116" name=""/>
            <p:cNvSpPr/>
            <p:nvPr/>
          </p:nvSpPr>
          <p:spPr>
            <a:xfrm>
              <a:off x="450720" y="29732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17040" y="2743200"/>
              <a:ext cx="6337800" cy="38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特别要注意，在英语的一般现在时的使用中，如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主语是第三人称单数，谓语动词也要相应地采用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三人称单数的形式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She g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to school every da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D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she go to school every day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She d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n’t go to school every da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65280" y="316080"/>
            <a:ext cx="69534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频度副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usually     </a:t>
            </a:r>
            <a:r>
              <a:rPr b="0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often        </a:t>
            </a:r>
            <a:r>
              <a:rPr b="0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通常    经常；常常    有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520" y="2286000"/>
            <a:ext cx="8267040" cy="4382280"/>
            <a:chOff x="533520" y="2286000"/>
            <a:chExt cx="8267040" cy="4382280"/>
          </a:xfrm>
        </p:grpSpPr>
        <p:sp>
          <p:nvSpPr>
            <p:cNvPr id="121" name=""/>
            <p:cNvSpPr/>
            <p:nvPr/>
          </p:nvSpPr>
          <p:spPr>
            <a:xfrm>
              <a:off x="711360" y="2286000"/>
              <a:ext cx="8089200" cy="43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频度副词的位置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usually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stay at home on Sunday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es she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often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come her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y don’t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often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watch TV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Usually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she gets up late on Sunday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y play games after class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sometimes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59680" y="380880"/>
            <a:ext cx="77940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08200" y="1143000"/>
            <a:ext cx="9324720" cy="36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How do you usually come/go to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I usually come/go to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bik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ca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plane/ai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ship/sea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35080" y="6397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运用某种交通工具去某地的表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653920" y="4754520"/>
            <a:ext cx="2070360" cy="581400"/>
            <a:chOff x="2653920" y="4754520"/>
            <a:chExt cx="2070360" cy="581400"/>
          </a:xfrm>
        </p:grpSpPr>
        <p:sp>
          <p:nvSpPr>
            <p:cNvPr id="127" name=""/>
            <p:cNvSpPr/>
            <p:nvPr/>
          </p:nvSpPr>
          <p:spPr>
            <a:xfrm>
              <a:off x="4343400" y="49528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53920" y="4754520"/>
              <a:ext cx="164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on fo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5745240"/>
            <a:ext cx="129528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2189160" cy="614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05520" y="5410080"/>
            <a:ext cx="1143000" cy="10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77120" y="5410080"/>
            <a:ext cx="194472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110840" y="990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她每天乘公共汽车去上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2840" y="2178000"/>
            <a:ext cx="72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Lucida Sans"/>
              </a:rPr>
              <a:t>误：</a:t>
            </a:r>
            <a:r>
              <a:rPr b="1" lang="zh-CN" sz="3200" spc="-1" strike="noStrike">
                <a:solidFill>
                  <a:srgbClr val="ffffff"/>
                </a:solidFill>
                <a:latin typeface="Lucida Sans"/>
              </a:rPr>
              <a:t>She by bus to school every day.</a:t>
            </a:r>
            <a:r>
              <a:rPr b="0" lang="zh-CN" sz="3600" spc="-1" strike="noStrike">
                <a:solidFill>
                  <a:srgbClr val="ffff00"/>
                </a:solidFill>
                <a:latin typeface="Webdings"/>
                <a:ea typeface="Webdings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8160" y="3214080"/>
            <a:ext cx="602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正：</a:t>
            </a: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She goes to school by b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every day. </a:t>
            </a:r>
            <a:r>
              <a:rPr b="0" lang="zh-CN" sz="36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4720" y="365040"/>
            <a:ext cx="714600" cy="1540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8301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356640" y="791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独一无二的事物前要用定冠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6240" y="761400"/>
            <a:ext cx="9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15960" y="1603800"/>
            <a:ext cx="62629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m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U.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eople’s Republic of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85800" y="214200"/>
            <a:ext cx="7533360" cy="3993480"/>
            <a:chOff x="685800" y="214200"/>
            <a:chExt cx="7533360" cy="3993480"/>
          </a:xfrm>
        </p:grpSpPr>
        <p:sp>
          <p:nvSpPr>
            <p:cNvPr id="143" name=""/>
            <p:cNvSpPr/>
            <p:nvPr/>
          </p:nvSpPr>
          <p:spPr>
            <a:xfrm>
              <a:off x="750600" y="214200"/>
              <a:ext cx="74685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a fine day for a walk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do you usually come to school?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usually come to school by bik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" y="1676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19810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82560" y="1050840"/>
            <a:ext cx="600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id-Autumn D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83808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2960" y="587520"/>
            <a:ext cx="5387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的比较级：表示两者之间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的比较级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than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60" y="1764360"/>
            <a:ext cx="66182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is taller than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ball is bigger than tha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3386520"/>
            <a:ext cx="6535080" cy="1263240"/>
            <a:chOff x="609480" y="3386520"/>
            <a:chExt cx="6535080" cy="1263240"/>
          </a:xfrm>
        </p:grpSpPr>
        <p:sp>
          <p:nvSpPr>
            <p:cNvPr id="154" name=""/>
            <p:cNvSpPr/>
            <p:nvPr/>
          </p:nvSpPr>
          <p:spPr>
            <a:xfrm>
              <a:off x="60948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31000" y="3386520"/>
              <a:ext cx="4813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形容词的最高级：表示三者或三者以上进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比较，程度最高的一个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85240" y="4659840"/>
            <a:ext cx="73497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is the tallest girl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y bag is the heaviest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19080" y="188280"/>
            <a:ext cx="524196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比较级、最高级的变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29240" y="3129840"/>
            <a:ext cx="52693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词尾直接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结尾的词，在词尾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重读闭音节的词，词尾只有一个辅音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双写该辅音后，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辅音字母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结尾的词，变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再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7968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800" y="1050840"/>
            <a:ext cx="51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Welcome back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4680" y="5029200"/>
            <a:ext cx="795600" cy="1582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4560" y="216000"/>
            <a:ext cx="738612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This cake is ________ (big) than that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Lily is ____________ (young) in h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This watch is ________ (dear) tha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e, but it’s ________ (ni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My ruler is ________ than Jim’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im’s is ________ than Lily’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ne is __________ of the three. (l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Lucy is ________ (tall) than I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88240" y="100404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b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23000" y="168984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you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02880" y="23756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27120" y="367128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l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7040" y="298548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n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1320" y="428076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l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30560" y="48902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39200" y="548568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tal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22960" y="54856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/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371600" y="457200"/>
            <a:ext cx="7086600" cy="3089160"/>
            <a:chOff x="1371600" y="457200"/>
            <a:chExt cx="7086600" cy="30891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124080" y="1981080"/>
              <a:ext cx="12398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647960" y="2133720"/>
              <a:ext cx="7606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5664240" y="1447920"/>
              <a:ext cx="1422360" cy="20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1371600" y="1641600"/>
              <a:ext cx="152712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23880" y="457200"/>
              <a:ext cx="2514600" cy="1066680"/>
            </a:xfrm>
            <a:prstGeom prst="wedgeEllipseCallout">
              <a:avLst>
                <a:gd name="adj1" fmla="val -38634"/>
                <a:gd name="adj2" fmla="val 6145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560" y="457200"/>
              <a:ext cx="2438640" cy="1143000"/>
            </a:xfrm>
            <a:prstGeom prst="cloudCallout">
              <a:avLst>
                <a:gd name="adj1" fmla="val -47657"/>
                <a:gd name="adj2" fmla="val 6069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103800" y="62388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How delic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they 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60804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They’r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delici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080" y="3427560"/>
            <a:ext cx="6073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感叹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How 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谓语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zh-CN" sz="3200" spc="-1" strike="noStrike">
                <a:solidFill>
                  <a:srgbClr val="ffffff"/>
                </a:solidFill>
                <a:latin typeface="Comic Sans MS"/>
              </a:rPr>
              <a:t>How delicious they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224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261800" cy="158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80400" y="-44640"/>
            <a:ext cx="5740200" cy="52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Exerci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Jim’s bag is very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They’re very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The mooncakes are very n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That ruler is very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1240" y="175176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light Jim’s bag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10240" y="277236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full they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6920" y="38394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omic Sans MS"/>
              </a:rPr>
              <a:t>How nice the mooncakes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9040" y="4906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long that ruler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19320" y="304920"/>
            <a:ext cx="5379840" cy="2287440"/>
            <a:chOff x="1219320" y="304920"/>
            <a:chExt cx="5379840" cy="2287440"/>
          </a:xfrm>
        </p:grpSpPr>
        <p:sp>
          <p:nvSpPr>
            <p:cNvPr id="189" name=""/>
            <p:cNvSpPr/>
            <p:nvPr/>
          </p:nvSpPr>
          <p:spPr>
            <a:xfrm>
              <a:off x="1239840" y="304920"/>
              <a:ext cx="53593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感叹句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ow 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形容词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主语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谓语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How delicious they are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1447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43000" y="2817720"/>
            <a:ext cx="7350120" cy="2287440"/>
            <a:chOff x="1143000" y="2817720"/>
            <a:chExt cx="7350120" cy="2287440"/>
          </a:xfrm>
        </p:grpSpPr>
        <p:sp>
          <p:nvSpPr>
            <p:cNvPr id="192" name=""/>
            <p:cNvSpPr/>
            <p:nvPr/>
          </p:nvSpPr>
          <p:spPr>
            <a:xfrm>
              <a:off x="1385640" y="2817720"/>
              <a:ext cx="71074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What 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主语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谓语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What a good girl she is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What delicious mooncakes they ar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3200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104360" y="1218240"/>
            <a:ext cx="1062360" cy="2334240"/>
            <a:chOff x="4104360" y="1218240"/>
            <a:chExt cx="1062360" cy="2334240"/>
          </a:xfrm>
        </p:grpSpPr>
        <p:sp>
          <p:nvSpPr>
            <p:cNvPr id="195" name=""/>
            <p:cNvSpPr/>
            <p:nvPr/>
          </p:nvSpPr>
          <p:spPr>
            <a:xfrm>
              <a:off x="4498200" y="1218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Times New Roman"/>
                </a:rPr>
                <a:t>主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04360" y="29710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Times New Roman"/>
                </a:rPr>
                <a:t>主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95480" y="5181480"/>
            <a:ext cx="28465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17520" y="303840"/>
            <a:ext cx="3437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’d like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would 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uld you lik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343400" y="303840"/>
            <a:ext cx="3276720" cy="1994760"/>
            <a:chOff x="4343400" y="303840"/>
            <a:chExt cx="3276720" cy="1994760"/>
          </a:xfrm>
        </p:grpSpPr>
        <p:sp>
          <p:nvSpPr>
            <p:cNvPr id="200" name=""/>
            <p:cNvSpPr/>
            <p:nvPr/>
          </p:nvSpPr>
          <p:spPr>
            <a:xfrm>
              <a:off x="4343400" y="303840"/>
              <a:ext cx="327672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to 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b. to 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0" y="762120"/>
              <a:ext cx="106668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648320" y="1371240"/>
              <a:ext cx="99036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66680" y="2484720"/>
            <a:ext cx="7485480" cy="1629720"/>
            <a:chOff x="1066680" y="2484720"/>
            <a:chExt cx="7485480" cy="1629720"/>
          </a:xfrm>
        </p:grpSpPr>
        <p:sp>
          <p:nvSpPr>
            <p:cNvPr id="204" name=""/>
            <p:cNvSpPr/>
            <p:nvPr/>
          </p:nvSpPr>
          <p:spPr>
            <a:xfrm>
              <a:off x="1181160" y="2484720"/>
              <a:ext cx="73710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I’d like a cup of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tea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I would like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you to go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shopping with m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Would you like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to go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with me?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668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66680" y="4269960"/>
            <a:ext cx="5664240" cy="2140920"/>
            <a:chOff x="1066680" y="4269960"/>
            <a:chExt cx="5664240" cy="2140920"/>
          </a:xfrm>
        </p:grpSpPr>
        <p:sp>
          <p:nvSpPr>
            <p:cNvPr id="207" name=""/>
            <p:cNvSpPr/>
            <p:nvPr/>
          </p:nvSpPr>
          <p:spPr>
            <a:xfrm>
              <a:off x="1246680" y="4269960"/>
              <a:ext cx="5484240" cy="21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-Would you like some orang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omic Sans MS"/>
                </a:rPr>
                <a:t>-Yes, pleas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-Would you like some ric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omic Sans MS"/>
                </a:rPr>
                <a:t>-No, thanks. I’m ful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441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24480" y="440640"/>
            <a:ext cx="22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one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的用法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" y="1100520"/>
            <a:ext cx="5341320" cy="1263240"/>
            <a:chOff x="685800" y="1100520"/>
            <a:chExt cx="5341320" cy="1263240"/>
          </a:xfrm>
        </p:grpSpPr>
        <p:sp>
          <p:nvSpPr>
            <p:cNvPr id="211" name=""/>
            <p:cNvSpPr/>
            <p:nvPr/>
          </p:nvSpPr>
          <p:spPr>
            <a:xfrm>
              <a:off x="685800" y="1351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0880" y="1100520"/>
              <a:ext cx="51962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表示数量“一”的概念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隶书"/>
                </a:rPr>
                <a:t>One and one makes tw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85800" y="2529360"/>
            <a:ext cx="7745760" cy="4406400"/>
            <a:chOff x="685800" y="2529360"/>
            <a:chExt cx="7745760" cy="4406400"/>
          </a:xfrm>
        </p:grpSpPr>
        <p:sp>
          <p:nvSpPr>
            <p:cNvPr id="214" name=""/>
            <p:cNvSpPr/>
            <p:nvPr/>
          </p:nvSpPr>
          <p:spPr>
            <a:xfrm>
              <a:off x="685800" y="2819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66240" y="2529360"/>
              <a:ext cx="7465320" cy="44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表示承接前面已出现过的同类可数名词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用以避免重复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代替单数名词时用 </a:t>
              </a:r>
              <a:r>
                <a:rPr b="1" i="1" lang="zh-CN" sz="3200" spc="-1" strike="noStrike">
                  <a:solidFill>
                    <a:srgbClr val="ff0000"/>
                  </a:solidFill>
                  <a:latin typeface="Lucida Sans"/>
                </a:rPr>
                <a:t>one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代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复数名词时用 </a:t>
              </a:r>
              <a:r>
                <a:rPr b="1" i="1" lang="zh-CN" sz="3600" spc="-1" strike="noStrike">
                  <a:solidFill>
                    <a:srgbClr val="ff0000"/>
                  </a:solidFill>
                  <a:latin typeface="Lucida Sans"/>
                </a:rPr>
                <a:t>ones</a:t>
              </a:r>
              <a:r>
                <a:rPr b="1" lang="zh-CN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school is older than that 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on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se books are mine. The 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ones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o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 desks are your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隶书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3730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35640" y="76140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承接同一个东西时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要用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772400" y="4419720"/>
            <a:ext cx="1044720" cy="2155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00000" y="1932480"/>
            <a:ext cx="663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Do you have a wat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No, but my father has </a:t>
            </a:r>
            <a:r>
              <a:rPr b="1" i="1" lang="zh-CN" sz="3600" spc="-1" strike="noStrike">
                <a:solidFill>
                  <a:srgbClr val="ffff00"/>
                </a:solidFill>
                <a:latin typeface="Comic Sans MS"/>
              </a:rPr>
              <a:t>one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He bought (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买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1" i="1" lang="zh-CN" sz="3600" spc="-1" strike="noStrike">
                <a:solidFill>
                  <a:srgbClr val="ffff00"/>
                </a:solidFill>
                <a:latin typeface="Comic Sans MS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last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276200" y="500040"/>
            <a:ext cx="5487840" cy="5212080"/>
            <a:chOff x="1276200" y="500040"/>
            <a:chExt cx="5487840" cy="5212080"/>
          </a:xfrm>
        </p:grpSpPr>
        <p:sp>
          <p:nvSpPr>
            <p:cNvPr id="221" name=""/>
            <p:cNvSpPr/>
            <p:nvPr/>
          </p:nvSpPr>
          <p:spPr>
            <a:xfrm>
              <a:off x="1477800" y="500040"/>
              <a:ext cx="528624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ould you like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full.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Good night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 day is it tomorrow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re you hungry/fre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d like you to meet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6200" y="1600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6200" y="2362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76200" y="3048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76200" y="38102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76200" y="44960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76200" y="5257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4479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45440" y="1050840"/>
            <a:ext cx="70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We’re going to work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on a far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317040" y="2035440"/>
            <a:ext cx="279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e going to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一结构表示说话时刻以后将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发生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19320" y="990360"/>
            <a:ext cx="6781680" cy="228960"/>
            <a:chOff x="1219320" y="990360"/>
            <a:chExt cx="6781680" cy="228960"/>
          </a:xfrm>
        </p:grpSpPr>
        <p:sp>
          <p:nvSpPr>
            <p:cNvPr id="233" name=""/>
            <p:cNvSpPr/>
            <p:nvPr/>
          </p:nvSpPr>
          <p:spPr>
            <a:xfrm>
              <a:off x="1219320" y="1219320"/>
              <a:ext cx="67816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819520" y="990360"/>
              <a:ext cx="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019920" y="990360"/>
              <a:ext cx="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644480" y="129456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I’m tea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53760" y="129456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’m going to watch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89920" y="532800"/>
            <a:ext cx="43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s evening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760" y="3351600"/>
            <a:ext cx="841320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she going to do next Sun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 is going to swim next Sun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 isn’t going to play basketball next Sun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she going to swim next Sun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Yes, sh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8880" y="461880"/>
            <a:ext cx="476928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May I…?    </a:t>
            </a: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我可以……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表示客气的请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0200" y="1930320"/>
            <a:ext cx="74808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1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May I come 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Come in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2)  -May I borrow your pen , pl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Certain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3)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May I have a piece of pap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Of cour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0800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622520" y="730080"/>
            <a:ext cx="1882800" cy="1556280"/>
            <a:chOff x="1622520" y="730080"/>
            <a:chExt cx="1882800" cy="1556280"/>
          </a:xfrm>
        </p:grpSpPr>
        <p:sp>
          <p:nvSpPr>
            <p:cNvPr id="241" name=""/>
            <p:cNvSpPr/>
            <p:nvPr/>
          </p:nvSpPr>
          <p:spPr>
            <a:xfrm>
              <a:off x="1622520" y="730080"/>
              <a:ext cx="1121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goo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w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1295280"/>
              <a:ext cx="83844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90920" y="1752120"/>
              <a:ext cx="91440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536640" y="144684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te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23680" y="2404440"/>
            <a:ext cx="441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ood, better,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ever let it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ill good is be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d better b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91520" y="4191120"/>
            <a:ext cx="108108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562040" y="578880"/>
            <a:ext cx="4560480" cy="642600"/>
            <a:chOff x="1562040" y="578880"/>
            <a:chExt cx="4560480" cy="642600"/>
          </a:xfrm>
        </p:grpSpPr>
        <p:sp>
          <p:nvSpPr>
            <p:cNvPr id="248" name=""/>
            <p:cNvSpPr/>
            <p:nvPr/>
          </p:nvSpPr>
          <p:spPr>
            <a:xfrm>
              <a:off x="2330280" y="578880"/>
              <a:ext cx="37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much + 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形容词的比较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2040" y="838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434680" y="1288080"/>
            <a:ext cx="30304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bi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war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lo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23880" y="3200040"/>
            <a:ext cx="4003920" cy="2897280"/>
            <a:chOff x="1523880" y="3200040"/>
            <a:chExt cx="4003920" cy="2897280"/>
          </a:xfrm>
        </p:grpSpPr>
        <p:grpSp>
          <p:nvGrpSpPr>
            <p:cNvPr id="252" name=""/>
            <p:cNvGrpSpPr/>
            <p:nvPr/>
          </p:nvGrpSpPr>
          <p:grpSpPr>
            <a:xfrm>
              <a:off x="1523880" y="3200040"/>
              <a:ext cx="4003920" cy="916920"/>
              <a:chOff x="1523880" y="3200040"/>
              <a:chExt cx="4003920" cy="916920"/>
            </a:xfrm>
          </p:grpSpPr>
          <p:sp>
            <p:nvSpPr>
              <p:cNvPr id="253" name=""/>
              <p:cNvSpPr/>
              <p:nvPr/>
            </p:nvSpPr>
            <p:spPr>
              <a:xfrm>
                <a:off x="2239920" y="3200040"/>
                <a:ext cx="3287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very + </a:t>
                </a: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形容词的原级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3880" y="3657600"/>
                <a:ext cx="22860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525040" y="4102560"/>
              <a:ext cx="235260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bi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wa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lo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543800" y="4114800"/>
            <a:ext cx="941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74160" y="105480"/>
            <a:ext cx="7236720" cy="64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What ____ you _________ (do)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 _______________ (meet) my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Look, what ______  they ________ (do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 ____________ (have)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We ______________ (fly) kites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Kate usually __________ (wash) her h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_______ you often _____ (go) swi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summ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72600" y="837360"/>
            <a:ext cx="4581000" cy="1098360"/>
            <a:chOff x="1272600" y="837360"/>
            <a:chExt cx="4581000" cy="1098360"/>
          </a:xfrm>
        </p:grpSpPr>
        <p:sp>
          <p:nvSpPr>
            <p:cNvPr id="259" name=""/>
            <p:cNvSpPr/>
            <p:nvPr/>
          </p:nvSpPr>
          <p:spPr>
            <a:xfrm>
              <a:off x="2052000" y="837360"/>
              <a:ext cx="380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         going t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2600" y="1415160"/>
              <a:ext cx="34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m going to me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179440" y="2133000"/>
            <a:ext cx="4696920" cy="1130040"/>
            <a:chOff x="2179440" y="2133000"/>
            <a:chExt cx="4696920" cy="1130040"/>
          </a:xfrm>
        </p:grpSpPr>
        <p:sp>
          <p:nvSpPr>
            <p:cNvPr id="262" name=""/>
            <p:cNvSpPr/>
            <p:nvPr/>
          </p:nvSpPr>
          <p:spPr>
            <a:xfrm>
              <a:off x="3426480" y="2133000"/>
              <a:ext cx="34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                 do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79440" y="274248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hav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614960" y="335196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are going to f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83280" y="411408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5333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o                           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5576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1440" y="380880"/>
            <a:ext cx="372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’s tim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’s time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83920" y="99000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是做……的时间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4720" y="2071800"/>
            <a:ext cx="6450480" cy="40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1) It’s time for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It’s time to have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2) It’s time for lun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It’s time to have lun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3) It’s time __________ (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起床了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280" y="54540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Lucida Sans"/>
              </a:rPr>
              <a:t>to ge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40280" y="837720"/>
            <a:ext cx="24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有用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Lucida Sans"/>
              </a:rPr>
              <a:t>help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1676520"/>
            <a:ext cx="7199640" cy="3895560"/>
            <a:chOff x="1066680" y="1676520"/>
            <a:chExt cx="7199640" cy="3895560"/>
          </a:xfrm>
        </p:grpSpPr>
        <p:sp>
          <p:nvSpPr>
            <p:cNvPr id="274" name=""/>
            <p:cNvSpPr/>
            <p:nvPr/>
          </p:nvSpPr>
          <p:spPr>
            <a:xfrm>
              <a:off x="1174320" y="1676520"/>
              <a:ext cx="7092000" cy="38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lp!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救命啊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lp me!  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救救我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Can you help me with my lesson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Computers can help student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arn Englis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2143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2981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3743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4505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86680" y="380880"/>
            <a:ext cx="1425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809880" y="4876920"/>
            <a:ext cx="1463760" cy="18050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762120" y="3275640"/>
            <a:ext cx="7781760" cy="1068840"/>
            <a:chOff x="762120" y="3275640"/>
            <a:chExt cx="7781760" cy="1068840"/>
          </a:xfrm>
        </p:grpSpPr>
        <p:sp>
          <p:nvSpPr>
            <p:cNvPr id="282" name=""/>
            <p:cNvSpPr/>
            <p:nvPr/>
          </p:nvSpPr>
          <p:spPr>
            <a:xfrm>
              <a:off x="959400" y="3275640"/>
              <a:ext cx="758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hey’re going to leave tomorrow morn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120" y="3809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62120" y="228240"/>
            <a:ext cx="6941880" cy="2896560"/>
            <a:chOff x="762120" y="228240"/>
            <a:chExt cx="6941880" cy="2896560"/>
          </a:xfrm>
        </p:grpSpPr>
        <p:sp>
          <p:nvSpPr>
            <p:cNvPr id="285" name=""/>
            <p:cNvSpPr/>
            <p:nvPr/>
          </p:nvSpPr>
          <p:spPr>
            <a:xfrm>
              <a:off x="932040" y="228240"/>
              <a:ext cx="6771960" cy="28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peak English in this way (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这样说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I’m going to go to the sho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ary is going to come here very so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1523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2514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911880" y="17056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’m going to the sh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38160" y="284868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ry is coming here very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6240" y="411408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y’re leaving tomorrow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533520" y="301680"/>
            <a:ext cx="8506080" cy="5943240"/>
            <a:chOff x="533520" y="301680"/>
            <a:chExt cx="8506080" cy="5943240"/>
          </a:xfrm>
        </p:grpSpPr>
        <p:sp>
          <p:nvSpPr>
            <p:cNvPr id="292" name=""/>
            <p:cNvSpPr/>
            <p:nvPr/>
          </p:nvSpPr>
          <p:spPr>
            <a:xfrm>
              <a:off x="737640" y="301680"/>
              <a:ext cx="830196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ere are you go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oing home/to the shops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/How about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 don’t you come with m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y not? Good idea! That’s a good idea!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be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time for clas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52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520" y="2133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520" y="2819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520" y="3581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" y="4267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3520" y="5029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3520" y="5791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391520" y="4995720"/>
            <a:ext cx="11491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88960" y="1160640"/>
            <a:ext cx="799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Unit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Working hard on the fa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080080" y="48636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比较物品数量的“多”和“少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289160" y="1338840"/>
            <a:ext cx="5180400" cy="2014920"/>
            <a:chOff x="1289160" y="1338840"/>
            <a:chExt cx="5180400" cy="2014920"/>
          </a:xfrm>
        </p:grpSpPr>
        <p:grpSp>
          <p:nvGrpSpPr>
            <p:cNvPr id="305" name=""/>
            <p:cNvGrpSpPr/>
            <p:nvPr/>
          </p:nvGrpSpPr>
          <p:grpSpPr>
            <a:xfrm>
              <a:off x="1289160" y="1338840"/>
              <a:ext cx="5180400" cy="581400"/>
              <a:chOff x="1289160" y="1338840"/>
              <a:chExt cx="5180400" cy="581400"/>
            </a:xfrm>
          </p:grpSpPr>
          <p:sp>
            <p:nvSpPr>
              <p:cNvPr id="306" name=""/>
              <p:cNvSpPr/>
              <p:nvPr/>
            </p:nvSpPr>
            <p:spPr>
              <a:xfrm>
                <a:off x="1289160" y="1538280"/>
                <a:ext cx="22824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44760" y="1338840"/>
                <a:ext cx="492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a few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ewer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ewe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17760" y="1995480"/>
              <a:ext cx="990000" cy="765000"/>
              <a:chOff x="1517760" y="1995480"/>
              <a:chExt cx="990000" cy="765000"/>
            </a:xfrm>
          </p:grpSpPr>
          <p:pic>
            <p:nvPicPr>
              <p:cNvPr id="309" name="APPLE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2320" y="21477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APPLE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7760" y="22240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APPLE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9680" y="23763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APPLE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9680" y="1995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APP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74600" y="23763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APPLE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1995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APPLE" descr=""/>
              <p:cNvPicPr/>
              <p:nvPr/>
            </p:nvPicPr>
            <p:blipFill>
              <a:blip r:embed="rId7"/>
              <a:stretch/>
            </p:blipFill>
            <p:spPr>
              <a:xfrm>
                <a:off x="2171520" y="22240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6" name=""/>
            <p:cNvGrpSpPr/>
            <p:nvPr/>
          </p:nvGrpSpPr>
          <p:grpSpPr>
            <a:xfrm>
              <a:off x="3543480" y="2068560"/>
              <a:ext cx="793080" cy="689040"/>
              <a:chOff x="3543480" y="2068560"/>
              <a:chExt cx="793080" cy="689040"/>
            </a:xfrm>
          </p:grpSpPr>
          <p:pic>
            <p:nvPicPr>
              <p:cNvPr id="317" name="APPLE" descr=""/>
              <p:cNvPicPr/>
              <p:nvPr/>
            </p:nvPicPr>
            <p:blipFill>
              <a:blip r:embed="rId8"/>
              <a:stretch/>
            </p:blipFill>
            <p:spPr>
              <a:xfrm>
                <a:off x="3771720" y="2373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APPLE" descr=""/>
              <p:cNvPicPr/>
              <p:nvPr/>
            </p:nvPicPr>
            <p:blipFill>
              <a:blip r:embed="rId9"/>
              <a:stretch/>
            </p:blipFill>
            <p:spPr>
              <a:xfrm>
                <a:off x="4003560" y="2220840"/>
                <a:ext cx="333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APPLE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71720" y="20685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APPLE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43480" y="222084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1" name=""/>
            <p:cNvGrpSpPr/>
            <p:nvPr/>
          </p:nvGrpSpPr>
          <p:grpSpPr>
            <a:xfrm>
              <a:off x="5457960" y="2144880"/>
              <a:ext cx="707400" cy="536400"/>
              <a:chOff x="5457960" y="2144880"/>
              <a:chExt cx="707400" cy="536400"/>
            </a:xfrm>
          </p:grpSpPr>
          <p:pic>
            <p:nvPicPr>
              <p:cNvPr id="322" name="APPLE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62520" y="2221200"/>
                <a:ext cx="40284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APPLE" descr=""/>
              <p:cNvPicPr/>
              <p:nvPr/>
            </p:nvPicPr>
            <p:blipFill>
              <a:blip r:embed="rId13"/>
              <a:stretch/>
            </p:blipFill>
            <p:spPr>
              <a:xfrm flipH="1" rot="10800000">
                <a:off x="5457960" y="2144880"/>
                <a:ext cx="392040" cy="53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4" name=""/>
            <p:cNvSpPr/>
            <p:nvPr/>
          </p:nvSpPr>
          <p:spPr>
            <a:xfrm>
              <a:off x="1540440" y="2772360"/>
              <a:ext cx="47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mine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Mary’s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Jim’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758520" y="3511800"/>
            <a:ext cx="79851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have a few ap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has fewer apples (than 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has the fewest apples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51040" y="3049560"/>
            <a:ext cx="775332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have many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has more friends (than 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has the most friends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95280" y="729000"/>
            <a:ext cx="6400440" cy="2243880"/>
            <a:chOff x="1295280" y="729000"/>
            <a:chExt cx="6400440" cy="2243880"/>
          </a:xfrm>
        </p:grpSpPr>
        <p:grpSp>
          <p:nvGrpSpPr>
            <p:cNvPr id="328" name=""/>
            <p:cNvGrpSpPr/>
            <p:nvPr/>
          </p:nvGrpSpPr>
          <p:grpSpPr>
            <a:xfrm>
              <a:off x="1295280" y="729000"/>
              <a:ext cx="5738400" cy="581400"/>
              <a:chOff x="1295280" y="729000"/>
              <a:chExt cx="5738400" cy="581400"/>
            </a:xfrm>
          </p:grpSpPr>
          <p:sp>
            <p:nvSpPr>
              <p:cNvPr id="329" name=""/>
              <p:cNvSpPr/>
              <p:nvPr/>
            </p:nvSpPr>
            <p:spPr>
              <a:xfrm>
                <a:off x="1295280" y="928440"/>
                <a:ext cx="22860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6560" y="729000"/>
                <a:ext cx="548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many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   more              mo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880280" y="2391480"/>
              <a:ext cx="486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mine       Mary’s      Jim’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447920" y="1576440"/>
              <a:ext cx="1371600" cy="86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3429000" y="1547640"/>
              <a:ext cx="1676520" cy="814680"/>
              <a:chOff x="3429000" y="1547640"/>
              <a:chExt cx="1676520" cy="814680"/>
            </a:xfrm>
          </p:grpSpPr>
          <p:pic>
            <p:nvPicPr>
              <p:cNvPr id="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9880" y="1547640"/>
                <a:ext cx="1295640" cy="814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6" name=""/>
            <p:cNvGrpSpPr/>
            <p:nvPr/>
          </p:nvGrpSpPr>
          <p:grpSpPr>
            <a:xfrm>
              <a:off x="5562720" y="1547640"/>
              <a:ext cx="2133000" cy="890640"/>
              <a:chOff x="5562720" y="1547640"/>
              <a:chExt cx="2133000" cy="890640"/>
            </a:xfrm>
          </p:grpSpPr>
          <p:pic>
            <p:nvPicPr>
              <p:cNvPr id="3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6272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00800" y="1623960"/>
                <a:ext cx="1294920" cy="8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1956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4480" y="228600"/>
            <a:ext cx="805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________ ________! ________ ________ bor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r ru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________! ________ this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Thank you. Oh, this one is short. Do you ________ a l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________, I do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________ ________! Do you ________ a long 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 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 borrow 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 Certainly! Here ________ 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39680" y="34308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Excuse       me         May       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2520" y="14446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Certainly  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3040" y="20192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76480" y="25113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3960" y="30862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So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2480" y="419112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Excuse       me                   have             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46040" y="52578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May                      i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14520" y="58294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you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0120" y="4876920"/>
            <a:ext cx="83340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46840" y="68544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询问路程的远近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371600" y="1600200"/>
            <a:ext cx="5965200" cy="4041720"/>
            <a:chOff x="1371600" y="1600200"/>
            <a:chExt cx="5965200" cy="4041720"/>
          </a:xfrm>
        </p:grpSpPr>
        <p:sp>
          <p:nvSpPr>
            <p:cNvPr id="342" name=""/>
            <p:cNvSpPr/>
            <p:nvPr/>
          </p:nvSpPr>
          <p:spPr>
            <a:xfrm>
              <a:off x="1811520" y="1600200"/>
              <a:ext cx="5525280" cy="40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Only a few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How far is it from here t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your school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It’s about 2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1600" y="1981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7160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705720" y="561960"/>
            <a:ext cx="1721880" cy="1495440"/>
            <a:chOff x="6705720" y="561960"/>
            <a:chExt cx="1721880" cy="149544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7813440" y="561960"/>
              <a:ext cx="614160" cy="14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"/>
            <a:stretch/>
          </p:blipFill>
          <p:spPr>
            <a:xfrm>
              <a:off x="6705720" y="685800"/>
              <a:ext cx="1090080" cy="1330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533520" y="399960"/>
            <a:ext cx="8212320" cy="6013440"/>
            <a:chOff x="533520" y="399960"/>
            <a:chExt cx="8212320" cy="6013440"/>
          </a:xfrm>
        </p:grpSpPr>
        <p:sp>
          <p:nvSpPr>
            <p:cNvPr id="349" name=""/>
            <p:cNvSpPr/>
            <p:nvPr/>
          </p:nvSpPr>
          <p:spPr>
            <a:xfrm>
              <a:off x="655560" y="399960"/>
              <a:ext cx="8090280" cy="60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ow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引出的疑问句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old are yo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many apples are there in the box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much is this watch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high is it?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tall is Mary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do you usually come to school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are you today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352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52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352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520" y="33526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520" y="3962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520" y="4648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520" y="5334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520" y="5943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958040" y="388800"/>
            <a:ext cx="4842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all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形容词）    身材高的；高大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2120" y="2893320"/>
            <a:ext cx="6688080" cy="3601800"/>
            <a:chOff x="762120" y="2893320"/>
            <a:chExt cx="6688080" cy="3601800"/>
          </a:xfrm>
        </p:grpSpPr>
        <p:sp>
          <p:nvSpPr>
            <p:cNvPr id="360" name=""/>
            <p:cNvSpPr/>
            <p:nvPr/>
          </p:nvSpPr>
          <p:spPr>
            <a:xfrm>
              <a:off x="1143000" y="2893320"/>
              <a:ext cx="6307200" cy="36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igh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（形容词）    高的；高处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（副词）        高地；高处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 high mountain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山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 high build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high is this build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go too high.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副词用法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120" y="3139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621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53920" y="653400"/>
            <a:ext cx="44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e +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520" y="1371600"/>
            <a:ext cx="8037720" cy="3603240"/>
            <a:chOff x="533520" y="1371600"/>
            <a:chExt cx="8037720" cy="3603240"/>
          </a:xfrm>
        </p:grpSpPr>
        <p:sp>
          <p:nvSpPr>
            <p:cNvPr id="365" name=""/>
            <p:cNvSpPr/>
            <p:nvPr/>
          </p:nvSpPr>
          <p:spPr>
            <a:xfrm>
              <a:off x="801360" y="1371600"/>
              <a:ext cx="7769880" cy="36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Some of the apples are hard to reac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very glad to see you agai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book is easy to understand (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理解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lad to help you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520" y="44956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3581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520" y="1828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2743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175248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33080" y="1522800"/>
            <a:ext cx="378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她饿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公园离这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73080" y="164160"/>
            <a:ext cx="4209840" cy="1361160"/>
            <a:chOff x="973080" y="164160"/>
            <a:chExt cx="4209840" cy="1361160"/>
          </a:xfrm>
        </p:grpSpPr>
        <p:sp>
          <p:nvSpPr>
            <p:cNvPr id="373" name=""/>
            <p:cNvSpPr/>
            <p:nvPr/>
          </p:nvSpPr>
          <p:spPr>
            <a:xfrm>
              <a:off x="1211040" y="164160"/>
              <a:ext cx="397188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正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’m sorry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I’m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误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’m sorry I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3080" y="496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577320" y="167544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黑体"/>
              </a:rPr>
              <a:t>She is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45000" y="2315160"/>
            <a:ext cx="45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黑体"/>
              </a:rPr>
              <a:t>The park is near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85680" y="2970720"/>
            <a:ext cx="6299640" cy="1361160"/>
            <a:chOff x="985680" y="2970720"/>
            <a:chExt cx="6299640" cy="1361160"/>
          </a:xfrm>
        </p:grpSpPr>
        <p:sp>
          <p:nvSpPr>
            <p:cNvPr id="378" name=""/>
            <p:cNvSpPr/>
            <p:nvPr/>
          </p:nvSpPr>
          <p:spPr>
            <a:xfrm>
              <a:off x="1235880" y="2970720"/>
              <a:ext cx="6049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正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hese apples are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uch bigger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误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hese apples are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ore bigger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5680" y="3316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552760" y="4342320"/>
            <a:ext cx="2960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hea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f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7499520" y="304920"/>
            <a:ext cx="11728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990720" y="423720"/>
            <a:ext cx="5699880" cy="5212080"/>
            <a:chOff x="990720" y="423720"/>
            <a:chExt cx="5699880" cy="5212080"/>
          </a:xfrm>
        </p:grpSpPr>
        <p:sp>
          <p:nvSpPr>
            <p:cNvPr id="383" name=""/>
            <p:cNvSpPr/>
            <p:nvPr/>
          </p:nvSpPr>
          <p:spPr>
            <a:xfrm>
              <a:off x="1223280" y="423720"/>
              <a:ext cx="546732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Only a few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Be careful! It’s dangerou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go too hig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can/can’t reach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t’s get on the bu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90720" y="1523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90720" y="2286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90720" y="2971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9072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90720" y="441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0720" y="51814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238880" y="5181480"/>
            <a:ext cx="15987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67720" y="1050840"/>
            <a:ext cx="803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Shall we go to the park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079360" y="287640"/>
            <a:ext cx="5331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hall I/w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询问、征求别人的意见，用于提建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译为“……好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57960" y="1992960"/>
            <a:ext cx="7255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we go to the park on Sun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I open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6360" y="3473280"/>
            <a:ext cx="2323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赞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Good ide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Su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ll r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O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31680" y="3473280"/>
            <a:ext cx="21636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不赞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No, let’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Sorry, 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315200" y="4267080"/>
            <a:ext cx="107640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15200" y="45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提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5920" y="490320"/>
            <a:ext cx="4185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I/w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not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don’t you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/How about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849240" y="3884400"/>
            <a:ext cx="6514920" cy="2432520"/>
            <a:chOff x="849240" y="3884400"/>
            <a:chExt cx="6514920" cy="2432520"/>
          </a:xfrm>
        </p:grpSpPr>
        <p:sp>
          <p:nvSpPr>
            <p:cNvPr id="401" name=""/>
            <p:cNvSpPr/>
            <p:nvPr/>
          </p:nvSpPr>
          <p:spPr>
            <a:xfrm>
              <a:off x="849240" y="38858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答语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92640" y="3884400"/>
              <a:ext cx="487152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Good idea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hat’s a good idea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ll right! / OK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ure! Go ahead, pleas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781680" y="447840"/>
            <a:ext cx="19051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802160" y="456120"/>
            <a:ext cx="57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e good a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…… 方面（学得、做得）好；善于……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520" y="3277080"/>
            <a:ext cx="7683840" cy="3018600"/>
            <a:chOff x="533520" y="3277080"/>
            <a:chExt cx="7683840" cy="3018600"/>
          </a:xfrm>
        </p:grpSpPr>
        <p:sp>
          <p:nvSpPr>
            <p:cNvPr id="406" name=""/>
            <p:cNvSpPr/>
            <p:nvPr/>
          </p:nvSpPr>
          <p:spPr>
            <a:xfrm>
              <a:off x="861480" y="3277080"/>
              <a:ext cx="73558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ood at Englis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eimei is good at her lessons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boy is good at playing footbal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re you good at sing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2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335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1980360"/>
            <a:ext cx="5105520" cy="1221120"/>
            <a:chOff x="533520" y="1980360"/>
            <a:chExt cx="5105520" cy="1221120"/>
          </a:xfrm>
        </p:grpSpPr>
        <p:grpSp>
          <p:nvGrpSpPr>
            <p:cNvPr id="410" name=""/>
            <p:cNvGrpSpPr/>
            <p:nvPr/>
          </p:nvGrpSpPr>
          <p:grpSpPr>
            <a:xfrm>
              <a:off x="744120" y="1980360"/>
              <a:ext cx="4894920" cy="1221120"/>
              <a:chOff x="744120" y="1980360"/>
              <a:chExt cx="4894920" cy="1221120"/>
            </a:xfrm>
          </p:grpSpPr>
          <p:sp>
            <p:nvSpPr>
              <p:cNvPr id="411" name=""/>
              <p:cNvSpPr/>
              <p:nvPr/>
            </p:nvSpPr>
            <p:spPr>
              <a:xfrm>
                <a:off x="744120" y="2239200"/>
                <a:ext cx="22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be good at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000240" y="2286000"/>
                <a:ext cx="762120" cy="380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00240" y="2666880"/>
                <a:ext cx="76212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53440" y="1980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Times New Roman"/>
                  </a:rPr>
                  <a:t>名词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62000" y="2620080"/>
                <a:ext cx="1877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Times New Roman"/>
                  </a:rPr>
                  <a:t>doing sth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533520" y="2438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58360" y="4952160"/>
            <a:ext cx="2315160" cy="1297440"/>
            <a:chOff x="4158360" y="4952160"/>
            <a:chExt cx="2315160" cy="1297440"/>
          </a:xfrm>
        </p:grpSpPr>
        <p:sp>
          <p:nvSpPr>
            <p:cNvPr id="418" name=""/>
            <p:cNvSpPr/>
            <p:nvPr/>
          </p:nvSpPr>
          <p:spPr>
            <a:xfrm>
              <a:off x="4786920" y="4952160"/>
              <a:ext cx="16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play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58360" y="5668200"/>
              <a:ext cx="18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sing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13360" y="289080"/>
            <a:ext cx="6113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aper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纸；纸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为不可数名词，通常不用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或 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n”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不定冠词来修饰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66680" y="2320920"/>
            <a:ext cx="6132240" cy="1263240"/>
            <a:chOff x="1066680" y="2320920"/>
            <a:chExt cx="6132240" cy="1263240"/>
          </a:xfrm>
        </p:grpSpPr>
        <p:sp>
          <p:nvSpPr>
            <p:cNvPr id="63" name=""/>
            <p:cNvSpPr/>
            <p:nvPr/>
          </p:nvSpPr>
          <p:spPr>
            <a:xfrm>
              <a:off x="1408320" y="2320920"/>
              <a:ext cx="57906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Paper is very useful(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有用的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 paper here is not clea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25146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066680" y="3819600"/>
            <a:ext cx="5231160" cy="2432520"/>
            <a:chOff x="1066680" y="3819600"/>
            <a:chExt cx="5231160" cy="2432520"/>
          </a:xfrm>
        </p:grpSpPr>
        <p:sp>
          <p:nvSpPr>
            <p:cNvPr id="66" name=""/>
            <p:cNvSpPr/>
            <p:nvPr/>
          </p:nvSpPr>
          <p:spPr>
            <a:xfrm>
              <a:off x="1334880" y="3819600"/>
              <a:ext cx="496296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 piece of pa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wo piece of pa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hree glasses of wa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even bottles of or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403848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934320" y="4800600"/>
            <a:ext cx="1576440" cy="1569960"/>
            <a:chOff x="6934320" y="4800600"/>
            <a:chExt cx="1576440" cy="1569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7238880" y="4800600"/>
              <a:ext cx="1271880" cy="14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6934320" y="4876920"/>
              <a:ext cx="1271520" cy="149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1447920" y="516240"/>
            <a:ext cx="5870880" cy="1847880"/>
            <a:chOff x="1447920" y="516240"/>
            <a:chExt cx="5870880" cy="1847880"/>
          </a:xfrm>
        </p:grpSpPr>
        <p:sp>
          <p:nvSpPr>
            <p:cNvPr id="421" name=""/>
            <p:cNvSpPr/>
            <p:nvPr/>
          </p:nvSpPr>
          <p:spPr>
            <a:xfrm>
              <a:off x="1666800" y="516240"/>
              <a:ext cx="565200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 don’t think chicken can swim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A. </a:t>
              </a: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我认为小鸡不会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B. </a:t>
              </a: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我不认为小鸡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47920" y="822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447920" y="2665800"/>
            <a:ext cx="2372040" cy="581400"/>
            <a:chOff x="1447920" y="2665800"/>
            <a:chExt cx="2372040" cy="581400"/>
          </a:xfrm>
        </p:grpSpPr>
        <p:sp>
          <p:nvSpPr>
            <p:cNvPr id="424" name=""/>
            <p:cNvSpPr/>
            <p:nvPr/>
          </p:nvSpPr>
          <p:spPr>
            <a:xfrm>
              <a:off x="1447920" y="28191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41240" y="266580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我认为他不喜欢猫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425600" y="4220280"/>
            <a:ext cx="3171960" cy="581400"/>
            <a:chOff x="1425600" y="4220280"/>
            <a:chExt cx="3171960" cy="581400"/>
          </a:xfrm>
        </p:grpSpPr>
        <p:sp>
          <p:nvSpPr>
            <p:cNvPr id="427" name=""/>
            <p:cNvSpPr/>
            <p:nvPr/>
          </p:nvSpPr>
          <p:spPr>
            <a:xfrm>
              <a:off x="1425600" y="44193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18840" y="422028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我们认为玛丽不善长踢足球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2760" cy="1676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827720" y="3275640"/>
            <a:ext cx="53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don’t think he likes c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80840" y="4778640"/>
            <a:ext cx="6490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e don’t think Mary is good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aying foot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667520" y="1172160"/>
            <a:ext cx="2995200" cy="810000"/>
            <a:chOff x="1667520" y="1172160"/>
            <a:chExt cx="2995200" cy="810000"/>
          </a:xfrm>
        </p:grpSpPr>
        <p:sp>
          <p:nvSpPr>
            <p:cNvPr id="433" name=""/>
            <p:cNvSpPr/>
            <p:nvPr/>
          </p:nvSpPr>
          <p:spPr>
            <a:xfrm>
              <a:off x="3455280" y="1172160"/>
              <a:ext cx="120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A. 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我认为小鸡不会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7520" y="127872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Monotype Sorts"/>
                  <a:ea typeface="Monotype Sorts"/>
                </a:rPr>
                <a:t>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33520" y="334080"/>
            <a:ext cx="2357640" cy="581400"/>
            <a:chOff x="533520" y="334080"/>
            <a:chExt cx="2357640" cy="581400"/>
          </a:xfrm>
        </p:grpSpPr>
        <p:sp>
          <p:nvSpPr>
            <p:cNvPr id="436" name=""/>
            <p:cNvSpPr/>
            <p:nvPr/>
          </p:nvSpPr>
          <p:spPr>
            <a:xfrm>
              <a:off x="533520" y="533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47400" y="3340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时间表达法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600200" y="1143000"/>
            <a:ext cx="1981080" cy="2501280"/>
            <a:chOff x="1600200" y="1143000"/>
            <a:chExt cx="1981080" cy="2501280"/>
          </a:xfrm>
        </p:grpSpPr>
        <p:grpSp>
          <p:nvGrpSpPr>
            <p:cNvPr id="439" name=""/>
            <p:cNvGrpSpPr/>
            <p:nvPr/>
          </p:nvGrpSpPr>
          <p:grpSpPr>
            <a:xfrm>
              <a:off x="1600200" y="1143000"/>
              <a:ext cx="1981080" cy="1905120"/>
              <a:chOff x="1600200" y="1143000"/>
              <a:chExt cx="1981080" cy="190512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1600200" y="1143000"/>
                <a:ext cx="1981080" cy="1905120"/>
                <a:chOff x="1600200" y="1143000"/>
                <a:chExt cx="1981080" cy="190512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1600200" y="1143000"/>
                  <a:ext cx="1981080" cy="1905120"/>
                  <a:chOff x="1600200" y="1143000"/>
                  <a:chExt cx="1981080" cy="1905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1600200" y="1143000"/>
                    <a:ext cx="1981080" cy="1905120"/>
                  </a:xfrm>
                  <a:prstGeom prst="flowChartConnector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752480" y="1295280"/>
                    <a:ext cx="1675800" cy="1600200"/>
                  </a:xfrm>
                  <a:prstGeom prst="flowChartConnector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4" name=""/>
                <p:cNvSpPr/>
                <p:nvPr/>
              </p:nvSpPr>
              <p:spPr>
                <a:xfrm>
                  <a:off x="2590920" y="1295640"/>
                  <a:ext cx="0" cy="187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3241800" y="2075040"/>
                  <a:ext cx="187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90920" y="2708280"/>
                  <a:ext cx="0" cy="18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>
                  <a:off x="1752120" y="2057400"/>
                  <a:ext cx="1875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73120" y="1446840"/>
                  <a:ext cx="47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446200" y="23612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876320" y="18882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978280" y="18882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522880" y="1752120"/>
                  <a:ext cx="354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。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 flipV="1">
                <a:off x="2590560" y="1371600"/>
                <a:ext cx="0" cy="752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2590560" y="1523880"/>
                <a:ext cx="0" cy="60984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1850760" y="30628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’cl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105520" y="1143000"/>
            <a:ext cx="1981080" cy="2485440"/>
            <a:chOff x="5105520" y="1143000"/>
            <a:chExt cx="1981080" cy="2485440"/>
          </a:xfrm>
        </p:grpSpPr>
        <p:sp>
          <p:nvSpPr>
            <p:cNvPr id="457" name=""/>
            <p:cNvSpPr/>
            <p:nvPr/>
          </p:nvSpPr>
          <p:spPr>
            <a:xfrm>
              <a:off x="5717160" y="304704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hal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5105520" y="1143000"/>
              <a:ext cx="1981080" cy="1905120"/>
              <a:chOff x="5105520" y="1143000"/>
              <a:chExt cx="1981080" cy="190512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5105520" y="1143000"/>
                <a:ext cx="1981080" cy="1905120"/>
                <a:chOff x="5105520" y="1143000"/>
                <a:chExt cx="1981080" cy="19051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105520" y="1143000"/>
                  <a:ext cx="1981080" cy="190512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257800" y="1295280"/>
                  <a:ext cx="1675800" cy="1600200"/>
                </a:xfrm>
                <a:prstGeom prst="flowChartConnector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6096240" y="1295640"/>
                <a:ext cx="0" cy="18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747120" y="2075040"/>
                <a:ext cx="18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96240" y="2708280"/>
                <a:ext cx="0" cy="187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257440" y="2057400"/>
                <a:ext cx="187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78440" y="144684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51520" y="2361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81640" y="188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83600" y="188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28200" y="175212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H="1">
              <a:off x="5929560" y="2101680"/>
              <a:ext cx="154440" cy="5148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5880" y="2133720"/>
              <a:ext cx="0" cy="7524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029200" y="3886200"/>
            <a:ext cx="1981080" cy="2515680"/>
            <a:chOff x="5029200" y="3886200"/>
            <a:chExt cx="1981080" cy="2515680"/>
          </a:xfrm>
        </p:grpSpPr>
        <p:grpSp>
          <p:nvGrpSpPr>
            <p:cNvPr id="474" name=""/>
            <p:cNvGrpSpPr/>
            <p:nvPr/>
          </p:nvGrpSpPr>
          <p:grpSpPr>
            <a:xfrm>
              <a:off x="5029200" y="3886200"/>
              <a:ext cx="1981080" cy="2515680"/>
              <a:chOff x="5029200" y="3886200"/>
              <a:chExt cx="1981080" cy="2515680"/>
            </a:xfrm>
          </p:grpSpPr>
          <p:sp>
            <p:nvSpPr>
              <p:cNvPr id="475" name=""/>
              <p:cNvSpPr/>
              <p:nvPr/>
            </p:nvSpPr>
            <p:spPr>
              <a:xfrm>
                <a:off x="5785560" y="582048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t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5029200" y="3886200"/>
                <a:ext cx="1981080" cy="1905120"/>
                <a:chOff x="5029200" y="3886200"/>
                <a:chExt cx="1981080" cy="190512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5029200" y="3886200"/>
                  <a:ext cx="1981080" cy="1905120"/>
                  <a:chOff x="5029200" y="3886200"/>
                  <a:chExt cx="1981080" cy="190512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029200" y="3886200"/>
                    <a:ext cx="1981080" cy="1905120"/>
                    <a:chOff x="5029200" y="3886200"/>
                    <a:chExt cx="1981080" cy="190512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5029200" y="3886200"/>
                      <a:ext cx="1981080" cy="1905120"/>
                    </a:xfrm>
                    <a:prstGeom prst="flowChartConnector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5181480" y="4038480"/>
                      <a:ext cx="1675800" cy="1600200"/>
                    </a:xfrm>
                    <a:prstGeom prst="flowChartConnector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6019560" y="4038480"/>
                    <a:ext cx="0" cy="1875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6670080" y="4818240"/>
                    <a:ext cx="18756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019560" y="5451480"/>
                    <a:ext cx="0" cy="1872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5181480" y="480060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5801760" y="4190040"/>
                    <a:ext cx="473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1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75200" y="510444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3053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4069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951880" y="4494960"/>
                    <a:ext cx="35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5181480" y="4114800"/>
                  <a:ext cx="838080" cy="1523880"/>
                  <a:chOff x="5181480" y="4114800"/>
                  <a:chExt cx="838080" cy="1523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>
                    <a:off x="5257440" y="411480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5181480" y="4114800"/>
                    <a:ext cx="838080" cy="7621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>
                    <a:off x="5257080" y="4343400"/>
                    <a:ext cx="762120" cy="6858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V="1">
                    <a:off x="5333760" y="4571640"/>
                    <a:ext cx="685800" cy="609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5409720" y="4800600"/>
                    <a:ext cx="609480" cy="5335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>
                    <a:off x="5486040" y="502920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5638680" y="5257440"/>
                    <a:ext cx="380880" cy="304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5790600" y="54100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9" name=""/>
            <p:cNvGrpSpPr/>
            <p:nvPr/>
          </p:nvGrpSpPr>
          <p:grpSpPr>
            <a:xfrm>
              <a:off x="5333400" y="4833720"/>
              <a:ext cx="696600" cy="548280"/>
              <a:chOff x="5333400" y="4833720"/>
              <a:chExt cx="696600" cy="54828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5726880" y="4833720"/>
                <a:ext cx="303120" cy="5482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5333400" y="4876920"/>
                <a:ext cx="685800" cy="3808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1600200" y="3886200"/>
            <a:ext cx="1981080" cy="2439360"/>
            <a:chOff x="1600200" y="3886200"/>
            <a:chExt cx="1981080" cy="2439360"/>
          </a:xfrm>
        </p:grpSpPr>
        <p:grpSp>
          <p:nvGrpSpPr>
            <p:cNvPr id="503" name=""/>
            <p:cNvGrpSpPr/>
            <p:nvPr/>
          </p:nvGrpSpPr>
          <p:grpSpPr>
            <a:xfrm>
              <a:off x="1600200" y="3886200"/>
              <a:ext cx="1981080" cy="2439360"/>
              <a:chOff x="1600200" y="3886200"/>
              <a:chExt cx="1981080" cy="2439360"/>
            </a:xfrm>
          </p:grpSpPr>
          <p:sp>
            <p:nvSpPr>
              <p:cNvPr id="504" name=""/>
              <p:cNvSpPr/>
              <p:nvPr/>
            </p:nvSpPr>
            <p:spPr>
              <a:xfrm>
                <a:off x="2188080" y="5744160"/>
                <a:ext cx="90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pa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600200" y="3886200"/>
                <a:ext cx="1981080" cy="1905120"/>
                <a:chOff x="1600200" y="3886200"/>
                <a:chExt cx="1981080" cy="190512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1600200" y="3886200"/>
                  <a:ext cx="1981080" cy="1905120"/>
                  <a:chOff x="1600200" y="3886200"/>
                  <a:chExt cx="1981080" cy="1905120"/>
                </a:xfrm>
              </p:grpSpPr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1600200" y="3886200"/>
                    <a:ext cx="1981080" cy="1905120"/>
                    <a:chOff x="1600200" y="3886200"/>
                    <a:chExt cx="1981080" cy="19051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1600200" y="3886200"/>
                      <a:ext cx="1981080" cy="1905120"/>
                    </a:xfrm>
                    <a:prstGeom prst="flowChartConnector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752480" y="4038480"/>
                      <a:ext cx="1675800" cy="1600200"/>
                    </a:xfrm>
                    <a:prstGeom prst="flowChartConnector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0" name=""/>
                  <p:cNvSpPr/>
                  <p:nvPr/>
                </p:nvSpPr>
                <p:spPr>
                  <a:xfrm>
                    <a:off x="2590920" y="4038840"/>
                    <a:ext cx="0" cy="1872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3241800" y="481824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590920" y="5451480"/>
                    <a:ext cx="0" cy="1875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1752120" y="4800600"/>
                    <a:ext cx="18756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373120" y="4190040"/>
                    <a:ext cx="473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1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446200" y="510444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8763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97828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522880" y="4495320"/>
                    <a:ext cx="35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2590560" y="4114440"/>
                  <a:ext cx="838080" cy="1523880"/>
                  <a:chOff x="2590560" y="4114440"/>
                  <a:chExt cx="838080" cy="152388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V="1">
                    <a:off x="2819160" y="518112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2590560" y="4876200"/>
                    <a:ext cx="838080" cy="7621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2590920" y="4723920"/>
                    <a:ext cx="762120" cy="6858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2590560" y="4572000"/>
                    <a:ext cx="685800" cy="609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2590920" y="4419000"/>
                    <a:ext cx="609480" cy="5335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V="1">
                    <a:off x="2590560" y="426672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>
                    <a:off x="2590560" y="4190760"/>
                    <a:ext cx="380880" cy="304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V="1">
                    <a:off x="2590920" y="41144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8" name=""/>
            <p:cNvSpPr/>
            <p:nvPr/>
          </p:nvSpPr>
          <p:spPr>
            <a:xfrm flipH="1">
              <a:off x="2293200" y="4846320"/>
              <a:ext cx="287280" cy="3135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2590920" y="4647960"/>
              <a:ext cx="76176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833400" y="456480"/>
            <a:ext cx="1381320" cy="5549760"/>
            <a:chOff x="833400" y="456480"/>
            <a:chExt cx="1381320" cy="5549760"/>
          </a:xfrm>
        </p:grpSpPr>
        <p:sp>
          <p:nvSpPr>
            <p:cNvPr id="531" name=""/>
            <p:cNvSpPr/>
            <p:nvPr/>
          </p:nvSpPr>
          <p:spPr>
            <a:xfrm>
              <a:off x="833400" y="456480"/>
              <a:ext cx="1376280" cy="520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8080" y="1294560"/>
              <a:ext cx="137664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0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8080" y="2299680"/>
              <a:ext cx="137664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8080" y="3290040"/>
              <a:ext cx="137664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8080" y="4190400"/>
              <a:ext cx="13766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8080" y="5485680"/>
              <a:ext cx="1376640" cy="520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2278080" y="45648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/ eight o’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2680" y="129456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ve / five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91120" y="2057400"/>
            <a:ext cx="5801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fteen / fifteen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quarter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59800" y="3276000"/>
            <a:ext cx="51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thirty /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lf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23800" y="41904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orty / twenty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61520" y="5049720"/>
            <a:ext cx="319212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fty-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fteen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quarter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CLOCK7" descr=""/>
          <p:cNvPicPr/>
          <p:nvPr/>
        </p:nvPicPr>
        <p:blipFill>
          <a:blip r:embed="rId7"/>
          <a:stretch/>
        </p:blipFill>
        <p:spPr>
          <a:xfrm>
            <a:off x="7620120" y="5181480"/>
            <a:ext cx="122400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915480" y="791280"/>
            <a:ext cx="7355880" cy="1800720"/>
            <a:chOff x="915480" y="791280"/>
            <a:chExt cx="7355880" cy="1800720"/>
          </a:xfrm>
        </p:grpSpPr>
        <p:sp>
          <p:nvSpPr>
            <p:cNvPr id="545" name=""/>
            <p:cNvSpPr/>
            <p:nvPr/>
          </p:nvSpPr>
          <p:spPr>
            <a:xfrm>
              <a:off x="3368520" y="791280"/>
              <a:ext cx="188928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the Rea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15480" y="2010600"/>
              <a:ext cx="735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r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rs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Jim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ary Re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828800" y="1371600"/>
              <a:ext cx="236232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581280" y="1371600"/>
              <a:ext cx="60984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1371600"/>
              <a:ext cx="1143000" cy="838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91120" y="1371600"/>
              <a:ext cx="2819160" cy="838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197000" cy="16254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70320" y="2772000"/>
            <a:ext cx="835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Zha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Whites are having supper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Wangs are going to see you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685800" y="225360"/>
            <a:ext cx="7904160" cy="5943240"/>
            <a:chOff x="685800" y="225360"/>
            <a:chExt cx="7904160" cy="5943240"/>
          </a:xfrm>
        </p:grpSpPr>
        <p:sp>
          <p:nvSpPr>
            <p:cNvPr id="554" name=""/>
            <p:cNvSpPr/>
            <p:nvPr/>
          </p:nvSpPr>
          <p:spPr>
            <a:xfrm>
              <a:off x="905040" y="225360"/>
              <a:ext cx="768492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Shall I/we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ve no idea.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think s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d love t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have quite a lot of homework to 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y don’t you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t’s make it at nine o’clock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" y="1295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80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5800" y="2743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5800" y="3505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800" y="4191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4952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5800" y="5715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7391520" y="4995720"/>
            <a:ext cx="11491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838520" y="1050840"/>
            <a:ext cx="549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ainly Re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86000" y="303840"/>
            <a:ext cx="54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1— Unit 7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短语及固定表达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8760" y="927000"/>
            <a:ext cx="830052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s/next term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piece of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lcome to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doesn’t ma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y bus/train/bike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d like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kind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 nigh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the ope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e ov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Mid-Autumn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ood night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l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thing much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ood idea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fe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ve a sw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7612200" y="4678200"/>
            <a:ext cx="998280" cy="17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1840" y="433440"/>
            <a:ext cx="767268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time for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xt week/month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lp… with…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u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t 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car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uch bigg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hard to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har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ly a 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ve no idea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ve a goo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the tim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goo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little earli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must com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tch a gam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n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8301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790560" y="57744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复习时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315800" y="1400760"/>
            <a:ext cx="6631920" cy="3552840"/>
            <a:chOff x="1315800" y="1400760"/>
            <a:chExt cx="6631920" cy="3552840"/>
          </a:xfrm>
        </p:grpSpPr>
        <p:sp>
          <p:nvSpPr>
            <p:cNvPr id="572" name=""/>
            <p:cNvSpPr/>
            <p:nvPr/>
          </p:nvSpPr>
          <p:spPr>
            <a:xfrm>
              <a:off x="1754640" y="1400760"/>
              <a:ext cx="606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1. do/does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一般现在时态（习惯性、经常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15800" y="2848320"/>
              <a:ext cx="54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2. be doing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现在进行时态 （进行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90040" y="4372200"/>
              <a:ext cx="645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3. be going to do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表示将要发生的动作或状态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829080" y="1980360"/>
            <a:ext cx="7606080" cy="3507120"/>
            <a:chOff x="829080" y="1980360"/>
            <a:chExt cx="7606080" cy="3507120"/>
          </a:xfrm>
        </p:grpSpPr>
        <p:sp>
          <p:nvSpPr>
            <p:cNvPr id="576" name=""/>
            <p:cNvSpPr/>
            <p:nvPr/>
          </p:nvSpPr>
          <p:spPr>
            <a:xfrm>
              <a:off x="867600" y="1980360"/>
              <a:ext cx="75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swims every day in the summ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2760" y="3458160"/>
              <a:ext cx="70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is swimming in the river no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9080" y="4906080"/>
              <a:ext cx="65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is going to swim tomorro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110760" y="1980360"/>
            <a:ext cx="4563360" cy="3507120"/>
            <a:chOff x="3110760" y="1980360"/>
            <a:chExt cx="4563360" cy="3507120"/>
          </a:xfrm>
        </p:grpSpPr>
        <p:sp>
          <p:nvSpPr>
            <p:cNvPr id="580" name=""/>
            <p:cNvSpPr/>
            <p:nvPr/>
          </p:nvSpPr>
          <p:spPr>
            <a:xfrm>
              <a:off x="3110760" y="1980360"/>
              <a:ext cx="214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every d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26160" y="3458160"/>
              <a:ext cx="10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n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5680" y="4906080"/>
              <a:ext cx="22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tomorr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792920" y="5334120"/>
            <a:ext cx="9273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810000" y="840600"/>
            <a:ext cx="777492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Listen, who ________ (sing) in the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____ they always _____ (go) to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the mo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We ___________ (see) Uncle W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s ev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The students _________ (have) classes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Kate is a student. She _______ (stud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a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4720" y="30384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7924680" y="5046840"/>
            <a:ext cx="795600" cy="158256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761760" y="928080"/>
            <a:ext cx="8145720" cy="4635360"/>
            <a:chOff x="761760" y="928080"/>
            <a:chExt cx="8145720" cy="4635360"/>
          </a:xfrm>
        </p:grpSpPr>
        <p:sp>
          <p:nvSpPr>
            <p:cNvPr id="588" name=""/>
            <p:cNvSpPr/>
            <p:nvPr/>
          </p:nvSpPr>
          <p:spPr>
            <a:xfrm>
              <a:off x="884880" y="928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Li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38600" y="1675800"/>
              <a:ext cx="14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alwa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176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this eve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70760" y="43426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67320" y="5042880"/>
              <a:ext cx="32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Kate is a studen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3000960" y="9136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s s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14000" y="161388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o                         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97600" y="2985480"/>
            <a:ext cx="28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s going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1680" y="4280760"/>
            <a:ext cx="21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are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83560" y="5042880"/>
            <a:ext cx="15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000" y="1344600"/>
            <a:ext cx="741204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want to buy an evening 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need some paper to write a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ease hand in your papers, ple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1320" y="2011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报纸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71160" y="2925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论文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67560" y="3763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卷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60720" y="4906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橘子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9040" y="58212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橘子汁（不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339840"/>
            <a:ext cx="6702480" cy="1263240"/>
            <a:chOff x="457200" y="339840"/>
            <a:chExt cx="6702480" cy="1263240"/>
          </a:xfrm>
        </p:grpSpPr>
        <p:sp>
          <p:nvSpPr>
            <p:cNvPr id="78" name=""/>
            <p:cNvSpPr/>
            <p:nvPr/>
          </p:nvSpPr>
          <p:spPr>
            <a:xfrm>
              <a:off x="1860120" y="339840"/>
              <a:ext cx="5299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paper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既可以作可数名词，也可以作不可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，但所表达的意思不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62712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33520" y="4248000"/>
            <a:ext cx="6212520" cy="1848600"/>
            <a:chOff x="533520" y="4248000"/>
            <a:chExt cx="6212520" cy="1848600"/>
          </a:xfrm>
        </p:grpSpPr>
        <p:sp>
          <p:nvSpPr>
            <p:cNvPr id="81" name=""/>
            <p:cNvSpPr/>
            <p:nvPr/>
          </p:nvSpPr>
          <p:spPr>
            <a:xfrm>
              <a:off x="627840" y="4248000"/>
              <a:ext cx="611820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n orange is orang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Would you like some orang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4648320"/>
              <a:ext cx="228600" cy="3045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59000" y="380160"/>
            <a:ext cx="57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英文中的“看”：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look, see, read, 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85800" y="2471760"/>
            <a:ext cx="7276680" cy="1263240"/>
            <a:chOff x="685800" y="2471760"/>
            <a:chExt cx="7276680" cy="1263240"/>
          </a:xfrm>
        </p:grpSpPr>
        <p:sp>
          <p:nvSpPr>
            <p:cNvPr id="600" name=""/>
            <p:cNvSpPr/>
            <p:nvPr/>
          </p:nvSpPr>
          <p:spPr>
            <a:xfrm>
              <a:off x="1254600" y="2471760"/>
              <a:ext cx="67078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ee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看见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看到”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强调“看”的结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ook outside! Can you see a ca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27428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85800" y="3843720"/>
            <a:ext cx="6571080" cy="1263240"/>
            <a:chOff x="685800" y="3843720"/>
            <a:chExt cx="6571080" cy="1263240"/>
          </a:xfrm>
        </p:grpSpPr>
        <p:sp>
          <p:nvSpPr>
            <p:cNvPr id="603" name=""/>
            <p:cNvSpPr/>
            <p:nvPr/>
          </p:nvSpPr>
          <p:spPr>
            <a:xfrm>
              <a:off x="685800" y="414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86840" y="3843720"/>
              <a:ext cx="61700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watch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观看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注视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注意看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atch what I do, and learn i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85800" y="1100520"/>
            <a:ext cx="6944760" cy="1263240"/>
            <a:chOff x="685800" y="1100520"/>
            <a:chExt cx="6944760" cy="1263240"/>
          </a:xfrm>
        </p:grpSpPr>
        <p:sp>
          <p:nvSpPr>
            <p:cNvPr id="606" name=""/>
            <p:cNvSpPr/>
            <p:nvPr/>
          </p:nvSpPr>
          <p:spPr>
            <a:xfrm>
              <a:off x="905400" y="1100520"/>
              <a:ext cx="67251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look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看……”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强调“看”的动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ook at the blackboard, please.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5800" y="5180040"/>
            <a:ext cx="6276240" cy="1263240"/>
            <a:chOff x="685800" y="5180040"/>
            <a:chExt cx="6276240" cy="1263240"/>
          </a:xfrm>
        </p:grpSpPr>
        <p:sp>
          <p:nvSpPr>
            <p:cNvPr id="609" name=""/>
            <p:cNvSpPr/>
            <p:nvPr/>
          </p:nvSpPr>
          <p:spPr>
            <a:xfrm>
              <a:off x="846720" y="5180040"/>
              <a:ext cx="61153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read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阅读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读书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朗读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read newspapers every day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5451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295280" cy="19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180880" y="467280"/>
            <a:ext cx="1003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电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地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电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比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380880" y="431640"/>
            <a:ext cx="1724040" cy="18543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630240" y="459360"/>
            <a:ext cx="5027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e a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e a p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ch T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ch a match/g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1828800" y="643320"/>
            <a:ext cx="5405400" cy="1263240"/>
            <a:chOff x="1828800" y="643320"/>
            <a:chExt cx="5405400" cy="1263240"/>
          </a:xfrm>
        </p:grpSpPr>
        <p:sp>
          <p:nvSpPr>
            <p:cNvPr id="616" name=""/>
            <p:cNvSpPr/>
            <p:nvPr/>
          </p:nvSpPr>
          <p:spPr>
            <a:xfrm>
              <a:off x="2141640" y="64332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am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als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a teach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28800" y="914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828800" y="2090880"/>
            <a:ext cx="5357160" cy="1263240"/>
            <a:chOff x="1828800" y="2090880"/>
            <a:chExt cx="5357160" cy="1263240"/>
          </a:xfrm>
        </p:grpSpPr>
        <p:sp>
          <p:nvSpPr>
            <p:cNvPr id="619" name=""/>
            <p:cNvSpPr/>
            <p:nvPr/>
          </p:nvSpPr>
          <p:spPr>
            <a:xfrm>
              <a:off x="2062800" y="2090880"/>
              <a:ext cx="51231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father likes reading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als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like read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28800" y="2362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828800" y="4834080"/>
            <a:ext cx="5329080" cy="1263240"/>
            <a:chOff x="1828800" y="4834080"/>
            <a:chExt cx="5329080" cy="1263240"/>
          </a:xfrm>
        </p:grpSpPr>
        <p:sp>
          <p:nvSpPr>
            <p:cNvPr id="622" name=""/>
            <p:cNvSpPr/>
            <p:nvPr/>
          </p:nvSpPr>
          <p:spPr>
            <a:xfrm>
              <a:off x="2065320" y="483408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Me too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28800" y="5105160"/>
              <a:ext cx="228600" cy="2282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828800" y="3462480"/>
            <a:ext cx="5329080" cy="1263240"/>
            <a:chOff x="1828800" y="3462480"/>
            <a:chExt cx="5329080" cy="1263240"/>
          </a:xfrm>
        </p:grpSpPr>
        <p:sp>
          <p:nvSpPr>
            <p:cNvPr id="625" name=""/>
            <p:cNvSpPr/>
            <p:nvPr/>
          </p:nvSpPr>
          <p:spPr>
            <a:xfrm>
              <a:off x="2065320" y="346248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am a teacher,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to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2880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7238880" y="4876920"/>
            <a:ext cx="1494000" cy="15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685800" y="422280"/>
            <a:ext cx="7644960" cy="3165840"/>
            <a:chOff x="685800" y="422280"/>
            <a:chExt cx="7644960" cy="3165840"/>
          </a:xfrm>
        </p:grpSpPr>
        <p:sp>
          <p:nvSpPr>
            <p:cNvPr id="629" name=""/>
            <p:cNvSpPr/>
            <p:nvPr/>
          </p:nvSpPr>
          <p:spPr>
            <a:xfrm>
              <a:off x="849960" y="422280"/>
              <a:ext cx="7480800" cy="31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交际用语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omic Sans MS"/>
                </a:rPr>
                <a:t>Sorry, I’m busy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omic Sans MS"/>
                </a:rPr>
                <a:t>Football is a very popular gam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00" y="3048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505320" y="4702320"/>
            <a:ext cx="198108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89720" y="457200"/>
            <a:ext cx="32497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hort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短的；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long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高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9960" y="2603520"/>
            <a:ext cx="341172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pen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time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gir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160" y="2603520"/>
            <a:ext cx="341172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long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pen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long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time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tal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gir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高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14800" y="5105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943600" y="571680"/>
            <a:ext cx="2100240" cy="67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477120" y="571680"/>
            <a:ext cx="2100240" cy="6746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324480" y="952560"/>
            <a:ext cx="1905120" cy="571320"/>
            <a:chOff x="6324480" y="952560"/>
            <a:chExt cx="1905120" cy="57132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6324480" y="952560"/>
              <a:ext cx="16002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6629400" y="1009800"/>
              <a:ext cx="1600200" cy="514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301760" y="434880"/>
            <a:ext cx="4911120" cy="1361160"/>
            <a:chOff x="1301760" y="434880"/>
            <a:chExt cx="4911120" cy="1361160"/>
          </a:xfrm>
        </p:grpSpPr>
        <p:sp>
          <p:nvSpPr>
            <p:cNvPr id="93" name=""/>
            <p:cNvSpPr/>
            <p:nvPr/>
          </p:nvSpPr>
          <p:spPr>
            <a:xfrm>
              <a:off x="1702440" y="434880"/>
              <a:ext cx="4510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时间 （不可数名词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time to go to be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01760" y="6858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95280" y="1981080"/>
            <a:ext cx="4045680" cy="2628360"/>
            <a:chOff x="1295280" y="1981080"/>
            <a:chExt cx="4045680" cy="2628360"/>
          </a:xfrm>
        </p:grpSpPr>
        <p:sp>
          <p:nvSpPr>
            <p:cNvPr id="96" name=""/>
            <p:cNvSpPr/>
            <p:nvPr/>
          </p:nvSpPr>
          <p:spPr>
            <a:xfrm>
              <a:off x="2136960" y="1981080"/>
              <a:ext cx="3204000" cy="26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ime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次数 （可数名词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next 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ree tim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five tim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95280" y="22446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295280" y="4876920"/>
            <a:ext cx="3370320" cy="1068840"/>
            <a:chOff x="1295280" y="4876920"/>
            <a:chExt cx="3370320" cy="1068840"/>
          </a:xfrm>
        </p:grpSpPr>
        <p:sp>
          <p:nvSpPr>
            <p:cNvPr id="99" name=""/>
            <p:cNvSpPr/>
            <p:nvPr/>
          </p:nvSpPr>
          <p:spPr>
            <a:xfrm>
              <a:off x="1295280" y="495288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4880" y="4876920"/>
              <a:ext cx="333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onc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一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wic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两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05440" y="4343400"/>
            <a:ext cx="15004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4952880"/>
            <a:ext cx="120816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219320" y="423720"/>
            <a:ext cx="6272640" cy="5212080"/>
            <a:chOff x="1219320" y="423720"/>
            <a:chExt cx="6272640" cy="5212080"/>
          </a:xfrm>
        </p:grpSpPr>
        <p:sp>
          <p:nvSpPr>
            <p:cNvPr id="104" name=""/>
            <p:cNvSpPr/>
            <p:nvPr/>
          </p:nvSpPr>
          <p:spPr>
            <a:xfrm>
              <a:off x="1378440" y="423720"/>
              <a:ext cx="611352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elcome back to school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ay I come in, please?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sorry I’m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 doesn’t matt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ay I borrow/have…, pleas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re, take this on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152388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228600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9320" y="297180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19320" y="373392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9320" y="441972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518148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8:01:13Z</dcterms:created>
  <dc:creator>陆珉 侯淑珍</dc:creator>
  <dc:description/>
  <dc:language>en-US</dc:language>
  <cp:lastModifiedBy>a</cp:lastModifiedBy>
  <dcterms:modified xsi:type="dcterms:W3CDTF">2001-03-13T06:21:05Z</dcterms:modified>
  <cp:revision>126</cp:revision>
  <dc:subject/>
  <dc:title>没有幻灯片标题</dc:title>
</cp:coreProperties>
</file>