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6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3.wmf" ContentType="image/x-wmf"/>
  <Override PartName="/ppt/media/image15.wmf" ContentType="image/x-wmf"/>
  <Override PartName="/ppt/media/image1.jpeg" ContentType="image/jpeg"/>
  <Override PartName="/ppt/media/image24.wmf" ContentType="image/x-wmf"/>
  <Override PartName="/ppt/media/CAMERA.WAV" ContentType="audio/x-wav"/>
  <Override PartName="/ppt/media/image12.wmf" ContentType="image/x-wmf"/>
  <Override PartName="/ppt/media/image8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29.wmf" ContentType="image/x-wmf"/>
  <Override PartName="/ppt/media/image38.jpeg" ContentType="image/jpeg"/>
  <Override PartName="/ppt/media/image31.wmf" ContentType="image/x-wmf"/>
  <Override PartName="/ppt/media/image6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B898-8118-4B2F-AA7C-3EB390D6C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13BA-2CBA-457D-A417-82478773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3E6C-B753-4C9F-BE24-D1EF2D34B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596F-602E-4C4F-B7EA-6828E068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C351-C0A9-412F-9198-9B6BE297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F47A-1E04-4474-95F6-40A67A75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630A-A52A-4468-81AB-1856E4DC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04B1-2631-4C01-968C-0F917C83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D56D-FE7D-43AA-9AD0-83E18547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1B19-080F-41A5-A3A6-8E6A14D7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7984-40DF-4FB9-9072-BB97CED0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0EBD-7691-4C63-A7DB-14E10D2E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162E-9AD3-4BF1-BC2D-67D3B7D06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image" Target="../media/image30.wmf"/><Relationship Id="rId5" Type="http://schemas.openxmlformats.org/officeDocument/2006/relationships/image" Target="../media/image30.wmf"/><Relationship Id="rId6" Type="http://schemas.openxmlformats.org/officeDocument/2006/relationships/image" Target="../media/image30.wmf"/><Relationship Id="rId7" Type="http://schemas.openxmlformats.org/officeDocument/2006/relationships/image" Target="../media/image30.wmf"/><Relationship Id="rId8" Type="http://schemas.openxmlformats.org/officeDocument/2006/relationships/image" Target="../media/image30.wmf"/><Relationship Id="rId9" Type="http://schemas.openxmlformats.org/officeDocument/2006/relationships/image" Target="../media/image30.wmf"/><Relationship Id="rId10" Type="http://schemas.openxmlformats.org/officeDocument/2006/relationships/image" Target="../media/image30.wmf"/><Relationship Id="rId11" Type="http://schemas.openxmlformats.org/officeDocument/2006/relationships/image" Target="../media/image30.wmf"/><Relationship Id="rId12" Type="http://schemas.openxmlformats.org/officeDocument/2006/relationships/image" Target="../media/image30.wmf"/><Relationship Id="rId13" Type="http://schemas.openxmlformats.org/officeDocument/2006/relationships/image" Target="../media/image30.wmf"/><Relationship Id="rId14" Type="http://schemas.openxmlformats.org/officeDocument/2006/relationships/audio" Target="../media/CAMERA.WAV"/><Relationship Id="rId1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1.wmf"/><Relationship Id="rId3" Type="http://schemas.openxmlformats.org/officeDocument/2006/relationships/image" Target="../media/image31.wmf"/><Relationship Id="rId4" Type="http://schemas.openxmlformats.org/officeDocument/2006/relationships/image" Target="../media/image31.wmf"/><Relationship Id="rId5" Type="http://schemas.openxmlformats.org/officeDocument/2006/relationships/image" Target="../media/image31.wmf"/><Relationship Id="rId6" Type="http://schemas.openxmlformats.org/officeDocument/2006/relationships/image" Target="../media/image31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3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image" Target="../media/image36.jpeg"/><Relationship Id="rId5" Type="http://schemas.openxmlformats.org/officeDocument/2006/relationships/image" Target="../media/image36.jpeg"/><Relationship Id="rId6" Type="http://schemas.openxmlformats.org/officeDocument/2006/relationships/image" Target="../media/image36.jpeg"/><Relationship Id="rId7" Type="http://schemas.openxmlformats.org/officeDocument/2006/relationships/image" Target="../media/image37.wmf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80320" y="45648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九年义务教育三年制初级中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20560" y="1644120"/>
            <a:ext cx="420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cc"/>
                </a:solidFill>
                <a:latin typeface="隶书"/>
                <a:ea typeface="隶书"/>
              </a:rPr>
              <a:t>初二英语  上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11800" y="3183840"/>
            <a:ext cx="366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Unit 1— Unit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99880" y="53780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仿宋_GB2312"/>
              </a:rPr>
              <a:t>制作人：邱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848720" y="5410080"/>
            <a:ext cx="1001520" cy="10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68280" y="1160640"/>
            <a:ext cx="8471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Times New Roman"/>
              </a:rPr>
              <a:t>Unit 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Times New Roman"/>
              </a:rPr>
              <a:t>How do you come to school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924680" y="5257800"/>
            <a:ext cx="89244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959560" y="614520"/>
            <a:ext cx="24818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一般现在时：表示动作的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习惯性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或 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经常性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1960" y="1168560"/>
            <a:ext cx="7594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 go to school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e sometimes play basketball afte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50720" y="2743200"/>
            <a:ext cx="7404120" cy="3805200"/>
            <a:chOff x="450720" y="2743200"/>
            <a:chExt cx="7404120" cy="3805200"/>
          </a:xfrm>
        </p:grpSpPr>
        <p:sp>
          <p:nvSpPr>
            <p:cNvPr id="116" name=""/>
            <p:cNvSpPr/>
            <p:nvPr/>
          </p:nvSpPr>
          <p:spPr>
            <a:xfrm>
              <a:off x="450720" y="297324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17040" y="2743200"/>
              <a:ext cx="6337800" cy="38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特别要注意，在英语的一般现在时的使用中，如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主语是第三人称单数，谓语动词也要相应地采用第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三人称单数的形式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She go</a:t>
              </a:r>
              <a:r>
                <a:rPr b="1" i="1" lang="zh-CN" sz="2800" spc="-1" strike="noStrike">
                  <a:solidFill>
                    <a:srgbClr val="ffff00"/>
                  </a:solidFill>
                  <a:latin typeface="Comic Sans MS"/>
                </a:rPr>
                <a:t>es</a:t>
              </a: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 to school every day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Do</a:t>
              </a:r>
              <a:r>
                <a:rPr b="1" i="1" lang="zh-CN" sz="2800" spc="-1" strike="noStrike">
                  <a:solidFill>
                    <a:srgbClr val="ffff00"/>
                  </a:solidFill>
                  <a:latin typeface="Comic Sans MS"/>
                </a:rPr>
                <a:t>es</a:t>
              </a: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 she go to school every day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She do</a:t>
              </a:r>
              <a:r>
                <a:rPr b="1" i="1" lang="zh-CN" sz="2800" spc="-1" strike="noStrike">
                  <a:solidFill>
                    <a:srgbClr val="ffff00"/>
                  </a:solidFill>
                  <a:latin typeface="Comic Sans MS"/>
                </a:rPr>
                <a:t>es</a:t>
              </a: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n’t go to school every day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65280" y="316080"/>
            <a:ext cx="69534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频度副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usually     </a:t>
            </a:r>
            <a:r>
              <a:rPr b="0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often        </a:t>
            </a:r>
            <a:r>
              <a:rPr b="0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some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通常    经常；常常    有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685800"/>
            <a:ext cx="228600" cy="2286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3520" y="2286000"/>
            <a:ext cx="8267040" cy="4382280"/>
            <a:chOff x="533520" y="2286000"/>
            <a:chExt cx="8267040" cy="4382280"/>
          </a:xfrm>
        </p:grpSpPr>
        <p:sp>
          <p:nvSpPr>
            <p:cNvPr id="121" name=""/>
            <p:cNvSpPr/>
            <p:nvPr/>
          </p:nvSpPr>
          <p:spPr>
            <a:xfrm>
              <a:off x="711360" y="2286000"/>
              <a:ext cx="8089200" cy="43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频度副词的位置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 </a:t>
              </a:r>
              <a:r>
                <a:rPr b="1" i="1" lang="zh-CN" sz="3200" spc="-1" strike="noStrike">
                  <a:solidFill>
                    <a:srgbClr val="ffff00"/>
                  </a:solidFill>
                  <a:latin typeface="Comic Sans MS"/>
                </a:rPr>
                <a:t>usually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stay at home on Sunday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Does she </a:t>
              </a:r>
              <a:r>
                <a:rPr b="1" i="1" lang="zh-CN" sz="3200" spc="-1" strike="noStrike">
                  <a:solidFill>
                    <a:srgbClr val="ffff00"/>
                  </a:solidFill>
                  <a:latin typeface="Comic Sans MS"/>
                </a:rPr>
                <a:t>often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come here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ey don’t </a:t>
              </a:r>
              <a:r>
                <a:rPr b="1" i="1" lang="zh-CN" sz="3200" spc="-1" strike="noStrike">
                  <a:solidFill>
                    <a:srgbClr val="ffff00"/>
                  </a:solidFill>
                  <a:latin typeface="Comic Sans MS"/>
                </a:rPr>
                <a:t>often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watch TV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ff00"/>
                  </a:solidFill>
                  <a:latin typeface="Comic Sans MS"/>
                </a:rPr>
                <a:t>Usually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she gets up late on Sunday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ey play games after class </a:t>
              </a:r>
              <a:r>
                <a:rPr b="1" i="1" lang="zh-CN" sz="3200" spc="-1" strike="noStrike">
                  <a:solidFill>
                    <a:srgbClr val="ffff00"/>
                  </a:solidFill>
                  <a:latin typeface="Comic Sans MS"/>
                </a:rPr>
                <a:t>sometimes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520" y="26668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059680" y="380880"/>
            <a:ext cx="779400" cy="18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08200" y="1143000"/>
            <a:ext cx="9324720" cy="36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How do you usually come/go to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I usually come/go to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y bik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y b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y car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y t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y plane/air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y ship/sea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35080" y="63972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运用某种交通工具去某地的表达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653920" y="4754520"/>
            <a:ext cx="2070360" cy="581400"/>
            <a:chOff x="2653920" y="4754520"/>
            <a:chExt cx="2070360" cy="581400"/>
          </a:xfrm>
        </p:grpSpPr>
        <p:sp>
          <p:nvSpPr>
            <p:cNvPr id="127" name=""/>
            <p:cNvSpPr/>
            <p:nvPr/>
          </p:nvSpPr>
          <p:spPr>
            <a:xfrm>
              <a:off x="4343400" y="4952880"/>
              <a:ext cx="380880" cy="304920"/>
            </a:xfrm>
            <a:prstGeom prst="leftArrow">
              <a:avLst>
                <a:gd name="adj1" fmla="val 50000"/>
                <a:gd name="adj2" fmla="val 3122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53920" y="4754520"/>
              <a:ext cx="164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</a:rPr>
                <a:t>on foo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14400" y="5745240"/>
            <a:ext cx="129528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514600" y="5715000"/>
            <a:ext cx="2189160" cy="614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105520" y="5410080"/>
            <a:ext cx="1143000" cy="1008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6477120" y="5410080"/>
            <a:ext cx="194472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110840" y="9907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她每天乘公共汽车去上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32840" y="2178000"/>
            <a:ext cx="72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Lucida Sans"/>
              </a:rPr>
              <a:t>误：</a:t>
            </a:r>
            <a:r>
              <a:rPr b="1" lang="zh-CN" sz="3200" spc="-1" strike="noStrike">
                <a:solidFill>
                  <a:srgbClr val="ffffff"/>
                </a:solidFill>
                <a:latin typeface="Lucida Sans"/>
              </a:rPr>
              <a:t>She by bus to school every day.</a:t>
            </a:r>
            <a:r>
              <a:rPr b="0" lang="zh-CN" sz="3600" spc="-1" strike="noStrike">
                <a:solidFill>
                  <a:srgbClr val="ffff00"/>
                </a:solidFill>
                <a:latin typeface="Webdings"/>
                <a:ea typeface="Webdings"/>
              </a:rPr>
              <a:t>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48160" y="3214080"/>
            <a:ext cx="6029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Lucida Sans"/>
              </a:rPr>
              <a:t>正：</a:t>
            </a:r>
            <a:r>
              <a:rPr b="1" lang="zh-CN" sz="3200" spc="-1" strike="noStrike">
                <a:solidFill>
                  <a:srgbClr val="ffff00"/>
                </a:solidFill>
                <a:latin typeface="Lucida Sans"/>
              </a:rPr>
              <a:t>She goes to school by b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Lucida Sans"/>
              </a:rPr>
              <a:t>every day. </a:t>
            </a:r>
            <a:r>
              <a:rPr b="0" lang="zh-CN" sz="36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04720" y="365040"/>
            <a:ext cx="714600" cy="1540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848720" y="4952880"/>
            <a:ext cx="830160" cy="14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356640" y="791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独一无二的事物前要用定冠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66240" y="761400"/>
            <a:ext cx="96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15960" y="1603800"/>
            <a:ext cx="626292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m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s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s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U.S.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People’s Republic of Ch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685800" y="214200"/>
            <a:ext cx="7533360" cy="3993480"/>
            <a:chOff x="685800" y="214200"/>
            <a:chExt cx="7533360" cy="3993480"/>
          </a:xfrm>
        </p:grpSpPr>
        <p:sp>
          <p:nvSpPr>
            <p:cNvPr id="143" name=""/>
            <p:cNvSpPr/>
            <p:nvPr/>
          </p:nvSpPr>
          <p:spPr>
            <a:xfrm>
              <a:off x="750600" y="214200"/>
              <a:ext cx="7468560" cy="39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交际用语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t’s a fine day for a walk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do you usually come to school?</a:t>
              </a:r>
              <a:br>
                <a:rPr sz="3200"/>
              </a:b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 usually come to school by bik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5800" y="16765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5800" y="26668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" y="3657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733920" y="4876920"/>
            <a:ext cx="1981080" cy="15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582560" y="1050840"/>
            <a:ext cx="6004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Unit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Mid-Autumn Da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924680" y="5257800"/>
            <a:ext cx="89244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838080"/>
            <a:ext cx="228600" cy="2286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2960" y="587520"/>
            <a:ext cx="53870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形容词的比较级：表示两者之间的比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形容词的比较级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than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76160" y="1764360"/>
            <a:ext cx="66182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Jim is taller than T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is ball is bigger than that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09480" y="3386520"/>
            <a:ext cx="6535080" cy="1263240"/>
            <a:chOff x="609480" y="3386520"/>
            <a:chExt cx="6535080" cy="1263240"/>
          </a:xfrm>
        </p:grpSpPr>
        <p:sp>
          <p:nvSpPr>
            <p:cNvPr id="154" name=""/>
            <p:cNvSpPr/>
            <p:nvPr/>
          </p:nvSpPr>
          <p:spPr>
            <a:xfrm>
              <a:off x="609480" y="3657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31000" y="3386520"/>
              <a:ext cx="48135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形容词的最高级：表示三者或三者以上进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比较，程度最高的一个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885240" y="4659840"/>
            <a:ext cx="73497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ary is the tallest girl in ou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y bag is the heaviest of the th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819080" y="188280"/>
            <a:ext cx="5241960" cy="29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形容词比较级、最高级的变化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mall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mall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e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mall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nic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nice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nice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big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big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ge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big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avy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av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e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av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29240" y="3129840"/>
            <a:ext cx="52693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词尾直接加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-er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或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-est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e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结尾的词，在词尾加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-r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或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-st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重读闭音节的词，词尾只有一个辅音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双写该辅音后，加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-er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或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-est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4)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辅音字母加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y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结尾的词，变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y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为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i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后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再加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-er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或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-est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67968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81800" y="1050840"/>
            <a:ext cx="5197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Unit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Welcome back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924680" y="5257800"/>
            <a:ext cx="89244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924680" y="5029200"/>
            <a:ext cx="795600" cy="1582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44560" y="216000"/>
            <a:ext cx="7386120" cy="58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xerci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. This cake is ________ (big) than that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. Lily is ____________ (young) in he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. This watch is ________ (dear) than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ne, but it’s ________ (nic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4. My ruler is ________ than Jim’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Jim’s is ________ than Lily’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ine is __________ of the three. (lo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. Lucy is ________ (tall) than I 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88240" y="1004040"/>
            <a:ext cx="13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b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23000" y="1689840"/>
            <a:ext cx="25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the young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02880" y="237564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dea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27120" y="3671280"/>
            <a:ext cx="13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lo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87040" y="2985480"/>
            <a:ext cx="10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ni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41320" y="4280760"/>
            <a:ext cx="13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lo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30560" y="4890240"/>
            <a:ext cx="21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the long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39200" y="5485680"/>
            <a:ext cx="199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the tall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22960" y="548568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/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1371600" y="457200"/>
            <a:ext cx="7086600" cy="3089160"/>
            <a:chOff x="1371600" y="457200"/>
            <a:chExt cx="7086600" cy="308916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3124080" y="1981080"/>
              <a:ext cx="1239840" cy="13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2"/>
            <a:stretch/>
          </p:blipFill>
          <p:spPr>
            <a:xfrm>
              <a:off x="4647960" y="2133720"/>
              <a:ext cx="760680" cy="10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3"/>
            <a:stretch/>
          </p:blipFill>
          <p:spPr>
            <a:xfrm>
              <a:off x="5664240" y="1447920"/>
              <a:ext cx="1422360" cy="209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4"/>
            <a:stretch/>
          </p:blipFill>
          <p:spPr>
            <a:xfrm>
              <a:off x="1371600" y="1641600"/>
              <a:ext cx="1527120" cy="18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1523880" y="457200"/>
              <a:ext cx="2514600" cy="1066680"/>
            </a:xfrm>
            <a:prstGeom prst="wedgeEllipseCallout">
              <a:avLst>
                <a:gd name="adj1" fmla="val -38634"/>
                <a:gd name="adj2" fmla="val 6145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19560" y="457200"/>
              <a:ext cx="2438640" cy="1143000"/>
            </a:xfrm>
            <a:prstGeom prst="cloudCallout">
              <a:avLst>
                <a:gd name="adj1" fmla="val -47657"/>
                <a:gd name="adj2" fmla="val 60694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6103800" y="623880"/>
            <a:ext cx="227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omic Sans MS"/>
              </a:rPr>
              <a:t>How delici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omic Sans MS"/>
              </a:rPr>
              <a:t>they a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608040"/>
            <a:ext cx="227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omic Sans MS"/>
              </a:rPr>
              <a:t>They’re 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omic Sans MS"/>
              </a:rPr>
              <a:t>delici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2080" y="3427560"/>
            <a:ext cx="6073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感叹句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How +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形容词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主语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谓语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i="1" lang="zh-CN" sz="3200" spc="-1" strike="noStrike">
                <a:solidFill>
                  <a:srgbClr val="ffffff"/>
                </a:solidFill>
                <a:latin typeface="Comic Sans MS"/>
              </a:rPr>
              <a:t>How delicious they a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22240" y="114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33520" y="4800600"/>
            <a:ext cx="1261800" cy="1582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580400" y="-44640"/>
            <a:ext cx="5740200" cy="52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Exercis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 Jim’s bag is very 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 They’re very fu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 The mooncakes are very n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That ruler is very l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01240" y="1751760"/>
            <a:ext cx="46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ow light Jim’s bag i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10240" y="2772360"/>
            <a:ext cx="37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ow full they a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6920" y="3839400"/>
            <a:ext cx="614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Comic Sans MS"/>
              </a:rPr>
              <a:t>How nice the mooncakes a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49040" y="4906080"/>
            <a:ext cx="47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ow long that ruler i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1219320" y="304920"/>
            <a:ext cx="5379840" cy="2287440"/>
            <a:chOff x="1219320" y="304920"/>
            <a:chExt cx="5379840" cy="2287440"/>
          </a:xfrm>
        </p:grpSpPr>
        <p:sp>
          <p:nvSpPr>
            <p:cNvPr id="189" name=""/>
            <p:cNvSpPr/>
            <p:nvPr/>
          </p:nvSpPr>
          <p:spPr>
            <a:xfrm>
              <a:off x="1239840" y="304920"/>
              <a:ext cx="535932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感叹句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  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How +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形容词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+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主语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+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谓语！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     </a:t>
              </a:r>
              <a:r>
                <a:rPr b="1" i="1" lang="zh-CN" sz="3200" spc="-1" strike="noStrike">
                  <a:solidFill>
                    <a:srgbClr val="ffffff"/>
                  </a:solidFill>
                  <a:latin typeface="Comic Sans MS"/>
                </a:rPr>
                <a:t>How delicious they are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19320" y="14479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143000" y="2817720"/>
            <a:ext cx="7350120" cy="2287440"/>
            <a:chOff x="1143000" y="2817720"/>
            <a:chExt cx="7350120" cy="2287440"/>
          </a:xfrm>
        </p:grpSpPr>
        <p:sp>
          <p:nvSpPr>
            <p:cNvPr id="192" name=""/>
            <p:cNvSpPr/>
            <p:nvPr/>
          </p:nvSpPr>
          <p:spPr>
            <a:xfrm>
              <a:off x="1385640" y="2817720"/>
              <a:ext cx="710748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What +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名词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+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主语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+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谓语！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ffff"/>
                  </a:solidFill>
                  <a:latin typeface="Comic Sans MS"/>
                </a:rPr>
                <a:t>What a good girl she is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ffff"/>
                  </a:solidFill>
                  <a:latin typeface="Comic Sans MS"/>
                </a:rPr>
                <a:t>What delicious mooncakes they ar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43000" y="32004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104360" y="1218240"/>
            <a:ext cx="1062360" cy="2334240"/>
            <a:chOff x="4104360" y="1218240"/>
            <a:chExt cx="1062360" cy="2334240"/>
          </a:xfrm>
        </p:grpSpPr>
        <p:sp>
          <p:nvSpPr>
            <p:cNvPr id="195" name=""/>
            <p:cNvSpPr/>
            <p:nvPr/>
          </p:nvSpPr>
          <p:spPr>
            <a:xfrm>
              <a:off x="4498200" y="12182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66"/>
                  </a:solidFill>
                  <a:latin typeface="Times New Roman"/>
                </a:rPr>
                <a:t>主语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04360" y="297108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66"/>
                  </a:solidFill>
                  <a:latin typeface="Times New Roman"/>
                </a:rPr>
                <a:t>主语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895480" y="5181480"/>
            <a:ext cx="284652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17520" y="303840"/>
            <a:ext cx="343764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’d like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 would lik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Would you like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343400" y="303840"/>
            <a:ext cx="3276720" cy="1994760"/>
            <a:chOff x="4343400" y="303840"/>
            <a:chExt cx="3276720" cy="1994760"/>
          </a:xfrm>
        </p:grpSpPr>
        <p:sp>
          <p:nvSpPr>
            <p:cNvPr id="200" name=""/>
            <p:cNvSpPr/>
            <p:nvPr/>
          </p:nvSpPr>
          <p:spPr>
            <a:xfrm>
              <a:off x="4343400" y="303840"/>
              <a:ext cx="3276720" cy="19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  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名词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+ to d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  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sb. to d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72000" y="762120"/>
              <a:ext cx="1066680" cy="6094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4648320" y="1371240"/>
              <a:ext cx="990360" cy="6094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066680" y="2484720"/>
            <a:ext cx="7485480" cy="1629720"/>
            <a:chOff x="1066680" y="2484720"/>
            <a:chExt cx="7485480" cy="1629720"/>
          </a:xfrm>
        </p:grpSpPr>
        <p:sp>
          <p:nvSpPr>
            <p:cNvPr id="204" name=""/>
            <p:cNvSpPr/>
            <p:nvPr/>
          </p:nvSpPr>
          <p:spPr>
            <a:xfrm>
              <a:off x="1181160" y="2484720"/>
              <a:ext cx="737100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I’d like a cup of </a:t>
              </a:r>
              <a:r>
                <a:rPr b="1" lang="zh-CN" sz="2800" spc="-1" strike="noStrike">
                  <a:solidFill>
                    <a:srgbClr val="ffff00"/>
                  </a:solidFill>
                  <a:latin typeface="Comic Sans MS"/>
                </a:rPr>
                <a:t>tea</a:t>
              </a: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I would like </a:t>
              </a:r>
              <a:r>
                <a:rPr b="1" lang="zh-CN" sz="2800" spc="-1" strike="noStrike">
                  <a:solidFill>
                    <a:srgbClr val="ffff00"/>
                  </a:solidFill>
                  <a:latin typeface="Comic Sans MS"/>
                </a:rPr>
                <a:t>you to go</a:t>
              </a: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 shopping with m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Would you like </a:t>
              </a:r>
              <a:r>
                <a:rPr b="1" lang="zh-CN" sz="2800" spc="-1" strike="noStrike">
                  <a:solidFill>
                    <a:srgbClr val="ffff00"/>
                  </a:solidFill>
                  <a:latin typeface="Comic Sans MS"/>
                </a:rPr>
                <a:t>to go</a:t>
              </a: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 with me?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66680" y="26668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066680" y="4269960"/>
            <a:ext cx="5664240" cy="2140920"/>
            <a:chOff x="1066680" y="4269960"/>
            <a:chExt cx="5664240" cy="2140920"/>
          </a:xfrm>
        </p:grpSpPr>
        <p:sp>
          <p:nvSpPr>
            <p:cNvPr id="207" name=""/>
            <p:cNvSpPr/>
            <p:nvPr/>
          </p:nvSpPr>
          <p:spPr>
            <a:xfrm>
              <a:off x="1246680" y="4269960"/>
              <a:ext cx="5484240" cy="21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-Would you like some orange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Comic Sans MS"/>
                </a:rPr>
                <a:t>-Yes, pleas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-Would you like some rice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Comic Sans MS"/>
                </a:rPr>
                <a:t>-No, thanks. I’m full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66680" y="44197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924480" y="440640"/>
            <a:ext cx="225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one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的用法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85800" y="1100520"/>
            <a:ext cx="5341320" cy="1263240"/>
            <a:chOff x="685800" y="1100520"/>
            <a:chExt cx="5341320" cy="1263240"/>
          </a:xfrm>
        </p:grpSpPr>
        <p:sp>
          <p:nvSpPr>
            <p:cNvPr id="211" name=""/>
            <p:cNvSpPr/>
            <p:nvPr/>
          </p:nvSpPr>
          <p:spPr>
            <a:xfrm>
              <a:off x="685800" y="13510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30880" y="1100520"/>
              <a:ext cx="519624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  <a:ea typeface="隶书"/>
                </a:rPr>
                <a:t>表示数量“一”的概念 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  <a:ea typeface="隶书"/>
                </a:rPr>
                <a:t>One and one makes two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85800" y="2529360"/>
            <a:ext cx="7745760" cy="4406400"/>
            <a:chOff x="685800" y="2529360"/>
            <a:chExt cx="7745760" cy="4406400"/>
          </a:xfrm>
        </p:grpSpPr>
        <p:sp>
          <p:nvSpPr>
            <p:cNvPr id="214" name=""/>
            <p:cNvSpPr/>
            <p:nvPr/>
          </p:nvSpPr>
          <p:spPr>
            <a:xfrm>
              <a:off x="685800" y="28195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66240" y="2529360"/>
              <a:ext cx="7465320" cy="44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  <a:ea typeface="隶书"/>
                </a:rPr>
                <a:t>表示承接前面已出现过的同类可数名词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  <a:ea typeface="隶书"/>
                </a:rPr>
                <a:t>,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  <a:ea typeface="隶书"/>
                </a:rPr>
                <a:t>用以避免重复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。代替单数名词时用 </a:t>
              </a:r>
              <a:r>
                <a:rPr b="1" i="1" lang="zh-CN" sz="3200" spc="-1" strike="noStrike">
                  <a:solidFill>
                    <a:srgbClr val="ff0000"/>
                  </a:solidFill>
                  <a:latin typeface="Lucida Sans"/>
                </a:rPr>
                <a:t>one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, 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代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复数名词时用 </a:t>
              </a:r>
              <a:r>
                <a:rPr b="1" i="1" lang="zh-CN" sz="3600" spc="-1" strike="noStrike">
                  <a:solidFill>
                    <a:srgbClr val="ff0000"/>
                  </a:solidFill>
                  <a:latin typeface="Lucida Sans"/>
                </a:rPr>
                <a:t>ones</a:t>
              </a:r>
              <a:r>
                <a:rPr b="1" lang="zh-CN" sz="2800" spc="-1" strike="noStrike">
                  <a:solidFill>
                    <a:srgbClr val="ffff00"/>
                  </a:solidFill>
                  <a:latin typeface="Lucida Sans"/>
                </a:rPr>
                <a:t> 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is school is older than that </a:t>
              </a:r>
              <a:r>
                <a:rPr b="1" lang="zh-CN" sz="3200" spc="-1" strike="noStrike">
                  <a:solidFill>
                    <a:srgbClr val="ffff00"/>
                  </a:solidFill>
                  <a:latin typeface="Comic Sans MS"/>
                </a:rPr>
                <a:t>one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ese books are mine. The </a:t>
              </a:r>
              <a:r>
                <a:rPr b="1" lang="zh-CN" sz="3200" spc="-1" strike="noStrike">
                  <a:solidFill>
                    <a:srgbClr val="ffff00"/>
                  </a:solidFill>
                  <a:latin typeface="Comic Sans MS"/>
                </a:rPr>
                <a:t>ones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on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e desks are your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  <a:ea typeface="隶书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391520" y="304920"/>
            <a:ext cx="137304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835640" y="761400"/>
            <a:ext cx="546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注意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表示承接同一个东西时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,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要用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t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7772400" y="4419720"/>
            <a:ext cx="1044720" cy="2155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900000" y="1932480"/>
            <a:ext cx="6636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- Do you have a wat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- No, but my father has </a:t>
            </a:r>
            <a:r>
              <a:rPr b="1" i="1" lang="zh-CN" sz="3600" spc="-1" strike="noStrike">
                <a:solidFill>
                  <a:srgbClr val="ffff00"/>
                </a:solidFill>
                <a:latin typeface="Comic Sans MS"/>
              </a:rPr>
              <a:t>one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- He bought (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买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) </a:t>
            </a:r>
            <a:r>
              <a:rPr b="1" i="1" lang="zh-CN" sz="3600" spc="-1" strike="noStrike">
                <a:solidFill>
                  <a:srgbClr val="ffff00"/>
                </a:solidFill>
                <a:latin typeface="Comic Sans MS"/>
              </a:rPr>
              <a:t>it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 last wee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1276200" y="500040"/>
            <a:ext cx="5487840" cy="5212080"/>
            <a:chOff x="1276200" y="500040"/>
            <a:chExt cx="5487840" cy="5212080"/>
          </a:xfrm>
        </p:grpSpPr>
        <p:sp>
          <p:nvSpPr>
            <p:cNvPr id="221" name=""/>
            <p:cNvSpPr/>
            <p:nvPr/>
          </p:nvSpPr>
          <p:spPr>
            <a:xfrm>
              <a:off x="1477800" y="500040"/>
              <a:ext cx="5286240" cy="521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交际用语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ould you like…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m full.</a:t>
              </a:r>
              <a:br>
                <a:rPr sz="3200"/>
              </a:b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Good night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hat day is it tomorrow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Are you hungry/free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d like you to meet…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76200" y="16002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76200" y="23623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76200" y="30481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76200" y="381024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76200" y="449604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76200" y="52578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238880" y="5029200"/>
            <a:ext cx="1447920" cy="14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045440" y="1050840"/>
            <a:ext cx="7081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Unit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We’re going to work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on a farm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924680" y="5257800"/>
            <a:ext cx="89244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317040" y="2035440"/>
            <a:ext cx="2790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be going to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这一结构表示说话时刻以后将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发生的动作或状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219320" y="990360"/>
            <a:ext cx="6781680" cy="228960"/>
            <a:chOff x="1219320" y="990360"/>
            <a:chExt cx="6781680" cy="228960"/>
          </a:xfrm>
        </p:grpSpPr>
        <p:sp>
          <p:nvSpPr>
            <p:cNvPr id="233" name=""/>
            <p:cNvSpPr/>
            <p:nvPr/>
          </p:nvSpPr>
          <p:spPr>
            <a:xfrm>
              <a:off x="1219320" y="1219320"/>
              <a:ext cx="67816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2819520" y="990360"/>
              <a:ext cx="0" cy="228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6019920" y="990360"/>
              <a:ext cx="0" cy="228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644480" y="1294560"/>
            <a:ext cx="23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I’m teac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53760" y="1294560"/>
            <a:ext cx="39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I’m going to watch T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89920" y="532800"/>
            <a:ext cx="43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ow     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is evening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8760" y="3351600"/>
            <a:ext cx="8413200" cy="29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at is she going to do next Sun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he is going to swim next Sun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he isn’t going to play basketball next Sun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s she going to swim next Sun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Yes, she 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18880" y="461880"/>
            <a:ext cx="4769280" cy="15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af400"/>
                </a:solidFill>
                <a:latin typeface="Times New Roman"/>
              </a:rPr>
              <a:t>May I…?    </a:t>
            </a:r>
            <a:r>
              <a:rPr b="1" lang="zh-CN" sz="3600" spc="-1" strike="noStrike">
                <a:solidFill>
                  <a:srgbClr val="faf400"/>
                </a:solidFill>
                <a:latin typeface="Times New Roman"/>
              </a:rPr>
              <a:t>我可以……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af4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af400"/>
                </a:solidFill>
                <a:latin typeface="Times New Roman"/>
              </a:rPr>
              <a:t>表示客气的请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0200" y="1930320"/>
            <a:ext cx="7480800" cy="40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1)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May I come 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Come in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2)  -May I borrow your pen , plea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Certainl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3)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May I have a piece of pap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Of cours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391520" y="685800"/>
            <a:ext cx="1008000" cy="20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622520" y="730080"/>
            <a:ext cx="1882800" cy="1556280"/>
            <a:chOff x="1622520" y="730080"/>
            <a:chExt cx="1882800" cy="1556280"/>
          </a:xfrm>
        </p:grpSpPr>
        <p:sp>
          <p:nvSpPr>
            <p:cNvPr id="241" name=""/>
            <p:cNvSpPr/>
            <p:nvPr/>
          </p:nvSpPr>
          <p:spPr>
            <a:xfrm>
              <a:off x="1622520" y="730080"/>
              <a:ext cx="11210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good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wel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66880" y="1295280"/>
              <a:ext cx="838440" cy="457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590920" y="1752120"/>
              <a:ext cx="914400" cy="228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3536640" y="1446840"/>
            <a:ext cx="27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etter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23680" y="2404440"/>
            <a:ext cx="4415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Good, better, b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Never let it r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ill good is bet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nd better b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7391520" y="4191120"/>
            <a:ext cx="1081080" cy="20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1562040" y="578880"/>
            <a:ext cx="4560480" cy="642600"/>
            <a:chOff x="1562040" y="578880"/>
            <a:chExt cx="4560480" cy="642600"/>
          </a:xfrm>
        </p:grpSpPr>
        <p:sp>
          <p:nvSpPr>
            <p:cNvPr id="248" name=""/>
            <p:cNvSpPr/>
            <p:nvPr/>
          </p:nvSpPr>
          <p:spPr>
            <a:xfrm>
              <a:off x="2330280" y="578880"/>
              <a:ext cx="379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</a:rPr>
                <a:t>much + </a:t>
              </a: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</a:rPr>
                <a:t>形容词的比较级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562040" y="8380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2434680" y="1288080"/>
            <a:ext cx="30304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uch big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uch war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uch lo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523880" y="3200040"/>
            <a:ext cx="4003920" cy="2897280"/>
            <a:chOff x="1523880" y="3200040"/>
            <a:chExt cx="4003920" cy="2897280"/>
          </a:xfrm>
        </p:grpSpPr>
        <p:grpSp>
          <p:nvGrpSpPr>
            <p:cNvPr id="252" name=""/>
            <p:cNvGrpSpPr/>
            <p:nvPr/>
          </p:nvGrpSpPr>
          <p:grpSpPr>
            <a:xfrm>
              <a:off x="1523880" y="3200040"/>
              <a:ext cx="4003920" cy="916920"/>
              <a:chOff x="1523880" y="3200040"/>
              <a:chExt cx="4003920" cy="916920"/>
            </a:xfrm>
          </p:grpSpPr>
          <p:sp>
            <p:nvSpPr>
              <p:cNvPr id="253" name=""/>
              <p:cNvSpPr/>
              <p:nvPr/>
            </p:nvSpPr>
            <p:spPr>
              <a:xfrm>
                <a:off x="2239920" y="3200040"/>
                <a:ext cx="3287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ff00"/>
                    </a:solidFill>
                    <a:latin typeface="Times New Roman"/>
                  </a:rPr>
                  <a:t>very + </a:t>
                </a:r>
                <a:r>
                  <a:rPr b="1" lang="zh-CN" sz="3600" spc="-1" strike="noStrike">
                    <a:solidFill>
                      <a:srgbClr val="ffff00"/>
                    </a:solidFill>
                    <a:latin typeface="Times New Roman"/>
                  </a:rPr>
                  <a:t>形容词的原级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523880" y="3657600"/>
                <a:ext cx="228600" cy="228600"/>
              </a:xfrm>
              <a:prstGeom prst="star5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2525040" y="4102560"/>
              <a:ext cx="2352600" cy="19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very bi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very war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very lo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7543800" y="4114800"/>
            <a:ext cx="9414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74160" y="105480"/>
            <a:ext cx="7236720" cy="64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xerci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. What ____ you _________ (do) next wee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 _______________ (meet) my frie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. Look, what ______  they ________ (do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y ____________ (have) lun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. We ______________ (fly) kites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4. Kate usually __________ (wash) her ha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n Sun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. _______ you often _____ (go) swim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 summ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272600" y="837360"/>
            <a:ext cx="4581000" cy="1098360"/>
            <a:chOff x="1272600" y="837360"/>
            <a:chExt cx="4581000" cy="1098360"/>
          </a:xfrm>
        </p:grpSpPr>
        <p:sp>
          <p:nvSpPr>
            <p:cNvPr id="259" name=""/>
            <p:cNvSpPr/>
            <p:nvPr/>
          </p:nvSpPr>
          <p:spPr>
            <a:xfrm>
              <a:off x="2052000" y="837360"/>
              <a:ext cx="380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Lucida Sans"/>
                </a:rPr>
                <a:t> </a:t>
              </a:r>
              <a:r>
                <a:rPr b="1" lang="en-US" sz="2800" spc="-1" strike="noStrike">
                  <a:solidFill>
                    <a:srgbClr val="ffff00"/>
                  </a:solidFill>
                  <a:latin typeface="Lucida Sans"/>
                </a:rPr>
                <a:t>are          going to d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72600" y="1415160"/>
              <a:ext cx="342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Lucida Sans"/>
                </a:rPr>
                <a:t> </a:t>
              </a:r>
              <a:r>
                <a:rPr b="1" lang="en-US" sz="2800" spc="-1" strike="noStrike">
                  <a:solidFill>
                    <a:srgbClr val="ffff00"/>
                  </a:solidFill>
                  <a:latin typeface="Lucida Sans"/>
                </a:rPr>
                <a:t>am going to mee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179440" y="2133000"/>
            <a:ext cx="4696920" cy="1130040"/>
            <a:chOff x="2179440" y="2133000"/>
            <a:chExt cx="4696920" cy="1130040"/>
          </a:xfrm>
        </p:grpSpPr>
        <p:sp>
          <p:nvSpPr>
            <p:cNvPr id="262" name=""/>
            <p:cNvSpPr/>
            <p:nvPr/>
          </p:nvSpPr>
          <p:spPr>
            <a:xfrm>
              <a:off x="3426480" y="2133000"/>
              <a:ext cx="344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Lucida Sans"/>
                </a:rPr>
                <a:t>are                  do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79440" y="2742480"/>
              <a:ext cx="216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Lucida Sans"/>
                </a:rPr>
                <a:t> </a:t>
              </a:r>
              <a:r>
                <a:rPr b="1" lang="en-US" sz="2800" spc="-1" strike="noStrike">
                  <a:solidFill>
                    <a:srgbClr val="ffff00"/>
                  </a:solidFill>
                  <a:latin typeface="Lucida Sans"/>
                </a:rPr>
                <a:t>are hav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614960" y="3351960"/>
            <a:ext cx="29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are going to f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83280" y="4114080"/>
            <a:ext cx="15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was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19320" y="53334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Do                            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355760" y="213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91440" y="380880"/>
            <a:ext cx="372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It’s time for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It’s time to do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83920" y="990000"/>
            <a:ext cx="261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是做……的时间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04720" y="2071800"/>
            <a:ext cx="6450480" cy="40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(1) It’s time for cla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It’s time to have clas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(2) It’s time for lun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It’s time to have lun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(3) It’s time __________ (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起床了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7280" y="5454000"/>
            <a:ext cx="22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Lucida Sans"/>
              </a:rPr>
              <a:t>to get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340280" y="837720"/>
            <a:ext cx="244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有用的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Lucida Sans"/>
              </a:rPr>
              <a:t>help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066680" y="1676520"/>
            <a:ext cx="7199640" cy="3895560"/>
            <a:chOff x="1066680" y="1676520"/>
            <a:chExt cx="7199640" cy="3895560"/>
          </a:xfrm>
        </p:grpSpPr>
        <p:sp>
          <p:nvSpPr>
            <p:cNvPr id="274" name=""/>
            <p:cNvSpPr/>
            <p:nvPr/>
          </p:nvSpPr>
          <p:spPr>
            <a:xfrm>
              <a:off x="1174320" y="1676520"/>
              <a:ext cx="7092000" cy="38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elp!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救命啊</a:t>
              </a:r>
              <a:r>
                <a:rPr b="1" lang="zh-CN" sz="32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elp me!  </a:t>
              </a:r>
              <a:r>
                <a:rPr b="1" lang="zh-CN" sz="32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救救我</a:t>
              </a:r>
              <a:r>
                <a:rPr b="1" lang="zh-CN" sz="32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Can you help me with my lessons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Computers can help students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learn English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66680" y="21430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066680" y="29815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37432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45054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86680" y="380880"/>
            <a:ext cx="14256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3809880" y="4876920"/>
            <a:ext cx="1463760" cy="180504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762120" y="3275640"/>
            <a:ext cx="7781760" cy="1068840"/>
            <a:chOff x="762120" y="3275640"/>
            <a:chExt cx="7781760" cy="1068840"/>
          </a:xfrm>
        </p:grpSpPr>
        <p:sp>
          <p:nvSpPr>
            <p:cNvPr id="282" name=""/>
            <p:cNvSpPr/>
            <p:nvPr/>
          </p:nvSpPr>
          <p:spPr>
            <a:xfrm>
              <a:off x="959400" y="3275640"/>
              <a:ext cx="7584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They’re going to leave tomorrow morning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2120" y="38098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62120" y="228240"/>
            <a:ext cx="6941880" cy="2896560"/>
            <a:chOff x="762120" y="228240"/>
            <a:chExt cx="6941880" cy="2896560"/>
          </a:xfrm>
        </p:grpSpPr>
        <p:sp>
          <p:nvSpPr>
            <p:cNvPr id="285" name=""/>
            <p:cNvSpPr/>
            <p:nvPr/>
          </p:nvSpPr>
          <p:spPr>
            <a:xfrm>
              <a:off x="932040" y="228240"/>
              <a:ext cx="6771960" cy="28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Speak English in this way (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这样说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)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I’m going to go to the shop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Mary is going to come here very soon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2120" y="15238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62120" y="2514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911880" y="17056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’m going to the sho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38160" y="2848680"/>
            <a:ext cx="649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ary is coming here very so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86240" y="4114080"/>
            <a:ext cx="73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ey’re leaving tomorrow mo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533520" y="301680"/>
            <a:ext cx="8506080" cy="5943240"/>
            <a:chOff x="533520" y="301680"/>
            <a:chExt cx="8506080" cy="5943240"/>
          </a:xfrm>
        </p:grpSpPr>
        <p:sp>
          <p:nvSpPr>
            <p:cNvPr id="292" name=""/>
            <p:cNvSpPr/>
            <p:nvPr/>
          </p:nvSpPr>
          <p:spPr>
            <a:xfrm>
              <a:off x="737640" y="301680"/>
              <a:ext cx="8301960" cy="59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交际用语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here are you going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m going home/to the shops…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hat/How about…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hat don’t you come with me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hy not? Good idea! That’s a good idea!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Don’t be lat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t’s time for clas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3520" y="1371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3520" y="21337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3520" y="28195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33520" y="35812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3520" y="42670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3520" y="50292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33520" y="57913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391520" y="4995720"/>
            <a:ext cx="1149120" cy="14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588960" y="1160640"/>
            <a:ext cx="7994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Times New Roman"/>
              </a:rPr>
              <a:t>Unit 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Times New Roman"/>
              </a:rPr>
              <a:t>Working hard on the far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7924680" y="5257800"/>
            <a:ext cx="89244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080080" y="486360"/>
            <a:ext cx="358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比较物品数量的“多”和“少”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1289160" y="1338840"/>
            <a:ext cx="5180400" cy="2014920"/>
            <a:chOff x="1289160" y="1338840"/>
            <a:chExt cx="5180400" cy="2014920"/>
          </a:xfrm>
        </p:grpSpPr>
        <p:grpSp>
          <p:nvGrpSpPr>
            <p:cNvPr id="305" name=""/>
            <p:cNvGrpSpPr/>
            <p:nvPr/>
          </p:nvGrpSpPr>
          <p:grpSpPr>
            <a:xfrm>
              <a:off x="1289160" y="1338840"/>
              <a:ext cx="5180400" cy="581400"/>
              <a:chOff x="1289160" y="1338840"/>
              <a:chExt cx="5180400" cy="581400"/>
            </a:xfrm>
          </p:grpSpPr>
          <p:sp>
            <p:nvSpPr>
              <p:cNvPr id="306" name=""/>
              <p:cNvSpPr/>
              <p:nvPr/>
            </p:nvSpPr>
            <p:spPr>
              <a:xfrm>
                <a:off x="1289160" y="1538280"/>
                <a:ext cx="228240" cy="228600"/>
              </a:xfrm>
              <a:prstGeom prst="star5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44760" y="1338840"/>
                <a:ext cx="4924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a few</a:t>
                </a: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fewer</a:t>
                </a: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fewes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1517760" y="1995480"/>
              <a:ext cx="990000" cy="765000"/>
              <a:chOff x="1517760" y="1995480"/>
              <a:chExt cx="990000" cy="765000"/>
            </a:xfrm>
          </p:grpSpPr>
          <p:pic>
            <p:nvPicPr>
              <p:cNvPr id="309" name="APPLE" descr=""/>
              <p:cNvPicPr/>
              <p:nvPr/>
            </p:nvPicPr>
            <p:blipFill>
              <a:blip r:embed="rId1"/>
              <a:stretch/>
            </p:blipFill>
            <p:spPr>
              <a:xfrm>
                <a:off x="1822320" y="214776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0" name="APPLE" descr=""/>
              <p:cNvPicPr/>
              <p:nvPr/>
            </p:nvPicPr>
            <p:blipFill>
              <a:blip r:embed="rId2"/>
              <a:stretch/>
            </p:blipFill>
            <p:spPr>
              <a:xfrm>
                <a:off x="1517760" y="222408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1" name="APPLE" descr=""/>
              <p:cNvPicPr/>
              <p:nvPr/>
            </p:nvPicPr>
            <p:blipFill>
              <a:blip r:embed="rId3"/>
              <a:stretch/>
            </p:blipFill>
            <p:spPr>
              <a:xfrm>
                <a:off x="1669680" y="237636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2" name="APPLE" descr=""/>
              <p:cNvPicPr/>
              <p:nvPr/>
            </p:nvPicPr>
            <p:blipFill>
              <a:blip r:embed="rId4"/>
              <a:stretch/>
            </p:blipFill>
            <p:spPr>
              <a:xfrm>
                <a:off x="1669680" y="199548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3" name="APPLE" descr=""/>
              <p:cNvPicPr/>
              <p:nvPr/>
            </p:nvPicPr>
            <p:blipFill>
              <a:blip r:embed="rId5"/>
              <a:stretch/>
            </p:blipFill>
            <p:spPr>
              <a:xfrm>
                <a:off x="1974600" y="237636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4" name="APPLE" descr=""/>
              <p:cNvPicPr/>
              <p:nvPr/>
            </p:nvPicPr>
            <p:blipFill>
              <a:blip r:embed="rId6"/>
              <a:stretch/>
            </p:blipFill>
            <p:spPr>
              <a:xfrm>
                <a:off x="2050920" y="199548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APPLE" descr=""/>
              <p:cNvPicPr/>
              <p:nvPr/>
            </p:nvPicPr>
            <p:blipFill>
              <a:blip r:embed="rId7"/>
              <a:stretch/>
            </p:blipFill>
            <p:spPr>
              <a:xfrm>
                <a:off x="2171520" y="222408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6" name=""/>
            <p:cNvGrpSpPr/>
            <p:nvPr/>
          </p:nvGrpSpPr>
          <p:grpSpPr>
            <a:xfrm>
              <a:off x="3543480" y="2068560"/>
              <a:ext cx="793080" cy="689040"/>
              <a:chOff x="3543480" y="2068560"/>
              <a:chExt cx="793080" cy="689040"/>
            </a:xfrm>
          </p:grpSpPr>
          <p:pic>
            <p:nvPicPr>
              <p:cNvPr id="317" name="APPLE" descr=""/>
              <p:cNvPicPr/>
              <p:nvPr/>
            </p:nvPicPr>
            <p:blipFill>
              <a:blip r:embed="rId8"/>
              <a:stretch/>
            </p:blipFill>
            <p:spPr>
              <a:xfrm>
                <a:off x="3771720" y="237348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8" name="APPLE" descr=""/>
              <p:cNvPicPr/>
              <p:nvPr/>
            </p:nvPicPr>
            <p:blipFill>
              <a:blip r:embed="rId9"/>
              <a:stretch/>
            </p:blipFill>
            <p:spPr>
              <a:xfrm>
                <a:off x="4003560" y="2220840"/>
                <a:ext cx="333000" cy="38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9" name="APPLE" descr=""/>
              <p:cNvPicPr/>
              <p:nvPr/>
            </p:nvPicPr>
            <p:blipFill>
              <a:blip r:embed="rId10"/>
              <a:stretch/>
            </p:blipFill>
            <p:spPr>
              <a:xfrm>
                <a:off x="3771720" y="206856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0" name="APPLE" descr=""/>
              <p:cNvPicPr/>
              <p:nvPr/>
            </p:nvPicPr>
            <p:blipFill>
              <a:blip r:embed="rId11"/>
              <a:stretch/>
            </p:blipFill>
            <p:spPr>
              <a:xfrm>
                <a:off x="3543480" y="2220840"/>
                <a:ext cx="33624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1" name=""/>
            <p:cNvGrpSpPr/>
            <p:nvPr/>
          </p:nvGrpSpPr>
          <p:grpSpPr>
            <a:xfrm>
              <a:off x="5457960" y="2144880"/>
              <a:ext cx="707400" cy="536400"/>
              <a:chOff x="5457960" y="2144880"/>
              <a:chExt cx="707400" cy="536400"/>
            </a:xfrm>
          </p:grpSpPr>
          <p:pic>
            <p:nvPicPr>
              <p:cNvPr id="322" name="APPLE" descr=""/>
              <p:cNvPicPr/>
              <p:nvPr/>
            </p:nvPicPr>
            <p:blipFill>
              <a:blip r:embed="rId12"/>
              <a:stretch/>
            </p:blipFill>
            <p:spPr>
              <a:xfrm>
                <a:off x="5762520" y="2221200"/>
                <a:ext cx="402840" cy="46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3" name="APPLE" descr=""/>
              <p:cNvPicPr/>
              <p:nvPr/>
            </p:nvPicPr>
            <p:blipFill>
              <a:blip r:embed="rId13"/>
              <a:stretch/>
            </p:blipFill>
            <p:spPr>
              <a:xfrm flipH="1" rot="10800000">
                <a:off x="5457960" y="2144880"/>
                <a:ext cx="392040" cy="533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24" name=""/>
            <p:cNvSpPr/>
            <p:nvPr/>
          </p:nvSpPr>
          <p:spPr>
            <a:xfrm>
              <a:off x="1540440" y="2772360"/>
              <a:ext cx="475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Lucida Sans"/>
                </a:rPr>
                <a:t>mine </a:t>
              </a:r>
              <a:r>
                <a:rPr b="1" lang="en-US" sz="3200" spc="-1" strike="noStrike">
                  <a:solidFill>
                    <a:srgbClr val="ffffff"/>
                  </a:solidFill>
                  <a:latin typeface="Lucida Handwriting"/>
                </a:rPr>
                <a:t>     </a:t>
              </a:r>
              <a:r>
                <a:rPr b="1" lang="en-US" sz="3200" spc="-1" strike="noStrike">
                  <a:solidFill>
                    <a:srgbClr val="ffffff"/>
                  </a:solidFill>
                  <a:latin typeface="Lucida Sans"/>
                </a:rPr>
                <a:t>Mary’s </a:t>
              </a:r>
              <a:r>
                <a:rPr b="1" lang="en-US" sz="3200" spc="-1" strike="noStrike">
                  <a:solidFill>
                    <a:srgbClr val="ffffff"/>
                  </a:solidFill>
                  <a:latin typeface="Lucida Handwriting"/>
                </a:rPr>
                <a:t>     </a:t>
              </a:r>
              <a:r>
                <a:rPr b="1" lang="en-US" sz="3200" spc="-1" strike="noStrike">
                  <a:solidFill>
                    <a:srgbClr val="ffffff"/>
                  </a:solidFill>
                  <a:latin typeface="Lucida Sans"/>
                </a:rPr>
                <a:t>Jim’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758520" y="3511800"/>
            <a:ext cx="798516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 have a few ap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ary has fewer apples (than 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Jim has the fewest apples of the th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851040" y="3049560"/>
            <a:ext cx="7753320" cy="25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 have many frie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ary has more friends (than 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Jim has the most friends of the th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295280" y="729000"/>
            <a:ext cx="6400440" cy="2243880"/>
            <a:chOff x="1295280" y="729000"/>
            <a:chExt cx="6400440" cy="2243880"/>
          </a:xfrm>
        </p:grpSpPr>
        <p:grpSp>
          <p:nvGrpSpPr>
            <p:cNvPr id="328" name=""/>
            <p:cNvGrpSpPr/>
            <p:nvPr/>
          </p:nvGrpSpPr>
          <p:grpSpPr>
            <a:xfrm>
              <a:off x="1295280" y="729000"/>
              <a:ext cx="5738400" cy="581400"/>
              <a:chOff x="1295280" y="729000"/>
              <a:chExt cx="5738400" cy="581400"/>
            </a:xfrm>
          </p:grpSpPr>
          <p:sp>
            <p:nvSpPr>
              <p:cNvPr id="329" name=""/>
              <p:cNvSpPr/>
              <p:nvPr/>
            </p:nvSpPr>
            <p:spPr>
              <a:xfrm>
                <a:off x="1295280" y="928440"/>
                <a:ext cx="228600" cy="228600"/>
              </a:xfrm>
              <a:prstGeom prst="star5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6560" y="729000"/>
                <a:ext cx="5487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many</a:t>
                </a: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   more              mos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1880280" y="2391480"/>
              <a:ext cx="4862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Lucida Handwriting"/>
                </a:rPr>
                <a:t>mine       Mary’s      Jim’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1447920" y="1576440"/>
              <a:ext cx="1371600" cy="861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"/>
            <p:cNvGrpSpPr/>
            <p:nvPr/>
          </p:nvGrpSpPr>
          <p:grpSpPr>
            <a:xfrm>
              <a:off x="3429000" y="1547640"/>
              <a:ext cx="1676520" cy="814680"/>
              <a:chOff x="3429000" y="1547640"/>
              <a:chExt cx="1676520" cy="814680"/>
            </a:xfrm>
          </p:grpSpPr>
          <p:pic>
            <p:nvPicPr>
              <p:cNvPr id="33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29000" y="1547640"/>
                <a:ext cx="1295280" cy="81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809880" y="1547640"/>
                <a:ext cx="1295640" cy="814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6" name=""/>
            <p:cNvGrpSpPr/>
            <p:nvPr/>
          </p:nvGrpSpPr>
          <p:grpSpPr>
            <a:xfrm>
              <a:off x="5562720" y="1547640"/>
              <a:ext cx="2133000" cy="890640"/>
              <a:chOff x="5562720" y="1547640"/>
              <a:chExt cx="2133000" cy="890640"/>
            </a:xfrm>
          </p:grpSpPr>
          <p:pic>
            <p:nvPicPr>
              <p:cNvPr id="33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62720" y="1547640"/>
                <a:ext cx="1295280" cy="81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400800" y="1623960"/>
                <a:ext cx="1294920" cy="8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019560" y="1547640"/>
                <a:ext cx="1295280" cy="81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74480" y="228600"/>
            <a:ext cx="8056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: ________ ________! ________ ________ borr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our rul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: ________! ________ this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: Thank you. Oh, this one is short. Do you ________ a lo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_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: ________, I don’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: ________ ________! Do you ________ a long ________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: 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________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 borrow ________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: Certainly! Here ________ 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39680" y="343080"/>
            <a:ext cx="45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Excuse       me         May       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12520" y="144468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Certainly   T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13040" y="201924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76480" y="251136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3960" y="3086280"/>
            <a:ext cx="9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So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22480" y="4191120"/>
            <a:ext cx="64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Excuse       me                   have              ru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46040" y="525780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May                      it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14520" y="58294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Lucida Sans"/>
              </a:rPr>
              <a:t>you      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0120" y="4876920"/>
            <a:ext cx="833400" cy="16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446840" y="685440"/>
            <a:ext cx="23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询问路程的远近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371600" y="1600200"/>
            <a:ext cx="5965200" cy="4041720"/>
            <a:chOff x="1371600" y="1600200"/>
            <a:chExt cx="5965200" cy="4041720"/>
          </a:xfrm>
        </p:grpSpPr>
        <p:sp>
          <p:nvSpPr>
            <p:cNvPr id="342" name=""/>
            <p:cNvSpPr/>
            <p:nvPr/>
          </p:nvSpPr>
          <p:spPr>
            <a:xfrm>
              <a:off x="1811520" y="1600200"/>
              <a:ext cx="5525280" cy="40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-How far is it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-Only a few kilometre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-How far is it from here to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your school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-It’s about 2 kilometre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371600" y="19810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371600" y="37339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705720" y="561960"/>
            <a:ext cx="1721880" cy="1495440"/>
            <a:chOff x="6705720" y="561960"/>
            <a:chExt cx="1721880" cy="1495440"/>
          </a:xfrm>
        </p:grpSpPr>
        <p:pic>
          <p:nvPicPr>
            <p:cNvPr id="346" name="" descr=""/>
            <p:cNvPicPr/>
            <p:nvPr/>
          </p:nvPicPr>
          <p:blipFill>
            <a:blip r:embed="rId1"/>
            <a:stretch/>
          </p:blipFill>
          <p:spPr>
            <a:xfrm>
              <a:off x="7813440" y="561960"/>
              <a:ext cx="614160" cy="14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2"/>
            <a:stretch/>
          </p:blipFill>
          <p:spPr>
            <a:xfrm>
              <a:off x="6705720" y="685800"/>
              <a:ext cx="1090080" cy="1330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"/>
          <p:cNvGrpSpPr/>
          <p:nvPr/>
        </p:nvGrpSpPr>
        <p:grpSpPr>
          <a:xfrm>
            <a:off x="533520" y="399960"/>
            <a:ext cx="8212320" cy="6013440"/>
            <a:chOff x="533520" y="399960"/>
            <a:chExt cx="8212320" cy="6013440"/>
          </a:xfrm>
        </p:grpSpPr>
        <p:sp>
          <p:nvSpPr>
            <p:cNvPr id="349" name=""/>
            <p:cNvSpPr/>
            <p:nvPr/>
          </p:nvSpPr>
          <p:spPr>
            <a:xfrm>
              <a:off x="655560" y="399960"/>
              <a:ext cx="8090280" cy="60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How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引出的疑问句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far is it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old are yo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many apples are there in the box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much is this watch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high is it?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tall is Mary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do you usually come to school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are you today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33520" y="1371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3520" y="20574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3520" y="26668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3520" y="33526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3520" y="39625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3520" y="46483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33520" y="53341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33520" y="5943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958040" y="388800"/>
            <a:ext cx="48423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tall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形容词）    身材高的；高大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a tall gi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a tall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a tall buil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762120" y="2893320"/>
            <a:ext cx="6688080" cy="3601800"/>
            <a:chOff x="762120" y="2893320"/>
            <a:chExt cx="6688080" cy="3601800"/>
          </a:xfrm>
        </p:grpSpPr>
        <p:sp>
          <p:nvSpPr>
            <p:cNvPr id="360" name=""/>
            <p:cNvSpPr/>
            <p:nvPr/>
          </p:nvSpPr>
          <p:spPr>
            <a:xfrm>
              <a:off x="1143000" y="2893320"/>
              <a:ext cx="6307200" cy="36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high 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（形容词）    高的；高处的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（副词）        高地；高处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a high mountain </a:t>
              </a: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(</a:t>
              </a: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山</a:t>
              </a: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a high build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high is this building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Don’t go too high. </a:t>
              </a: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(</a:t>
              </a: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副词用法</a:t>
              </a: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62120" y="31399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762120" y="685800"/>
            <a:ext cx="228600" cy="2286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853920" y="653400"/>
            <a:ext cx="44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be +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形容词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+ to do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533520" y="1371600"/>
            <a:ext cx="8037720" cy="3603240"/>
            <a:chOff x="533520" y="1371600"/>
            <a:chExt cx="8037720" cy="3603240"/>
          </a:xfrm>
        </p:grpSpPr>
        <p:sp>
          <p:nvSpPr>
            <p:cNvPr id="365" name=""/>
            <p:cNvSpPr/>
            <p:nvPr/>
          </p:nvSpPr>
          <p:spPr>
            <a:xfrm>
              <a:off x="801360" y="1371600"/>
              <a:ext cx="7769880" cy="36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Some of the apples are hard to reach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m very glad to see you again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is book is easy to understand (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理解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)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m glad to help you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33520" y="44956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3520" y="35812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3520" y="18288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33520" y="27432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175248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233080" y="1522800"/>
            <a:ext cx="3787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她饿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公园离这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973080" y="164160"/>
            <a:ext cx="4209840" cy="1361160"/>
            <a:chOff x="973080" y="164160"/>
            <a:chExt cx="4209840" cy="1361160"/>
          </a:xfrm>
        </p:grpSpPr>
        <p:sp>
          <p:nvSpPr>
            <p:cNvPr id="373" name=""/>
            <p:cNvSpPr/>
            <p:nvPr/>
          </p:nvSpPr>
          <p:spPr>
            <a:xfrm>
              <a:off x="1211040" y="164160"/>
              <a:ext cx="3971880" cy="13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正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：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I’m sorry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I’m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lat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误：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I’m sorry I lat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73080" y="4968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3577320" y="167544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黑体"/>
              </a:rPr>
              <a:t>She is hung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45000" y="2315160"/>
            <a:ext cx="459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黑体"/>
              </a:rPr>
              <a:t>The park is near 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985680" y="2970720"/>
            <a:ext cx="6299640" cy="1361160"/>
            <a:chOff x="985680" y="2970720"/>
            <a:chExt cx="6299640" cy="1361160"/>
          </a:xfrm>
        </p:grpSpPr>
        <p:sp>
          <p:nvSpPr>
            <p:cNvPr id="378" name=""/>
            <p:cNvSpPr/>
            <p:nvPr/>
          </p:nvSpPr>
          <p:spPr>
            <a:xfrm>
              <a:off x="1235880" y="2970720"/>
              <a:ext cx="6049440" cy="13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正：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These apples are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much bigger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误：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These apples are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more bigger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85680" y="33163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2552760" y="4342320"/>
            <a:ext cx="296064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黑体"/>
              </a:rPr>
              <a:t>much heav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黑体"/>
              </a:rPr>
              <a:t>much ha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黑体"/>
              </a:rPr>
              <a:t>much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黑体"/>
              </a:rPr>
              <a:t>much fe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7499520" y="304920"/>
            <a:ext cx="11728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990720" y="423720"/>
            <a:ext cx="5699880" cy="5212080"/>
            <a:chOff x="990720" y="423720"/>
            <a:chExt cx="5699880" cy="5212080"/>
          </a:xfrm>
        </p:grpSpPr>
        <p:sp>
          <p:nvSpPr>
            <p:cNvPr id="383" name=""/>
            <p:cNvSpPr/>
            <p:nvPr/>
          </p:nvSpPr>
          <p:spPr>
            <a:xfrm>
              <a:off x="1223280" y="423720"/>
              <a:ext cx="5467320" cy="521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交际用语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ow far is it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Only a few kilometre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Be careful! It’s dangerou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Don’t go too high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 can/can’t reach…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Let’s get on the bu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90720" y="15238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90720" y="22860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90720" y="29718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90720" y="37339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90720" y="44197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90720" y="51814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238880" y="5181480"/>
            <a:ext cx="15987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567720" y="1050840"/>
            <a:ext cx="8035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Unit 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Shall we go to the park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7924680" y="5257800"/>
            <a:ext cx="89244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2079360" y="287640"/>
            <a:ext cx="53312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Shall I/we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表示询问、征求别人的意见，用于提建议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译为“……好吗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957960" y="1992960"/>
            <a:ext cx="72550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hall we go to the park on Sun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hall I open the do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46360" y="3473280"/>
            <a:ext cx="232344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表示赞同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Good ide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Su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All r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O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531680" y="3473280"/>
            <a:ext cx="216360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表示不赞同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No, let’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Sorry, I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7315200" y="4267080"/>
            <a:ext cx="1076400" cy="20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015200" y="456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提建议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365920" y="490320"/>
            <a:ext cx="4185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hall I/we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et’s…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y not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y don’t you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at/How about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849240" y="3884400"/>
            <a:ext cx="6514920" cy="2432520"/>
            <a:chOff x="849240" y="3884400"/>
            <a:chExt cx="6514920" cy="2432520"/>
          </a:xfrm>
        </p:grpSpPr>
        <p:sp>
          <p:nvSpPr>
            <p:cNvPr id="401" name=""/>
            <p:cNvSpPr/>
            <p:nvPr/>
          </p:nvSpPr>
          <p:spPr>
            <a:xfrm>
              <a:off x="849240" y="38858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</a:rPr>
                <a:t>答语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92640" y="3884400"/>
              <a:ext cx="4871520" cy="24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Good idea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That’s a good idea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All right! / OK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Sure! Go ahead, pleas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6781680" y="447840"/>
            <a:ext cx="1905120" cy="14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802160" y="456120"/>
            <a:ext cx="572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be good at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在…… 方面（学得、做得）好；善于……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533520" y="3277080"/>
            <a:ext cx="7683840" cy="3018600"/>
            <a:chOff x="533520" y="3277080"/>
            <a:chExt cx="7683840" cy="3018600"/>
          </a:xfrm>
        </p:grpSpPr>
        <p:sp>
          <p:nvSpPr>
            <p:cNvPr id="406" name=""/>
            <p:cNvSpPr/>
            <p:nvPr/>
          </p:nvSpPr>
          <p:spPr>
            <a:xfrm>
              <a:off x="861480" y="3277080"/>
              <a:ext cx="735588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m good at Englis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Meimei is good at her lessons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is boy is good at playing football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Are you good at singing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3520" y="3657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533520" y="685800"/>
            <a:ext cx="228600" cy="2286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33520" y="1980360"/>
            <a:ext cx="5105520" cy="1221120"/>
            <a:chOff x="533520" y="1980360"/>
            <a:chExt cx="5105520" cy="1221120"/>
          </a:xfrm>
        </p:grpSpPr>
        <p:grpSp>
          <p:nvGrpSpPr>
            <p:cNvPr id="410" name=""/>
            <p:cNvGrpSpPr/>
            <p:nvPr/>
          </p:nvGrpSpPr>
          <p:grpSpPr>
            <a:xfrm>
              <a:off x="744120" y="1980360"/>
              <a:ext cx="4894920" cy="1221120"/>
              <a:chOff x="744120" y="1980360"/>
              <a:chExt cx="4894920" cy="1221120"/>
            </a:xfrm>
          </p:grpSpPr>
          <p:sp>
            <p:nvSpPr>
              <p:cNvPr id="411" name=""/>
              <p:cNvSpPr/>
              <p:nvPr/>
            </p:nvSpPr>
            <p:spPr>
              <a:xfrm>
                <a:off x="744120" y="2239200"/>
                <a:ext cx="227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be good at..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3000240" y="2286000"/>
                <a:ext cx="762120" cy="3808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000240" y="2666880"/>
                <a:ext cx="762120" cy="3049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853440" y="1980360"/>
                <a:ext cx="668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ff00"/>
                    </a:solidFill>
                    <a:latin typeface="Times New Roman"/>
                  </a:rPr>
                  <a:t>名词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762000" y="2620080"/>
                <a:ext cx="1877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ff00"/>
                    </a:solidFill>
                    <a:latin typeface="Times New Roman"/>
                  </a:rPr>
                  <a:t>doing sth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533520" y="24382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158360" y="4952160"/>
            <a:ext cx="2315160" cy="1297440"/>
            <a:chOff x="4158360" y="4952160"/>
            <a:chExt cx="2315160" cy="1297440"/>
          </a:xfrm>
        </p:grpSpPr>
        <p:sp>
          <p:nvSpPr>
            <p:cNvPr id="418" name=""/>
            <p:cNvSpPr/>
            <p:nvPr/>
          </p:nvSpPr>
          <p:spPr>
            <a:xfrm>
              <a:off x="4786920" y="4952160"/>
              <a:ext cx="168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</a:rPr>
                <a:t>play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58360" y="5668200"/>
              <a:ext cx="187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</a:rPr>
                <a:t>singing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13360" y="289080"/>
            <a:ext cx="61135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paper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纸；纸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为不可数名词，通常不用“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a”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或 “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an”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这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的不定冠词来修饰。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066680" y="2320920"/>
            <a:ext cx="6132240" cy="1263240"/>
            <a:chOff x="1066680" y="2320920"/>
            <a:chExt cx="6132240" cy="1263240"/>
          </a:xfrm>
        </p:grpSpPr>
        <p:sp>
          <p:nvSpPr>
            <p:cNvPr id="63" name=""/>
            <p:cNvSpPr/>
            <p:nvPr/>
          </p:nvSpPr>
          <p:spPr>
            <a:xfrm>
              <a:off x="1408320" y="2320920"/>
              <a:ext cx="579060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Paper is very useful(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有用的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)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e paper here is not clean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66680" y="2514600"/>
              <a:ext cx="228600" cy="304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066680" y="3819600"/>
            <a:ext cx="5231160" cy="2432520"/>
            <a:chOff x="1066680" y="3819600"/>
            <a:chExt cx="5231160" cy="2432520"/>
          </a:xfrm>
        </p:grpSpPr>
        <p:sp>
          <p:nvSpPr>
            <p:cNvPr id="66" name=""/>
            <p:cNvSpPr/>
            <p:nvPr/>
          </p:nvSpPr>
          <p:spPr>
            <a:xfrm>
              <a:off x="1334880" y="3819600"/>
              <a:ext cx="4962960" cy="24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a piece of pap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two piece of pap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three glasses of wat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seven bottles of orang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66680" y="4038480"/>
              <a:ext cx="228600" cy="304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934320" y="4800600"/>
            <a:ext cx="1576440" cy="1569960"/>
            <a:chOff x="6934320" y="4800600"/>
            <a:chExt cx="1576440" cy="15699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7238880" y="4800600"/>
              <a:ext cx="1271880" cy="149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6934320" y="4876920"/>
              <a:ext cx="1271520" cy="1493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1447920" y="516240"/>
            <a:ext cx="5870880" cy="1847880"/>
            <a:chOff x="1447920" y="516240"/>
            <a:chExt cx="5870880" cy="1847880"/>
          </a:xfrm>
        </p:grpSpPr>
        <p:sp>
          <p:nvSpPr>
            <p:cNvPr id="421" name=""/>
            <p:cNvSpPr/>
            <p:nvPr/>
          </p:nvSpPr>
          <p:spPr>
            <a:xfrm>
              <a:off x="1666800" y="516240"/>
              <a:ext cx="565200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I don’t think chicken can swim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A. </a:t>
              </a:r>
              <a:r>
                <a:rPr b="1" lang="zh-CN" sz="32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我认为小鸡不会游泳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B. </a:t>
              </a:r>
              <a:r>
                <a:rPr b="1" lang="zh-CN" sz="32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我不认为小鸡游泳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47920" y="822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1447920" y="2665800"/>
            <a:ext cx="2372040" cy="581400"/>
            <a:chOff x="1447920" y="2665800"/>
            <a:chExt cx="2372040" cy="581400"/>
          </a:xfrm>
        </p:grpSpPr>
        <p:sp>
          <p:nvSpPr>
            <p:cNvPr id="424" name=""/>
            <p:cNvSpPr/>
            <p:nvPr/>
          </p:nvSpPr>
          <p:spPr>
            <a:xfrm>
              <a:off x="1447920" y="281916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441240" y="2665800"/>
              <a:ext cx="37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我认为他不喜欢猫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1425600" y="4220280"/>
            <a:ext cx="3171960" cy="581400"/>
            <a:chOff x="1425600" y="4220280"/>
            <a:chExt cx="3171960" cy="581400"/>
          </a:xfrm>
        </p:grpSpPr>
        <p:sp>
          <p:nvSpPr>
            <p:cNvPr id="427" name=""/>
            <p:cNvSpPr/>
            <p:nvPr/>
          </p:nvSpPr>
          <p:spPr>
            <a:xfrm>
              <a:off x="1425600" y="441936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18840" y="4220280"/>
              <a:ext cx="37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我们认为玛丽不善长踢足球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2760" cy="167616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827720" y="3275640"/>
            <a:ext cx="539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 don’t think he likes ca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680840" y="4778640"/>
            <a:ext cx="6490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e don’t think Mary is good 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laying footb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667520" y="1172160"/>
            <a:ext cx="2995200" cy="810000"/>
            <a:chOff x="1667520" y="1172160"/>
            <a:chExt cx="2995200" cy="810000"/>
          </a:xfrm>
        </p:grpSpPr>
        <p:sp>
          <p:nvSpPr>
            <p:cNvPr id="433" name=""/>
            <p:cNvSpPr/>
            <p:nvPr/>
          </p:nvSpPr>
          <p:spPr>
            <a:xfrm>
              <a:off x="3455280" y="1172160"/>
              <a:ext cx="120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A. </a:t>
              </a:r>
              <a:r>
                <a:rPr b="1" lang="zh-CN" sz="3200" spc="-1" strike="noStrike">
                  <a:solidFill>
                    <a:srgbClr val="ffff00"/>
                  </a:solidFill>
                  <a:latin typeface="隶书"/>
                  <a:ea typeface="隶书"/>
                </a:rPr>
                <a:t>我认为小鸡不会游泳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667520" y="1278720"/>
              <a:ext cx="51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Monotype Sorts"/>
                  <a:ea typeface="Monotype Sorts"/>
                </a:rPr>
                <a:t>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533520" y="334080"/>
            <a:ext cx="2357640" cy="581400"/>
            <a:chOff x="533520" y="334080"/>
            <a:chExt cx="2357640" cy="581400"/>
          </a:xfrm>
        </p:grpSpPr>
        <p:sp>
          <p:nvSpPr>
            <p:cNvPr id="436" name=""/>
            <p:cNvSpPr/>
            <p:nvPr/>
          </p:nvSpPr>
          <p:spPr>
            <a:xfrm>
              <a:off x="533520" y="5335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47400" y="33408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时间表达法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1600200" y="1143000"/>
            <a:ext cx="1981080" cy="2501280"/>
            <a:chOff x="1600200" y="1143000"/>
            <a:chExt cx="1981080" cy="2501280"/>
          </a:xfrm>
        </p:grpSpPr>
        <p:grpSp>
          <p:nvGrpSpPr>
            <p:cNvPr id="439" name=""/>
            <p:cNvGrpSpPr/>
            <p:nvPr/>
          </p:nvGrpSpPr>
          <p:grpSpPr>
            <a:xfrm>
              <a:off x="1600200" y="1143000"/>
              <a:ext cx="1981080" cy="1905120"/>
              <a:chOff x="1600200" y="1143000"/>
              <a:chExt cx="1981080" cy="1905120"/>
            </a:xfrm>
          </p:grpSpPr>
          <p:grpSp>
            <p:nvGrpSpPr>
              <p:cNvPr id="440" name=""/>
              <p:cNvGrpSpPr/>
              <p:nvPr/>
            </p:nvGrpSpPr>
            <p:grpSpPr>
              <a:xfrm>
                <a:off x="1600200" y="1143000"/>
                <a:ext cx="1981080" cy="1905120"/>
                <a:chOff x="1600200" y="1143000"/>
                <a:chExt cx="1981080" cy="1905120"/>
              </a:xfrm>
            </p:grpSpPr>
            <p:grpSp>
              <p:nvGrpSpPr>
                <p:cNvPr id="441" name=""/>
                <p:cNvGrpSpPr/>
                <p:nvPr/>
              </p:nvGrpSpPr>
              <p:grpSpPr>
                <a:xfrm>
                  <a:off x="1600200" y="1143000"/>
                  <a:ext cx="1981080" cy="1905120"/>
                  <a:chOff x="1600200" y="1143000"/>
                  <a:chExt cx="1981080" cy="190512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1600200" y="1143000"/>
                    <a:ext cx="1981080" cy="1905120"/>
                  </a:xfrm>
                  <a:prstGeom prst="flowChartConnector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1752480" y="1295280"/>
                    <a:ext cx="1675800" cy="1600200"/>
                  </a:xfrm>
                  <a:prstGeom prst="flowChartConnector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4" name=""/>
                <p:cNvSpPr/>
                <p:nvPr/>
              </p:nvSpPr>
              <p:spPr>
                <a:xfrm>
                  <a:off x="2590920" y="1295640"/>
                  <a:ext cx="0" cy="18720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H="1">
                  <a:off x="3241800" y="2075040"/>
                  <a:ext cx="18720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590920" y="2708280"/>
                  <a:ext cx="0" cy="1875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flipH="1">
                  <a:off x="1752120" y="2057400"/>
                  <a:ext cx="18756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2373120" y="1446840"/>
                  <a:ext cx="473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ff"/>
                      </a:solidFill>
                      <a:latin typeface="Comic Sans MS"/>
                      <a:ea typeface="仿宋_GB2312"/>
                    </a:rPr>
                    <a:t>1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2446200" y="2361240"/>
                  <a:ext cx="326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Comic Sans MS"/>
                      <a:ea typeface="仿宋_GB2312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1876320" y="1888200"/>
                  <a:ext cx="326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Comic Sans MS"/>
                      <a:ea typeface="仿宋_GB2312"/>
                    </a:rPr>
                    <a:t>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978280" y="1888200"/>
                  <a:ext cx="326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Comic Sans MS"/>
                      <a:ea typeface="仿宋_GB2312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2522880" y="1752120"/>
                  <a:ext cx="3546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ff"/>
                      </a:solidFill>
                      <a:latin typeface="Times New Roman"/>
                    </a:rPr>
                    <a:t>。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3" name=""/>
              <p:cNvSpPr/>
              <p:nvPr/>
            </p:nvSpPr>
            <p:spPr>
              <a:xfrm flipV="1">
                <a:off x="2590560" y="1371600"/>
                <a:ext cx="0" cy="75240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2590560" y="1523880"/>
                <a:ext cx="0" cy="609840"/>
              </a:xfrm>
              <a:prstGeom prst="line">
                <a:avLst/>
              </a:prstGeom>
              <a:ln w="5724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1850760" y="3062880"/>
              <a:ext cx="142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o’cloc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5105520" y="1143000"/>
            <a:ext cx="1981080" cy="2485440"/>
            <a:chOff x="5105520" y="1143000"/>
            <a:chExt cx="1981080" cy="2485440"/>
          </a:xfrm>
        </p:grpSpPr>
        <p:sp>
          <p:nvSpPr>
            <p:cNvPr id="457" name=""/>
            <p:cNvSpPr/>
            <p:nvPr/>
          </p:nvSpPr>
          <p:spPr>
            <a:xfrm>
              <a:off x="5717160" y="3047040"/>
              <a:ext cx="85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hal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5105520" y="1143000"/>
              <a:ext cx="1981080" cy="1905120"/>
              <a:chOff x="5105520" y="1143000"/>
              <a:chExt cx="1981080" cy="1905120"/>
            </a:xfrm>
          </p:grpSpPr>
          <p:grpSp>
            <p:nvGrpSpPr>
              <p:cNvPr id="459" name=""/>
              <p:cNvGrpSpPr/>
              <p:nvPr/>
            </p:nvGrpSpPr>
            <p:grpSpPr>
              <a:xfrm>
                <a:off x="5105520" y="1143000"/>
                <a:ext cx="1981080" cy="1905120"/>
                <a:chOff x="5105520" y="1143000"/>
                <a:chExt cx="1981080" cy="190512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5105520" y="1143000"/>
                  <a:ext cx="1981080" cy="1905120"/>
                </a:xfrm>
                <a:prstGeom prst="flowChartConnector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5257800" y="1295280"/>
                  <a:ext cx="1675800" cy="1600200"/>
                </a:xfrm>
                <a:prstGeom prst="flowChartConnector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2" name=""/>
              <p:cNvSpPr/>
              <p:nvPr/>
            </p:nvSpPr>
            <p:spPr>
              <a:xfrm>
                <a:off x="6096240" y="1295640"/>
                <a:ext cx="0" cy="1872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6747120" y="2075040"/>
                <a:ext cx="1872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096240" y="2708280"/>
                <a:ext cx="0" cy="1875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5257440" y="2057400"/>
                <a:ext cx="1875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878440" y="1446840"/>
                <a:ext cx="47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ff"/>
                    </a:solidFill>
                    <a:latin typeface="Comic Sans MS"/>
                    <a:ea typeface="仿宋_GB2312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951520" y="2361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Comic Sans MS"/>
                    <a:ea typeface="仿宋_GB2312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381640" y="18882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Comic Sans MS"/>
                    <a:ea typeface="仿宋_GB2312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483600" y="18882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Comic Sans MS"/>
                    <a:ea typeface="仿宋_GB2312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028200" y="1752120"/>
                <a:ext cx="35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Times New Roman"/>
                  </a:rPr>
                  <a:t>。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 flipH="1">
              <a:off x="5929560" y="2101680"/>
              <a:ext cx="154440" cy="5148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95880" y="2133720"/>
              <a:ext cx="0" cy="7524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029200" y="3886200"/>
            <a:ext cx="1981080" cy="2515680"/>
            <a:chOff x="5029200" y="3886200"/>
            <a:chExt cx="1981080" cy="2515680"/>
          </a:xfrm>
        </p:grpSpPr>
        <p:grpSp>
          <p:nvGrpSpPr>
            <p:cNvPr id="474" name=""/>
            <p:cNvGrpSpPr/>
            <p:nvPr/>
          </p:nvGrpSpPr>
          <p:grpSpPr>
            <a:xfrm>
              <a:off x="5029200" y="3886200"/>
              <a:ext cx="1981080" cy="2515680"/>
              <a:chOff x="5029200" y="3886200"/>
              <a:chExt cx="1981080" cy="2515680"/>
            </a:xfrm>
          </p:grpSpPr>
          <p:sp>
            <p:nvSpPr>
              <p:cNvPr id="475" name=""/>
              <p:cNvSpPr/>
              <p:nvPr/>
            </p:nvSpPr>
            <p:spPr>
              <a:xfrm>
                <a:off x="5785560" y="5820480"/>
                <a:ext cx="52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t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5029200" y="3886200"/>
                <a:ext cx="1981080" cy="1905120"/>
                <a:chOff x="5029200" y="3886200"/>
                <a:chExt cx="1981080" cy="1905120"/>
              </a:xfrm>
            </p:grpSpPr>
            <p:grpSp>
              <p:nvGrpSpPr>
                <p:cNvPr id="477" name=""/>
                <p:cNvGrpSpPr/>
                <p:nvPr/>
              </p:nvGrpSpPr>
              <p:grpSpPr>
                <a:xfrm>
                  <a:off x="5029200" y="3886200"/>
                  <a:ext cx="1981080" cy="1905120"/>
                  <a:chOff x="5029200" y="3886200"/>
                  <a:chExt cx="1981080" cy="1905120"/>
                </a:xfrm>
              </p:grpSpPr>
              <p:grpSp>
                <p:nvGrpSpPr>
                  <p:cNvPr id="478" name=""/>
                  <p:cNvGrpSpPr/>
                  <p:nvPr/>
                </p:nvGrpSpPr>
                <p:grpSpPr>
                  <a:xfrm>
                    <a:off x="5029200" y="3886200"/>
                    <a:ext cx="1981080" cy="1905120"/>
                    <a:chOff x="5029200" y="3886200"/>
                    <a:chExt cx="1981080" cy="1905120"/>
                  </a:xfrm>
                </p:grpSpPr>
                <p:sp>
                  <p:nvSpPr>
                    <p:cNvPr id="479" name=""/>
                    <p:cNvSpPr/>
                    <p:nvPr/>
                  </p:nvSpPr>
                  <p:spPr>
                    <a:xfrm>
                      <a:off x="5029200" y="3886200"/>
                      <a:ext cx="1981080" cy="1905120"/>
                    </a:xfrm>
                    <a:prstGeom prst="flowChartConnector">
                      <a:avLst/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>
                      <a:off x="5181480" y="4038480"/>
                      <a:ext cx="1675800" cy="1600200"/>
                    </a:xfrm>
                    <a:prstGeom prst="flowChartConnector">
                      <a:avLst/>
                    </a:prstGeom>
                    <a:solidFill>
                      <a:srgbClr val="ff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1" name=""/>
                  <p:cNvSpPr/>
                  <p:nvPr/>
                </p:nvSpPr>
                <p:spPr>
                  <a:xfrm>
                    <a:off x="6019560" y="4038480"/>
                    <a:ext cx="0" cy="1875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flipH="1">
                    <a:off x="6670080" y="4818240"/>
                    <a:ext cx="187560" cy="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6019560" y="5451480"/>
                    <a:ext cx="0" cy="18720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>
                    <a:off x="5181480" y="4800600"/>
                    <a:ext cx="187200" cy="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5801760" y="4190040"/>
                    <a:ext cx="473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000" spc="-1" strike="noStrike">
                        <a:solidFill>
                          <a:srgbClr val="0000ff"/>
                        </a:solidFill>
                        <a:latin typeface="Comic Sans MS"/>
                        <a:ea typeface="仿宋_GB2312"/>
                      </a:rPr>
                      <a:t>1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5875200" y="5104440"/>
                    <a:ext cx="326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Comic Sans MS"/>
                        <a:ea typeface="仿宋_GB2312"/>
                      </a:rPr>
                      <a:t>6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5305320" y="4631400"/>
                    <a:ext cx="326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Comic Sans MS"/>
                        <a:ea typeface="仿宋_GB2312"/>
                      </a:rPr>
                      <a:t>9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6406920" y="4631400"/>
                    <a:ext cx="326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Comic Sans MS"/>
                        <a:ea typeface="仿宋_GB2312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5951880" y="4494960"/>
                    <a:ext cx="3546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ff"/>
                        </a:solidFill>
                        <a:latin typeface="Times New Roman"/>
                      </a:rPr>
                      <a:t>。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0" name=""/>
                <p:cNvGrpSpPr/>
                <p:nvPr/>
              </p:nvGrpSpPr>
              <p:grpSpPr>
                <a:xfrm>
                  <a:off x="5181480" y="4114800"/>
                  <a:ext cx="838080" cy="1523880"/>
                  <a:chOff x="5181480" y="4114800"/>
                  <a:chExt cx="838080" cy="152388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flipH="1">
                    <a:off x="5257440" y="4114800"/>
                    <a:ext cx="533520" cy="45720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>
                    <a:off x="5181480" y="4114800"/>
                    <a:ext cx="838080" cy="76212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 flipH="1">
                    <a:off x="5257080" y="4343400"/>
                    <a:ext cx="762120" cy="68580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 flipV="1">
                    <a:off x="5333760" y="4571640"/>
                    <a:ext cx="685800" cy="60948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>
                    <a:off x="5409720" y="4800600"/>
                    <a:ext cx="609480" cy="53352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 flipH="1">
                    <a:off x="5486040" y="5029200"/>
                    <a:ext cx="533520" cy="45720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flipV="1">
                    <a:off x="5638680" y="5257440"/>
                    <a:ext cx="380880" cy="30492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>
                    <a:off x="5790600" y="541008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99" name=""/>
            <p:cNvGrpSpPr/>
            <p:nvPr/>
          </p:nvGrpSpPr>
          <p:grpSpPr>
            <a:xfrm>
              <a:off x="5333400" y="4833720"/>
              <a:ext cx="696600" cy="548280"/>
              <a:chOff x="5333400" y="4833720"/>
              <a:chExt cx="696600" cy="548280"/>
            </a:xfrm>
          </p:grpSpPr>
          <p:sp>
            <p:nvSpPr>
              <p:cNvPr id="500" name=""/>
              <p:cNvSpPr/>
              <p:nvPr/>
            </p:nvSpPr>
            <p:spPr>
              <a:xfrm flipH="1">
                <a:off x="5726880" y="4833720"/>
                <a:ext cx="303120" cy="54828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5333400" y="4876920"/>
                <a:ext cx="685800" cy="38088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2" name=""/>
          <p:cNvGrpSpPr/>
          <p:nvPr/>
        </p:nvGrpSpPr>
        <p:grpSpPr>
          <a:xfrm>
            <a:off x="1600200" y="3886200"/>
            <a:ext cx="1981080" cy="2439360"/>
            <a:chOff x="1600200" y="3886200"/>
            <a:chExt cx="1981080" cy="2439360"/>
          </a:xfrm>
        </p:grpSpPr>
        <p:grpSp>
          <p:nvGrpSpPr>
            <p:cNvPr id="503" name=""/>
            <p:cNvGrpSpPr/>
            <p:nvPr/>
          </p:nvGrpSpPr>
          <p:grpSpPr>
            <a:xfrm>
              <a:off x="1600200" y="3886200"/>
              <a:ext cx="1981080" cy="2439360"/>
              <a:chOff x="1600200" y="3886200"/>
              <a:chExt cx="1981080" cy="2439360"/>
            </a:xfrm>
          </p:grpSpPr>
          <p:sp>
            <p:nvSpPr>
              <p:cNvPr id="504" name=""/>
              <p:cNvSpPr/>
              <p:nvPr/>
            </p:nvSpPr>
            <p:spPr>
              <a:xfrm>
                <a:off x="2188080" y="5744160"/>
                <a:ext cx="904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pas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5" name=""/>
              <p:cNvGrpSpPr/>
              <p:nvPr/>
            </p:nvGrpSpPr>
            <p:grpSpPr>
              <a:xfrm>
                <a:off x="1600200" y="3886200"/>
                <a:ext cx="1981080" cy="1905120"/>
                <a:chOff x="1600200" y="3886200"/>
                <a:chExt cx="1981080" cy="1905120"/>
              </a:xfrm>
            </p:grpSpPr>
            <p:grpSp>
              <p:nvGrpSpPr>
                <p:cNvPr id="506" name=""/>
                <p:cNvGrpSpPr/>
                <p:nvPr/>
              </p:nvGrpSpPr>
              <p:grpSpPr>
                <a:xfrm>
                  <a:off x="1600200" y="3886200"/>
                  <a:ext cx="1981080" cy="1905120"/>
                  <a:chOff x="1600200" y="3886200"/>
                  <a:chExt cx="1981080" cy="1905120"/>
                </a:xfrm>
              </p:grpSpPr>
              <p:grpSp>
                <p:nvGrpSpPr>
                  <p:cNvPr id="507" name=""/>
                  <p:cNvGrpSpPr/>
                  <p:nvPr/>
                </p:nvGrpSpPr>
                <p:grpSpPr>
                  <a:xfrm>
                    <a:off x="1600200" y="3886200"/>
                    <a:ext cx="1981080" cy="1905120"/>
                    <a:chOff x="1600200" y="3886200"/>
                    <a:chExt cx="1981080" cy="1905120"/>
                  </a:xfrm>
                </p:grpSpPr>
                <p:sp>
                  <p:nvSpPr>
                    <p:cNvPr id="508" name=""/>
                    <p:cNvSpPr/>
                    <p:nvPr/>
                  </p:nvSpPr>
                  <p:spPr>
                    <a:xfrm>
                      <a:off x="1600200" y="3886200"/>
                      <a:ext cx="1981080" cy="1905120"/>
                    </a:xfrm>
                    <a:prstGeom prst="flowChartConnector">
                      <a:avLst/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>
                      <a:off x="1752480" y="4038480"/>
                      <a:ext cx="1675800" cy="1600200"/>
                    </a:xfrm>
                    <a:prstGeom prst="flowChartConnector">
                      <a:avLst/>
                    </a:prstGeom>
                    <a:solidFill>
                      <a:srgbClr val="ff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10" name=""/>
                  <p:cNvSpPr/>
                  <p:nvPr/>
                </p:nvSpPr>
                <p:spPr>
                  <a:xfrm>
                    <a:off x="2590920" y="4038840"/>
                    <a:ext cx="0" cy="18720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flipH="1">
                    <a:off x="3241800" y="4818240"/>
                    <a:ext cx="187200" cy="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2590920" y="5451480"/>
                    <a:ext cx="0" cy="1875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>
                    <a:off x="1752120" y="4800600"/>
                    <a:ext cx="187560" cy="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2373120" y="4190040"/>
                    <a:ext cx="473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000" spc="-1" strike="noStrike">
                        <a:solidFill>
                          <a:srgbClr val="0000ff"/>
                        </a:solidFill>
                        <a:latin typeface="Comic Sans MS"/>
                        <a:ea typeface="仿宋_GB2312"/>
                      </a:rPr>
                      <a:t>1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2446200" y="5104440"/>
                    <a:ext cx="326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Comic Sans MS"/>
                        <a:ea typeface="仿宋_GB2312"/>
                      </a:rPr>
                      <a:t>6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1876320" y="4631400"/>
                    <a:ext cx="326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Comic Sans MS"/>
                        <a:ea typeface="仿宋_GB2312"/>
                      </a:rPr>
                      <a:t>9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2978280" y="4631400"/>
                    <a:ext cx="326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Comic Sans MS"/>
                        <a:ea typeface="仿宋_GB2312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2522880" y="4495320"/>
                    <a:ext cx="3546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ff"/>
                        </a:solidFill>
                        <a:latin typeface="Times New Roman"/>
                      </a:rPr>
                      <a:t>。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9" name=""/>
                <p:cNvGrpSpPr/>
                <p:nvPr/>
              </p:nvGrpSpPr>
              <p:grpSpPr>
                <a:xfrm>
                  <a:off x="2590560" y="4114440"/>
                  <a:ext cx="838080" cy="1523880"/>
                  <a:chOff x="2590560" y="4114440"/>
                  <a:chExt cx="838080" cy="1523880"/>
                </a:xfrm>
              </p:grpSpPr>
              <p:sp>
                <p:nvSpPr>
                  <p:cNvPr id="520" name=""/>
                  <p:cNvSpPr/>
                  <p:nvPr/>
                </p:nvSpPr>
                <p:spPr>
                  <a:xfrm flipV="1">
                    <a:off x="2819160" y="5181120"/>
                    <a:ext cx="533520" cy="45720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flipV="1">
                    <a:off x="2590560" y="4876200"/>
                    <a:ext cx="838080" cy="76212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V="1">
                    <a:off x="2590920" y="4723920"/>
                    <a:ext cx="762120" cy="68580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flipH="1">
                    <a:off x="2590560" y="4572000"/>
                    <a:ext cx="685800" cy="60948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flipV="1">
                    <a:off x="2590920" y="4419000"/>
                    <a:ext cx="609480" cy="53352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V="1">
                    <a:off x="2590560" y="4266720"/>
                    <a:ext cx="533520" cy="45720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 flipH="1">
                    <a:off x="2590560" y="4190760"/>
                    <a:ext cx="380880" cy="30492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 flipV="1">
                    <a:off x="2590920" y="411444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28" name=""/>
            <p:cNvSpPr/>
            <p:nvPr/>
          </p:nvSpPr>
          <p:spPr>
            <a:xfrm flipH="1">
              <a:off x="2293200" y="4846320"/>
              <a:ext cx="287280" cy="3135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2590920" y="4647960"/>
              <a:ext cx="761760" cy="2286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"/>
          <p:cNvGrpSpPr/>
          <p:nvPr/>
        </p:nvGrpSpPr>
        <p:grpSpPr>
          <a:xfrm>
            <a:off x="833400" y="456480"/>
            <a:ext cx="1381320" cy="5549760"/>
            <a:chOff x="833400" y="456480"/>
            <a:chExt cx="1381320" cy="5549760"/>
          </a:xfrm>
        </p:grpSpPr>
        <p:sp>
          <p:nvSpPr>
            <p:cNvPr id="531" name=""/>
            <p:cNvSpPr/>
            <p:nvPr/>
          </p:nvSpPr>
          <p:spPr>
            <a:xfrm>
              <a:off x="833400" y="456480"/>
              <a:ext cx="1376280" cy="520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8: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38080" y="1294560"/>
              <a:ext cx="1376640" cy="520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8:0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38080" y="2299680"/>
              <a:ext cx="1376640" cy="520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8:1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38080" y="3290040"/>
              <a:ext cx="1376640" cy="520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8: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38080" y="4190400"/>
              <a:ext cx="1376640" cy="5205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8:4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38080" y="5485680"/>
              <a:ext cx="1376640" cy="5205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8:4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2278080" y="456480"/>
            <a:ext cx="36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ight / eight o’c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362680" y="1294560"/>
            <a:ext cx="473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ight five / five past 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91120" y="2057400"/>
            <a:ext cx="58014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ight fifteen / fifteen past 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quarter past 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359800" y="3276000"/>
            <a:ext cx="512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ight thirty /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lf past 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323800" y="4190400"/>
            <a:ext cx="50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ight forty / twenty to 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261520" y="5049720"/>
            <a:ext cx="3192120" cy="13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ight fifty-f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ifteen to 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quarter to 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CLOCK7" descr=""/>
          <p:cNvPicPr/>
          <p:nvPr/>
        </p:nvPicPr>
        <p:blipFill>
          <a:blip r:embed="rId7"/>
          <a:stretch/>
        </p:blipFill>
        <p:spPr>
          <a:xfrm>
            <a:off x="7620120" y="5181480"/>
            <a:ext cx="1224000" cy="13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"/>
          <p:cNvGrpSpPr/>
          <p:nvPr/>
        </p:nvGrpSpPr>
        <p:grpSpPr>
          <a:xfrm>
            <a:off x="915480" y="791280"/>
            <a:ext cx="7355880" cy="1800720"/>
            <a:chOff x="915480" y="791280"/>
            <a:chExt cx="7355880" cy="1800720"/>
          </a:xfrm>
        </p:grpSpPr>
        <p:sp>
          <p:nvSpPr>
            <p:cNvPr id="545" name=""/>
            <p:cNvSpPr/>
            <p:nvPr/>
          </p:nvSpPr>
          <p:spPr>
            <a:xfrm>
              <a:off x="3368520" y="791280"/>
              <a:ext cx="1889280" cy="581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the Read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915480" y="2010600"/>
              <a:ext cx="735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Arial Narrow"/>
                </a:rPr>
                <a:t>Mr Read</a:t>
              </a:r>
              <a:r>
                <a:rPr b="1" lang="zh-CN" sz="3200" spc="-1" strike="noStrike">
                  <a:solidFill>
                    <a:srgbClr val="ffff00"/>
                  </a:solidFill>
                  <a:latin typeface="Arial Narrow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Arial Narrow"/>
                </a:rPr>
                <a:t>Mrs Read</a:t>
              </a:r>
              <a:r>
                <a:rPr b="1" lang="zh-CN" sz="3200" spc="-1" strike="noStrike">
                  <a:solidFill>
                    <a:srgbClr val="ffff00"/>
                  </a:solidFill>
                  <a:latin typeface="Arial Narrow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Arial Narrow"/>
                </a:rPr>
                <a:t>Jim Read</a:t>
              </a:r>
              <a:r>
                <a:rPr b="1" lang="zh-CN" sz="3200" spc="-1" strike="noStrike">
                  <a:solidFill>
                    <a:srgbClr val="ffff00"/>
                  </a:solidFill>
                  <a:latin typeface="Arial Narrow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Arial Narrow"/>
                </a:rPr>
                <a:t>Mary Rea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1828800" y="1371600"/>
              <a:ext cx="2362320" cy="762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3581280" y="1371600"/>
              <a:ext cx="609840" cy="762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91120" y="1371600"/>
              <a:ext cx="1143000" cy="838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91120" y="1371600"/>
              <a:ext cx="2819160" cy="838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7238880" y="304920"/>
            <a:ext cx="1197000" cy="162540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670320" y="2772000"/>
            <a:ext cx="8350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the K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the Zha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The Whites are having supper n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The Wangs are going to see you ton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"/>
          <p:cNvGrpSpPr/>
          <p:nvPr/>
        </p:nvGrpSpPr>
        <p:grpSpPr>
          <a:xfrm>
            <a:off x="685800" y="225360"/>
            <a:ext cx="7904160" cy="5943240"/>
            <a:chOff x="685800" y="225360"/>
            <a:chExt cx="7904160" cy="5943240"/>
          </a:xfrm>
        </p:grpSpPr>
        <p:sp>
          <p:nvSpPr>
            <p:cNvPr id="554" name=""/>
            <p:cNvSpPr/>
            <p:nvPr/>
          </p:nvSpPr>
          <p:spPr>
            <a:xfrm>
              <a:off x="905040" y="225360"/>
              <a:ext cx="7684920" cy="59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交际用语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Shall I/we…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ve no idea.</a:t>
              </a:r>
              <a:br>
                <a:rPr sz="3200"/>
              </a:b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 think so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d love to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 have quite a lot of homework to do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hy don’t you…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Let’s make it at nine o’clock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85800" y="12952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5800" y="20574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85800" y="27432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85800" y="35053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85800" y="41911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5800" y="495288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85800" y="57150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7391520" y="4995720"/>
            <a:ext cx="1149120" cy="14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1838520" y="1050840"/>
            <a:ext cx="549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Unit 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Mainly Revi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7924680" y="5257800"/>
            <a:ext cx="89244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386000" y="303840"/>
            <a:ext cx="54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Unit 1— Unit 7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的短语及固定表达法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48760" y="927000"/>
            <a:ext cx="830052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is/next term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piece of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elcome to…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t doesn’t ma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y bus/train/bike…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n f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’d like…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ifferent kind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t nigh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 the open 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me ov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n Mid-Autumn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ood night!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lit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othing much!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ood idea!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few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ave a sw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7612200" y="4678200"/>
            <a:ext cx="998280" cy="17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681840" y="433440"/>
            <a:ext cx="7672680" cy="56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t’s time for…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ext week/month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elp… with…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ut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t o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e carefu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uch bigg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e hard to r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ork har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nly a f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’ve no idea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ave a good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ll the tim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e good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little earli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ork must come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atch a gam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ind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429000" y="5181480"/>
            <a:ext cx="830160" cy="14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790560" y="577440"/>
            <a:ext cx="178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复习时态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1315800" y="1400760"/>
            <a:ext cx="6631920" cy="3552840"/>
            <a:chOff x="1315800" y="1400760"/>
            <a:chExt cx="6631920" cy="3552840"/>
          </a:xfrm>
        </p:grpSpPr>
        <p:sp>
          <p:nvSpPr>
            <p:cNvPr id="572" name=""/>
            <p:cNvSpPr/>
            <p:nvPr/>
          </p:nvSpPr>
          <p:spPr>
            <a:xfrm>
              <a:off x="1754640" y="1400760"/>
              <a:ext cx="606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1. do/does 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一般现在时态（习惯性、经常性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315800" y="2848320"/>
              <a:ext cx="546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2. be doing 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现在进行时态 （进行性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90040" y="4372200"/>
              <a:ext cx="645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3. be going to do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表示将要发生的动作或状态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829080" y="1980360"/>
            <a:ext cx="7606080" cy="3507120"/>
            <a:chOff x="829080" y="1980360"/>
            <a:chExt cx="7606080" cy="3507120"/>
          </a:xfrm>
        </p:grpSpPr>
        <p:sp>
          <p:nvSpPr>
            <p:cNvPr id="576" name=""/>
            <p:cNvSpPr/>
            <p:nvPr/>
          </p:nvSpPr>
          <p:spPr>
            <a:xfrm>
              <a:off x="867600" y="1980360"/>
              <a:ext cx="756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She swims every day in the summer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42760" y="3458160"/>
              <a:ext cx="701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She is swimming in the river now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29080" y="4906080"/>
              <a:ext cx="658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She is going to swim tomorrow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3110760" y="1980360"/>
            <a:ext cx="4563360" cy="3507120"/>
            <a:chOff x="3110760" y="1980360"/>
            <a:chExt cx="4563360" cy="3507120"/>
          </a:xfrm>
        </p:grpSpPr>
        <p:sp>
          <p:nvSpPr>
            <p:cNvPr id="580" name=""/>
            <p:cNvSpPr/>
            <p:nvPr/>
          </p:nvSpPr>
          <p:spPr>
            <a:xfrm>
              <a:off x="3110760" y="1980360"/>
              <a:ext cx="2149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Comic Sans MS"/>
                </a:rPr>
                <a:t>every da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626160" y="3458160"/>
              <a:ext cx="104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Comic Sans MS"/>
                </a:rPr>
                <a:t>no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035680" y="4906080"/>
              <a:ext cx="22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Comic Sans MS"/>
                </a:rPr>
                <a:t>tomorro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7792920" y="5334120"/>
            <a:ext cx="92736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810000" y="840600"/>
            <a:ext cx="7774920" cy="53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. Listen, who ________ (sing) in the ro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. ____ they always _____ (go) to 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 the morn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. We ___________ (see) Uncle Wa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is eve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4. The students _________ (have) classes 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. Kate is a student. She _______ (stud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 a middle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14720" y="30384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xerci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7924680" y="5046840"/>
            <a:ext cx="795600" cy="1582560"/>
          </a:xfrm>
          <a:prstGeom prst="rect">
            <a:avLst/>
          </a:prstGeom>
          <a:ln w="0">
            <a:noFill/>
          </a:ln>
        </p:spPr>
      </p:pic>
      <p:grpSp>
        <p:nvGrpSpPr>
          <p:cNvPr id="587" name=""/>
          <p:cNvGrpSpPr/>
          <p:nvPr/>
        </p:nvGrpSpPr>
        <p:grpSpPr>
          <a:xfrm>
            <a:off x="761760" y="928080"/>
            <a:ext cx="8145720" cy="4635360"/>
            <a:chOff x="761760" y="928080"/>
            <a:chExt cx="8145720" cy="4635360"/>
          </a:xfrm>
        </p:grpSpPr>
        <p:sp>
          <p:nvSpPr>
            <p:cNvPr id="588" name=""/>
            <p:cNvSpPr/>
            <p:nvPr/>
          </p:nvSpPr>
          <p:spPr>
            <a:xfrm>
              <a:off x="884880" y="92808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List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838600" y="1675800"/>
              <a:ext cx="140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alway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61760" y="3594960"/>
              <a:ext cx="236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this even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970760" y="4342680"/>
              <a:ext cx="9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now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967320" y="5042880"/>
              <a:ext cx="32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Comic Sans MS"/>
                </a:rPr>
                <a:t>Kate is a student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3000960" y="9136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is sin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314000" y="1613880"/>
            <a:ext cx="361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Do                          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497600" y="2985480"/>
            <a:ext cx="281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is going to s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271680" y="4280760"/>
            <a:ext cx="21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are ha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083560" y="5042880"/>
            <a:ext cx="155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stu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20000" y="1344600"/>
            <a:ext cx="741204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 want to buy an evening  pa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 need some paper to write a pa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lease hand in your papers, plea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61320" y="20113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报纸（可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71160" y="2925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论文（可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67560" y="37638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试卷（可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60720" y="49068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橘子（可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19040" y="58212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橘子汁（不可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57200" y="339840"/>
            <a:ext cx="6702480" cy="1263240"/>
            <a:chOff x="457200" y="339840"/>
            <a:chExt cx="6702480" cy="1263240"/>
          </a:xfrm>
        </p:grpSpPr>
        <p:sp>
          <p:nvSpPr>
            <p:cNvPr id="78" name=""/>
            <p:cNvSpPr/>
            <p:nvPr/>
          </p:nvSpPr>
          <p:spPr>
            <a:xfrm>
              <a:off x="1860120" y="339840"/>
              <a:ext cx="52995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paper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既可以作可数名词，也可以作不可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        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名词，但所表达的意思不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7200" y="627120"/>
              <a:ext cx="228600" cy="304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33520" y="4248000"/>
            <a:ext cx="6212520" cy="1848600"/>
            <a:chOff x="533520" y="4248000"/>
            <a:chExt cx="6212520" cy="1848600"/>
          </a:xfrm>
        </p:grpSpPr>
        <p:sp>
          <p:nvSpPr>
            <p:cNvPr id="81" name=""/>
            <p:cNvSpPr/>
            <p:nvPr/>
          </p:nvSpPr>
          <p:spPr>
            <a:xfrm>
              <a:off x="627840" y="4248000"/>
              <a:ext cx="6118200" cy="184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An orange is orang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Would you like some orange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3520" y="4648320"/>
              <a:ext cx="228600" cy="30456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1359000" y="380160"/>
            <a:ext cx="570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英文中的“看”：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look, see, read, w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685800" y="2471760"/>
            <a:ext cx="7276680" cy="1263240"/>
            <a:chOff x="685800" y="2471760"/>
            <a:chExt cx="7276680" cy="1263240"/>
          </a:xfrm>
        </p:grpSpPr>
        <p:sp>
          <p:nvSpPr>
            <p:cNvPr id="600" name=""/>
            <p:cNvSpPr/>
            <p:nvPr/>
          </p:nvSpPr>
          <p:spPr>
            <a:xfrm>
              <a:off x="1254600" y="2471760"/>
              <a:ext cx="670788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see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意为“看见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、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看到”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,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强调“看”的结果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Look outside! Can you see a cat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85800" y="274284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685800" y="3843720"/>
            <a:ext cx="6571080" cy="1263240"/>
            <a:chOff x="685800" y="3843720"/>
            <a:chExt cx="6571080" cy="1263240"/>
          </a:xfrm>
        </p:grpSpPr>
        <p:sp>
          <p:nvSpPr>
            <p:cNvPr id="603" name=""/>
            <p:cNvSpPr/>
            <p:nvPr/>
          </p:nvSpPr>
          <p:spPr>
            <a:xfrm>
              <a:off x="685800" y="41497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086840" y="3843720"/>
              <a:ext cx="617004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watch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意为“观看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、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注视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、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注意看”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atch what I do, and learn it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685800" y="1100520"/>
            <a:ext cx="6944760" cy="1263240"/>
            <a:chOff x="685800" y="1100520"/>
            <a:chExt cx="6944760" cy="1263240"/>
          </a:xfrm>
        </p:grpSpPr>
        <p:sp>
          <p:nvSpPr>
            <p:cNvPr id="606" name=""/>
            <p:cNvSpPr/>
            <p:nvPr/>
          </p:nvSpPr>
          <p:spPr>
            <a:xfrm>
              <a:off x="905400" y="1100520"/>
              <a:ext cx="67251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look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意为“看……”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,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强调“看”的动作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Look at the blackboard, please.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85800" y="13716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685800" y="5180040"/>
            <a:ext cx="6276240" cy="1263240"/>
            <a:chOff x="685800" y="5180040"/>
            <a:chExt cx="6276240" cy="1263240"/>
          </a:xfrm>
        </p:grpSpPr>
        <p:sp>
          <p:nvSpPr>
            <p:cNvPr id="609" name=""/>
            <p:cNvSpPr/>
            <p:nvPr/>
          </p:nvSpPr>
          <p:spPr>
            <a:xfrm>
              <a:off x="846720" y="5180040"/>
              <a:ext cx="611532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read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意为“阅读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、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 读书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、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朗读”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 read newspapers every day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85800" y="54511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7391520" y="4572000"/>
            <a:ext cx="1295280" cy="19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2180880" y="467280"/>
            <a:ext cx="10036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看电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看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看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看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看地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看电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看比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380880" y="431640"/>
            <a:ext cx="1724040" cy="185436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3630240" y="459360"/>
            <a:ext cx="50270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ee a fil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ee a pl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ead a bo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ead a newspa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ead a m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watch T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watch a match/g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"/>
          <p:cNvGrpSpPr/>
          <p:nvPr/>
        </p:nvGrpSpPr>
        <p:grpSpPr>
          <a:xfrm>
            <a:off x="1828800" y="643320"/>
            <a:ext cx="5405400" cy="1263240"/>
            <a:chOff x="1828800" y="643320"/>
            <a:chExt cx="5405400" cy="1263240"/>
          </a:xfrm>
        </p:grpSpPr>
        <p:sp>
          <p:nvSpPr>
            <p:cNvPr id="616" name=""/>
            <p:cNvSpPr/>
            <p:nvPr/>
          </p:nvSpPr>
          <p:spPr>
            <a:xfrm>
              <a:off x="2141640" y="643320"/>
              <a:ext cx="50925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My mother is a teacher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I am </a:t>
              </a: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</a:rPr>
                <a:t>also</a:t>
              </a: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 a teacher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828800" y="9144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1828800" y="2090880"/>
            <a:ext cx="5357160" cy="1263240"/>
            <a:chOff x="1828800" y="2090880"/>
            <a:chExt cx="5357160" cy="1263240"/>
          </a:xfrm>
        </p:grpSpPr>
        <p:sp>
          <p:nvSpPr>
            <p:cNvPr id="619" name=""/>
            <p:cNvSpPr/>
            <p:nvPr/>
          </p:nvSpPr>
          <p:spPr>
            <a:xfrm>
              <a:off x="2062800" y="2090880"/>
              <a:ext cx="51231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My father likes reading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I </a:t>
              </a: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</a:rPr>
                <a:t>also</a:t>
              </a: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 like reading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828800" y="23623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1828800" y="4834080"/>
            <a:ext cx="5329080" cy="1263240"/>
            <a:chOff x="1828800" y="4834080"/>
            <a:chExt cx="5329080" cy="1263240"/>
          </a:xfrm>
        </p:grpSpPr>
        <p:sp>
          <p:nvSpPr>
            <p:cNvPr id="622" name=""/>
            <p:cNvSpPr/>
            <p:nvPr/>
          </p:nvSpPr>
          <p:spPr>
            <a:xfrm>
              <a:off x="2065320" y="4834080"/>
              <a:ext cx="50925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My mother is a teacher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</a:rPr>
                <a:t>Me too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828800" y="5105160"/>
              <a:ext cx="228600" cy="22824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1828800" y="3462480"/>
            <a:ext cx="5329080" cy="1263240"/>
            <a:chOff x="1828800" y="3462480"/>
            <a:chExt cx="5329080" cy="1263240"/>
          </a:xfrm>
        </p:grpSpPr>
        <p:sp>
          <p:nvSpPr>
            <p:cNvPr id="625" name=""/>
            <p:cNvSpPr/>
            <p:nvPr/>
          </p:nvSpPr>
          <p:spPr>
            <a:xfrm>
              <a:off x="2065320" y="3462480"/>
              <a:ext cx="50925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My mother is a teacher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I am a teacher, </a:t>
              </a: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</a:rPr>
                <a:t>too</a:t>
              </a: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828800" y="37339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7238880" y="4876920"/>
            <a:ext cx="1494000" cy="15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"/>
          <p:cNvGrpSpPr/>
          <p:nvPr/>
        </p:nvGrpSpPr>
        <p:grpSpPr>
          <a:xfrm>
            <a:off x="685800" y="422280"/>
            <a:ext cx="7644960" cy="3165840"/>
            <a:chOff x="685800" y="422280"/>
            <a:chExt cx="7644960" cy="3165840"/>
          </a:xfrm>
        </p:grpSpPr>
        <p:sp>
          <p:nvSpPr>
            <p:cNvPr id="629" name=""/>
            <p:cNvSpPr/>
            <p:nvPr/>
          </p:nvSpPr>
          <p:spPr>
            <a:xfrm>
              <a:off x="849960" y="422280"/>
              <a:ext cx="7480800" cy="31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交际用语</a:t>
              </a: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</a:rPr>
                <a:t>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Comic Sans MS"/>
                </a:rPr>
                <a:t>Sorry, I’m busy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Comic Sans MS"/>
                </a:rPr>
                <a:t>Football is a very popular game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5800" y="205740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85800" y="3048120"/>
              <a:ext cx="22860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3505320" y="4702320"/>
            <a:ext cx="1981080" cy="174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89720" y="457200"/>
            <a:ext cx="324972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short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短的；矮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all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长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long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高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9960" y="2603520"/>
            <a:ext cx="3411720" cy="25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a </a:t>
            </a:r>
            <a:r>
              <a:rPr b="1" lang="zh-CN" sz="3200" spc="-1" strike="noStrike">
                <a:solidFill>
                  <a:srgbClr val="ffff00"/>
                </a:solidFill>
                <a:latin typeface="Bookman Old Style"/>
              </a:rPr>
              <a:t>short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 pen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短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a </a:t>
            </a:r>
            <a:r>
              <a:rPr b="1" lang="zh-CN" sz="3200" spc="-1" strike="noStrike">
                <a:solidFill>
                  <a:srgbClr val="ffff00"/>
                </a:solidFill>
                <a:latin typeface="Bookman Old Style"/>
              </a:rPr>
              <a:t>short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 time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短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a </a:t>
            </a:r>
            <a:r>
              <a:rPr b="1" lang="zh-CN" sz="3200" spc="-1" strike="noStrike">
                <a:solidFill>
                  <a:srgbClr val="ffff00"/>
                </a:solidFill>
                <a:latin typeface="Bookman Old Style"/>
              </a:rPr>
              <a:t>short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 girl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矮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52160" y="2603520"/>
            <a:ext cx="3411720" cy="25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a </a:t>
            </a:r>
            <a:r>
              <a:rPr b="1" lang="zh-CN" sz="3200" spc="-1" strike="noStrike">
                <a:solidFill>
                  <a:srgbClr val="ffff00"/>
                </a:solidFill>
                <a:latin typeface="Bookman Old Style"/>
              </a:rPr>
              <a:t>long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 pen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长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a </a:t>
            </a:r>
            <a:r>
              <a:rPr b="1" lang="zh-CN" sz="3200" spc="-1" strike="noStrike">
                <a:solidFill>
                  <a:srgbClr val="ffff00"/>
                </a:solidFill>
                <a:latin typeface="Bookman Old Style"/>
              </a:rPr>
              <a:t>long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 time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长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a </a:t>
            </a:r>
            <a:r>
              <a:rPr b="1" lang="zh-CN" sz="3200" spc="-1" strike="noStrike">
                <a:solidFill>
                  <a:srgbClr val="ffff00"/>
                </a:solidFill>
                <a:latin typeface="Bookman Old Style"/>
              </a:rPr>
              <a:t>tall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 girl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</a:rPr>
              <a:t>高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114800" y="5105520"/>
            <a:ext cx="1371600" cy="1523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943600" y="571680"/>
            <a:ext cx="2100240" cy="674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477120" y="571680"/>
            <a:ext cx="2100240" cy="67464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6324480" y="952560"/>
            <a:ext cx="1905120" cy="571320"/>
            <a:chOff x="6324480" y="952560"/>
            <a:chExt cx="1905120" cy="571320"/>
          </a:xfrm>
        </p:grpSpPr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6324480" y="952560"/>
              <a:ext cx="160020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>
              <a:off x="6629400" y="1009800"/>
              <a:ext cx="1600200" cy="5140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1301760" y="434880"/>
            <a:ext cx="4911120" cy="1361160"/>
            <a:chOff x="1301760" y="434880"/>
            <a:chExt cx="4911120" cy="1361160"/>
          </a:xfrm>
        </p:grpSpPr>
        <p:sp>
          <p:nvSpPr>
            <p:cNvPr id="93" name=""/>
            <p:cNvSpPr/>
            <p:nvPr/>
          </p:nvSpPr>
          <p:spPr>
            <a:xfrm>
              <a:off x="1702440" y="434880"/>
              <a:ext cx="4510440" cy="13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time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时间 （不可数名词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t’s time to go to bed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01760" y="685800"/>
              <a:ext cx="228600" cy="304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295280" y="1981080"/>
            <a:ext cx="4045680" cy="2628360"/>
            <a:chOff x="1295280" y="1981080"/>
            <a:chExt cx="4045680" cy="2628360"/>
          </a:xfrm>
        </p:grpSpPr>
        <p:sp>
          <p:nvSpPr>
            <p:cNvPr id="96" name=""/>
            <p:cNvSpPr/>
            <p:nvPr/>
          </p:nvSpPr>
          <p:spPr>
            <a:xfrm>
              <a:off x="2136960" y="1981080"/>
              <a:ext cx="3204000" cy="26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time </a:t>
              </a: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次数 （可数名词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next tim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hree tim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five tim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95280" y="2244600"/>
              <a:ext cx="228600" cy="304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295280" y="4876920"/>
            <a:ext cx="3370320" cy="1068840"/>
            <a:chOff x="1295280" y="4876920"/>
            <a:chExt cx="3370320" cy="1068840"/>
          </a:xfrm>
        </p:grpSpPr>
        <p:sp>
          <p:nvSpPr>
            <p:cNvPr id="99" name=""/>
            <p:cNvSpPr/>
            <p:nvPr/>
          </p:nvSpPr>
          <p:spPr>
            <a:xfrm>
              <a:off x="1295280" y="4952880"/>
              <a:ext cx="228600" cy="3049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34880" y="4876920"/>
              <a:ext cx="333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once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Comic Sans MS"/>
                </a:rPr>
                <a:t>一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twice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zh-CN" sz="3200" spc="-1" strike="noStrike">
                  <a:solidFill>
                    <a:srgbClr val="ffff00"/>
                  </a:solidFill>
                  <a:latin typeface="Comic Sans MS"/>
                </a:rPr>
                <a:t>两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05440" y="4343400"/>
            <a:ext cx="150048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467480" y="4952880"/>
            <a:ext cx="1208160" cy="155736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1219320" y="423720"/>
            <a:ext cx="6272640" cy="5212080"/>
            <a:chOff x="1219320" y="423720"/>
            <a:chExt cx="6272640" cy="5212080"/>
          </a:xfrm>
        </p:grpSpPr>
        <p:sp>
          <p:nvSpPr>
            <p:cNvPr id="104" name=""/>
            <p:cNvSpPr/>
            <p:nvPr/>
          </p:nvSpPr>
          <p:spPr>
            <a:xfrm>
              <a:off x="1378440" y="423720"/>
              <a:ext cx="6113520" cy="521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交际用语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Welcome back to school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May I come in, please?</a:t>
              </a:r>
              <a:br>
                <a:rPr sz="3200"/>
              </a:b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’m sorry I’m lat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It doesn’t matter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May I borrow/have…, please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</a:rPr>
                <a:t>Here, take this on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19320" y="1523880"/>
              <a:ext cx="22824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19320" y="2286000"/>
              <a:ext cx="22824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19320" y="2971800"/>
              <a:ext cx="22824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19320" y="3733920"/>
              <a:ext cx="22824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9320" y="4419720"/>
              <a:ext cx="22824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9320" y="5181480"/>
              <a:ext cx="228240" cy="2286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08:01:13Z</dcterms:created>
  <dc:creator>陆珉 侯淑珍</dc:creator>
  <dc:description/>
  <dc:language>en-US</dc:language>
  <cp:lastModifiedBy>a</cp:lastModifiedBy>
  <dcterms:modified xsi:type="dcterms:W3CDTF">2001-03-13T06:21:05Z</dcterms:modified>
  <cp:revision>126</cp:revision>
  <dc:subject/>
  <dc:title>没有幻灯片标题</dc:title>
</cp:coreProperties>
</file>