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type.wav" ContentType="audio/x-wav"/>
  <Override PartName="/ppt/media/image10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4.png" ContentType="image/png"/>
  <Override PartName="/ppt/media/image12.gif" ContentType="image/gif"/>
  <Override PartName="/ppt/media/image14.png" ContentType="image/png"/>
  <Override PartName="/ppt/media/image11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8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001-9EFD-4BEC-B7AF-29BE3AEB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224-95CD-4524-BD9D-64891D33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2ADE5-8C38-49A3-96BA-A391ACD0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A70E5-B7C3-4910-B63B-89FF37D8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C3062-B0F5-431C-B405-FC56A15F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755B5-2A3E-4230-88F3-DA3C3A4B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DF2EF-7B13-420C-BB41-CCEA8536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68B99-0559-44F4-B5D0-FA3D5664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69E28-7615-475C-9B2A-7FF8E83E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07DCA-2F3E-43BE-A0B1-8DB6CFED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F867D-D2D7-4657-9462-9B913EAD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0B883-A9BC-48D8-A9DC-20FEB1AD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18A-8FB6-4361-8924-759599BF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87F22-6F79-4957-9D7D-2DD31329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DB10C-5F08-47A6-BE38-8053EB0F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AAC5A-9283-4FFF-A020-37A31C0A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433B2-6D59-4FC2-8DEA-F246EC65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18107-43FC-49F7-AEE4-6B29961B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3A460-C8F3-4A89-9031-4FED5E2B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20A1D-8346-4FC1-867F-A040BF20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D3309-D927-400B-B5D1-5AC60C72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DB4A5-189C-457E-BFF1-E12A76F0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6D79C-6D62-44E6-9AC2-87BD78BD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40E-DD01-434C-BF11-E05B46D6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460E9-13AE-4867-94B7-8CAAFD80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942BC9-4D75-4218-AE7D-EAED4468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685719-D65D-41D1-B488-D0075F61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C3DDD9-0C9E-4F19-8906-A2BCD5B9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B4230F-741D-42C6-A075-28EF15A0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88D365-D796-4FD5-B69F-514139AB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BF857E-D4B4-46A6-B549-0C47D606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449F66-CF65-43FC-A028-6AA0458A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D1198F-3E2E-46EA-A086-274EB89F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49EFCA-3382-4360-B4CD-13A235CD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EF2D36-A399-4C61-937B-E7983788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9FE2E1-8B76-4626-9672-59CB3DE9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6E4D06-AF3E-4CCD-AC87-478BA6DE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24A24-F615-4C4D-8975-FD0DF902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692B8-F818-4F73-95A0-45F9BEC7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98AEF-36CB-45EF-85C7-288011E7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9AE67-5D2F-4967-8774-4F2392DA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3D6E9-32CD-4B49-89CD-C809CC3C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A6398-BCA1-452D-A239-AFCCEDAE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89006-06D6-493E-9B4B-22E372D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494B0-FB9E-48DC-91BD-4CBED6C6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6D820-9516-4BD8-930B-87423C74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05310-2C0B-42B3-B746-F9A796FB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0DEF6-2C2B-42BC-8997-84DB1AE1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36165-CC55-47DE-80FA-2DE7D6A1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3D7C7-D8BC-4441-9561-91DF023C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1637F-54EC-4175-BAE0-6A986008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73787-3C5A-44C5-9AC4-4F7E34A7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20E8E-4315-4805-9CF6-9E3525F4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C3DE0-E904-4AD6-B6A4-493BD0FC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78F55-3073-4B54-8E1F-3031C426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777FC-FF57-4A76-A57F-D19E62A9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6433B-EEA9-4A7E-A59E-D787969B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E627D-87AA-4BBE-9B6E-7D85B786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9875C-12D9-4FB4-AEB3-5E72C209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D08C0-CFF9-46AE-B336-051E8AB0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41366-D173-434F-9AF9-38D556DD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5EEC7-11EC-4069-B0A2-99C7C71C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82D5B-FF6F-498D-BF05-D71BFA66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D9DFC-A427-4CD3-9ABD-DD7E3389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57974-A9BF-4EC4-BD85-BE09E279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526CE-AE50-42DB-BC18-040A0DEC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AE1CB-5565-41AE-9F8F-E198232D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7EBA0-00C7-4D2A-B814-DE244ED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CB449-00E5-4C3E-9B04-784A8805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EF03A-C592-474F-94A6-31982640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692A9-CD64-4BFA-A9BF-926EEFA4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EBE04-9AFD-48DA-A903-EB3BA723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A6F1B-3F5B-4E5B-8339-E3DC2325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19AD9-5CB5-4899-91DA-6CEAEF8D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B57F3-9B3F-47AD-A91F-9F8844EF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EDFF6-F2EA-4E61-9B72-44C50C5E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60425-890B-479D-A7C9-5CAC8079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F3974-5D0F-49DC-B14D-DBE48A8E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ACAA9-1310-48B7-AF24-E58F1019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519592-890C-45AB-91D7-C157E94B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59AF3-7C68-4551-A4B1-8978741F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A04F4-03FF-4287-B6BD-74AFD4FE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44F8C-477B-491D-9FFF-CB164F8F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EDD6E-A533-49EB-ADA5-EE1043C9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0CB2C-3E20-470A-8E1B-B654193C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08C618-47FF-4896-B095-FF194CF4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F20F4-6B3C-4946-AAF9-DB3AAC54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AA2AA1-37E5-43EA-A7DF-C0CAF68E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75862-5DDA-4354-82F7-22D5C612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39B91-F277-4210-9F81-261A3821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CB940-100B-4C2F-BB1E-BDABA65A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131E66-AD2B-4122-9F5E-DDFB24D7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0174C-50D6-4FA3-A08F-829A9470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3C67E-3056-440A-BB61-4E8807AD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1C9D9-62DC-4886-82AB-22B6CA2F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D8EE9-9493-458E-AFE1-8E7972B2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9F7EA-7A49-4E16-B7CE-8E15BEF1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B6A99-733D-47C8-8F2D-7E633640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0D6FA-D1DD-4C6C-8FCD-0ECF7C52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96FF6-F3CA-4A0C-8EAF-DED05935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410FF9-FB8B-4E81-9280-DC12652F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A46BF-E320-4410-836F-6B28B3A7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B76E3A-3BE8-4C88-944D-613BA0DA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1FC892-8702-4D66-91EF-FB27BDD9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0FF-8D92-4E13-9869-61C43677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F53F3-9783-4236-BDCC-EE4B8A35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C616B-A1FC-4565-835E-D0EA4F96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24B7F-B389-46F7-B349-3FF352FD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090A9-5A44-4CAF-8897-CB968F87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A1EFD-3CF6-4188-8520-B70929E3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B91FA-086A-48DF-8FAB-2C744370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6B468F-CCCC-4821-9BC0-CBE6FF85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F0E184-66D1-4379-94D3-B8141BBA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7D72E9-3C52-4B74-B08A-51AD8A6A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B206D-DF28-4668-8FD4-1E917181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0631B-4B50-487C-B2D7-2BFEFBEB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E55451-7FF6-44EA-A8C7-A55DE3C4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BBDB5-82E3-4AD9-8F5D-EA711889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2A25F-A39F-4C22-B24B-726BDD7C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3AB85-D708-4C9D-910F-D57A23DB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45842-7D14-40DE-8413-7513802B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D04BE-7DC0-4B15-8AA4-3948AFD4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D2266-55BA-439C-BD72-EAD9DC59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6B144-57B0-4D93-BA81-C9F27FE1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5C6DE-8334-4585-9353-A74D1D85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E50872-1C46-486D-8333-6C6C6ADE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1A756-B6D8-42FC-98B8-A261BC62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59F849-FFD4-4E6C-9C64-F2999E97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7A2D5A-ECD3-44BE-A2FB-89243C68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51937-16C6-4406-AB2A-B8898859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D061F-6DD2-4685-8A20-44FFA0A4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511B9C-DD40-42E1-B5A8-D86A46EF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97B0F-DFD6-4875-9619-B10998A2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CDED1-1C8D-4B4C-AEDF-5B73592E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C3EB1A-901C-4D47-B49C-2B7F1302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229415-0AE3-4446-9A9B-C98D2B1A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24BCE5-F340-41A8-8EAF-50E9CB96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3C2795-68FE-401E-AB49-382E7876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CC72B5-9A12-4299-9E48-8341EA8D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3B316D-6F64-41E3-92AD-16158B71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63B4DB7-B035-46D9-9215-85AAFB3D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902174-72D0-4054-8764-365E942A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009EED-E4B4-4733-8B31-8CA4741C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18CCB8-ABC2-45DC-AFD6-990045F0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6033F8-66BF-49B8-AC6A-F1A6CEDF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24A1D59-4470-4458-9B52-200ACF6B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C6E673-A95E-4418-919A-2BBEDFEC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E888C6-1E96-4C14-B3C8-C86A2380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F77276-9E30-4173-A9D6-BCE823F0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8DB18-CF34-45C7-889F-B3F12F1F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2A34D-9B6B-43F7-A5EF-DA553DDA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5CD604-2A58-413D-9919-B55FEA4C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AEF66-EA6B-4B1A-B044-DAA6F6BF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D302B6-C85F-4722-92CC-9D84437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F8D1AE-1639-4348-B927-3F4C6D0A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BBBA-C0F8-41A3-81ED-913A2599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FAE647-EE42-4BBB-A402-9C2091BE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7C798-6B61-4965-81B2-5127EB55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B651BE-8A56-4C16-A191-714DFCEA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2BE04-A15C-4CC8-A5CA-1DAA85C8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71ED1B-1195-4770-A545-9A3A2112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24E401-F80C-4CF7-ADAB-C2199D07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19828-5FAF-43C1-AAF8-3A21CD8F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10CF40-A7C8-4C1C-B93F-788101CB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1F9BBC-B8C3-42F6-BB5A-75288100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FE29BC-A640-44C5-88CE-B943110C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DF15-4C7C-490D-A7E5-F8CF50C6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64DD71-2006-4274-93B9-A611AF52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022DB-1D28-4A2A-9503-C56936EF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785670-37C0-435D-A947-FB3C8380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182D9-3416-4504-AEB7-F60065D2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F90E7-75AE-4333-91BB-27FCA8E2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F2BE7A-0BB3-4874-B03C-D4AD1558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C06EB8-A559-4AF3-B776-BCA920B7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BF6F39-308B-475C-B33F-E4BDFE27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026F87-0D0A-4471-A40C-850B8C03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45481F-C541-46E2-866D-62B09A53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9A03-9B6E-462B-A47E-8985929A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0230F9-8518-4586-8C6F-19897A88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3F3229-4E25-470F-BC5A-A77B8DFE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EE2807-B450-4694-8C43-786B725E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0E71D9-F6A4-45EC-890D-F3B2B5E6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24D444-69A3-4CB9-B593-BF1CC0C3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B0A208-158E-45EF-9BAB-9C6D9455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B2C15E-DE9E-4969-BF82-C1FA91EF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551AE9-A52A-4059-A291-7D17E04E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424B53-8C90-4E9F-A55F-FA9EE4ED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076AE8-2FC5-4221-B80A-D6C6740B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4A1E-1271-4ACC-87FF-C3BFED42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137ED2-6756-4D78-AF05-790F0252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292896-5BA0-4C8A-BC46-906626E8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863B44-7718-40D0-9595-E02C4648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AD1923-C555-49A5-AB46-730C029A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6E726C-606B-4DAD-98B9-869EB3FB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65FC6C-48D0-4F56-9179-A577F3E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4A4161-8433-443D-ACCB-886324D4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603457-CE1F-4E70-B8D3-B26FB30B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47B5E3-8B26-42ED-8836-E030A306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ED817A-8FD6-48B3-B99F-FBB663C5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05F8-D9EB-4A0A-95F2-6F3428FA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15FCD6-AE7C-426B-990F-72672A80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C2C74F-BE59-44CA-B425-488A5A30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4A287A-351E-446A-8FCB-ACD812DF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5F7D18-FD74-4F8F-9F34-03205C00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190976-EBC3-4BA9-A016-EBB745E3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773905-9570-4F23-A0D7-29682895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49CE40-7B1A-4EB5-9F08-550EA824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7CA926-0DC1-404E-AA49-68CDF152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C32537-FB90-4638-85D5-BB7A6ACD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17628B-2F12-4B74-B253-E9CCC77D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3D0-B554-4197-8082-3C396EC9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5021-9D6F-44B6-875B-417D324C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6EB88F-2025-49EA-AB07-5BAEAB91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17E4-2D7F-403C-92B6-7A2D4BC1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81DB-4EC1-41DA-A1A2-83D4A11A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7051-1EEF-4C38-BBE0-CEEC02C5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A640-15CA-41D6-B7A5-8A7AAACA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3B2A-C824-468B-8C6C-C4C7B198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C804-5BA0-488D-80A5-AEF6AEB2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5F1D-34B1-4F68-9CD3-E0DB3974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6AAA-1B4A-4ABA-8247-E4F7A4D6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10FD-A9D5-4EAE-BF37-DD199ACF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E85-6696-4E1D-B4EE-C861AD9F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9147-94C1-495F-A727-C87EE2CC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3EEA-4524-4866-B688-AAB50C44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26FA-CC6B-4745-BE07-67DAE5FB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7F52-10F4-4061-B625-592A847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DA5D-9205-40A4-AD49-4C29C882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B609F-F014-4628-A2DB-076B227A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9D96-62AA-4D3E-ACEA-F90ADDA3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76766-3A22-47B0-A57F-AC1B44B4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5B31B-2691-4CB8-97DD-075B5225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D6D2E-1A87-4938-B026-8ACCDC95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F9D-BF86-4776-8CAC-C15DE23E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ED29C-A9C2-471F-928A-4AAFC703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D6A65-6E5F-4635-B36A-8160E359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CEA2E-BA57-45F9-8765-E30F5A28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0BCEF-729F-4256-8145-AEC0CED6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65661-9B6B-450F-8105-CBC59C52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2529-3393-4477-8795-6C15825A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94C5-6636-4A41-885B-621718A1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EE77A-1BF2-46F5-858A-D888C1C1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1C87-0757-4554-BDC4-1B81A088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2C54B-F13E-407D-BB98-E32B807A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B14-F409-4E87-8E73-DDAB51BD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DD5D3-2D7B-4BB4-9E94-D2012222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B5812-7615-423F-81B1-599EF2B6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38E29-E469-4B30-8AC0-35EC1642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EFCA-F527-4BD1-AF85-CB0D4181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D187F-9F22-41AD-9DBA-06FAA759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26966-541B-4A9C-9B66-C7B956BD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27C14-5CA3-4C58-A92C-D2074293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262E4-FCC5-41F9-84A9-85133C76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CA54B-6206-4B97-B39C-625F0BFD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D41C6-C41F-4F75-9C81-DA3FF78A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D75-1E48-42D8-B9E2-EDB547CC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67778-4F6A-4EDD-83C2-AC2B7458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10569-2F7E-4064-BBC4-2D1042D6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439CF-719F-483A-942E-79E47F9C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3A214-B8C0-4408-AC96-C8722B3C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8BFA0-2E4E-44F5-B2FF-3111476C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EC6F-617E-4049-B1CB-26E617C3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4D0BF-827D-4531-BAB8-AB0634FD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AA019-5B5F-44A4-90E6-9F994CC3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DB839-539A-4016-914D-6D62BEA7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BBD86-6FF0-4408-A4D3-1D409655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EB1-05A6-40C2-8A28-ACFD7C8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3843B-BCAF-4D84-9782-7FC3BF4F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8921A-C03E-46ED-8B23-6A42CD94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7EBF7-3039-4EA5-9AD8-B422F123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0E3C7-399C-4693-B78D-BAA28E97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82C5B-666A-4E28-9612-064B886A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59E8F-399C-4108-9B62-65564B67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902FE-2AE1-4677-AA7E-5A52AA86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7D678-23A0-4092-84A5-25EB49C1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9DCCB-6BD0-4C98-8B30-BF57C37F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38125-760D-4B61-A5ED-B283BD85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5B6-0431-427F-923F-EA073E83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3A4E7-1796-47CF-B597-7184D01A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E5094-68E6-41CE-A3DA-610FB03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3FDE6-73A7-4E99-9D36-79C5820C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B7635-214E-488B-B2DE-BB276ACF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99E12-F656-449B-BB72-96A365F9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5B453-CB16-4265-A43A-DB2079BD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84ED3-8098-4BD1-8359-D055C49E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C1AF1-2BF6-4433-8313-B748494B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C07A0-4A9D-4DF8-8A75-A92644CF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B816E-FB42-4270-AC3A-C1CA6CD5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8AB4-330A-4F0B-941F-28DFF73D1B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4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4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B3BB-FE90-432B-AFF8-C9E1D2F357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0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0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0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1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54A9-91E9-451A-B469-5ACE19B4E1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6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6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6ECE-D08C-4CAF-9604-A91F21EE4879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3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4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7B28-42B7-42D2-9D2E-8AE930B8C579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9FBA-EEBB-47E5-AB56-CBFA5870CF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5E4B-2F00-491F-9738-F8BF8822C0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DD0A-2F36-4F6C-96AF-949AD8D006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D962-C020-431A-AF56-1E70A75E52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8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F829-A9CF-400F-8AE2-A1A8743D59C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3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FA68-54AC-4A3F-AF92-8ADCAB3C2D4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F5A3-EFDC-458D-A4D9-EA1FED6B606D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5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AE9A-680A-4789-AEFC-79C46BC9E27F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1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dt" idx="6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ftr" idx="6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113E-919F-4DDA-9A4C-B2EAF98F0B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6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dt" idx="6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ftr" idx="6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CB31-EFA7-4D7A-BDC4-C48DADA158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51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1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52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52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53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3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E143-C177-486A-B87C-CAF64319764B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59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0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61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61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62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62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63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4F85-0A63-4645-95D0-80677FA9AA8F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1746-A4C2-4181-B767-7646CC3FBA1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A882-BBBD-426F-BD94-5EBCDE1FCE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8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1A47-8CF5-4643-BFB8-093332813B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3510-AB00-44A6-BB65-10E25C73EE24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A177-21E2-40A2-9D1B-F742CB545034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9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FA22-9CDC-46AC-8FED-B93F32CA7DDF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6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8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1E2C-8A3D-49F9-98F6-2B08CD54253E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" descr="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533520" y="609480"/>
            <a:ext cx="8137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600" spc="-1" strike="noStrike">
                <a:solidFill>
                  <a:srgbClr val="ff3300"/>
                </a:solidFill>
                <a:latin typeface="华文行楷"/>
                <a:ea typeface="华文行楷"/>
              </a:rPr>
              <a:t>Language Point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          of Unit 8   Senior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28600" y="260280"/>
            <a:ext cx="86868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/bear .. in min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lease keep these rules in mi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in mind that the petrol can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ast 2 hou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2438280" y="228600"/>
            <a:ext cx="579132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ring/call sth. to mind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hange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sence of mind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sent-mi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one’s mind on sth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ad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up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ind your own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457200" y="45720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alm adj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静的；镇定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a calm, cloudless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持平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/ stay/ remain cal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静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镇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go to calm the patient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295280" y="304920"/>
            <a:ext cx="7848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anic v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fire, don’t pan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响雷使马惊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under panicked the horse.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陷入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/get in a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引起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 (a)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nic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900000" y="1844640"/>
            <a:ext cx="86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0" y="152280"/>
            <a:ext cx="9144000" cy="75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33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respond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作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/give no respons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sponse to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offered him a cup of coffee but he didn’t respond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/gave no response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responded  to my suggestion  with a la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opened the door in response to a Kn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6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0" y="380880"/>
            <a:ext cx="914400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make sure :  find out whether sth. is s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You’d better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of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the time and pla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Can you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of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succes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Before you leave the lab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th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the door is lock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 want to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whether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he is consciou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0" y="228600"/>
            <a:ext cx="93614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6.on the/ one’s way  on the way to doing s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Christmas is on the/its w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She is on the way t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etting well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recove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He is on the way to succe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3124080"/>
            <a:ext cx="91440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calm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adj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平静的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vt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使平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e should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stay calm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hen we are in dang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 advised him to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calm down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and have a tal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At last I calmed down the crying bab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1" name=""/>
          <p:cNvGraphicFramePr/>
          <p:nvPr/>
        </p:nvGraphicFramePr>
        <p:xfrm>
          <a:off x="324000" y="692280"/>
          <a:ext cx="7561080" cy="5616360"/>
        </p:xfrm>
        <a:graphic>
          <a:graphicData uri="http://schemas.openxmlformats.org/drawingml/2006/table">
            <a:tbl>
              <a:tblPr/>
              <a:tblGrid>
                <a:gridCol w="2222640"/>
                <a:gridCol w="2478240"/>
                <a:gridCol w="286020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容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静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平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净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干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肮脏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弄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燥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干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空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倒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由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自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暖和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暖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慢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2" name=""/>
          <p:cNvSpPr/>
          <p:nvPr/>
        </p:nvSpPr>
        <p:spPr>
          <a:xfrm>
            <a:off x="205092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55640" y="333360"/>
            <a:ext cx="66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0" y="22860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nt to make i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ea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I can do it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a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dirty on the groun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found the hou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’d bette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thing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3276720"/>
            <a:ext cx="8820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- to-mouth k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ace-to-fa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art-to- hea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ulder-to shoul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ack- to-bac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0" y="2602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e conscious of sth.     be conscious t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s he conscious enough to answe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ohn isn’t conscious of his bad man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at time I was conscious of being wa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ean is conscious that she annoys all of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has lost his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0" y="458136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0.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s   v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挤压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s sb.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ust press the button and the machine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tart righ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304920" y="228600"/>
            <a:ext cx="8397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. Listening &amp; Speaking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ive /do first aid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 first aid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id sb. to do sth.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id sb. with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o/ come to one’s aid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th the aid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ll in one’s 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0" y="228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ittle girl to he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d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 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und to stop the blee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o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ed the man to p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321300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vive : make sb. come back to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should try to revive a person if he l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is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n’t revive the wounded unless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w to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2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7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5" dur="2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/>
          <p:nvPr/>
        </p:nvSpPr>
        <p:spPr>
          <a:xfrm>
            <a:off x="0" y="0"/>
            <a:ext cx="914400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.He fell asleep while reading in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He fell asleep whil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 w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ading in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.Be careful when crossing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Be careful whe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ou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rossing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.Though young, he knows a lot of                                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Though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young, he knows a lo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.   If necessary, you’d better go your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If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cessary, you’d better g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250920" y="83664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letters DR ABC to tell your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give first 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79280" y="2421000"/>
            <a:ext cx="87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rst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419640" y="234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6836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ene is no longer dang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24000" y="378936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cond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284720" y="3716280"/>
            <a:ext cx="46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 to get a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68360" y="386064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39640" y="4365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injured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24000" y="508464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ird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564000" y="508464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68360" y="57340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’s airway i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/>
          <p:nvPr/>
        </p:nvSpPr>
        <p:spPr>
          <a:xfrm>
            <a:off x="0" y="907920"/>
            <a:ext cx="867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ourth, you should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ast, you should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851280" y="9079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if the pers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50920" y="1628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419640" y="234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79280" y="3068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circu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1726920" cy="1100160"/>
          </a:xfrm>
          <a:prstGeom prst="rect">
            <a:avLst/>
          </a:prstGeom>
          <a:ln w="0">
            <a:noFill/>
          </a:ln>
        </p:spPr>
      </p:pic>
      <p:pic>
        <p:nvPicPr>
          <p:cNvPr id="1728" name="" descr=""/>
          <p:cNvPicPr/>
          <p:nvPr/>
        </p:nvPicPr>
        <p:blipFill>
          <a:blip r:embed="rId2"/>
          <a:stretch/>
        </p:blipFill>
        <p:spPr>
          <a:xfrm>
            <a:off x="4932360" y="4149720"/>
            <a:ext cx="2025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1" name=""/>
          <p:cNvSpPr/>
          <p:nvPr/>
        </p:nvSpPr>
        <p:spPr>
          <a:xfrm>
            <a:off x="4003920" y="838080"/>
            <a:ext cx="50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某人的帮助下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with the help/ai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倒转地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颠倒地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杂乱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upside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记住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eep/bear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保持镇定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y  c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4" name=""/>
          <p:cNvSpPr/>
          <p:nvPr/>
        </p:nvSpPr>
        <p:spPr>
          <a:xfrm>
            <a:off x="3521520" y="762120"/>
            <a:ext cx="50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陷入恐慌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/get in (a) pan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代表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7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首先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irst of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回答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回应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respons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3751200" y="990720"/>
            <a:ext cx="467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9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受伤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get/be 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即将来到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1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使情况更糟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ake things w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翻转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倒转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roll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3602520" y="990720"/>
            <a:ext cx="4853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3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穿破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筋疲力尽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 worn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纪念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庆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honor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5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叫来一辆救护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l for an ambu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吐出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pit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228600" y="380880"/>
            <a:ext cx="7924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 drown vi. &amp; v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man drowned himself in the riv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great flood drowned many houses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借酒浇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rown one’s sp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被淹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溺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et/ be dro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638680" y="3809880"/>
            <a:ext cx="3124440" cy="228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落水的男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drowning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溺死 的男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drowned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22860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each v./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伸手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够的着的范围之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sb.’s re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within the reach of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够的着的范围之外，某人够不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sb.’s r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out of the reach of s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250920" y="277920"/>
            <a:ext cx="8424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upside down: upside-d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boy held the book upside d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d pretended to be read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ast night all the desks were turned down upside down but noting was lo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6320" y="4330800"/>
            <a:ext cx="9144000" cy="29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2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f I had done----  , I would have d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----If I had known how to deal with it ,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ould have helped yo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228600" y="343080"/>
            <a:ext cx="89154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he had not been there, he would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I had had enough money, I would have bought the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he had been sent to hospital in ti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ould be aliv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0" y="304920"/>
            <a:ext cx="914400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tness: observe, ob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 to seeing/ having see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证说看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警察发现了谋杀案的证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police found the witness to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urder c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是事故的目击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a witness to the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目击了事故经过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id you witness the accid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228600" y="3808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的眼泪说明他感到羞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tears witnessed the shame he fel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些事实证明了他的粗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acts are a witness to his careless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0" y="128520"/>
            <a:ext cx="914400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ount( be valuable/ important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要，有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要的不是数量而是质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quantity but quality that count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要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你记住了多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unts is how much you have rememb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分钟都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minute count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0:21:07Z</dcterms:created>
  <dc:creator>GYSZ</dc:creator>
  <dc:description/>
  <dc:language>en-US</dc:language>
  <cp:lastModifiedBy>jinma</cp:lastModifiedBy>
  <dcterms:modified xsi:type="dcterms:W3CDTF">2005-12-08T08:08:22Z</dcterms:modified>
  <cp:revision>47</cp:revision>
  <dc:subject/>
  <dc:title>幻灯片 1</dc:title>
</cp:coreProperties>
</file>