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B5F-834B-4775-889F-5A53F0BD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96A-6C25-49C6-879C-1C104824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994-6EBC-49C7-9658-2AD79C53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C4C-C28A-4A16-8774-0F2EC4C8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F8FE-869A-4804-A1F6-E75E6F06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5BDE-5F9E-484E-A8D1-13644BBA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AABA-7771-4E87-9989-7ED81CF1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41F1-A624-4B83-9BC4-3DA82EA7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123B-85D6-47A7-8D9A-678D85B2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6733-5CEE-4FF7-B3B9-CF7AD438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2806-8CBA-4D4B-966D-8C375C1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EC1-A090-4D4D-801F-2B9C2DC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687F-A66F-4851-B6AD-FDE3F95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081B-805B-4874-AD98-69A017E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B93B-F314-4D05-A058-5C29910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33C5-FB3A-4675-84B0-798AC58B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EFE-EF56-485F-A2C7-CDD8470F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E78-AD60-450F-954E-8F78CC95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06D-F122-40C1-A1A3-622D69D8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3A3-5061-4AA9-9CB8-B40F673A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1BA-FA9A-4DAB-A0CF-167EC43B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93F-C97E-4E9F-9A52-461709C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D16-E3AE-4EC9-BECA-8548944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7F6-4370-4290-87A5-682852E3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0101-C933-45F1-82F8-2467EAEE6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2399-BCCF-4030-8AC0-5781964AD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8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3  Art a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anguage poin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4484520" cy="184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ll up sth with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用…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be filled with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keep sb informed of sth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随时让某人了解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ucceed in sth/doing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…成功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功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pull sth down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拆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7560" y="692280"/>
            <a:ext cx="72039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tergat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empty without us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空置不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ith one’s help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…的帮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decorated with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用…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mind sb of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想起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et sb/ sth asid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搁置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放在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ring sth together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汇集在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hanged into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变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53200" y="981000"/>
            <a:ext cx="76482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be good for sb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对某人有好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far from sw.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远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o that +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   …，因此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turn sth. in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变成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ive new uses 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赋予…新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ave sth/sb. from 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从…中挽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lance at sb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看一下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扫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62600" y="304920"/>
            <a:ext cx="10417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If you were free to design your ow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house, what would that hou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引导的非真实条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我要是你的话，我会立即给他打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假如我身上带了钱的话，我就会借给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你要是早来一点的话，你就见到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下个月我要是有时间的话，我就去休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were you, I would ring her up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any money with me, I could l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you had come a little earlier, you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have met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time next month, I would have a holi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016080"/>
            <a:ext cx="15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So I fel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rv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uncertain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1337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about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of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743200"/>
            <a:ext cx="823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做某事心中忐忑不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…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害怕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2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nervous about his physical cond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ervous of that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294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free to do sth.=do sth freel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随意地或自由地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one’s free time=in one’s spare tim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的空闲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t……free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释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medical car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费医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r fre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charg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fro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受影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摆脱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人都可以畅所欲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 is free to express him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同意无偿的演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greed to sing for f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多么希望不受噪音的影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ow we wished to be free from nois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2.Design –v.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设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构思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计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谋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esign building/ to build a hou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算建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hopeless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毫无希望的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beautiful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丽的图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y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意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蓄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谁设计的悉尼歌剧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o designed the Sydney Opera 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3.furniture---n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家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piece of furnitur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—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陈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供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 one’s hous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布置某人的房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 attractive taste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诱人的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one’s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合每人的口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good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雅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taste for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爱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te snak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尝蛇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某物，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…to sth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…胜过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 sth.= prefer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…rather than do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…胜过干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=prefer doing sth to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菜吃起来味道不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sh tastes n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食品的味道很诱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ood has an attractive tas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对水彩画很有鉴赏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e shows good taste in water-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似系动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 smell, sound, feel,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have done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过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do sth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do sth. rather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efer to do…rather than do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喜欢做…而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可一个人去那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go there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我没说过那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not have said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死也不愿投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die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I would die rather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.miss—v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念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错过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击中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得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免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sb. terribl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常想念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没接到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issed the 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遇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being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掉到河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falling into th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没赶上影片的开头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missed the first part of the fi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明白你怎么会迷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onder how you came to miss your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站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e’s head/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稍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at attention/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忍受不了那个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说话太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can’t stand that man; he talks too m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忍受不了受那样的对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n’t stand being treated like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照目前的情况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things now 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经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n’t st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情况怎么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do things stand at the mo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7632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prefer that clause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were /did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从句用虚拟语气）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preference for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，喜爱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for sb/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某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物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to do sth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干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 piece of furni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for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in sth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物有鉴赏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53352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onvenient to /for sb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t is convenient fo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干某事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ive close to sw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住在靠近…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close t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靠近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rather do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愿意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et excited about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…感到兴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48520" y="0"/>
            <a:ext cx="756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ll the sam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都一样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personal styl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个人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can’t stand sth/ one’s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能容忍某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人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take examples from nature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效仿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sth don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让某物被…，使…遭受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39840"/>
            <a:ext cx="77054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different styles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以不同的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o against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违反，违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nt sth. constructed …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…建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under construction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建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ook unnatural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看上去不合乎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mpress sth on sb.=impress sb.with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铭记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ct as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充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the choice of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选择…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na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自然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the fact that 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…的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sth=in spite of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nd oneself inspired by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发现自己从…中得到灵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een/ viewed from the top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5:37:53Z</dcterms:created>
  <dc:creator>asiasys</dc:creator>
  <dc:description/>
  <dc:language>en-US</dc:language>
  <cp:lastModifiedBy>Lenovo User</cp:lastModifiedBy>
  <dcterms:modified xsi:type="dcterms:W3CDTF">2005-11-14T08:08:48Z</dcterms:modified>
  <cp:revision>75</cp:revision>
  <dc:subject/>
  <dc:title>  Unit 3  Art and architecture</dc:title>
</cp:coreProperties>
</file>