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E46-77B4-4CCA-968E-8A92A6CD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3B1-F765-462A-98C5-B45A240F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7B7-E55C-4FBD-BA6D-3F172FC0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B18-F7D0-42D7-A209-34F52144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E345-C875-4D47-AE31-1BD0EFE9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C206-1AB8-4416-9ACA-09803942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9F21-1D28-45AA-A879-D98B534C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4A7A-CD6C-4B91-AC16-121D76DF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8A11-C730-40EE-9695-78BA61F3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2038-B74C-4199-91D2-E550E4DB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D6E4-51FF-4D7F-A8C6-E2C7A264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116-EF2D-4F37-917B-4AE4D890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8DDF-99B7-484C-BE98-FA6D5B4D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658E-01FB-48F4-B8CB-09837CD9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9D13-25FF-49DB-9EAE-7BAD49D0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E83E-6895-46A7-BE92-3DF2ECA5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A6EB-AE81-4672-B4E0-5D2638D2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2BE-6E7E-4EB4-8FB9-5DAE3923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721-3C0D-4B2C-A05D-17069264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96E-18D2-4CC9-B449-CCA64F41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5A4-07A7-4C57-B1D4-633E6B8A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6B5-4A5F-49F9-9F35-C84AEF1E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972-9847-4CE0-8521-D0A3DD40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A73-4E4C-4A32-88B1-6F32D440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22D0-2522-4E3E-A11D-0DE3D0CCBA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2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3E19-F18C-463C-B73E-FD3257C05B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xnw.com.cn/nyqx/images/nq-gh.jpg&amp;imgrefurl=http://www.nxnw.com.cn/nyqx/nyqx.htm&amp;h=187&amp;w=172&amp;sz=7&amp;tbnid=dCGZvfjSsQQJ:&amp;tbnh=96&amp;tbnw=88&amp;start=15&amp;prev=/images%3Fq%3D%25E5%25B9%25B2%25E6%2597%25B1%26hl%3Dzh-CN%26lr%3D%26ie%3DUTF-8%26newwindow%3D1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125360"/>
            <a:ext cx="7848720" cy="328644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U.4  </a:t>
            </a:r>
            <a:r>
              <a:rPr b="1" lang="en-US" sz="9600" spc="-1" strike="noStrike">
                <a:solidFill>
                  <a:srgbClr val="ffff00"/>
                </a:solidFill>
                <a:latin typeface="Freestyle Script"/>
              </a:rPr>
              <a:t>Language points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417080" cy="2966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228600"/>
            <a:ext cx="889344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and ou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引人注目；脱颖而出；突出；坚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在人群中很突出，因为他身高两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e stands out in the crowd, for he is two meters  hig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y stood out till victory.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他们坚持到胜利。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56720" y="556272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2920" y="0"/>
            <a:ext cx="889308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2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eatur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[Cn]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征，特点；面貌的一部分；相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 中国的地理特征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hat are the geographical features of Chi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房子最好的特点就是那个漂亮的阳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best feature of the house is the beautiful balco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译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 mouth is her worst fe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i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她五官中嘴最难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leasing feature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讨人喜欢的相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580160" y="5334120"/>
            <a:ext cx="1563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 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84120"/>
            <a:ext cx="8820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3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llow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v.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遵循；听从；注视；领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 你为什么没有听老师的建议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hy didn’t you follow the teacher’s adv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们密切注意形势的发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y closely followed the development of the sit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的讲座很难听得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is lecture was very difficult to fol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43880" y="49528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391520" y="5667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98280"/>
            <a:ext cx="846144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4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-that is now difficul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underst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修饰形容词作表语的不定式常用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主动表被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e.g.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I think romantic poetry will be very nice to re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足球赛很有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Football match is interesting to wat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om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很难相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m is difficult to get along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with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43800" y="0"/>
            <a:ext cx="15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09480"/>
            <a:ext cx="8893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5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around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the time of ---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ward(s)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快天亮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owards da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9.--- i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famous for his pl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没有定冠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不表最高级，只表示“极、很、十分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.g.  She is a most beautiful gir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457200"/>
            <a:ext cx="76197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会见在极友好的气氛中进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procee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meeting proceeded in a most friendly atmospher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15920"/>
            <a:ext cx="883908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6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bel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“属于、应归于”时，常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 再加宾语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栋房子属于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is house belongs to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 “应被放置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处合适、适用”时，多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his chair belongs in the corner.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把椅子应该放在角落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0"/>
            <a:ext cx="17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7.Once published ,his works became famous for th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bsenc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rhyme at the end of each line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623960"/>
            <a:ext cx="86868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在，缺席；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fr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chool /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缺乏，缺少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o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1240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很快注意到他缺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886200"/>
            <a:ext cx="793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soon noticed his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fr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46483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不在时规矩一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410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have yourself during my abs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2952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ain caused the plants to d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362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j.     absen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缺席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437000"/>
            <a:ext cx="1523880" cy="198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35053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body is absent to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23840" y="9968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2060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205000"/>
            <a:ext cx="79200" cy="719280"/>
          </a:xfrm>
          <a:custGeom>
            <a:avLst/>
            <a:gdLst>
              <a:gd name="textAreaLeft" fmla="*/ 50760 w 79200"/>
              <a:gd name="textAreaRight" fmla="*/ 79560 w 792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.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io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nglish poetry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27000" y="45720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英文诗歌传入中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125360"/>
            <a:ext cx="7029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roduction + of 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体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作方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2209680"/>
            <a:ext cx="9829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be interested to do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== be interested in doing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. Translation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e good, but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can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 “理论上的可能性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经验丰富的教师也可能会犯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Even experienced teacher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c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make mistak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89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Reading poetry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ring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people from different  places and different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tim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2. More th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y other form of literature, poetry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plays wi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sounds, words and gramm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. Poetry als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calls up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ll the colors, feelings,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experienc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d curious images of a dream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io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nglish poetry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304920"/>
            <a:ext cx="859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.Reading poetry in English also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door to 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ew ways of expressing yourself in Chine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2438280"/>
            <a:ext cx="7989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pen the doo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sth./ doing s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创造条件” “向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开门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学好英语为将来找好工作创造了条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541008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ning English well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 door to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</a:rPr>
              <a:t>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 good job in the fu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17002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ight up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照亮，点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28600"/>
            <a:ext cx="861048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. Quietly, we embr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a world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it u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y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43434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ghted (up)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 cigarette before spea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590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up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可省略；表”照亮“时，一般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up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不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35812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说话前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点燃了一根烟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1814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照亮了我的心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01992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ou have lighted up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409680"/>
            <a:ext cx="91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.come into being 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事物，局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形成， 成立，产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209680"/>
            <a:ext cx="792000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We do not know when the universe first came into be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334120"/>
            <a:ext cx="734544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en did the first railway come into being in China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0384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中国什么时候有的第一条铁路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7640" y="4797360"/>
            <a:ext cx="302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0492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ing poetry in English also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d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to 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ew ways of expressing yourself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ine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90440"/>
            <a:ext cx="9144000" cy="66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8.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Reading poetry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ring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people from different  places and different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tim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ing A and B together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</a:t>
            </a:r>
            <a:r>
              <a:rPr b="0" i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会聚到一块儿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”   “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</a:t>
            </a:r>
            <a:r>
              <a:rPr b="0" i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和解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loss of their son brought the parents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现代通讯技术能使世界各地的人都会集在一起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odern technology of communication can ______________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5594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ring the people from all over the world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631800"/>
            <a:ext cx="889344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9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More th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y other form of literature, poetry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plays wi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sounds, words and gramm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)more than: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not only  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此句中意为 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胜过于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她的表演非常好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远远不止好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以说是完美的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er performance_____________________; it was 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-31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51814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as more than g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62520" y="1905120"/>
            <a:ext cx="1143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玩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616200"/>
            <a:ext cx="20574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与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---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逗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257800"/>
            <a:ext cx="20574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可以利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228600"/>
            <a:ext cx="15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5720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)play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edians often play with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 have no brother at home to play wi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urry up!We have little time to play wit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0160"/>
            <a:ext cx="889308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0. Poetry als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calls up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ll the colors, feelings,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experienc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d curious images of a dream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诗歌还能汇集梦幻世界中的一切色彩、感情、经历和各种奇妙的意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l up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汇集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召唤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唤起对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回忆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给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电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77472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首歌让我忆起了旧时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is song makes me call up old ti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明晚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我给你打电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’ll call you up at 7 tomorrow eve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609480"/>
            <a:ext cx="889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and ou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引人注目；脱颖而出；突出；坚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e.g. Our daughter is a good dancer. She stands out above the r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译： 那帽子因为奇特而引人注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56720" y="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100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hat stood out because of its strange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31T16:16:20Z</dcterms:created>
  <dc:creator>余幽趣</dc:creator>
  <dc:description/>
  <dc:language>en-US</dc:language>
  <cp:lastModifiedBy>jinma</cp:lastModifiedBy>
  <dcterms:modified xsi:type="dcterms:W3CDTF">2005-11-13T16:14:03Z</dcterms:modified>
  <cp:revision>66</cp:revision>
  <dc:subject/>
  <dc:title>拿来主义</dc:title>
</cp:coreProperties>
</file>