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gif" ContentType="image/gif"/>
  <Override PartName="/ppt/media/image4.jpeg" ContentType="image/jpeg"/>
  <Override PartName="/ppt/media/applause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366D-A40D-4CFE-976A-ABB4246F4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53EE-CD70-4755-9552-BC879916C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993F-AD9A-4AA7-86DE-910BC2C1E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B4C8-47A4-4654-9687-B428162D0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0F05-A41F-4264-95C6-5ED58610B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5132-9952-4EAB-A55C-7E7CC09DE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D7AC-9416-48DE-8D1A-E4F1AE0C9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F590-18EF-40DE-B72B-4B03F3582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064B-DECA-484E-9554-9BC88F0E5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FA80-BB99-4B18-A1F7-6C9CBE09A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C6AB-7A79-4845-8525-8A4D4DE0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E383-14A8-41BD-8733-A867D2E5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01487-EBBC-4D84-ABEC-9350176A40C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162920" y="5240160"/>
            <a:ext cx="1904760" cy="13892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676520" y="178596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60480" y="1773360"/>
            <a:ext cx="5457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Unit 1 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知识点复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8600" y="304920"/>
            <a:ext cx="89154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t takes + n. + to do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t will take a lot of courage to tell the tru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rsistence is an important quality and it is what it takes to do everything we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e known as / for /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 is well-known for his film “Titanic” as a director to all in the worl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80880" y="533520"/>
            <a:ext cx="8763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have a lot / much / little / nothing in common ( with sb.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拓展：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n common with / in comm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共用，公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n common with most boys, he likes footba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om and I had background in comm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17460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seem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用法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</a:rPr>
              <a:t>seem to do / to be doing / to have d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</a:rPr>
              <a:t>seem like: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He seems like an honest ma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</a:rPr>
              <a:t>It seems that / as if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t seems (to him) that he would never be able to work out the proble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t seems as if he has been at the scene of the cri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</a:rPr>
              <a:t>There didn’t seem ( to be ) + 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=There seemed to be no + n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似乎没有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7142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seem ( to be ) n. / adj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38088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re be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句型变体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re lives / stands / comes / remain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re appeared ( to be) a quarrel between the two girl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re was said to be a fight between Tom and Ji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1181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re used to be / appeared to be / must be / will be / was said to be…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22860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 be/ get engaged to sb. ( engage A to B )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与某人订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be engaged in doing ( engage oneself in doing)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忙于从事某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He wants to engage himself in foreign trad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 can’t go with you. I’m engag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 father was shocked to learn that his daughter had got engaged to the poor young ma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80880" y="380880"/>
            <a:ext cx="8763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.nor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及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only +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状语开头的倒装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拓展：把否定词或否定结构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not, little, hardly, never, no sooner….than, hardly……when, not only….but also, at no time, by no means, on no condition, in no case, nowhere, nor, seldom, few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等置于句首时，常使用部分倒装结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57200" y="685800"/>
            <a:ext cx="8686800" cy="56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 sooner had we got to the railway station than the train lef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f you don’t do it,  nor shall 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y no means will this method be satisfac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ver has she heard such a beautiful English so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nly after he told me about it did I know the tru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28600" y="609480"/>
            <a:ext cx="8915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.a promising man = a man of prom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promise n. / (to be) adj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有……的希望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预示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is year promises a good harve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t promises to be cool in the even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make / keep / break one’s prom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promise sb. sth. / promise to do / promise sb. to do / promise sb. that cla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8600" y="228600"/>
            <a:ext cx="8915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.There is no point / seems to be no 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( doesn’t seem to be point)in doing s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做某事没意义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做某事似乎没有意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2514600"/>
            <a:ext cx="8915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.be on fire for…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热衷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/ on fire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着火了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/ set fire to sth. ( set sth. on fire )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放火烧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/ catch fire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着火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/ make a fire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生火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/ light a fire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点火炉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/ play with fire / open fire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开火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/ under fire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受到攻击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/ go through fire and water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赴汤蹈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s a child, he was on fire for drawing sth. freel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45720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make a difference to sb./ sth.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对某人有影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make a difference between……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区分，对…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不同对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ell the difference between….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说出……之间的区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 difference in / between / fr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在某方面的不同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/……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之间的不同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和……的不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162920" y="5240160"/>
            <a:ext cx="1904760" cy="1389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676520" y="178596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20120" y="2133720"/>
            <a:ext cx="3949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Arial"/>
              </a:rPr>
              <a:t>Unit 1 </a:t>
            </a:r>
            <a:r>
              <a:rPr b="1" lang="zh-CN" sz="6600" spc="-1" strike="noStrike">
                <a:solidFill>
                  <a:srgbClr val="ff0066"/>
                </a:solidFill>
                <a:latin typeface="Arial"/>
                <a:ea typeface="华文彩云"/>
              </a:rPr>
              <a:t>词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700360" y="3789360"/>
            <a:ext cx="4176720" cy="20160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66600"/>
            <a:ext cx="914400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 rain didn’t make much difference to the ga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t makes a great difference which you choo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t makes no difference to me whether he goes or no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You should make a difference between right and wro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Can you tell me the difference in spelling between the word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14400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2.make up one’s min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打定主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change one’s min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改主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have sth. in one’s min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记得，想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lose one’s mind / out of one’s min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失去理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(sth. ) on one’s min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某事）使人担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out of sight , out of min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眼不见，心不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Sb.’s mind is on sth. / keep one’s mind on sth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某人心思在某事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Keep sth. in min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记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83808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more than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多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不仅仅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极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no more than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只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拓展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no better th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=as bad 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no worse th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=as good 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not more than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不超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3808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match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使相配、相称，使较量，是……的对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( A matches B , be well matched, match A with B) 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suit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指颜色、款式等适合某人的口味、需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fi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衣服等大小合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533520"/>
            <a:ext cx="891540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 curtain doesn’t match the pai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No one can match him in footba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se gloves don’t matc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’m ready to match my strength with / against you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His deeds don’t match his word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’m no match for you at ches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8600" y="76212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What if…..?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假如……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会怎样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(sth.)come up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被提出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(sb.) come up with sth.: think of sth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提出某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 question hasn’t come up ye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Scientists have to come up with better ways to deal with pollu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00000" y="404640"/>
            <a:ext cx="2735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42920" y="234936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89000"/>
            <a:ext cx="9144000" cy="651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– Where would you like to go, to the cinema or theatre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- It ___ to 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225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 not a differen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. makes no differ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. is not different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. makes not a differ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3789360"/>
            <a:ext cx="504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8120" y="4114800"/>
            <a:ext cx="289080" cy="503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00000" y="328680"/>
            <a:ext cx="2735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42920" y="227340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83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His opinion is similar ___ his brother’s.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 A. with      B. like      C. to     D. 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They _____ the foreign affairs those day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. engaged themselves in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. were engaged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. were engaged on   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. were engaged w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0" y="3713040"/>
            <a:ext cx="504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952880" y="914400"/>
            <a:ext cx="289080" cy="503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4038480"/>
            <a:ext cx="289080" cy="503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24000" y="620640"/>
            <a:ext cx="8820000" cy="57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Einstein’s theory _____ correct later.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. was proved 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. was turned out to 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. was proving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. turned out to 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. Mr. Baker is busy these days ____ a new book on how to develop a child’s reading ski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orking out             B. working 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. working for             D. working i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03440" y="2743200"/>
            <a:ext cx="28728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5520" y="5257800"/>
            <a:ext cx="28872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24000" y="620640"/>
            <a:ext cx="8820000" cy="51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. Don’t let a chance _____ easily. It may never retur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ive up             B. go b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. fall off              D get o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.I’ve always dreamt __ coming to China, and now the dream has come 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. about; real               B. of; 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. out; truth                 D. from; tru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132440" y="1600200"/>
            <a:ext cx="28728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257800" y="4648320"/>
            <a:ext cx="28908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990720" y="304560"/>
            <a:ext cx="4086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derta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vio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th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rio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an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ory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t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d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sunder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1080" y="228600"/>
            <a:ext cx="1247400" cy="58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从事，承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明显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在范围之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好奇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分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浏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理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相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预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误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62520" y="609480"/>
            <a:ext cx="2895480" cy="50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观察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庆祝节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悲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有才智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容忍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犯罪活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天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灵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难以治愈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91320" y="533520"/>
            <a:ext cx="4109760" cy="57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serve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happ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llig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t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ni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pi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cur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900000" y="2205000"/>
            <a:ext cx="6769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333360"/>
            <a:ext cx="928836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. If you are ___ about Australia cities, just read the book written by Dr. Johns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rested                  B. anxi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. upset                        D. curi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105520" y="3200400"/>
            <a:ext cx="28728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900000" y="2205000"/>
            <a:ext cx="6769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33360"/>
            <a:ext cx="9288360" cy="47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9.– Shall we have a talk with her and tried to persuade her not to see a movie tonigh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- There is no ___ talking to her. She never listen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ood                 B. valu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. point                D. wor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3600" y="4572000"/>
            <a:ext cx="28728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00000" y="2205000"/>
            <a:ext cx="6769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33360"/>
            <a:ext cx="928836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. You can’t ___ everybody. If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jority ___ your decision, that’s O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tisfy; was satisfied wit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. be satisfied; satisf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. satisfy; are satisfied wit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. satisfy; satisfied w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6320" y="3733920"/>
            <a:ext cx="28728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826920" y="2924280"/>
            <a:ext cx="777744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Thank you</a:t>
            </a:r>
            <a:endParaRPr b="1" lang="en-US" sz="6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615120" y="141300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Arial"/>
                <a:ea typeface="华文彩云"/>
              </a:rPr>
              <a:t>语法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050920" y="3500280"/>
            <a:ext cx="4176720" cy="2016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7162920" y="5240160"/>
            <a:ext cx="1904760" cy="13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39640" y="404640"/>
            <a:ext cx="48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不定式的结构形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523880" y="1413000"/>
          <a:ext cx="6720120" cy="404784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656080"/>
              </a:tblGrid>
              <a:tr h="79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1547640" y="1413000"/>
            <a:ext cx="201636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580000" y="3860280"/>
            <a:ext cx="201636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5580000" y="4653000"/>
            <a:ext cx="208764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700360" y="148428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92360" y="177336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08360" y="170028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主动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867280" y="162864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被动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835280" y="2421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一般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835280" y="3213000"/>
            <a:ext cx="14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完成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79640" y="393372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进行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547640" y="479736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完成进行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51280" y="2421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行楷"/>
              </a:rPr>
              <a:t>to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24360" y="227664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be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419640" y="3141720"/>
            <a:ext cx="27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have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24360" y="2997360"/>
            <a:ext cx="230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have been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64000" y="4005360"/>
            <a:ext cx="208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be do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509280" y="4581360"/>
            <a:ext cx="216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h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en do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68360" y="2565360"/>
            <a:ext cx="115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不定式的用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763640" y="1341360"/>
            <a:ext cx="287280" cy="4103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106920 h 4103640"/>
              <a:gd name="textAreaBottom" fmla="*/ 399672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050920" y="105264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It is right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to give u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mok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050920" y="1916280"/>
            <a:ext cx="59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She wanted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to borrow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y bi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050920" y="2708280"/>
            <a:ext cx="49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I came here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to se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79640" y="3500280"/>
            <a:ext cx="56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He needs a room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to live i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979640" y="4221000"/>
            <a:ext cx="62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I asked him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to d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he work with 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50920" y="515772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My wish is 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to beco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 doctor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236000" y="98100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主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667640" y="191628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宾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372360" y="270828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状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948360" y="350028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定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812000" y="4221000"/>
            <a:ext cx="9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宾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40720" y="515772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表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76320" y="152280"/>
            <a:ext cx="8964360" cy="67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 has a lot of work ____ today, so he can’t go with u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ing     B. to do     C. done       D. d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He told me about the things ____ at the next mee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discuss              B. being discus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 discussed             D. to be discus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He seems ___ the old la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nowing                B to be know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 to know                D.  to be 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062080" y="1405080"/>
            <a:ext cx="528840" cy="57600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67200" y="4038480"/>
            <a:ext cx="528480" cy="576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320" y="6205680"/>
            <a:ext cx="528480" cy="57600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52280" y="0"/>
            <a:ext cx="8964720" cy="84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4. We all  hope ___ scientis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A. become             B. to becom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C. becoming          D. beca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5. With a lot of difficult problems _____, the newly-elected president is having a hard ti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settled                         B. settl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C. to settle                      D. being settl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6. It is said that in Australia there is more land than the government knows______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it what to do with          B. what to do it wi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C. what to do with it         D. to do what with 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685800"/>
            <a:ext cx="530280" cy="576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2280" y="3886200"/>
            <a:ext cx="530280" cy="576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2280" y="6357960"/>
            <a:ext cx="530280" cy="576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260280"/>
            <a:ext cx="9144000" cy="61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.Do let your mother know all the truth. She appears_____ every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tell                B. to be to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to be telling    D. to have been to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. The shirt looks tight on you. You seem __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to put on              B. to put u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to have put on     D. to have put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. They expect___ their m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to be seen B. to be seeing C. to see D. s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843280" y="1916280"/>
            <a:ext cx="504720" cy="57600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4508640"/>
            <a:ext cx="504720" cy="57600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932360" y="5805360"/>
            <a:ext cx="504720" cy="576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162920" y="5240160"/>
            <a:ext cx="1904760" cy="1389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676520" y="178596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94520" y="1905120"/>
            <a:ext cx="348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zh-CN" sz="6600" spc="-1" strike="noStrike">
                <a:solidFill>
                  <a:srgbClr val="ff0066"/>
                </a:solidFill>
                <a:latin typeface="Arial"/>
                <a:ea typeface="华文彩云"/>
              </a:rPr>
              <a:t>词 汇 练 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700360" y="3789360"/>
            <a:ext cx="4176720" cy="20160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The most recent survey of rare bird was u_________ in 199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His disappointment was o______ to everyone. Didn’t you see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The school is w_____ 5 minutes walk of my house; I go to it on foot every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Don’t be so c_____ . It’s got nothing to do with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The little boy climbed the tree and sat on a b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26920" y="692280"/>
            <a:ext cx="212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ndert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2000" y="1268280"/>
            <a:ext cx="148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bv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708720" y="2349360"/>
            <a:ext cx="10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it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04000" y="3429000"/>
            <a:ext cx="142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ur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17080" y="5013360"/>
            <a:ext cx="128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ran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162920" y="5240160"/>
            <a:ext cx="1904760" cy="13892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676520" y="178596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703600" y="1981080"/>
            <a:ext cx="3566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Arial"/>
                <a:ea typeface="华文彩云"/>
              </a:rPr>
              <a:t>短 语 与 句 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700360" y="3789360"/>
            <a:ext cx="4176720" cy="20160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114800" y="-360"/>
            <a:ext cx="64008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go 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get engaged to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make a differ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turn out to 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the other way ar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dream 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be similar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reach one’s go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be curious to 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44480" y="0"/>
            <a:ext cx="267192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新宋体"/>
              </a:rPr>
              <a:t>走过，过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新宋体"/>
              </a:rPr>
              <a:t>与…订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新宋体"/>
              </a:rPr>
              <a:t>有所作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新宋体"/>
              </a:rPr>
              <a:t>结果是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新宋体"/>
              </a:rPr>
              <a:t>,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新宋体"/>
              </a:rPr>
              <a:t>后来证实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新宋体"/>
              </a:rPr>
              <a:t>相反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新宋体"/>
              </a:rPr>
              <a:t>梦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新宋体"/>
              </a:rPr>
              <a:t>与…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新宋体"/>
              </a:rPr>
              <a:t>..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新宋体"/>
              </a:rPr>
              <a:t>相似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新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新宋体"/>
              </a:rPr>
              <a:t>达到目的，实现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新宋体"/>
              </a:rPr>
              <a:t>很想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657600" y="304560"/>
            <a:ext cx="54864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in the early 1970s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since then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　　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seek answers to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seek for/after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according to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on the other hand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　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93640" y="6497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228600"/>
            <a:ext cx="365760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新宋体"/>
                <a:ea typeface="新宋体"/>
              </a:rPr>
              <a:t>20</a:t>
            </a:r>
            <a:r>
              <a:rPr b="1" lang="zh-CN" sz="3200" spc="-1" strike="noStrike">
                <a:solidFill>
                  <a:srgbClr val="333399"/>
                </a:solidFill>
                <a:latin typeface="新宋体"/>
                <a:ea typeface="新宋体"/>
              </a:rPr>
              <a:t>世纪</a:t>
            </a:r>
            <a:r>
              <a:rPr b="1" lang="zh-CN" sz="3200" spc="-1" strike="noStrike">
                <a:solidFill>
                  <a:srgbClr val="333399"/>
                </a:solidFill>
                <a:latin typeface="新宋体"/>
                <a:ea typeface="新宋体"/>
              </a:rPr>
              <a:t>70</a:t>
            </a:r>
            <a:r>
              <a:rPr b="1" lang="zh-CN" sz="3200" spc="-1" strike="noStrike">
                <a:solidFill>
                  <a:srgbClr val="333399"/>
                </a:solidFill>
                <a:latin typeface="新宋体"/>
                <a:ea typeface="新宋体"/>
              </a:rPr>
              <a:t>年代早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新宋体"/>
                <a:ea typeface="新宋体"/>
              </a:rPr>
              <a:t>从那时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新宋体"/>
                <a:ea typeface="新宋体"/>
              </a:rPr>
              <a:t>寻找问题的答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新宋体"/>
                <a:ea typeface="新宋体"/>
              </a:rPr>
              <a:t>追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新宋体"/>
                <a:ea typeface="新宋体"/>
              </a:rPr>
              <a:t>根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新宋体"/>
                <a:ea typeface="新宋体"/>
              </a:rPr>
              <a:t>另一方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350496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新宋体"/>
                <a:ea typeface="新宋体"/>
              </a:rPr>
              <a:t>好管闲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新宋体"/>
                <a:ea typeface="新宋体"/>
              </a:rPr>
              <a:t>继续某种行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新宋体"/>
                <a:ea typeface="新宋体"/>
              </a:rPr>
              <a:t>和某人结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新宋体"/>
                <a:ea typeface="新宋体"/>
              </a:rPr>
              <a:t>用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新宋体"/>
                <a:ea typeface="新宋体"/>
              </a:rPr>
              <a:t>做某事没有作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新宋体"/>
                <a:ea typeface="新宋体"/>
              </a:rPr>
              <a:t>    </a:t>
            </a:r>
            <a:r>
              <a:rPr b="1" lang="zh-CN" sz="3600" spc="-1" strike="noStrike">
                <a:solidFill>
                  <a:srgbClr val="ff0066"/>
                </a:solidFill>
                <a:latin typeface="新宋体"/>
                <a:ea typeface="新宋体"/>
              </a:rPr>
              <a:t>或没有意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新宋体"/>
              </a:rPr>
              <a:t>从事于某事；忙于做某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62520" y="44280"/>
            <a:ext cx="5035320" cy="71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be curious abou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one’s busines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go on wit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get married to sb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use up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There is no point i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doing sth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engage(oneself) in s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或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be/get engaged in      doing s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2T11:10:32Z</dcterms:created>
  <dc:creator>Billgates</dc:creator>
  <dc:description/>
  <dc:language>en-US</dc:language>
  <cp:lastModifiedBy>jinma</cp:lastModifiedBy>
  <dcterms:modified xsi:type="dcterms:W3CDTF">2005-11-02T14:51:31Z</dcterms:modified>
  <cp:revision>18</cp:revision>
  <dc:subject/>
  <dc:title>幻灯片 1</dc:title>
</cp:coreProperties>
</file>