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283-40B2-4AAB-B93B-FBDB5AC2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F30-AC78-42F2-A7E6-177E649D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323-F3F9-4FC2-BFF0-045747E4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CFC-7D10-47AC-9748-04DB9E03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3EF-789C-4C07-B4A2-4BB7143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8CB-F290-4620-8A4E-FCC93079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79C-CA97-45CF-A47C-1EAE6EE3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E23-3051-490A-8980-9ADF46F8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C0A-19EA-4D48-8D98-5493AEB6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60D-B9C6-470E-BCA7-47EE0C9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6C6-91F5-476E-90C4-285A499F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97F-9EA2-4103-B041-D6B46AE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66F4-721A-4211-9B28-FB238C7D0A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29718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The British Isle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60020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Unit 5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303120"/>
            <a:ext cx="89154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 consist of = include, be made u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…组成　（不可用进行时态）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水由氢和氧组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ater consists of hydrogen and oxy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本书包括十个单元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is book consists of ten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教育不仅仅在于传授大量知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Education doesn’t consist simply in teaching a lot of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30040"/>
            <a:ext cx="9144000" cy="80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真正的友谊在于帮助处于困境中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riendship consists in helping a friend in his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的言行应该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r actions should consist with / in your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理论应与实践相结合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ory should consist with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. have chance of doing sth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…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成为导演的可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a chance of becoming a dir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4520"/>
            <a:ext cx="91440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今天碰巧见到了你哥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d a chance of meeting your brother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 have an advantage over/ have the ~ of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胜过，优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ake advantage of = make use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肯动脑筋的人总能胜过别人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man who can think will always have an advantage over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健康的强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the advantage of good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173160"/>
            <a:ext cx="86868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别乘虚而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on’t take advantage of others’ wea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应该好好利用一切机会，在英语学习中取得进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should take advantage of all the opportunities and try to make progress in English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_____ good use of our time to learn our subject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. take     B. have      C. make       D.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724280"/>
            <a:ext cx="1219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8600"/>
            <a:ext cx="9144000" cy="66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reach ( come to, make, arrive at ) an agreement on sth. with s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上与某人达成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agreement on/ upon/ about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意见一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那一点应该与那家公司达成协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agreement should be reached immediately with the company on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在这个计划上意见还是不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are not in agreement about the pla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’ll never agree _____ what he said ____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with; with  B. with; on  C. on; on  D. on;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334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80880"/>
            <a:ext cx="91440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sand for = represe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（不用被动语态）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中华人民共和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stands for the People’s Republic of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邮局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 stands for Post O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2860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the fact that …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一个同位语从句，表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fac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内容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位语从句是对与之同位的名词中心词作进一步解释．常见名词有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dea, fact, news, belief, hope, opinion, problem, truth, answer, proposal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建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 decision, promise, thought, possibility , doubt, ch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连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, whether, how, when, where, why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知道杰克什么时候回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ve no idea when Jack will b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怀疑他是最好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re is no doubt that he is the best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无法回答这笔钱他是怎样得到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can’t answer the question how he got the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同位语从句和定语从句的区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达了他们曾经表示过的那种希望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(that ) they had exp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示希望他们再来中国访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that they would come to visit China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52280"/>
            <a:ext cx="8915400" cy="73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make the most of = make the best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分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充分利用时间来学习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make the most of out time to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民们要充分利用这样的好天气来收获庄稼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rmers should make the most of the fine weather to get in the cr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尽量利用我们在这里的这段时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try to make the best of our stay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假期很短，好好利用吧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 have only a short holiday, so make the most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457200"/>
            <a:ext cx="899172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4. hold together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使团结一致，连在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夫妇往往为了孩子的需要维持婚姻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 needs of the children often hold a marriage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请用大头针把两页纸别在一起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Please use a pin to hold the 2 pages toge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5. Lie in / lie to / lie on / li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2536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Within Great Britain for many years now,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s been a growing movement to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ts cultural d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The largest island is called Britain, whic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d from France by the English Chann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 __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s only 20 miles w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They realize that it is 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有价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record and teach them to the younge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941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ke the mos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730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on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5284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grea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82600"/>
            <a:ext cx="8991720" cy="63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6. at one poin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一度，在某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= at one 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我们一度是同学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We were classmates at one point / tim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舞会进行中，她一度伤过脚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At one point of the party, she got her foot hur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会议上她一度几乎要大发雷霆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nearly lost her temper at one point in the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320" y="228600"/>
            <a:ext cx="899136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in general = generally speaking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体上，一般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言（用作插入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多数女人都喜欢买新衣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men in general like to buy new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the whol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的说来     　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s a rul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most case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情况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few words/ in sho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而言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换句话说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sen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某重意义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括地说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my view/ opin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看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first pla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首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11040"/>
            <a:ext cx="914400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end up 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．．．结束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art/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晚会在流行歌曲中结束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arty ended up with a popular so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信尾他祝全家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ended his letter up with good wishes to his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最后吃水果和咖啡结束晚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nded the dinner up with fruit and coff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go on stealing things, you’ll ______ in priso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nd up  B. end up with   C. be ended up   D. be ended up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50594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2280"/>
            <a:ext cx="9144000" cy="354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. consider : think carefully about sth.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虑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 n./ d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how / what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+ that/ wh-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9907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016080"/>
            <a:ext cx="8610480" cy="45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经常考虑别人的感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lways considers the feelings of other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开始考虑怎样利用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began to consider what use could be made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320" y="380880"/>
            <a:ext cx="89154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考虑应当如何回答这些问题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nsidered how he should 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在考虑改变主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is considering changing his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否考虑过如何去那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you considered how to get t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得考虑用什么材料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have to consider what material to u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320" y="168120"/>
            <a:ext cx="8915400" cy="318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 regard as / thin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cl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  sb/sth to be + adj./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sb. As +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9144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2682720"/>
            <a:ext cx="8839440" cy="499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认为那消息不正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consider that the news was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是我最好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consider him (to be)/ as my best fri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的意见被认为是宝贵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Our opinion was considered to be valu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272880"/>
            <a:ext cx="883944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. judg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法官，裁判员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断，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无法判断她是否说实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uldn’t judge whether she was telling the tr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不该以貌取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can’t judge a person by his 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诚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judge him to be 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80880"/>
            <a:ext cx="914400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 by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独立成分  “从…看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从他所说的话判断，他一定是个诚实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 /by what he said, he must be an honest m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听他的口音，他一定是河南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by his accent, he must be from He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222120"/>
            <a:ext cx="86868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11. be on a diet / go on a die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节食，吃限定食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正在节食的人不能吃巧克力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People who are on a diet mustn’t have chocola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她在一星期前开始节食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went on a diet a week ag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这病人的饮食有限制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The patient is on a die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23840"/>
            <a:ext cx="899172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k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2. the (great ) number of… is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…的巨大数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学校的学生数目已增加到大约四千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number of the students in our school has increased to about 4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示“许多”可分为三类：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修饰可数名词复数形式，谓语动词用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, a good/ great many, quite a few, a large(great)/ small numb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number of new factories have been set up in my homet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776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776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There could be 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多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只羊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ed within six mile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lisbury , measuring every way round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wn in the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cathedral 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而出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eight of itstower, which is 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疑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ighest and the  most handsome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gland being from the ground 404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477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 many as six hundred thous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0335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3929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754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dou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320" y="266760"/>
            <a:ext cx="8915400" cy="71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不可数名词，谓语动词用单数形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, quite a little, much, an amount of = amount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has spent a large amount of money on his new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/ Quite a little has been done to stop the no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可数或不可数名词，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lot of / lots of, plenty of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肯定，否定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疑问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quantity of + n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谓语用单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quantities of +n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谓语用复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450720"/>
            <a:ext cx="899136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quantity of flour 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面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/ apples has been take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3. as far as (20 miles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远到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far as I know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据我所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any / few + c.n + as/ as many as (60books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uch as 50 ton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long as 3 metr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长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high as 10 metres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0"/>
            <a:ext cx="89154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4. measur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尺寸，措施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测量，经过，仔细考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应该按照你自己的尺寸制作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should make clothes to your own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必须采取强硬的措施来防止污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take strong measures to prevent the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教室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宽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classroom measures 5 metres wide ( across) and 7 metre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9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每天必须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英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must measure 20 mile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总是努力工作，并不考虑自己的健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always works hare and doesn’t measure her own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. join sth. together / u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，接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oin A to B ( by sth.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nnect … with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 …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举晚会，他们把书桌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joined the desks together so as to have a pa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899172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可以用一条直线把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can join point A to point B with a straigh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上有座桥与大陆相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island is joined to main land by a bri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铁路把两座城市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railway connects the two cities. / A with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好学生必须把学到的知识与周围看到的事物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ood student must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hat he read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e sees around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969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给我接北京大学。 （电话用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nect me with Beijing Un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村里发出的早班车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火车衔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early bus from the village connects with the 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6. employ sb.(as…)/ + prep./ phrase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雇佣， 利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个四星级酒店聘用的女孩比男孩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our-star hotel employs more girls than b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49120"/>
            <a:ext cx="914400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聘用你在我们学校当英语老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We shall employ you as an English teacher in 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他们聘用了两个人来收获庄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y employed two men for the harv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的老师总是合理使用时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Our teacher always employs his time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174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mploy oneself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格林先生正忙于写一篇长篇小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r. Green is employing himself in writing a long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洁工正在花园除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cleaner is employing herself in weeding the ga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hometown is an _______county. I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rounded by mountains with fresh air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ear rivers and streams. It is rich in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ources and_______ ___10 towns.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 the government of our cou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making every effort to______its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and attract the Chinese foreign j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anies to_____ _____ ___its natural re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438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nsis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76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5821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ke  most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ope next year all of you can be admit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universities and have a company of your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fu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752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n, through a deep channel they 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some gardens, and _____ to Christchur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the s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But I want to tell the reader that these hill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ields are most beautiful, ______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有很多清澈的小河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d rich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生长着水果和粮食的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317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low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07964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102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898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th many small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464508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r 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ring fruit and g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8991720" cy="70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name v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名、给…命名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 give a name to )   name sb sth ( after\ fo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的祖父给他取名叫詹姆斯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is grandfather names him J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以自己祖母的名字为女儿取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named his daughter after his grand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叫出…名字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tell the 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能举出多少国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ow many countries can you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71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田里有好多花我叫不出名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 of the flowers in the fields I can’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指命、任命　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hoose, appoi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都选他当班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all named him (as ) mon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已选定元旦结婚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have named New Year as their wed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a matter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个… 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是一个职责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a matter a du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把这件事看得很严重，这是一个责任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takes this seriously. It is a matter of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警察抓住他只是时间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’s only a matter of time before the police ge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52280"/>
            <a:ext cx="89154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confusing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令人糊涂的，使人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d  (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感到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糊涂的，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 sb ( with sth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…糊涂／混淆　　把…和…弄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＝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ix up in mind,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路标司机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road signs confused the dri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问了我许多问题，把我都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sked so many questions that I got confu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04920"/>
            <a:ext cx="89154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总是分不清格林先生和怀特先生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always confuse Mr. Green with Mr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因犯了错而不知所措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was confused with his mist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___ by his sudden appearance, I had no idea what to do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ing              B. Confused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. Confuse                 D.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2:12:18Z</dcterms:created>
  <dc:creator>csms</dc:creator>
  <dc:description/>
  <dc:language>en-US</dc:language>
  <cp:lastModifiedBy>jinma</cp:lastModifiedBy>
  <dcterms:modified xsi:type="dcterms:W3CDTF">2005-11-16T08:33:46Z</dcterms:modified>
  <cp:revision>33</cp:revision>
  <dc:subject/>
  <dc:title>PowerPoint 演示文稿</dc:title>
</cp:coreProperties>
</file>