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5799138" cy="7959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E09-B855-40D2-902F-C545DC90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1FC-CF5F-43EE-976C-CDFC3459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31B-409E-4CE3-8E0E-5F3D1448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1F0-B6AA-4972-B9C7-31AA3D71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3AC9-99CE-4BC1-A7FC-33A42882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DC91-314C-4EAC-8326-A0B39F39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7C48-2170-42B5-87EE-B414FD34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D809-89AC-4077-A954-7085B78B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E4E9-5894-4CFE-A912-1207BBF7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C69C-176D-4D32-BBE9-F2ABA86D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2809-6D7F-42A6-BF91-DF0B2520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1665-8674-4948-A64F-3D7BCD78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A377-8D47-46EE-9446-71C59537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A1C8-CAAA-48EE-868E-724F21B7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3C7E-4817-494C-B98B-8A4F9A40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5624-DBDB-450B-A3F5-09AD72CB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D657-09E9-4044-91B0-5812533A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FF36-0595-4BF4-A819-45A5D1D6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D53-F365-4133-9AAB-D7F35931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B07-9A0A-41AC-9189-8EF18B34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2E1-C19D-461E-B902-5D1D1F27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B1A-747A-4BC6-A2EC-D7CFD2D6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1AB3-073D-4A82-A5D1-34DEF7AF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E77E-0D9D-4ED8-B062-C4D95743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4233-FDF1-4C7A-9C27-F57E9C4CEF5D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DA99-4465-4279-8A05-61D001B56AB1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43000" y="1523880"/>
            <a:ext cx="655308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9360">
                  <a:solidFill>
                    <a:srgbClr val="ffff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unit 10</a:t>
            </a:r>
            <a:endParaRPr b="1" lang="en-US" sz="8000" spc="1" strike="noStrike">
              <a:ln cap="sq" w="9360">
                <a:solidFill>
                  <a:srgbClr val="ffff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9360">
                  <a:solidFill>
                    <a:srgbClr val="ffff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rightening nature</a:t>
            </a:r>
            <a:endParaRPr b="1" lang="en-US" sz="8000" spc="1" strike="noStrike">
              <a:ln cap="sq" w="9360">
                <a:solidFill>
                  <a:srgbClr val="ffff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9360">
                  <a:solidFill>
                    <a:srgbClr val="ffff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ord study </a:t>
            </a:r>
            <a:endParaRPr b="1" lang="en-US" sz="8000" spc="1" strike="noStrike">
              <a:ln cap="sq" w="9360">
                <a:solidFill>
                  <a:srgbClr val="ffff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atched it rising from a mountain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-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such a distance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ouldn’t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ll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one, but we afterwards learnt that it was Mount Vesuvius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t a distanc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om a place that is not very close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tective followed him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t a distanc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el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 be able to see how one person or thing is different from anothe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taste buds can ______________ between four basic flavors.(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区分不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5334120"/>
            <a:ext cx="434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ell the differe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6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ht of it awoke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cientist in my uncle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o and see it from close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hand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   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cientis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my uncl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科学灵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t ha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ear in time or spac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hops and buses clos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t ha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ant you to b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t ha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my interview with the applicants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6933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tarted out as a trip fo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now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lled fo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age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all fo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eed, ask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工人要求罢工运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ers ar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alling fo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ike actio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工作需要耐力和耐心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alls fo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durance and patience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had to wait for a good wind, blowing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other way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n the one that carried my uncle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in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e other way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fferent direction; on the contrar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看见警察后转向另一方向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turned to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e other wa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he saw the police coming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觉得去时用的时间比来时短，其实正相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ould think to go there is quicker than to come back, but it was just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e other wa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had to wait for a good wind, blowing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other way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n the one that carried my uncle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in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1048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dv. immediately; directly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轮船直沉江底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ip went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igh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bottom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进门就打开了电视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turned on the TV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igh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he came into the room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some dirty weather</a:t>
            </a:r>
            <a:r>
              <a:rPr b="1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nocking about</a:t>
            </a:r>
            <a:r>
              <a:rPr b="1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nock ab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 be active, and esp. to travel continuousl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has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knocked ab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frica for year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young man he suffered a lot from poverty. He used to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knock ab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arket, trying to find a job for a few coin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rricane,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 its powe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ink ships, to uproot trees and to overturn strong walls had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und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little ship in its path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360" y="2285640"/>
            <a:ext cx="8875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ou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subject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the hurrican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ee, f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 can have the nouns to be their subjec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ld house ha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e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ter day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Day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ou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ople singing and dancing happily in a street parade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5640" y="2209680"/>
            <a:ext cx="3429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72"/>
                </a:solidFill>
                <a:latin typeface="Times New Roman"/>
              </a:rPr>
              <a:t>Fill in the blanks:</a:t>
            </a:r>
            <a:r>
              <a:rPr b="0" lang="en-US" sz="36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The active v_______ on Monstserrat caused more than US$323,000 damage to crops and the island’s water system, the government said Thursda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The island was covered with d______ and a______, as deep as four inches. Fruit trees and crops were severely damaged, but none of the people were reported injured, officials said. Some wildlife habitats were damage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09480"/>
            <a:ext cx="274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volcano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58128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dir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114800"/>
            <a:ext cx="167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sh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3429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72"/>
                </a:solidFill>
                <a:latin typeface="Times New Roman"/>
              </a:rPr>
              <a:t>Fill in the blanks:</a:t>
            </a:r>
            <a:r>
              <a:rPr b="0" lang="en-US" sz="36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The volcano on Montserrat sprang to life in 1995. More than half the population f______ and never returned a_______. An e_________ in 1997 killed 19 people and buried the capital of Plymouth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Although there was a feeling of p_________, people told reporters that they would not leave their islan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Officials in said costs for cleaning up could reach US$188,000. the UN has u________ other countries to help. Britain already gave 1 million pounds last aid Tuesday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838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l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1371600"/>
            <a:ext cx="167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gai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1339920"/>
            <a:ext cx="289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erup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2895480"/>
            <a:ext cx="312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protec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499752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urg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76400" y="614880"/>
            <a:ext cx="5191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25000"/>
              </a:lnSpc>
              <a:buClr>
                <a:srgbClr val="ff0066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近在手边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附近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t han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冲击，漫游；闲逛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knock about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3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突然地，冷不防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ll of a sudde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需要勇气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all for courage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36576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ghten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ghtened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854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宋体"/>
              </a:rPr>
              <a:t>怕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 be frightened of the dark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at a ___________ dog! Even the bravest boys are _____________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914400"/>
            <a:ext cx="4572000" cy="18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dj. feeling afrai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dj. making you feel afraid or nervou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1294920"/>
            <a:ext cx="1218960" cy="7621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295280"/>
            <a:ext cx="1143000" cy="6098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4038480"/>
            <a:ext cx="2666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righten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4648320"/>
            <a:ext cx="312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righten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66680" y="304920"/>
            <a:ext cx="80773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5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另一个方向；相反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the other way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buClr>
                <a:srgbClr val="ff0066"/>
              </a:buClr>
              <a:buFont typeface="华文新魏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竖立起来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tand on en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7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注意到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draw one`s attention to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697840" y="437040"/>
            <a:ext cx="4624560" cy="60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8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平静下来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alm down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9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照亮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light up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0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惊慌地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 a panic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1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船上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on board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1676520"/>
            <a:ext cx="4572000" cy="3802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2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突然；忽然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ll at once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3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完蛋了，不行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e done for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1676520"/>
            <a:ext cx="4114800" cy="38026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4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度过，经受住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live through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5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远处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t a dista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不理会他父亲的恐吓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took no notice of his father's thre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啄木鸟栖居于空心树上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oodpeckers inhabit hollow tree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里是建房的好地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is is a nice spot for a hous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幅画远看就好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is picture looks better at a distanc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俩兄弟太像了，很难分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The twins are too much alike to tell them apar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现在手头没有字典，呆会儿我指给你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 haven’t the dictionary at hand but I will show it to you late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猜我没饿，其实正相反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guessed that I was not hungry, but it was just the other wa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在欧洲漫游了好几年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has knocked about in Europe for year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丰一中见证了我们的失败与成功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e No. 1 Middle School of Xinfeng has seen our failure and success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words were left out at the place of the question mark (?) in the following two sentences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1).Upon arrival, my uncle hugged Pompy and (?) tried to give him courag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2). Then came a smell of sulphur, and then (?) flames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look at the following sentences and tell me the full sentences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3360" y="23619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) Beg your pardo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) Haven’t seen you for age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) Some more tea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) Sounds like a good idea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) Joining us for a drink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) Going to the supermarket?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9172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主语。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祈使句的主语省略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help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主语和谓语的一部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re is) no smoking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做宾语的不定式短语，只保留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didn’t come although he promised 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like to have a try? I’d like 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83908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如果该宾语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动词或完成时态，则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ave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不能省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 Are you an engineer?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No, but I want to b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 Have you finished the task? –No, but I ought to hav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在并列句中可以省略分句中的相同的成分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father is a doctor and my mother (is) a nurs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主句中的省略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 am) Sorry to hear th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从句的一部分，用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o, not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代替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he come tonight? I think so/ I think not/ I don’t think so.  (hope, be afraid, gues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一般使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结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并列不定式可以省略后面的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old him to sit down and wait for a mome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5867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ides this pair, what else?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boring , bored; threatening, threatened; terrifying, terrified; upsetting, upset; interesting,  interested;  exciting,  excited;…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76720"/>
            <a:ext cx="9144000" cy="22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ailing an exam can be __________, but James was ________ today not because he had failed the exam, but because he had missed the live programme of the soccer match. (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pset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3276720"/>
            <a:ext cx="312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upsett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377820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upse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8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使役动词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let. make , have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和感官动词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e, watch, notice, observe, hear, feel, fool at, listen 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后面做宾语补足语的动词不定式一定要省略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但是在被结构中不能省略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aw the boy fall from the tre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y was seen to fall from the tre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9). find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lp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后面的可以省也可以不省略。但是如果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动词，则不省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found him (to) work very har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found him to be hones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883908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介词前若有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后面的不定式符号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y did nothing but play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1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在状语从句中，从句的主语和主句一致，或者主语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时，可以省略主语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you are) asked, you may come i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it is) necessary, I will come to help you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r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more time, we can do it better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0556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2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有形式主语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的主语从句可省略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eems (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) (that) Joe is out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Jack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honor (that) I was invited to your birthday part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１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在限制性定语从句中可省略作宾语的关系代词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om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ich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s the naughty boy (whom/that) we talked about last week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s: some of the words in the following sentences are unnecessary. Cross these words out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884556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It did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take my uncle long to decide whether to go to save his friends or not to go to save his friend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 They had a meal, they went out for a walk and they came back to sleep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They discussed whether they should stay in the house or they should try the open ai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3505320"/>
            <a:ext cx="11430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962520"/>
            <a:ext cx="32767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5181480"/>
            <a:ext cx="7621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6477120"/>
            <a:ext cx="21337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s: some of the words in the following sentences are unnecessary. Cross these words out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2819520"/>
            <a:ext cx="884556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. Do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bathe if you do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want to bath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. I do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visit my parents as much as I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ght to visit my parents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3429000"/>
            <a:ext cx="9907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5410080"/>
            <a:ext cx="29718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735120"/>
            <a:ext cx="8534520" cy="499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 is ________ that the volcano became active without warming. People were _________ by the eruption.(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errify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veral children decided to explore a _________ cave. They were ________ to death when they saw a giant spider. (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care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735120"/>
            <a:ext cx="236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errify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80180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errifi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370692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scar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370692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scar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14600" y="-76680"/>
            <a:ext cx="47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t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威胁；恫吓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;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造成威胁的人或事；凶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战争的危胁使商业变得不景气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war has depressed business activit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seriou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famin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der threat of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危胁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死的危胁下他只得照他们的命令做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as forced to carry out their order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der threat of dea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eaten 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v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男孩的父亲威胁说如果他再偷东西的话，就要揍他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father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en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boy to beat him if he stole agai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younger boys _______________to give money to the older one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___________letter frightened him.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3701880"/>
            <a:ext cx="350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ere threaten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4952880"/>
            <a:ext cx="281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en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56386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j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ant 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one of the people who live in a particular place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2437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an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tow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habit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. live ther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sland mainly i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sheep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烟稀少的一个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strict sparsely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0920" y="-38124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spot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rk on skin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当她生病的时候，她脸上有斑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had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her face when she was ill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irty mark, usually made by a liquid;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 lot of greas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he shir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particular place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被谋杀的地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re he was murder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little bit, small amou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们吃点午饭吧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have a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lunch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t sb.on the spo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position of having to make the right answer or decisio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个问题使我得做出反应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question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ut me on the sp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t., vi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notice, to see, to recognize;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rk with spots;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k’s very tall, so he is easy to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crow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loor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as spotted wi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int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1:02:18Z</dcterms:created>
  <dc:creator>高一级老师请用该系统</dc:creator>
  <dc:description/>
  <dc:language>en-US</dc:language>
  <cp:lastModifiedBy>zys</cp:lastModifiedBy>
  <dcterms:modified xsi:type="dcterms:W3CDTF">2005-12-26T02:47:00Z</dcterms:modified>
  <cp:revision>129</cp:revision>
  <dc:subject/>
  <dc:title>Unit 18 NEW ZEALAND</dc:title>
</cp:coreProperties>
</file>