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drumroll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5799138" cy="7959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5191-F164-468F-9120-7FEF138CE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BF52-DB74-42D9-8112-B79B6D16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E82B-64AC-4D69-8923-1383E2E0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99FB-D91C-4913-AAE1-9D674A937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D9C4-808B-4A94-A149-B5AD04314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B21F-ACBC-4197-AA10-22E18C08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45F8-847D-46C2-8943-B941962D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0F5A-EFC1-40E4-9D6F-D541BB69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062E-1A6E-429D-805A-1AACE5E5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8FEB-FB89-4730-8779-CF22D21F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7642-6973-4CC7-A607-E18D2DBC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CE96-0B79-4BA9-8B3C-BD35FA3B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6BC4-043A-452B-9299-581D3765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74E8-3539-4D30-AD4F-670E6B11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ECC7-BEAC-4AF5-903D-91E7BF47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D4F4-36FA-41DF-8412-99EC4B54A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5D16-8508-431C-9584-65F0F0B32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ABE8-34EC-4D78-9CC3-74179B05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82C8-4656-4E2F-8366-490307A8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0271-91D5-48D3-A68B-A7655315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BF35-6CDE-4D5B-9B7F-AD625ECC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E229-DE75-4B35-BDCE-85943F36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CCA1-063C-44F0-B174-F7656777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2F91-1C43-409E-87D8-DB4DE30E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ECF0-CFF8-45EF-B969-4C11641A0363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5F6D-531E-45B8-B220-EC41EAA6BD75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143000" y="1523880"/>
            <a:ext cx="6553080" cy="34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cap="sq" w="9360">
                  <a:solidFill>
                    <a:srgbClr val="ffff66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unit 10</a:t>
            </a:r>
            <a:endParaRPr b="1" lang="en-US" sz="8000" spc="1" strike="noStrike">
              <a:ln cap="sq" w="9360">
                <a:solidFill>
                  <a:srgbClr val="ffff66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cap="sq" w="9360">
                  <a:solidFill>
                    <a:srgbClr val="ffff66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frightening nature</a:t>
            </a:r>
            <a:endParaRPr b="1" lang="en-US" sz="8000" spc="1" strike="noStrike">
              <a:ln cap="sq" w="9360">
                <a:solidFill>
                  <a:srgbClr val="ffff66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cap="sq" w="9360">
                  <a:solidFill>
                    <a:srgbClr val="ffff66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word study </a:t>
            </a:r>
            <a:endParaRPr b="1" lang="en-US" sz="8000" spc="1" strike="noStrike">
              <a:ln cap="sq" w="9360">
                <a:solidFill>
                  <a:srgbClr val="ffff66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100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1540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watched it rising from a mountain</a:t>
            </a:r>
            <a:r>
              <a:rPr b="0" lang="zh-CN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-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 such a distance</a:t>
            </a:r>
            <a:r>
              <a:rPr b="0" lang="zh-CN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ouldn’t</a:t>
            </a:r>
            <a:r>
              <a:rPr b="0" lang="zh-CN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ll</a:t>
            </a:r>
            <a:r>
              <a:rPr b="0" lang="zh-CN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one, but we afterwards learnt that it was Mount Vesuvius.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22860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t a distanc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om a place that is not very close: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tective followed him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t a distanc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tell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o be able to see how one person or thing is different from another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taste buds can ______________ between four basic flavors.(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区分不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5334120"/>
            <a:ext cx="434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ell the difference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6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ght of it awoke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scientist in my uncle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go and see it from closer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 hand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    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cientis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my uncle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科学灵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t ha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ear in time or spac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shops and buses close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t ha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want you to be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t ha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ring my interview with the applicants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6933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started out as a trip for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 now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lled for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age.</a:t>
            </a:r>
            <a:br>
              <a:rPr sz="36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all for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eed, ask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工人要求罢工运动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orkers are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calling for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rike action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工作需要耐力和耐心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ork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calls for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durance and patience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91440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e had to wait for a good wind, blowing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other way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an the one that carried my uncle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ight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in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2209320"/>
            <a:ext cx="9144000" cy="449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The other way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: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different direction; on the contrary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看见警察后转向另一方向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turned to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e other way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n he saw the police coming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他觉得去时用的时间比来时短，其实正相反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would think to go there is quicker than to come back, but it was just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e other way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868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e had to wait for a good wind, blowing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other way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an the one that carried my uncle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ight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in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610480" cy="419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igh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dv. immediately; directly.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轮船直沉江底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hip went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ight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bottom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进门就打开了电视机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turned on the TV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ight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he came into the room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28800" y="38052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some dirty weather</a:t>
            </a:r>
            <a:r>
              <a:rPr b="1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nocking about</a:t>
            </a:r>
            <a:r>
              <a:rPr b="1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knock abou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o be active, and esp. to travel continuously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has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knocked abou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Africa for years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a young man he suffered a lot from poverty. He used to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knock abou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market, trying to find a job for a few coins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urricane,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ith its power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ink ships, to uproot trees and to overturn strong walls had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und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little ship in its path.</a:t>
            </a:r>
            <a:br>
              <a:rPr sz="36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360" y="2285640"/>
            <a:ext cx="8875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fou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subject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the hurrican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ee, fi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… can have the nouns to be their subjec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old house has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ee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tter days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Day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fou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ople singing and dancing happily in a street parade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5640" y="2209680"/>
            <a:ext cx="3429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572"/>
                </a:solidFill>
                <a:latin typeface="Times New Roman"/>
              </a:rPr>
              <a:t>Fill in the blanks:</a:t>
            </a:r>
            <a:r>
              <a:rPr b="0" lang="en-US" sz="36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The active v_______ on Monstserrat caused more than US$323,000 damage to crops and the island’s water system, the government said Thursday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The island was covered with d______ and a______, as deep as four inches. Fruit trees and crops were severely damaged, but none of the people were reported injured, officials said. Some wildlife habitats were damaged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609480"/>
            <a:ext cx="2743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volcano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3581280"/>
            <a:ext cx="1219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dir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4114800"/>
            <a:ext cx="1676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ash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5640" y="1981080"/>
            <a:ext cx="3429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572"/>
                </a:solidFill>
                <a:latin typeface="Times New Roman"/>
              </a:rPr>
              <a:t>Fill in the blanks:</a:t>
            </a:r>
            <a:r>
              <a:rPr b="0" lang="en-US" sz="36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The volcano on Montserrat sprang to life in 1995. More than half the population f______ and never returned a_______. An e_________ in 1997 killed 19 people and buried the capital of Plymouth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Although there was a feeling of p_________, people told reporters that they would not leave their island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Officials in said costs for cleaning up could reach US$188,000. the UN has u________ other countries to help. Britain already gave 1 million pounds last aid Tuesday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838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fl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1371600"/>
            <a:ext cx="1676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agai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1339920"/>
            <a:ext cx="2895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eruptio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53080" y="2895480"/>
            <a:ext cx="3124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protectio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5880" y="499752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urg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976400" y="614880"/>
            <a:ext cx="5191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25000"/>
              </a:lnSpc>
              <a:buClr>
                <a:srgbClr val="ff0066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近在手边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在附近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at han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2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冲击，漫游；闲逛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knock about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3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突然地，冷不防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all of a sudde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4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需要勇气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 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call for courage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36576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ighten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ightened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2819520"/>
            <a:ext cx="85406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宋体"/>
              </a:rPr>
              <a:t>怕黑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o be frightened of the dark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hat a ___________ dog! Even the bravest boys are _____________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914400"/>
            <a:ext cx="4572000" cy="18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dj. feeling afraid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dj. making you feel afraid or nervous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1294920"/>
            <a:ext cx="1218960" cy="7621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1295280"/>
            <a:ext cx="1143000" cy="6098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57400" y="4038480"/>
            <a:ext cx="2666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frightening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62520" y="4648320"/>
            <a:ext cx="312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frighten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66680" y="304920"/>
            <a:ext cx="807732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5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另一个方向；相反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the other way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2251"/>
              </a:spcBef>
              <a:buClr>
                <a:srgbClr val="ff0066"/>
              </a:buClr>
              <a:buFont typeface="华文新魏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竖立起来 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stand on en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7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注意到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      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draw one`s attention to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697840" y="437040"/>
            <a:ext cx="4624560" cy="60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8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平静下来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  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calm down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9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照亮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    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light up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0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惊慌地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in a panic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1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在船上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on board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04920" y="1676520"/>
            <a:ext cx="4572000" cy="38026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2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突然；忽然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all at once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3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完蛋了，不行了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be done for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1676520"/>
            <a:ext cx="4114800" cy="38026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4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度过，经受住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live through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5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在远处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at a distance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8394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不理会他父亲的恐吓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e took no notice of his father's threa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啄木鸟栖居于空心树上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oodpeckers inhabit hollow trees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里是建房的好地方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is is a nice spot for a hous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幅画远看就好看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is picture looks better at a distanc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俩兄弟太像了，很难分辨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The twins are too much alike to tell them apar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现在手头没有字典，呆会儿我指给你看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 haven’t the dictionary at hand but I will show it to you later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猜我没饿，其实正相反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e guessed that I was not hungry, but it was just the other way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在欧洲漫游了好几年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e has knocked about in Europe for years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新丰一中见证了我们的失败与成功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e No. 1 Middle School of Xinfeng has seen our failure and success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458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words were left out at the place of the question mark (?) in the following two sentences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251424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1).Upon arrival, my uncle hugged Pompy and (?) tried to give him courag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2). Then came a smell of sulphur, and then (?) flames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7162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 look at the following sentences and tell me the full sentences.</a:t>
            </a:r>
            <a:br>
              <a:rPr sz="36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3360" y="236196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) Beg your pardon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2) Haven’t seen you for ages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3) Some more tea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4) Sounds like a good idea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5) Joining us for a drink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6) Going to the supermarket?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51920" y="457200"/>
            <a:ext cx="8991720" cy="64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).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省略主语。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祈使句的主语省略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you for your help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2)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省略主语和谓语的一部分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here is) no smoking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3)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省略做宾语的不定式短语，只保留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o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didn’t come although he promised to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like to have a try? I’d like to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-360" y="304560"/>
            <a:ext cx="8839080" cy="65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如果该宾语是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be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动词或完成时态，则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be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和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ave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不能省略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 Are you an engineer?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No, but I want to b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 Have you finished the task? –No, but I ought to hav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4)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在并列句中可以省略分句中的相同的成分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father is a doctor and my mother (is) a nurs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5)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主句中的省略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 am) Sorry to hear tha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6).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省略从句的一部分，用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o, not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代替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he come tonight? I think so/ I think not/ I don’t think so.  (hope, be afraid, guess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一般使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结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7)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并列不定式可以省略后面的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o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told him to sit down and wait for a mome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58676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ides this pair, what else? 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8390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(boring , bored; threatening, threatened; terrifying, terrified; upsetting, upset; interesting,  interested;  exciting,  excited;…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276720"/>
            <a:ext cx="9144000" cy="228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Failing an exam can be __________, but James was ________ today not because he had failed the exam, but because he had missed the live programme of the soccer match. (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upset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3276720"/>
            <a:ext cx="312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upsetting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377820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upse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8)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使役动词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let. make , have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和感官动词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ee, watch, notice, observe, hear, feel, fool at, listen to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后面做宾语补足语的动词不定式一定要省略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o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，但是在被结构中不能省略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o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saw the boy fall from the tre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oy was seen to fall from the tre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9). find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和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elp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后面的可以省也可以不省略。但是如果是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be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动词，则不省略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found him (to) work very hard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found him to be hones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-360" y="457200"/>
            <a:ext cx="8839080" cy="64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0)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介词前若有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do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，后面的不定式符号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o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省略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oy did nothing but play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1)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在状语从句中，从句的主语和主句一致，或者主语是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t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时，可以省略主语和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be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(you are) asked, you may come in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(it is) necessary, I will come to help you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ar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more time, we can do it better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30556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2).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有形式主语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t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的主语从句可省略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a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eems (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ars) (that) Joe is out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Jack.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n honor (that) I was invited to your birthday party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１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).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在限制性定语从句中可省略作宾语的关系代词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hom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，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hich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，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a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is the naughty boy (whom/that) we talked about last week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ses: some of the words in the following sentences are unnecessary. Cross these words out.</a:t>
            </a:r>
            <a:br>
              <a:rPr sz="36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2286000"/>
            <a:ext cx="884556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. It didn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take my uncle long to decide whether to go to save his friends or not to go to save his friends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. They had a meal, they went out for a walk and they came back to sleep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. They discussed whether they should stay in the house or they should try the open air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96080" y="3505320"/>
            <a:ext cx="114300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3962520"/>
            <a:ext cx="327672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09680" y="5181480"/>
            <a:ext cx="76212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00400" y="6477120"/>
            <a:ext cx="213372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ses: some of the words in the following sentences are unnecessary. Cross these words out.</a:t>
            </a:r>
            <a:br>
              <a:rPr sz="36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360" y="2819520"/>
            <a:ext cx="884556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. Don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bathe if you don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want to bath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. I don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visit my parents as much as I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ght to visit my parents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238880" y="3429000"/>
            <a:ext cx="99072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19520" y="5410080"/>
            <a:ext cx="297180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735120"/>
            <a:ext cx="8534520" cy="499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t is ________ that the volcano became active without warming. People were _________ by the eruption.(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terrify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everal children decided to explore a _________ cave. They were ________ to death when they saw a giant spider. (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scare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735120"/>
            <a:ext cx="236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errifying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801800"/>
            <a:ext cx="1981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errifi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3706920"/>
            <a:ext cx="1981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scary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3706920"/>
            <a:ext cx="1981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scar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14600" y="-76680"/>
            <a:ext cx="472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at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n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威胁；恫吓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;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造成威胁的人或事；凶兆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战争的危胁使商业变得不景气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rea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war has depressed business activity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a serious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rea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famin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der threat of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危胁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死的危胁下他只得照他们的命令做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was forced to carry out their orders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under threat of deat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09480" y="6854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reaten 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v.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男孩的父亲威胁说如果他再偷东西的话，就要揍他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 father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reatene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boy to beat him if he stole again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younger boys _______________to give money to the older ones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___________letter frightened him.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3701880"/>
            <a:ext cx="3504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ere threaten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4952880"/>
            <a:ext cx="2819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reatening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62320" y="56386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j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nhabitant 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 one of the people who live in a particular place.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24379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nhabitan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tow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habit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t. live there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sland mainly is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nhabite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sheep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人烟稀少的一个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istrict sparsely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nhabit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90920" y="-381240"/>
            <a:ext cx="424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spot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.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30492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mark on skin</a:t>
            </a:r>
            <a:r>
              <a:rPr b="0" lang="zh-CN" sz="3600" spc="-1" strike="noStrike">
                <a:solidFill>
                  <a:srgbClr val="ff3300"/>
                </a:solidFill>
                <a:latin typeface="宋体"/>
              </a:rPr>
              <a:t>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当她生病的时候，她脸上有斑点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had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pot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her face when she was ill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dirty mark, usually made by a liquid;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a lot of grease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pot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he shir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 particular place</a:t>
            </a:r>
            <a:r>
              <a:rPr b="0" lang="zh-CN" sz="3600" spc="-1" strike="noStrike">
                <a:solidFill>
                  <a:srgbClr val="ff3300"/>
                </a:solidFill>
                <a:latin typeface="宋体"/>
              </a:rPr>
              <a:t>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被谋杀的地点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po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re he was murder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 little bit, small amoun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们吃点午饭吧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’s have a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pot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lunch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ut sb.on the spo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 position of having to make the right answer or decision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个问题使我得做出反应了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question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put me on the spo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t., vi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notice, to see, to recognize;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ark with spots;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k’s very tall, so he is easy to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po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a crowd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loor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as spotted wit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int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1T01:02:18Z</dcterms:created>
  <dc:creator>高一级老师请用该系统</dc:creator>
  <dc:description/>
  <dc:language>en-US</dc:language>
  <cp:lastModifiedBy>zys</cp:lastModifiedBy>
  <dcterms:modified xsi:type="dcterms:W3CDTF">2005-12-26T02:47:00Z</dcterms:modified>
  <cp:revision>129</cp:revision>
  <dc:subject/>
  <dc:title>Unit 18 NEW ZEALAND</dc:title>
</cp:coreProperties>
</file>