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B4B-1523-49C6-85FE-2106132B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4FD-9EF1-4522-A05D-DAE45D1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AF0-1C24-4FDB-82B9-245AB9F7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DA9-B396-4DC4-81B1-78179C69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751-EFAF-40D7-9B9B-06BA2E45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AD4-254F-40F5-B5AA-92E7DD9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8FA-E211-4D6B-A44E-FB727A6B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E09-697C-4DA3-9C59-5DA7AC36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257-B3AB-469B-BF8F-F5D48FF5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6C1-6EC4-4956-B38A-14C9224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7BE-7511-4B68-AFA8-1E626B9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409-91DB-46F2-9C8B-A1D0F1E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A801-A3B5-4707-B70C-4CC0C2BBF8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01720"/>
            <a:ext cx="8064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nguage pionts</a:t>
            </a: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99000"/>
                </a:blip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替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, appear, become, remain, 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词后面的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frai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hardly believe it but it wa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几乎不能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过这确实是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从属连词搭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无动词条件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本周的衣服洗完了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洗完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今晚请你看电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done this week’s washing? If so, I’ll ask you to see a film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57200"/>
            <a:ext cx="870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representative </a:t>
            </a:r>
            <a:r>
              <a:rPr b="1" lang="en-GB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，代理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the honor to have been sent as their represent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很荣幸被派来作他们的代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代表性的；典型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911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g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ijing is a representative Chinese 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京是一个典型的中国城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8428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left the school in a hurry, without saying goodbye to any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924280"/>
            <a:ext cx="756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not/never……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3933720"/>
            <a:ext cx="907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wo can never talk without smi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can’t take his meal without w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0600" y="426960"/>
            <a:ext cx="13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做…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9760" y="3068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1be5"/>
                </a:solidFill>
                <a:latin typeface="Comic Sans MS"/>
              </a:rPr>
              <a:t>无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5320" y="11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1440" y="457200"/>
            <a:ext cx="44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的几个搭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1482840"/>
            <a:ext cx="416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often than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a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… th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…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…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hing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200" y="1533600"/>
            <a:ext cx="249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常，多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其说…倒不如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加，越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仅仅，只不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…一样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…那样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…完全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3760" y="177840"/>
            <a:ext cx="91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about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论，论及”  比较详尽地说一个问题或题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一般地提及某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They were speaking about their b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 hope you’ll not speak of it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3200400"/>
            <a:ext cx="442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from the he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by the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i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to one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 one’s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3440" y="3139920"/>
            <a:ext cx="155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凭良心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话确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…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言自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心里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 earth 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世界上”，用于加强最高级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’m the luckiest man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a is one of the greatest nations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n earth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hen, what, who, where, how, wh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等之后，用来加强语气，“究竟，到底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What on earth do you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ear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在否定句中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ot…at 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Nothing on earth can pr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e from doing th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80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at 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在句中还常作插入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思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对上文的解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ly, 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rove 150 kilometres an hour, that is 300 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开车每小时时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255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插入语时还常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o say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翻译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获得了学士学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成功地毕业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 got a bachelor’s degree, that is to say, he graduated success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ccess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u)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场所，人等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接近；进入；（资料等的）取得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少人能接近国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en have direct access to the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接近（取得）的方法；门路；使用（参加）的权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可以进出他的办公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ccess to his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764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易接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asy/hard/difficult of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2666880"/>
            <a:ext cx="476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以接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见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ain/ obtain access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200" y="464832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能接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ive access 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ace  vt./ vi   (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朝，向，面向；面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house faces the park.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房子面对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视，应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must learn to face difficulties squarely and try to overcom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difficulty that faces us is the number of those in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5640" y="533520"/>
            <a:ext cx="76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 Alon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只，只有，仅仅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alone is not responsible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ney alone cannot make you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7280" y="28954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地，独自地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did it all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6920" y="4800600"/>
            <a:ext cx="68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j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的，独一无二的，唯一的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 am not alone in this opi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324000"/>
            <a:ext cx="862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we are to develop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ld successfully, we must make sure that everyone is able to take part in the new world we cre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我们要成功地开发世界，就必须确保人人都能够参与我们创造的新世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，打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午我们打算去城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we are to go to town this afterno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88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常见用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命令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必须，不得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to do your homework before you watch T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可能性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主要用于疑问句和否定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m I to know what has become of h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示假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ertain skills must be learned if one is to use English effectiv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house is to be lent or s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to blame for not locking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760" y="95400"/>
            <a:ext cx="893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命运注定……，通常用于过去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to power, but he was to pay dearly for it; soon he was assassinate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3809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In such dry weather, the flowers will have to be watered if they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ve survived       B. are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would survive       D. will surv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4267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440" y="60948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. all to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”实在太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过” “非常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形容词或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It was all too early when we reached the top of the hill. The sun hadn’t risen y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takes that he has made are always too f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2760" y="38088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3. Str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t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强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stressed that Jacky should be home by ten o’clo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复数形式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ess is on the first part of the w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s vacation freed him from the stress of his jo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83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re exist serious problem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以用其他动词来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ve, stand, exist, lie, come ab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动词通常为不及物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upon a time, there lived a fisherman on the is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895, there came about a war between the two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ake 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取行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起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可有形容词修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590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 must take immediate action if we want to avoid future lo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9080" y="380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harmony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. (u)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调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一致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谐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融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not much harmony in international affairs during those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些年国际事态不很协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3962520"/>
            <a:ext cx="84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地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/out of harmony with 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与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调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不调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ve 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652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9760" y="1905120"/>
            <a:ext cx="744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持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up 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胆面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ave (one‘s)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挽回面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ut a good face on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装作若无其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n the face of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表面上来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ake a face a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…做鬼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to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常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用）面对面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n the face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顾；面对，在…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用）用…包面；覆盖上一层不同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g:Bob and I worked together in harmony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re was once a town in this country where all life seemed to live in harmony with its surround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921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t an en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废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介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或动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political solution could put an end to the violenc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政治解决方案才能结束暴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080" y="2355840"/>
            <a:ext cx="855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ring…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使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e 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完毕，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an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把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(both) ends mee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量入为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t the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在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y the end of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到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 the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终于，归根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竖着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连续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0680" y="406440"/>
            <a:ext cx="87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wipe vt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干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her told her son to wipe his face cle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母亲叫儿子把脸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awa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f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u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洗…的内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液体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74600"/>
            <a:ext cx="9144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content: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. 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，目录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作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~ s ) ;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容量，容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g: the contents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table of cont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ok up the contents at the beginning of th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ook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.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满足的，满意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to do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with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ontent oneself with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quite content to watch TV for hou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very content with my life at presen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840" y="685800"/>
            <a:ext cx="91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’s no butter we must content ourselves with dry br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: Fill in the blank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tend / join / join in / take part in / join sb in s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2724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’ll ______ an important meeting 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Almost all the teams in our school ___________________ the basketball match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My wish is to _____ the army after graduat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01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 in/took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We’ll _______________ social activities during the summer vacation.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They didn’t _______ the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 ______ the party last yea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Our headmaster will _______ us ____ the discussion this afternoon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838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in/take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438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            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-152280"/>
            <a:ext cx="5181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得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继续做某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据……所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界上；到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925560"/>
            <a:ext cx="5486400" cy="4815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much/ little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inue doing/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n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762120"/>
            <a:ext cx="289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4876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……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尽力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采取行动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影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起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762120"/>
            <a:ext cx="6095880" cy="5649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b. do whatever sb. can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ke action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301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尽管有巨大的困难，但他成功了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考试没及格，但她尽量装作若无其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必须正视她已不再年轻这一事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600" y="109224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succeeded in the face of great difficul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8479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hadn't passed the exam but she tried to put a good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face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334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must face up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the fact that she is no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longer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76212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……的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睦，融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擦洗 ，去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消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5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838080"/>
            <a:ext cx="4495680" cy="58258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the key to sth./doing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n harmony with 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put an end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i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here is a good chance tha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9160" y="457200"/>
            <a:ext cx="794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机会进入……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洁的饮用水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lean drinking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在农村地区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暖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取暖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ay w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平等和 公正的需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need for equality and 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0640" y="609480"/>
            <a:ext cx="579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采取行动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有害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ba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很大影响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a big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传遍全世界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pread across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……和谐相处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harmon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9560" y="380880"/>
            <a:ext cx="652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结束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 an en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除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灭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经常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常常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ll too o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重视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/lay stress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负责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responsibl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/bear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83000" y="914400"/>
            <a:ext cx="517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愿意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意干某事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willing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护某人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物免遭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/sth.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卫某人抵御……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议某人做某事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vise sb.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)  vt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席，参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 a meeti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席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老师建议他去上技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ur teacher suggested that he (should) attend a technical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) vi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听；倾听   此时常与介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连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boy didn’t attend to the teacher/ to what the teacher was sa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男生没有注意听老师讲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) v.i &amp; v.t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ook after someone, especially because they are ill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照顾；护理；伺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 is attending to some very important customers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正在接待一些重要顾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 using the machine, you must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efully to these instructions.     (   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                             B. join in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ake part in                D. attend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3080" y="419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610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 you think 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替代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来替代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ink, believe, hope, expect,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magine, guess, suppo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含义动词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得句子简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he going to study abro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83808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意义否定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, suppose, think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也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(…)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, be afraid, gu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pe not; I’m afraid not; I guess n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02:38Z</dcterms:created>
  <dc:creator>COMMON</dc:creator>
  <dc:description/>
  <dc:language>en-US</dc:language>
  <cp:lastModifiedBy>jinma</cp:lastModifiedBy>
  <dcterms:modified xsi:type="dcterms:W3CDTF">2005-12-18T15:24:10Z</dcterms:modified>
  <cp:revision>101</cp:revision>
  <dc:subject/>
  <dc:title> </dc:title>
</cp:coreProperties>
</file>