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D93-0CE2-40D4-B7E6-69D9DCD2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9A1-CA46-4D6C-B85E-0C718929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DDA-9D31-413A-A40A-26D7DF62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549-429B-49EC-8B5B-5BE7FD5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212-E395-467B-A0E4-6D10CDB9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C98-CC53-4835-A442-68FEB608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BCF-FB26-4553-A0C2-8656151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923-EBBB-4570-AC47-CF19CEB4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763-D578-4527-8ECD-C813B71F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577-E7AC-4028-AC45-0E4CA4C5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5B3-2402-475A-B378-C10A5842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F8E-301B-47E9-B90F-65101A1A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4C74-A076-43F3-BFAE-23EAB78369D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2952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88620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it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合适的；适当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5238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与介词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roper tool for the jo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用于做这个工作的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9625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ailable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利用的；可达到的；有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5438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ill be informed when the book is avail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149400"/>
            <a:ext cx="883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k d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破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因机械、电力等故障）停止运转，失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败；崩溃；瓦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健康）衰弱；（人）垮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029200"/>
            <a:ext cx="93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 small electric fan broke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ace talks have broken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ill break down under such pressur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泄气；使失去信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n’t let one failure discourage you,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36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sb from doing sth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劝阻某人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97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到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311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2261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987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ing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高兴；使鼓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；喝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1932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sb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visit has cheered the sick man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68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one was cheered by the good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235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oys cheered their football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240160"/>
            <a:ext cx="8610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heer arose from the crowd when he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ffer from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遭受（痛苦、疾病、损失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7524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night he suffers from heada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3048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suffered huge losses in the earthqu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029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Suffer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痛苦；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85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 vt &amp; vi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恢复；康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752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recovered her heal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819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she will recover so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ed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痊愈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recovered from (illnes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4100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you recovered from your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ry adj &amp; 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反的；相对的； 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219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t is the contrary of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057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contrar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正相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940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am not sick; on the contrary I am quite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962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 wit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忍受；接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724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must live with the fact you are an ad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60556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atter how bad the situation may be, you must live with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858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from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不受……的影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nts to live a life entirely free from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505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e of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远离； 摆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r wages are very small, you will be free of income 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53352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．句型转换与完成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 am not clever enough to find 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f I _____clever enough, I _____ _____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t’s a pity that I can’t recite that po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How I ______that I ______ ______that poe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2096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2209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ould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952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ish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uld   reci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7627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AIDS is a disease that stops a person from defending himself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AIDS is a disease that _________ a person ___________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n 2002, there were 3.2 million children in all who were infec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HIV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 2002, the ______ _______of the children infected with HIV ______ 3.2 mill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1905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eave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438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fenseles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otal numbe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791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a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447920"/>
            <a:ext cx="716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838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adl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致命的；极有害的；非常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cer is a deadly dis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81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癌症是一种致命的疾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adly silence filled the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教室里极其安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53352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The disease is spreading fast in Africa mainly because people there lack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 disease is spreading fast in Africa mainly because of __ _____ ___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809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  lack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74760"/>
            <a:ext cx="83818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企业因缺乏投资而日子不好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business has ______ ______lack of invest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句子没有错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entenc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__ 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，冒险一试，也许你会失败，但值得一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e on, and____ __ ______. You may lose , but it’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 ________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486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ffered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65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free 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 a  ch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867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rth    tr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60948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尽情地过了一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lived his life___ _____ 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前我们甘心在一旁观察和等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__ _______we are content to watch and w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你来负责预防森里林火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of forest fire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 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1143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   the     full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819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the  mo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029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952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up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22860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平谈判已经失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peace talks____ ____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们对爱滋病毒携带者的态度是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ople  ____ _____ __________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owards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those with AI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035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have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broken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666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show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wrong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attitu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76600"/>
            <a:ext cx="8686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希望我十年前认识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wish I had known him ten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7476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你昨天来，你就看见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f you had come yesterday, you would have seen him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建议我们马上动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suggest that we (should ) start out at onc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49360"/>
            <a:ext cx="820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1be5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o over the language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eview next period----- Grammar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ec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染；感染（精神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057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ect someone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将……传染给某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048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/become infected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染上，沾染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of them became infected with bird flu and d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 spirit infected me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457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aginary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想象中的；虚构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523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 is not real, it is only imagi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666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富于想象力的；爱想象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86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aginative chil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想象力的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bl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想像的；想像的到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经由；通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37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ent to Russia via Mongo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eaf and dumb people communicate via gesture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9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播；传送；传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68760"/>
            <a:ext cx="883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transmits he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orld Cup is being transmitted live n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Transmiss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发射；传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suade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服，劝服，使某人相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7920"/>
            <a:ext cx="152280" cy="5029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服，说服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into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ut of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不要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f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信服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h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句  使某人相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说某人没有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09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un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除的；豁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447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immune to/from/agains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cine will make you immune to this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429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enseless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防备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e    n &amp; 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；防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49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d   v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卫；保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019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iv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用的；防御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5335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protected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保护的；无防卫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00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. Prote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；保卫；防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3623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ct sb /sth from/against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某人或某物使其免受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9625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need warm clothes to protect you against the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Protect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. Protec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094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k   n &amp; vt/ vi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缺乏；短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828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名词时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ck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； 缺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819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不及物动词时 常和介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（用于否定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191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doesn't’t lack for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181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lacking in (wisdom,courage,humor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种品质、特点等）不够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nma</cp:lastModifiedBy>
  <dcterms:modified xsi:type="dcterms:W3CDTF">2006-05-03T09:48:28Z</dcterms:modified>
  <cp:revision>39</cp:revision>
  <dc:subject/>
  <dc:title>PowerPoint Presentation</dc:title>
</cp:coreProperties>
</file>