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84A4-7EDF-4D20-81B0-3A2C86101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1EE3-F549-483D-9976-749DE13EB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F0E5-C7B9-4D5D-9BD2-609B588EA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2FAB-688F-417F-8433-F21C98B8A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723A-FEF4-4934-8CA7-022B7E6E9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D066-9443-4862-9E62-5C95B81DD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6F73-1B03-4F69-B3AC-39A59BFA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F299-4264-4838-9BF3-2F590750C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31CA-EB5C-47BF-A080-128E5F684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664B-FC6C-4E48-8C5B-32F13FCB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C15D-9A2D-4644-82FA-D730889F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9121-F11C-4DA5-9E3E-B9B1DC8C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394D-3167-47AF-B5E2-4FD1A22C6EA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19320" y="2971800"/>
            <a:ext cx="6858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0c0c0"/>
                  </a:outerShdw>
                </a:effectLst>
                <a:latin typeface="Impact"/>
              </a:rPr>
              <a:t>The British Isles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371600" y="1600200"/>
            <a:ext cx="2438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868686"/>
                  </a:outerShdw>
                </a:effectLst>
                <a:latin typeface="Impact"/>
              </a:rPr>
              <a:t>Unit 5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868686"/>
                </a:outerShdw>
              </a:effectLst>
              <a:latin typeface="Impact"/>
              <a:ea typeface="Impact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6320" y="303120"/>
            <a:ext cx="8915400" cy="70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4. consist of = include, be made up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由…组成　（不可用进行时态）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水由氢和氧组成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Water consists of hydrogen and oxyg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这本书包括十个单元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This book consists of ten un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教育不仅仅在于传授大量知识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Education doesn’t consist simply in teaching a lot of fa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230040"/>
            <a:ext cx="9144000" cy="80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真正的友谊在于帮助处于困境中的朋友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The friendship consists in helping a friend in his ne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你的言行应该一致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Your actions should consist with / in your wo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理论应与实践相结合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Theory should consist with pract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5. have chance of doing sth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有…可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他有成为导演的可能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He has a chance of becoming a dir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344520"/>
            <a:ext cx="9144000" cy="64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我今天碰巧见到了你哥哥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I had a chance of meeting your brother to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6. have an advantage over/ have the ~ of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胜过，优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take advantage of = make use of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利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肯动脑筋的人总能胜过别人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A man who can think will always have an advantage over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他有健康的强处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He has the advantage of good heal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8600" y="173160"/>
            <a:ext cx="8686800" cy="60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别乘虚而入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Don’t take advantage of others’ weakn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我们应该好好利用一切机会，在英语学习中取得进步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We should take advantage of all the opportunities and try to make progress in English stud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We must _____ good use of our time to learn our subjects we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A. take     B. have      C. make       D.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724280"/>
            <a:ext cx="1219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228600"/>
            <a:ext cx="9144000" cy="66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. reach ( come to, make, arrive at ) an agreement on sth. with sb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．．．上与某人达成协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e in agreement on/ upon/ about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．．．意见一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关于那一点应该与那家公司达成协议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n agreement should be reached immediately with the company on that poi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他们在这个计划上意见还是不一致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y are not in agreement about the plan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’ll never agree _____ what he said ____ that poi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with; with  B. with; on  C. on; on  D. on; w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8120" y="53341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380880"/>
            <a:ext cx="9144000" cy="47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ad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.sand for = represent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代表（不用被动语态）主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PRC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代表中华人民共和国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PRC stands for the People’s Republic of Chi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PO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代表邮局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PO stands for Post Off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228600"/>
            <a:ext cx="9144000" cy="62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2. the fact that …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是一个同位语从句，表示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fact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的内容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同位语从句是对与之同位的名词中心词作进一步解释．常见名词有：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idea, fact, news, belief, hope, opinion, problem, truth, answer, proposal(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建议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) decision, promise, thought, possibility , doubt, chance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由连词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that, whether, how, when, where, why,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引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我不知道杰克什么时候回来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I have no idea when Jack will be ba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77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毫不怀疑他是最好的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re is no doubt that he is the best 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他无法回答这笔钱他是怎样得到的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e can’t answer the question how he got the mone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注意：同位语从句和定语从句的区别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们表达了他们曾经表示过的那种希望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e expressed the hope (that ) they had expres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们表示希望他们再来中国访问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e expressed the hope that they would come to visit China ag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152280"/>
            <a:ext cx="8915400" cy="73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 make the most of = make the best of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充分利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们要充分利用时间来学习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e should make the most of out time to stud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农民们要充分利用这样的好天气来收获庄稼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farmers should make the most of the fine weather to get in the cro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们要尽量利用我们在这里的这段时间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e should try to make the best of our stay 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的假期很短，好好利用吧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You have only a short holiday, so make the most of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52280" y="457200"/>
            <a:ext cx="8991720" cy="52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4. hold together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使团结一致，连在一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夫妇往往为了孩子的需要维持婚姻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The needs of the children often hold a marriage togeth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请用大头针把两页纸别在一起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Please use a pin to hold the 2 pages togethe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5. Lie in / lie to / lie on / lie of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225360"/>
            <a:ext cx="9144000" cy="72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Within Great Britain for many years now, the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as been a growing movement to 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利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 its cultural divers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.The largest island is called Britain, which 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eparated from France by the English Channel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ich _____________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一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 is only 20 miles w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. They realize that it is ____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非常有价值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o record and teach them to the younger gene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91320" y="9414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ake the most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71600" y="37306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t one 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14800" y="52848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f great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282600"/>
            <a:ext cx="8991720" cy="63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6. at one point </a:t>
            </a: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一度，在某处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= at one tim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我们一度是同学．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We were classmates at one point / time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舞会进行中，她一度伤过脚．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At one point of the party, she got her foot hurt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会议上她一度几乎要大发雷霆．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She nearly lost her temper at one point in the meeting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76320" y="228600"/>
            <a:ext cx="8991360" cy="66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. in general = generally speaking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大体上，一般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言（用作插入语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大多数女人都喜欢买新衣服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omen in general like to buy new cloth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on the whole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总的说来     　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s a rule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通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n the most cases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数情况下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n a few words/ in shor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简而言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n other word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换句话说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n a sens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某重意义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n summar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概括地说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n my view/ opinion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我看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n the first plac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首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311040"/>
            <a:ext cx="9144000" cy="77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8. end up with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以．．．结束　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tart/ begin w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晚会在流行歌曲中结束了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party ended up with a popular song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信尾他祝全家好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e ended his letter up with good wishes to his fami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们最后吃水果和咖啡结束晚餐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e ended the dinner up with fruit and coff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f you go on stealing things, you’ll ______ in prison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end up  B. end up with   C. be ended up   D. be ended up w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248520" y="505944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52280"/>
            <a:ext cx="9144000" cy="3547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9. consider : think carefully about sth.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)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考虑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+ n./ do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+how / what to 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consider   + that/ wh-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52480" y="990720"/>
            <a:ext cx="381240" cy="1676160"/>
          </a:xfrm>
          <a:custGeom>
            <a:avLst/>
            <a:gdLst>
              <a:gd name="textAreaLeft" fmla="*/ 243720 w 381240"/>
              <a:gd name="textAreaRight" fmla="*/ 381600 w 38124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3016080"/>
            <a:ext cx="8610480" cy="4522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他经常考虑别人的感受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He always considers the feelings of other peop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他们开始考虑怎样利用水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They began to consider what use could be made of wa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6320" y="380880"/>
            <a:ext cx="8915400" cy="62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他考虑应当如何回答这些问题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He considered how he should answer the ques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他在考虑改变主意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He is considering changing his mi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你是否考虑过如何去那里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Have you considered how to get ther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我们得考虑用什么材料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We have to consider what material to us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6320" y="168120"/>
            <a:ext cx="8915400" cy="3180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2)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认为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= regard as / think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that clau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consider     sb/sth to be + adj./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sb. As +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81080" y="914400"/>
            <a:ext cx="304920" cy="1676520"/>
          </a:xfrm>
          <a:custGeom>
            <a:avLst/>
            <a:gdLst>
              <a:gd name="textAreaLeft" fmla="*/ 194760 w 304920"/>
              <a:gd name="textAreaRight" fmla="*/ 305280 w 30492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280" y="2682720"/>
            <a:ext cx="8839440" cy="499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我们认为那消息不正确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We consider that the news was fal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我认为他是我最好的朋友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I consider him (to be)/ as my best frie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我们的意见被认为是宝贵的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Our opinion was considered to be valu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52280" y="272880"/>
            <a:ext cx="8839440" cy="60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0. judge n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法官，裁判员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vt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判断，认为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=consi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他无法判断她是否说实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He couldn’t judge whether she was telling the tru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你不该以貌取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You can’t judge a person by his appear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我认为他诚实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I judge him to be hon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380880"/>
            <a:ext cx="9144000" cy="57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judging from/ by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独立成分  “从…看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从他所说的话判断，他一定是个诚实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Judging from /by what he said, he must be an honest ma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听他的口音，他一定是河南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Judging from/by his accent, he must be from Hena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52280" y="222120"/>
            <a:ext cx="8686800" cy="74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11. be on a diet / go on a diet </a:t>
            </a: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节食，吃限定食物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正在节食的人不能吃巧克力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People who are on a diet mustn’t have chocolate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她在一星期前开始节食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She went on a diet a week ago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这病人的饮食有限制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The patient is on a diet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9" dur="indefinite" restart="never" nodeType="tmRoot">
          <p:childTnLst>
            <p:seq>
              <p:cTn id="1100" dur="indefinite" nodeType="mainSeq">
                <p:childTnLst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52280" y="123840"/>
            <a:ext cx="8991720" cy="68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kil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2. the (great ) number of… is…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表…的巨大数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我们学校的学生数目已增加到大约四千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The number of the students in our school has increased to about 40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表示“许多”可分为三类：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修饰可数名词复数形式，谓语动词用复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many, a good/ great many, quite a few, a large(great)/ small number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A great number of new factories have been set up in my homet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9" dur="indefinite" restart="never" nodeType="tmRoot">
          <p:childTnLst>
            <p:seq>
              <p:cTn id="1150" dur="indefinite" nodeType="mainSeq">
                <p:childTnLst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47760"/>
            <a:ext cx="9144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47760"/>
            <a:ext cx="914400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. There could be _______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多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万只羊）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fed within six miles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alisbury , measuring every way round and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own in the cent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8. The cathedral ______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而出名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height of itstower, which is _______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疑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highest and the  most handsome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ngland being from the ground 404 f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34776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s many as six hundred thous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103356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he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8120" y="392904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s famous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62720" y="47545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ithout dou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6320" y="266760"/>
            <a:ext cx="8915400" cy="71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)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修饰不可数名词，谓语动词用单数形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 great deal of, quite a little, much, an amount of = amounts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e has spent a large amount of money on his new hou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 great deal / Quite a little has been done to stop the noi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)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修饰可数或不可数名词，有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 lot of / lots of, plenty of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常用肯定，否定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muc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疑问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noug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 great quantity of + n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谓语用单数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quantities of +n. 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谓语用复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9" dur="indefinite" restart="never" nodeType="tmRoot">
          <p:childTnLst>
            <p:seq>
              <p:cTn id="1200" dur="indefinite" nodeType="mainSeq">
                <p:childTnLst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6320" y="450720"/>
            <a:ext cx="8991360" cy="65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A great quantity of flour (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面粉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)/ apples has been taken a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3. as far as (20 miles )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远到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as far as I know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据我所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as many / few + c.n + as/ as many as (60books)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多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as much as 50 tones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多达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50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as long as 3 metres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长达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as high as 10 metres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高达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9" dur="indefinite" restart="never" nodeType="tmRoot">
          <p:childTnLst>
            <p:seq>
              <p:cTn id="1250" dur="indefinite" nodeType="mainSeq">
                <p:childTnLst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52280" y="0"/>
            <a:ext cx="89154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4. measure n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尺寸，措施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v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测量，经过，仔细考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你应该按照你自己的尺寸制作衣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You should make clothes to your own meas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我们必须采取强硬的措施来防止污染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We must take strong measures to prevent the pol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这教室有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米宽，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米长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The classroom measures 5 metres wide ( across) and 7 metres lo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89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他们每天必须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英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y must measure 20 miles every 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她总是努力工作，并不考虑自己的健康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he always works hare and doesn’t measure her own heal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5. join sth. together / up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连接，接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join A to B ( by sth.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onnect … with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联结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eparate … f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了举晚会，他们把书桌连接起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y joined the desks together so as to have a par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7" dur="indefinite" restart="never" nodeType="tmRoot">
          <p:childTnLst>
            <p:seq>
              <p:cTn id="1338" dur="indefinite" nodeType="mainSeq">
                <p:childTnLst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52280"/>
            <a:ext cx="8991720" cy="70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们可以用一条直线把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联结起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e can join point A to point B with a straight l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岛上有座桥与大陆相连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island is joined to main land by a brid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铁路把两座城市连接起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 railway connects the two cities. / A with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个好学生必须把学到的知识与周围看到的事物联系起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 good student must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nnec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what he reads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with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at he sees around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3" dur="indefinite" restart="never" nodeType="tmRoot">
          <p:childTnLst>
            <p:seq>
              <p:cTn id="1394" dur="indefinite" nodeType="mainSeq">
                <p:childTnLst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0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2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969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给我接北京大学。 （电话用语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Connect me with Beijing Univers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村里发出的早班车与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05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的火车衔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The early bus from the village connects with the 8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05 tr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6. employ sb.(as…)/ + prep./ phrase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雇佣， 利用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使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这个四星级酒店聘用的女孩比男孩多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The four-star hotel employs more girls than boy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3" dur="indefinite" restart="never" nodeType="tmRoot">
          <p:childTnLst>
            <p:seq>
              <p:cTn id="1444" dur="indefinite" nodeType="mainSeq">
                <p:childTnLst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6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249120"/>
            <a:ext cx="9144000" cy="81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我们聘用你在我们学校当英语老师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We shall employ you as an English teacher in our schoo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他们聘用了两个人来收获庄稼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They employed two men for the harves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我们的老师总是合理使用时间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Our teacher always employs his time very wel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7" dur="indefinite" restart="never" nodeType="tmRoot">
          <p:childTnLst>
            <p:seq>
              <p:cTn id="1488" dur="indefinite" nodeType="mainSeq">
                <p:childTnLst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2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8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4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617400"/>
            <a:ext cx="91440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employ oneself in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从事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格林先生正忙于写一篇长篇小说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r. Green is employing himself in writing a long nove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清洁工正在花园除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he cleaner is employing herself in weeding the gard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5" dur="indefinite" restart="never" nodeType="tmRoot">
          <p:childTnLst>
            <p:seq>
              <p:cTn id="1526" dur="indefinite" nodeType="mainSeq">
                <p:childTnLst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70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ur hometown is an _______county. It i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urrounded by mountains with fresh air 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ear rivers and streams. It is rich in natur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sources and_______ ___10 towns. A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 the government of our coun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re making every effort to______its peopl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and attract the Chinese foreign joi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panies to_____ _____ ___its natural resourc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inl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19520" y="243828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consists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41148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ho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8769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toge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43200" y="582120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make  most 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9144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hope next year all of you can be admitted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ey universities and have a company of your 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the futu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317520"/>
            <a:ext cx="914400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9. Then, through a deep channel they ___________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流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some gardens, and _____ to Christchurch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 the s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. But I want to tell the reader that these hills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fields are most beautiful, ______________________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有很多清澈的小河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nd rich fie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______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生长着水果和粮食的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3175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flow throug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1079640"/>
            <a:ext cx="1371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19720" y="102060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7524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n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48320" y="389880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ith many small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4645080"/>
            <a:ext cx="2514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lear riv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533412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earing fruit and gr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8991720" cy="70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.name v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)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取名、给…命名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( give a name to )   name sb sth ( after\ for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他的祖父给他取名叫詹姆斯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His grandfather names him Ja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他以自己祖母的名字为女儿取名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He named his daughter after his grandm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2)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叫出…名字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(tell the na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你能举出多少国家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How many countries can you nam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228600"/>
            <a:ext cx="9144000" cy="71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田里有好多花我叫不出名字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Many of the flowers in the fields I can’t n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3)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指命、任命　（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choose, appoint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我们都选他当班长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We all named him (as ) moni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他们已选定元旦结婚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They have named New Year as their wedd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228600"/>
            <a:ext cx="9144000" cy="74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2.a matter of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一个… 的问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这是一个职责问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It is a matter a du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他把这件事看得很严重，这是一个责任问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He takes this seriously. It is a matter of princip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警察抓住他只是时间问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It’s only a matter of time before the police get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52280"/>
            <a:ext cx="8915400" cy="67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3. confusing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令人糊涂的，使人混乱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confused  (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人感到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　糊涂的，混乱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confuse sb ( with sth )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使…糊涂／混淆　　把…和…弄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＝　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mix up in mind, mist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路标司机弄糊涂了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The road signs confused the driv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他问了我许多问题，把我都弄糊涂了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He asked so many questions that I got confus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8600" y="304920"/>
            <a:ext cx="891540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我总是分不清格林先生和怀特先生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I always confuse Mr. Green with Mr. Whi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他因犯了错而不知所措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He was confused with his mistak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_______ by his sudden appearance, I had no idea what to do with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Confusing              B. Confused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C. Confuse                 D. Conf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32004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7T02:12:18Z</dcterms:created>
  <dc:creator>csms</dc:creator>
  <dc:description/>
  <dc:language>en-US</dc:language>
  <cp:lastModifiedBy>jinma</cp:lastModifiedBy>
  <dcterms:modified xsi:type="dcterms:W3CDTF">2005-11-16T08:33:46Z</dcterms:modified>
  <cp:revision>33</cp:revision>
  <dc:subject/>
  <dc:title>PowerPoint 演示文稿</dc:title>
</cp:coreProperties>
</file>