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C6B-200C-4651-AF92-862B3F8B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A16-C204-460D-9BDD-BE97C6B6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7A0-D16A-4C56-B668-356EEEBE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C8A-487F-4452-A9D7-17CA29E4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8886-71C1-4C79-80F9-C5A69F10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26AF-DB7C-4319-9B02-63294FEF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0881-7A89-45D4-AE4E-F790E3BB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930F-E632-4FB4-9E60-6D18ABA2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8BB3-77CE-4938-9AE5-41FF1418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0B1F-DA37-4F7E-91D3-7748D1A5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2BBD-635C-4004-9239-A99B1C12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E378-6326-4679-9CD9-5328CE59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8EFD-86C7-491A-BE3E-C2F745D1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CE9E-0AEF-42E8-B0D2-B1DD3B6F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34D2-5135-4424-8CE9-A434EDE7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4058-73CB-404B-9C9C-E21A3B7E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CDB9-AF3E-4E66-92EF-2B62118E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36C-02B5-47FE-9F11-2C6295D5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B83-0DDA-45C9-84B5-333D01D2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D77B-01C7-4FA6-8F84-481D5691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A6F3-8103-4A8A-A6D7-11032410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AC26-0CAF-4940-B1F4-60DCDA54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4579-A23C-45A2-A101-7BB1192D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03E-F27B-45FC-974F-51E36363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3FCE-082E-4DFE-AF9C-3B7192667F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9013-E267-4D51-9A26-035E99B963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8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t 3  Art and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2742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anguage point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743200" y="3809880"/>
            <a:ext cx="4484520" cy="1849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04920"/>
            <a:ext cx="91440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look as if +clause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看起来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fill up sth with sth.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用…装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be filled with sth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充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keep sb informed of sth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随时让某人了解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succeed in sth/doing sth.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在…成功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/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成功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pull sth down 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拆掉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7560" y="692280"/>
            <a:ext cx="720396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tergating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stand empty without use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空置不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ith one’s help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…的帮助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decorated with sth.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被用…装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remind sb of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使某人想起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set sb/ sth aside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搁置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把…放在一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ring sth together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把…汇集在一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changed into sth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被变成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53200" y="981000"/>
            <a:ext cx="76482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be good for sb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对某人有好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far from sw.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远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句子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so that +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句子   …，因此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以至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turn sth. into sth.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把…变成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give new uses to sth.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赋予…新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save sth/sb. from …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把…从…中挽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glance at sb.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看一下…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扫视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080" y="555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462600" y="304920"/>
            <a:ext cx="104173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If you were free to design your own d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house, what would that house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引导的非真实条件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我要是你的话，我会立即给他打电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假如我身上带了钱的话，我就会借给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你要是早来一点的话，你就见到他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下个月我要是有时间的话，我就去休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I were you, I would ring her up right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I had any money with me, I could lend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you had come a little earlier, you w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have met h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I had time next month, I would have a holi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0920" y="3016080"/>
            <a:ext cx="15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8380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So I felt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ervo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uncertain at fir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133720"/>
            <a:ext cx="72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be nervous about (doing)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be nervous of (doing)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743200"/>
            <a:ext cx="823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对做某事心中忐忑不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为…担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害怕做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827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are nervous about his physical condi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as nervous of that jo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.free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空闲的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自由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2947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free to do sth.=do sth freel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随意地或自由地做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one’s free time=in one’s spare tim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人的空闲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et……free…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释放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medical car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公费医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or fre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费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of charg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费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fro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受影响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of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摆脱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.free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空闲的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自由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每个人都可以畅所欲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veryone is free to express himsel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同意无偿的演唱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agreed to sing for f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多么希望不受噪音的影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ow we wished to be free from noise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2.Design –v.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设计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构思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计划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谋划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esign building/ to build a hous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打算建房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hopeless desig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毫无希望的计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beautiful desig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美丽的图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y desig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故意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蓄意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谁设计的悉尼歌剧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o designed the Sydney Opera Hou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3.furniture---n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家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piece of furnitur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件家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urnish—v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陈设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供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urnish one’s hous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布置某人的房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8377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4.taste—n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爱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嗜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鉴赏力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味道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品尝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Link-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尝起来味道如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n attractive taste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诱人的味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 one’s tast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适合每人的口味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中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good tast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雅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行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高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a taste for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有…爱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aste snak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尝蛇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28600"/>
            <a:ext cx="849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一．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arming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sth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某物，爱好某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sth.…to sth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…胜过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to do sth.= prefer doing s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干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to do…rather than do.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干…胜过干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=prefer doing sth to doing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4.taste—n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爱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嗜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鉴赏力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味道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品尝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Link-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尝起来味道如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菜吃起来味道不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dish tastes n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食品的味道很诱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food has an attractive tas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她对水彩画很有鉴赏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he shows good taste in water-col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类似系动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 smell, sound, feel, l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5. Would rather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宁愿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rather ( not ) do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rather ( not ) have done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过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rather do sth than do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做…也不愿做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do sth. rather than do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做…也不愿做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efer to do…rather than do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喜欢做…而不愿做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5. Would rather—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宁愿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宁可一个人去那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uld rather go there al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宁愿我没说过那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uld rather not have said tha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宁愿死也不愿投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uld rather die than give 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I would die rather than give 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6.miss—v.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思念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错过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未击中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未得到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免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ss sb. terribly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非常想念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没接到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missed the b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险些遇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ss being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险些掉到河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ss falling into the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没赶上影片的开头部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missed the first part of the fil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不明白你怎么会迷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onder how you came to miss your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7.stand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经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承当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耐情况如何或处于某种状态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倒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站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and one’s head/f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立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稍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and at attention/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and fo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忍受不了那个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说话太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can’t stand that man; he talks too mu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忍受不了受那样的对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can’t stand being treated like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7.stand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经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承当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耐情况如何或处于某种状态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照目前的情况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s things now 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经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n’t stand wa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目前情况怎么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do things stand at the mo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7632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sb to do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想某人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ould prefer that clause(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主语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+were /did)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从句用虚拟语气）想某人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a preference for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爱好某物，喜爱某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838080"/>
            <a:ext cx="914400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design sth for sb/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为某人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/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某物…设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design sth to do sth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为干…设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a piece of furniture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一件家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a taste for sth.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爱好某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a taste in sth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某物有鉴赏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1080" y="533520"/>
            <a:ext cx="9144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convenient to /for sb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某人很方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t is convenient for sb to do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某人干某事很方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live close to sw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住在靠近…的地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stand close to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靠近…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ould rather do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愿意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get excited about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…感到兴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48520" y="0"/>
            <a:ext cx="7561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二．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all the same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都一样，仍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personal style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有个人风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can’t stand sth/ one’s doing s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不能容忍某事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某人干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take examples from nature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效仿自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sth don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让某物被…，使…遭受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339840"/>
            <a:ext cx="770544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n different styles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以不同的风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go against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违反，违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ant sth. constructed …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想…建成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under construction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建设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look unnatural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看上去不合乎自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85800"/>
            <a:ext cx="91440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mpress sth on sb.=impress sb.with sth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使某人铭记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act as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充当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n the choice of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选择…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n nature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自然界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80880"/>
            <a:ext cx="91440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despite the fact that clause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尽管…的事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despite sth=in spite of sth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尽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find oneself inspired by sth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发现自己从…中得到灵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seen/ viewed from the top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从上面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look as if +clause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看起来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5:37:53Z</dcterms:created>
  <dc:creator>asiasys</dc:creator>
  <dc:description/>
  <dc:language>en-US</dc:language>
  <cp:lastModifiedBy>Lenovo User</cp:lastModifiedBy>
  <dcterms:modified xsi:type="dcterms:W3CDTF">2005-11-14T08:08:48Z</dcterms:modified>
  <cp:revision>75</cp:revision>
  <dc:subject/>
  <dc:title>  Unit 3  Art and architecture</dc:title>
</cp:coreProperties>
</file>