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AD9-A81B-4594-BFF8-502D7C87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7C7-EBBF-4AAB-BE9D-596527A6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F30-0D5D-4C42-B0A7-94F8B914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F54-81AF-47C4-BCDB-3D5F9987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763-3FE3-4492-BB4D-F892BDAC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E23-2B4D-4591-8505-0B24D36F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3D2-9F01-4B0C-8229-404924A9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996-9533-41EF-953D-E9E05722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4CD-D5F8-4A3E-9D6A-E03CD01A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71B-2CEB-4C88-BF30-F57E5D7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7EB-932E-4CBF-918E-5AE98AF3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AB0-3303-4B08-9FB6-D0CF361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4F9D-3E59-43B5-B489-C1E096DD4A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480" y="1773360"/>
            <a:ext cx="54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知识点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30492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takes + n. + to d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ill take a lot of courage to tell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istence is an important quality and it is what it takes to do everything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known as / for /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is well-known for his film “Titanic” as a director to all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lot / much / little / nothing in common ( with sb.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/ in 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共用，公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most boys, he likes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m and I had background in comm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74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to do / to be doing / to ha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lik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e seems like an honest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It seems that / as i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(to him) that he would never be able to work out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as if he has been at the scene of the c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There didn’t seem ( to be ) + 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There seemed to be no +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似乎没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714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em ( to be ) n. /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型变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lives / stands / comes / rem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appeared ( to be) a quarrel between the two gir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was said to be a fight between Tom and J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used to be / appeared to be / must be / will be / was said to be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be/ get engaged to sb. ( engage A to B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与某人订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engaged in doing ( engage oneself in doing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忙于从事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wants to engage himself in foreign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can’t go with you. I’m engag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ather was shocked to learn that his daughter had got engaged to the poor young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n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nly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状语开头的倒装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把否定词或否定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, little, hardly, never, no sooner….than, hardly……when, not only….but also, at no time, by no means, on no condition, in no case, nowhere, nor, seldom, fe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置于句首时，常使用部分倒装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858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ooner had we got to the railway station than the train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you don’t do it,  nor shall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no means will this method be satisfac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ver has she heard such a beautiful English s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after he told me about it did I know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6094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promising man = a man of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n. / (to be)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…的希望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预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year promises a good harv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promises to be cool in the eve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/ keep / break one’s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sb. sth. / promise to do / promise sb. to do / promise sb. that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There is no point / seems to be no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doesn’t seem to be point)in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没意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似乎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5146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be on fire for…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热衷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/ o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set fire to sth. ( set sth. on fire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放火烧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catch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make a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生火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light a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点火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play with fire / ope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under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攻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go through fire and wa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赴汤蹈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 a child, he was on fire for drawing sth. fre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to sb./ sth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某人有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between…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区分，对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对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ell the difference between…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说出……之间的区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fference in / between /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方面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间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……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20120" y="2133720"/>
            <a:ext cx="394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660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rain didn’t make much difference to the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a great difference which you cho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no difference to me whether he goes or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 make a difference between right and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you tell me the difference in spelling between the wor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make up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定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ange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sth. i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得，想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se one’s mind / out of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去理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 ) o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某事）使人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t of sight , out of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眼不见，心不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b.’s mind is on sth. / keep one’s mind on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人心思在某事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eep sth. in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仅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极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bett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bad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worse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goo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超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相配、相称，使较量，是……的对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A matches B , be well matched, match A with B)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i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颜色、款式等适合某人的口味、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衣服等大小合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33520"/>
            <a:ext cx="89154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urtain doesn’t match the pa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one can match him in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se gloves don’t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ready to match my strength with / against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eeds don’t match his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no match for you at ch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f…..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如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)come up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提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b.) come up with sth.: think of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提出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question hasn’t come up y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cientists have to come up with better ways to deal with pol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404640"/>
            <a:ext cx="27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34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9144000" cy="65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– Where would you like to go, to the cinema or theat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It ___ 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not a differ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makes no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is not different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makes not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8936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" y="41148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328680"/>
            <a:ext cx="273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73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83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His opinion is similar ___ his brother’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A. with      B. like      C. to     D.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They _____ the foreign affairs those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engaged themselves in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ere engag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ere engaged on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were engag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1304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9144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03848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620640"/>
            <a:ext cx="882000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Einstein’s theory _____ correct later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was proved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as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as proving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Mr. Baker is busy these days ____ a new book on how to develop a child’s reading sk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out             B. working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orking for             D. working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3440" y="2743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257800"/>
            <a:ext cx="288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820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Don’t let a chance _____ easily. It may never retu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up             B. go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fall off              D get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I’ve always dreamt __ coming to China, and now the dream has come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about; real               B. of;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out; truth                 D. from; tr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32440" y="1600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64832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4086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080" y="228600"/>
            <a:ext cx="124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从事，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明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范围之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好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误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609480"/>
            <a:ext cx="28954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观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庆祝节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有才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犯罪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天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灵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难以治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533520"/>
            <a:ext cx="4109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9288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If you are ___ about Australia cities, just read the book written by Dr. John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ed                  B. anx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upset                        D. cu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2004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360"/>
            <a:ext cx="92883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– Shall we have a talk with her and tried to persuade her not to see a movie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There is no ___ talking to her. She never liste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                B.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point                D.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600" y="45720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360"/>
            <a:ext cx="928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You can’t ___ everybody. I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ity ___ your decision, that’s 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; was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be satisfied; satis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satisfy; are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satisfy; satisfi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73392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26920" y="2924280"/>
            <a:ext cx="7777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15120" y="1413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语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41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结构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413000"/>
          <a:ext cx="6720120" cy="4047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6560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547640" y="1413000"/>
            <a:ext cx="201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80000" y="3860280"/>
            <a:ext cx="201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80000" y="465300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484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17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主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2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被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一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2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7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227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31417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9973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be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4005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9280" y="4581360"/>
            <a:ext cx="21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341360"/>
            <a:ext cx="287280" cy="41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1052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It is righ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give 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m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1916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She wante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orr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708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I came her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s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5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He needs a roo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liv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21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I asked hi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work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51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My wish is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ec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doct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98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9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宾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2708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35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221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宾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52280"/>
            <a:ext cx="896436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has a lot of work ____ today, so he can’t go with 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ing     B. to do     C. done       D.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e told me about the things ____ at the next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iscuss              B. being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discussed             D. to be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e seems ___ the old 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ing                B to be kn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to know                D.  to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62080" y="1405080"/>
            <a:ext cx="52884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7200" y="4038480"/>
            <a:ext cx="5284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205680"/>
            <a:ext cx="52848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0"/>
            <a:ext cx="896472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. We all  hope ___ scient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A. become             B. to bec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becoming          D. bec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. With a lot of difficult problems _____, the newly-elected president is having a hard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ettled                         B. sett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to settle                      D. being sett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. It is said that in Australia there is more land than the government knows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t what to do with          B. what to do it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what to do with it         D. to do what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6858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8862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35796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6028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Do let your mother know all the truth. She appears_____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ell                B. to be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be telling    D. to have been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The shirt looks tight on you. You seem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put on              B. to pu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have put on     D. to have pu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hey expect___ thei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be seen B. to be seeing C. to see D.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91628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0864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805360"/>
            <a:ext cx="50472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4520" y="1905120"/>
            <a:ext cx="348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 汇 练 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most recent survey of rare bird was u_________ in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is disappointment was o______ to everyone. Didn’t you se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he school is w_____ 5 minutes walk of my house; I go to it on foot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on’t be so c_____ . It’s got nothing to do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he little boy climbed the tree and sat on a b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692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2000" y="12682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720" y="2349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4000" y="342900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50133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3600" y="198108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短 语 与 句 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14800" y="-360"/>
            <a:ext cx="6400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o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t engaged to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urn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other way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eam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similar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ach one’s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curious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4480" y="0"/>
            <a:ext cx="2671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走过，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与…订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有所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结果是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后来证实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与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.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似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达到目的，实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很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657600" y="304560"/>
            <a:ext cx="5486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the early 1970s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ince then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ek answers t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eek for/afte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ccording to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on the other hand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36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"/>
            <a:ext cx="3657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7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年代早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从那时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寻找问题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根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另一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3504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好管闲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继续某种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和某人结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用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做某事没有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或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从事于某事；忙于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280"/>
            <a:ext cx="5035320" cy="71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be curious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one’s busines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go on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get married to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use up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ere is no point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doing s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engage(oneself) in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be/get engaged in     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1:10:32Z</dcterms:created>
  <dc:creator>Billgates</dc:creator>
  <dc:description/>
  <dc:language>en-US</dc:language>
  <cp:lastModifiedBy>jinma</cp:lastModifiedBy>
  <dcterms:modified xsi:type="dcterms:W3CDTF">2005-11-02T14:51:31Z</dcterms:modified>
  <cp:revision>18</cp:revision>
  <dc:subject/>
  <dc:title>幻灯片 1</dc:title>
</cp:coreProperties>
</file>