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383-3639-48E7-8003-412D51E8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E89-36C6-4197-8E52-3D8FAE81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9B8-90E9-487D-9CE1-C79631EB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8F9-254D-4FF0-B8D9-81775DF6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0A1-DE5D-41A7-83FE-31F01FE4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337-CF9E-42C3-A032-C3062432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908-66A5-47F2-9C6C-264BE381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C4A-1574-4707-9671-FA97F735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782-31EF-4CAB-BF78-FE038DA4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0B7-5158-4982-A0B6-299B115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BED-CADC-471C-8039-DF24870A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6C2-4444-41FC-8860-37569042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4183-E8F5-4DD4-BD2D-BC2A1E0360F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09680" y="1600200"/>
            <a:ext cx="6400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unit 6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in the futur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瞥见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一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catch /get/have a glimpse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only caught a glimpse of the thief, so I can’t really describ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一眼瞥见远处的汽车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a car in the di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her in 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glimpsed her among the crowd just before she disappeared from s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就在她消失前的一杀那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major/ma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jor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较大的，较重要的”。它虽含有比较的意思，但无比较级，不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a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用。多用做定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主要的，最重要的”，无比较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4636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,The car needs _______ repai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,Our _______meal is in the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,Note down the _______ points of the spee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,There has been a _______ improvement in his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80060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ontemporar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Times New Roman"/>
              </a:rPr>
              <a:t>adj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该时代或该时期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同一时代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当代的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现代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eg: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Dickens was contemporary with Thacker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狄更斯和萨克莱属于同一时代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contemporary events/building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当代的事件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建筑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n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时期的人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She and I were contemporaries at colleg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她和我在大学是同学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305920" cy="698760"/>
          </a:xfrm>
          <a:prstGeom prst="rect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amaze/astonish/surpri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990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三个词都有“使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吃惊“的意思，在句型结构上有相同之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作及物动词，以“事物过它人”作主语。以”人“做宾语，表示“使……吃惊”。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s surprised/amazed/astonished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4956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现在分词作定语，表示“令人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 plane goes at an surprising/amazing/astonishing sp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48420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过去分词作定语或表语，表示“感到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was surprised/amazed/astonished at s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701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意义上看，第二和第三“吃惊”的程度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0878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pri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含意较弱，仅表示出乎意料之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’m surprised that you think this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53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5)amaz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强调“使惊讶”，有时还有“惊叹”“佩服”之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our answer simply amazed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were amazed at the ingenuity with which they overcome their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97980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astonis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大吃一惊，几乎无法使人相信”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astonish us by announcing that was going to be married in a few d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28600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209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ensure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一定得到，保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He wrote a poem which ensured his undying f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Come early to ensure that you catch the plane,take a tax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4100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接宾语或双宾语，也可接动名词作宾语或宾语从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8480" y="134640"/>
            <a:ext cx="8885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,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865080"/>
            <a:ext cx="8991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，前不加冠词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to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 have not seen each other since he left here, but I have  always kept in touch with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944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2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ring sb.into touch wi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928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Get in/into touch with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ome in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某人与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581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……取得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68560"/>
            <a:ext cx="1600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6856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95480" y="4402080"/>
            <a:ext cx="190512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68560"/>
            <a:ext cx="1676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97360"/>
            <a:ext cx="685800" cy="990720"/>
          </a:xfrm>
          <a:custGeom>
            <a:avLst/>
            <a:gdLst>
              <a:gd name="textAreaLeft" fmla="*/ 0 w 685800"/>
              <a:gd name="textAreaRight" fmla="*/ 24768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7080" y="685440"/>
            <a:ext cx="835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657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ose 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168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e out of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752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失去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12408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……没有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-4572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good example of ___________________ _________is the new maglev tr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__________ that things wil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We don’t think about the world and re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 you did ei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transportat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094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cer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352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the same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If we learn to accept change and appre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新而不同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will _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好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备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ever the  future may have in st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 well- prepared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4844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is new and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88851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7.Necessity  n.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必要性，必须性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144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“必要性”解时是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作“必须性”解时是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6320" y="2362320"/>
            <a:ext cx="7696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od and clothing a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Large masses of the people lack the necessities of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)Necessity is the mother of inven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)Is there any necessity for another elec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60224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介词，后接名词和动名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不可数名词该词组可用于被动语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505320"/>
            <a:ext cx="883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I advise you to lay more attention to recording new uses of old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He paid much attention to his pronun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搭配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63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tract/catch one’s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2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one’s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564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ote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478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  one’s attentio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63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吸引……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286056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622680"/>
            <a:ext cx="2590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4784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力集中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335304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208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69436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943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11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2784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2921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11760"/>
            <a:ext cx="7467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ertai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可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certain+tha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su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可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定，有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6555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22600"/>
          <a:ext cx="9144000" cy="504792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3657600"/>
              </a:tblGrid>
              <a:tr h="581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0" y="6964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964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332080"/>
            <a:ext cx="22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2160" y="2857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385596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874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sure/certain of(about sth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信，有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60680"/>
            <a:ext cx="8305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 to do sth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（表示说话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855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+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句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信，确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618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do sth for sure/certain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肯定，确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560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not sure /certain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把握，不敢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6141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ke sure/certain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弄清，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80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10.Cheat/deceiv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14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指为了占别人的便宜而采取用不诚实的手段进行欺骗，常用句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 sb(out) of sth. decei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蓄意歪曲事实造成的错误印象，以达到个人目的。在被动句中常有“被弄错”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954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om ________at the examination,but the teacher was not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at was simply a blind designed  to_______ the 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 was _______ in his apparent compe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boy _______ his friend (out) his ap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666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4145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search, search for, search…for, in search of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44200"/>
            <a:ext cx="9144000" cy="61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vt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search sb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人的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a place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policeman is searching a thi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…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…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the woods for a lost chi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 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寻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for that man everyw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in search of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中的为名词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 “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;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went to Australia in search of go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1744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前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-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事先；先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ca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fat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祖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又，再，重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for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改革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复述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bui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重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使．．．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确信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ri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变富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larg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扩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4076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ly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．．．地”一般作副词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gular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地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ard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几乎不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or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．．．人，．．．者，．．．家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duca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育家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visi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游客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nven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发明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76320" y="93024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u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购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 the date of purchas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购买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他给儿子一些钱去购买教科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gave his son some money for the purchase of his school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c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所购买的物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卡车里装满了买来的东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ck was filled with purc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0"/>
            <a:ext cx="3276360" cy="1447920"/>
          </a:xfrm>
          <a:prstGeom prst="cloudCallout">
            <a:avLst>
              <a:gd name="adj1" fmla="val 55523"/>
              <a:gd name="adj2" fmla="val 50986"/>
            </a:avLst>
          </a:prstGeom>
          <a:solidFill>
            <a:srgbClr val="e2f14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9438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What you need is more practice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 can’t imagine when we will be able to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n space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is reminded me of what he had once told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e problem is whether robots will be sm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an human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Scientists haven’t found answers to the question why there is no life on Mars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位语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vt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购买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采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eg: Employees are encourag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purchase shares in the compa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该企业号召职工购买其股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i)t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无特殊含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rea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现实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能力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ossi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可能性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necess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必要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必需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62864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ecret of his success is that he does everything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fficiently                  B. curiou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anxiously                   D. su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surprises me most is that the ____ is also a(an)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visiter; inventer          B. visite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visitor; inventer          D. visito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3080" y="278136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62440" y="613404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228240"/>
            <a:ext cx="88851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Regularly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adv. regularly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规则地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定期地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adj.  regular    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隶书"/>
              </a:rPr>
              <a:t>规则的，定期的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n.     regularity 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正规，规律性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28600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的心脏有规律的跳动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is heart_____  _____      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常常见面，但不定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meet now and then,____ _____ 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日三次，定时服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971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    beating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449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t   not    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648320"/>
            <a:ext cx="335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638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  the   medicine   regularly   three   time   a  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44288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320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需要，要求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ment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句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sth; require  sth of(form)sb;   require sb do sth ;   require+that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句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ould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动词原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716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 you _____________________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向我要求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healthy ______   ______   ______   ______   ___   ______  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健康情况要求他早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2716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anything of (from )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62924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    that          he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o          to      bed          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140184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286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 vt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需要，要求；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ment n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sth;      require sth of(form)sb;   require sb do sth ;   require+that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句用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should +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动词原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401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essential _________   ______   _____   ______   _____   ______and adaptabi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个工作的主要要求就是精力充沛，有适应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794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ment   for         the        job          are        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85520" cy="19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require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作“需要”解时，可接不定式被动式，若接动名词，则要主动式表被动含义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loor  require washing (to be washed).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面需要清洗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1911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reality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即可作可数，又可作不可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短语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in reality (=in actual f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609480"/>
            <a:ext cx="8839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not imagination but re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dream of marrying Dick became a rea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rusted the stranger,but in reality he was a crim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371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这不是想象，而是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581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她梦想和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Dick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结婚已成为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667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每个人都相信这个陌生人，但事实上他是个罪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0"/>
            <a:ext cx="89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termine  vt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决定，下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5335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作表语，表状态，后接不定式或从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you _______     _______  _______  _______  _______ _______  ______   the   holiday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决定在哪儿度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 ______     _____      _____   _____    _____  his advice.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决意不按他的劝告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38280"/>
            <a:ext cx="86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determined  where   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are        going        to        spend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5362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was     determined   not      to    foll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2016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1.I remember_______this used to be a quiet village.</a:t>
            </a:r>
            <a:br>
              <a:rPr sz="3200"/>
            </a:b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A.When     B.how   C.where   D.what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10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4612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Please tell me_______you would like to have your coffee-black or wh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at   B.where   C.when   D.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44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98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_______get such a boo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ere do you think can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Do you think where c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Do you think where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Where do you think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228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735120"/>
            <a:ext cx="944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588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684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-----Do you know_________Mr.Black’s address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He may live at No.18orNo.10 of Bridge Street.I.’m not sure of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at;which            B.where;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where;what            D.what;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-----My foot hurts terrible,do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Well,I wonder_____it has been lik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since when   B.since then    C.how    D.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0304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316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2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5257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914400"/>
            <a:ext cx="8369280" cy="642600"/>
          </a:xfrm>
          <a:prstGeom prst="rect">
            <a:avLst/>
          </a:prstGeom>
          <a:solidFill>
            <a:srgbClr val="e2f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un clauses introduced by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Questio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3960" y="1905120"/>
            <a:ext cx="55296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从句时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疑问词 ＋ 主语＋ 谓语动词 ＋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身是主语的疑问词＋谓语动词＋ 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366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3111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The reason____their failure you know is____they didn’t get fully prepared for the experi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y;that               B.that;w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for;that                 D.why;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320" y="5335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good example of how transportation is changing is the new maglev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共交通正在改善的一个很好的例子就是磁悬浮列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0481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该句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导的一个名词性从句作介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宾语，介词后面跟一般均可接疑问词引起的从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He was not conscious of what an important discovery he had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Did she say anything about how the work was to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nstead of just searching a crowded store for basic goods,such as food and clothing,people want to go a pleasant mall and combine shopping with 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成语介词（连）词，表“代替”“而不是”，后接、代词、动名词、形容词、介词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294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ing exercise every day makes him look younger instead of ol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In warm weather he often reads under a tree instead of in the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38088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_____  _____  ______  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联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your friend by let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_______  _______  ________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匆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瞥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r before she vanished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消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i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lease_________  __________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注意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 am say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lways keeps several baske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pples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贮藏着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keep/be  in    touch  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057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ught/got/had    a     glimp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701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y              attention           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835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            st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09556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Smoking cigarettes _____  ____ 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导致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dis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.You should be out playing_______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而不是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working in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. _____  _______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像往常一样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, he stay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late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10348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20271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ds     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475080"/>
            <a:ext cx="542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65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tead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10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         us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286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ream of being a famous  sing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实现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 la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me          tr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news which our team had won pl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I don’t doubt whether he can work ou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I have been worrying about if I have hurt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eel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don’t know that he wan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2514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f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3341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11040"/>
            <a:ext cx="91440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5. The reason why he didn’t come is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 was ill.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Who walks around in such a heavy rain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catch a co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 think important that we lear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t’s not certain that the sports meet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1111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use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2787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→Who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ortant→it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6064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33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is the suggestion which we have a tr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ina is a great socialist country i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n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111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ina→That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14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语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填上适当的连词完成以下名词性从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is to take Li Ming’s place is be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scuss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got very angry with______he sai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y idea is_____we should get more 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finish the wor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nder_________it is true or n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 is______we could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mokers kick their hab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685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4290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5029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9856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8720" y="1447920"/>
            <a:ext cx="751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m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s prac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one of them has made a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y will improve their English in  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n fifty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371600"/>
            <a:ext cx="2057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240" y="3886200"/>
            <a:ext cx="15523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457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比较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7086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8744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不明白他为什么周末还要去上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没有忘记我们什么时候放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有没有问他什么时候回家过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don’t understand why he always goes to work at the wee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800" y="37339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never forget when we will have a holi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3341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 you ask him when he will go back home to spend the Spring Festi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1. forecast v.&amp;n.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预报，预测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Experts rain has been _______ for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He couldn’t_______that his trip would be delayed by 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Who can ______what will happen to the world in 1,000years’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Did you listen to the weather _______ on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145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202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的过去分词有两种：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或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predic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意思和用法类似，表示这一意义的词还有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see,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exact / 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强调“准确无误的，正确的，精确的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示“实际的，现实的，确实的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632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You _______height is 5 feet 6 inch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3276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It is difficult to tell his _______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The______result differed from our predi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4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.You have to be _______ in this job because  a small mistake can make a big differ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n stor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必将发生，存储备用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1294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we must____   ____   ____   _____   ____ for a big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必须储存力量准备长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we have 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储存了大量食物过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)________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希望你前途光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6668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2477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ep    our   strength    in     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lot of food in store for the wi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495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 hope that a bright future is in store for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5:07:34Z</dcterms:created>
  <dc:creator>政治处</dc:creator>
  <dc:description/>
  <dc:language>en-US</dc:language>
  <cp:lastModifiedBy>jinma</cp:lastModifiedBy>
  <dcterms:modified xsi:type="dcterms:W3CDTF">2005-11-27T15:50:05Z</dcterms:modified>
  <cp:revision>71</cp:revision>
  <dc:subject/>
  <dc:title>PowerPoint 演示文稿</dc:title>
</cp:coreProperties>
</file>