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D7C5-B0CA-4EA0-84BB-202B3C486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5F79-1984-444F-9C2D-BA1B907F0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AAEE-BD1E-4A27-9B89-FAAF3149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6F77-AAD5-4005-8402-8EAD7D4F2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E400-6C4B-465E-A9C1-27F7B75B6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0423-965F-4241-9FFD-43478A063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ED45-7BEB-4172-ACD2-4EB46387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BA46-A70E-48E7-8592-EBB182B1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39C4-2F0F-4D60-8D90-9F05BDBC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B80A-6E3D-485A-A11F-F8DF4FB2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32AA-CC49-4C44-B535-587D85C82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065A-51E3-4DB7-BC79-6A982B34B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7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38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1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081FD-E07A-451F-B662-2143CBBBC0BC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19320" y="129528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6765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ords and expression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81080" y="3886200"/>
            <a:ext cx="6096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Unit 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57200" y="38088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1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per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合适的；适当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152388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常与介词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搭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proper tool for the job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适用于做这个工作的工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96252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2.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vailable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可利用的；可达到的；有效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46280" y="5438880"/>
            <a:ext cx="839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ou will be informed when the book is availab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52280" y="149400"/>
            <a:ext cx="88394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3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reak dow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破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因机械、电力等故障）停止运转，失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失败；崩溃；瓦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健康）衰弱；（人）垮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分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5029200"/>
            <a:ext cx="9339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s small electric fan broke dow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eace talks have broken dow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e will break down under such pressure of wor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" y="3049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4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courage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使泄气；使失去信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137160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n’t let one failure discourage you,try aga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362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courage sb from doing sth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劝阻某人做某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339732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couraged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感到沮丧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31172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couraging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令人沮丧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522612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couraged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受到鼓舞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59878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couraging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令人鼓舞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52280" y="3049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5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er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使高兴；使鼓舞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欢呼；喝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1219320"/>
            <a:ext cx="80769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er sb up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our visit has cheered the sick man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31687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eryone was cheered by the good new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42354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oys cheered their football tea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240160"/>
            <a:ext cx="86108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.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欢呼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cheer arose from the crowd when he ca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2860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6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ffer from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遭受（痛苦、疾病、损失等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62120" y="17524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ery night he suffers from headach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38080" y="304812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y suffered huge losses in the earthquak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2120" y="50292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.Suffering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痛苦；困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762120" y="68580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7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cover vt &amp; vi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恢复；康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175248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e recovered her heal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43000" y="28195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think she will recover so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3733920"/>
            <a:ext cx="7162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covered adj.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痊愈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 recovered from (illnes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54100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e you recovered from your illnes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04920" y="304920"/>
            <a:ext cx="906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8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rary adj &amp; n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相反的；相对的； 反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8080" y="121932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t is the contrary of co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205740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n the contrary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正相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29401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am not sick; on the contrary I am quite we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396252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9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ve with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忍受；接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47242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ou must live with the fact you are an adul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5605560"/>
            <a:ext cx="83822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matter how bad the situation may be, you must live with 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85800" y="68580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20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ree from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不受……的影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19810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wants to live a life entirely free from trou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35053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ree of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远离； 摆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480060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r wages are very small, you will be free of income ta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57200" y="533520"/>
            <a:ext cx="85345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二．句型转换与完成句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. I am not clever enough to find a possible solution to the proble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If I _____clever enough, I _____ _____a possible solution to the proble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. It’s a pity that I can’t recite that poe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How I ______that I ______ ______that poem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76520" y="2209680"/>
            <a:ext cx="121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w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72200" y="22096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would  fi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09680" y="49528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wish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029200" y="48769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could   recit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04920" y="228600"/>
            <a:ext cx="8762760" cy="83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. AIDS is a disease that stops a person from defending himself against infections and illnes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AIDS is a disease that _________ a person ___________ against infections and illnes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. In 2002, there were 3.2 million children in all who were infecte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ith HIV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In 2002, the ______ _______of the children infected with HIV ______ 3.2 mill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257800" y="1905120"/>
            <a:ext cx="1600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leaves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280" y="243828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defenseless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95480" y="51814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total number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57913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was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66680" y="1447920"/>
            <a:ext cx="7162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8380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adly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致命的；极有害的；非常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1905120"/>
            <a:ext cx="88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ncer is a deadly diseas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28195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癌症是一种致命的疾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38098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deadly silence filled the clas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48006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教室里极其安静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80880" y="533520"/>
            <a:ext cx="8458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A. The disease is spreading fast in Africa mainly because people there lack proper health care, prevention an educ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. The disease is spreading fast in Africa mainly because of __ _____ ___ proper health care, prevention an educ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267080" y="38098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    lack     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57200" y="374760"/>
            <a:ext cx="838188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们的企业因缺乏投资而日子不好过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ur business has ______ ______lack of investm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句子没有错误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sentence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__ _____ ____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istak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来，冒险一试，也许你会失败，但值得一试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e on, and____ __ ______. You may lose , but it’s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_______ ________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267080" y="148608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uffered  fr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36511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s  free   fr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429000" y="533412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ake  a  ch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58672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orth    try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04920" y="609480"/>
            <a:ext cx="84582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尽情地过了一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lived his life___ _____ _______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目前我们甘心在一旁观察和等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 ____ _______we are content to watch and wa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由你来负责预防森里林火灾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of forest fires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__ ___ ___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ou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352680" y="114300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o    the     full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281952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or the  mo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502920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re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15000" y="49528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s  up 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0880" y="228600"/>
            <a:ext cx="876312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平谈判已经失败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he peace talks____ ____ _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人们对爱滋病毒携带者的态度是错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eople  ____ _____ __________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towards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 those with AID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103500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ahoma"/>
              </a:rPr>
              <a:t>have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ahoma"/>
              </a:rPr>
              <a:t>broken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ahoma"/>
              </a:rPr>
              <a:t>dow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438280" y="266688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ahoma"/>
              </a:rPr>
              <a:t>show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ahoma"/>
              </a:rPr>
              <a:t>wrong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ahoma"/>
              </a:rPr>
              <a:t>attitu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4476600"/>
            <a:ext cx="86868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希望我十年前认识他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 wish I had known him ten years ag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04920" y="374760"/>
            <a:ext cx="86868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如果你昨天来，你就看见他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f you had come yesterday, you would have seen him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建议我们马上动身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 suggest that we (should ) start out at once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395280" y="549360"/>
            <a:ext cx="8209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1be5"/>
                </a:solidFill>
                <a:latin typeface="Times New Roman"/>
              </a:rPr>
              <a:t>Homework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Go over the language poin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Preview next period----- Grammar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62120" y="8380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ect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传染；感染（精神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20574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fect someone with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将……传染给某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30481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/become infected with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感染上，沾染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39625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of them became infected with bird flu and di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90720" y="55627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r spirit infected me a lo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45720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maginary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想象中的；虚构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15238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tory is not real, it is only imaginar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266688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maginative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富于想象力的；爱想象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38862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maginative child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有想象力的孩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51814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maginable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可想像的；想像的到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57200" y="38088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a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经由；通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13716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 went to Russia via Mongol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22860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deaf and dumb people communicate via gesture languag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380988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nsmit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传播；传送；传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4568760"/>
            <a:ext cx="8839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ron transmits hea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world Cup is being transmitted live now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. Transmission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发射；传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09480" y="53352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rsuade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说服，劝服，使某人相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133720"/>
            <a:ext cx="7620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447920"/>
            <a:ext cx="152280" cy="5029200"/>
          </a:xfrm>
          <a:custGeom>
            <a:avLst/>
            <a:gdLst>
              <a:gd name="textAreaLeft" fmla="*/ 97200 w 152280"/>
              <a:gd name="textAreaRight" fmla="*/ 152640 w 152280"/>
              <a:gd name="textAreaTop" fmla="*/ 131040 h 5029200"/>
              <a:gd name="textAreaBottom" fmla="*/ 4898160 h 5029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1676520"/>
            <a:ext cx="883908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uade sb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劝服，说服某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uade sb to do sth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说服某人做某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uade sb into (doing) sth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说服某人做某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uade sb out of (doing) sth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说服某人不要做某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uade sb of sth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说服某人信服某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uade sb tha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从句  使某人相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y to persuade sb to do sth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劝说某人没有成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80880" y="6094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mmune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免疫的；免除的；豁免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144792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 immune to/from/against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免疫的；免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23623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edicine will make you immune to this dis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342900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fenseless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无防备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fense    n &amp; v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防御；防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51498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fend   v.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防卫；保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60199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fensive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防御用的；防御性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3520" y="53352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nprotected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无保护的；无防卫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16002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. Protect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保护；保卫；防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236232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tect sb /sth from/against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保护某人或某物使其免受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90720" y="396252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ou need warm clothes to protect you against the co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55627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. Protection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保护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dj. Protective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保护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04920" y="60948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ck   n &amp; vt/ vi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缺乏；短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182880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作名词时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ck of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缺乏； 缺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281952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作不及物动词时 常和介词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搭配（用于否定句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419112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e doesn't’t lack for mone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51814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 lacking in (wisdom,courage,humor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缺乏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某种品质、特点等）不够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inma</cp:lastModifiedBy>
  <dcterms:modified xsi:type="dcterms:W3CDTF">2006-05-03T09:48:28Z</dcterms:modified>
  <cp:revision>39</cp:revision>
  <dc:subject/>
  <dc:title>PowerPoint Presentation</dc:title>
</cp:coreProperties>
</file>