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526-68CB-47F6-85B6-3691900B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895-14BD-4AC2-8A00-04A82F9C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DF0-F8E4-46C5-89E1-B718443E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502-C817-4AAF-93EA-B23E6FB5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B99-4E9F-4497-A188-39490EAD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012-8C55-41A6-993A-C29EF780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074-714C-4331-B3B8-7612E7CF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CC1-6C26-4617-9480-3D6525CD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6CB-AFA2-4EC6-B80E-2C371F30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7FC-080C-4A96-913D-526D49D9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B76-D77D-4399-BD77-297D0CE1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94F-CD92-4B39-A474-91E0D53F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FE1F-3975-4156-AF87-2111F4BA2D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abaoku.com/sucai/ziranlei/hf/web/6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5146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imes New Roman"/>
                <a:ea typeface="方正魏碑简体"/>
              </a:rPr>
              <a:t>Important and difficult points in Unit 2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668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s there anything good o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25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. I want to look at what’s on this week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05740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用法灵活多变。上述两句构成词组“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e 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”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，表示“正在进行”或 “正在上演”。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On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是副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41972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情景变化时就要注意其意义了。例如：街拐角发生了交通事故，有人问： 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’s on?”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相当于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’s happening”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或 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 has happened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11430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be 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后接表示组织的名词时，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on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转化为介词，可表示：“……中的一员” 或 “为……效力”。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352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’m on our city t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419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’m on China Dai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4. As soon as the reporters know what to write about,  they get down to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记者们一旦知道所要报道的事件，就着手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590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get down to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认真开始”，要注意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是介词，后面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名词、代词或  –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ng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形式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，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5720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1).While the weather is fine, I must get down to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repairing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hou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2). Now let’s get down to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usiness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5.and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ix a time for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a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ace-to-face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interview with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523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约定时间进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面对面的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采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6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 1 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fix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是及物动词，意思是：决定，确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733920"/>
            <a:ext cx="67820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1). They’ve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ixed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dat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for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her  sister’s wed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2). Sh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fixed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price at 3 doll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0384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cc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1219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2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ace-to-face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与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ace to 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380880" y="243828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08080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4382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hey are standing there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ace-to-f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640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hey are standing there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ace to face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2438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3581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分析：有连字符的词组只能作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439560"/>
            <a:ext cx="1752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辨 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2286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5. All the people who work on a newspaper must be able to work fa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报社里所有工作人员都必须能够快速地进行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2638440"/>
            <a:ext cx="89154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work on</a:t>
            </a:r>
            <a:r>
              <a:rPr b="1" lang="zh-CN" sz="3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致力于”、“从事于” ，许多时候可以和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at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互换使用。但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on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从事于（某工作或创作）”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而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at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干（某事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)”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或“研究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解决（难题）等”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.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例如：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1642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(1). He is said to be working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on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a new no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(2). He still work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at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his his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6. They go to the newspaper’s own library to look up any information that they n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752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他们去报社的图书馆查找他们所需要的任何资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3526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ook up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作“查处” “找出” 解，使用过程中同学们很容易出现错误。例如：试翻译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410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你如果不知道这个词的含义，可以去查字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685800" y="11430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cc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79480"/>
            <a:ext cx="80773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( 1 ). If you don’t know the meaning of the world, you may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ook up the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( 2 ). If you don’t know the meaning of the world, you may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ook it up the dictionary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2819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1447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419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41911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Look up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是指词典或是参考书中查处单词或事实，它的宾语应该是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词或事实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，而不是单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7.  Reporters are then sent to cover the ev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685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然后派出记者去采访这些事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cover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新闻术语，作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采访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” 、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报道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” 解。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ver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词义广泛，含义多变。请看下列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781360"/>
            <a:ext cx="914400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. He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covered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himself with a blan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. The villag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as covered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by s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3. The city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vers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twenty square mi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. The dictionary does no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cover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ll the English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. The hors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vers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wenty miles a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83808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8. It is a daily newspaper, appearing from Monday to Saturday with a Sunday edition of Business Weekly each we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9625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这是一份日报，每周星期一到星期六出版，星期天出《 商业周刊 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0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33680"/>
            <a:ext cx="9144000" cy="342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90720" y="144792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New wor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-4680" y="312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1). 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ppearing  from…each week.-ing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短语作定语，相当于一个非限制性定语从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hich appear from….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4382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My birthday party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sting about six hours,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ended this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733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2)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weekly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周报，周刊，是名词，也可以作形容词，其他类似的词还有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daily, monthly, y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574344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 popular with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受到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欢迎”。 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6094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9.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It is also popular with students of English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2096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 popular with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受到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欢迎”。 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8862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Rap (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说唱音乐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is very popular with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young peopl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62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6.in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inform sb. (of sth.) (abou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偶尔也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He informed me of my mother’s co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inform sb +that clause/wh-cl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I was informed when he would c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)inform against/on sb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告发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检举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揭发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I can’t believe. It’s he who inform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n/against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14400" y="640440"/>
            <a:ext cx="9158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7.relate vt/v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relate sth to sth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把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与… 联系起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I can’t relate the money to his fa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relate to sb/sth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…有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理解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  相处地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The letter relates to the secret of his d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 can’t relate to his novel at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he dosen’t relate very well to her mother-in-la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02680"/>
            <a:ext cx="9158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)relate sth. to s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.g. The child related (to us) the s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)be related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.g. A survey shows that he is related to the murder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7040" y="595800"/>
            <a:ext cx="8778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1.present vt.  adj. 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v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呈现，描述，表达，提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H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his love for peace in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report should have bee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much soo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. to sb./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b. with sth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赠送，颁发，授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(esp. at a formal or official occa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David’s manager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him with the award for best sales last mon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2480"/>
            <a:ext cx="914400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sb to sb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引见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(to sb of higher rank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He had the honour of being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d to the Quee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onself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出席，到场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I must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myself at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dj.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现在的，出席的→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bs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 All students are present at the  meet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 Linda was absent from school for illness yesterd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t present/at the present time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现在，此刻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for the present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暂时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0680" y="638640"/>
            <a:ext cx="8702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3.adapt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…适应…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 to sth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neself to sth. 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W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little cat to his new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myself to this new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se plants ar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to the hot clim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改写，改编，改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 book is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for begin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e’ll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building to our special nee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520" y="250200"/>
            <a:ext cx="9123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4.fulfill v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执行，履行，满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The conditions of the contract must 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exact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ulfillment n.(u)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实现，履行，满足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After years, our plans have come to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e gets a great sense of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rom suc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ulfilled ﹠ fulfill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4388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8.tolerate vt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容忍，忍耐，宽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You don’t need to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any teachers said they couldn’t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long hours’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*n. tolerance   adj. tolerant *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Luckily, my parents are tolerant of my choice of pain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0" y="45720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452160" y="1828800"/>
            <a:ext cx="963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reliabl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v.    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liabil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 source of the informatio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4840" y="350532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rely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v.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rely on\rely upon sb.\sth.(to do sth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relied o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your coming 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410080"/>
            <a:ext cx="62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with sb.\s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can’t compare with th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360" y="692280"/>
            <a:ext cx="88203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Newspapers and other media do ___________ simply record what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纸和其它媒体不仅仅是记录发生的事情而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Experienced editors and reporters _____________________________ what events to re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验丰富的编辑和记者根据自己了解的情况来决定报道什么事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re t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657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ke informed decision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339840"/>
            <a:ext cx="88930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They agreed to switch role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for onc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d be the interviewees ____________ intervie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同意变换一下角色，做一次被采访者，而不是采访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The editor’s job is to 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Arial"/>
              </a:rPr>
              <a:t>___________________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d interesting to the read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辑的工作是把报纸办得平衡协调，使读者感兴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914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ther t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840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eep the newspap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495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738360"/>
            <a:ext cx="88203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A reporter begins by contacting the people </a:t>
            </a:r>
            <a:r>
              <a:rPr b="1" lang="zh-CN" sz="3600" spc="-1" strike="noStrike" u="sng">
                <a:solidFill>
                  <a:srgbClr val="ccccff"/>
                </a:solidFill>
                <a:uFillTx/>
                <a:latin typeface="Arial"/>
              </a:rPr>
              <a:t>＿＿＿＿＿＿＿＿＿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nd then prepares ques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者开始联络被采访者，然后准备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1371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 be interview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276720"/>
            <a:ext cx="80643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The young woman tries to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＿＿＿＿＿＿＿＿＿＿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fter studying abroa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位年轻女士试图适应留学回国后的新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3200400"/>
            <a:ext cx="2673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dap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1960" y="3759120"/>
            <a:ext cx="28954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r new 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14280"/>
            <a:ext cx="914400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I want to write about people who you seldom read about, for example people who have AIDS or wh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＿＿＿＿＿＿＿＿＿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写关于你们在报纸上分手读到的文章，比如爱滋病患者或者毒品瘾君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We shouldn’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happen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 is difficult for people to accept some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使人们难以接受某些报道，我们也不应该忽视所发生的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1371600"/>
            <a:ext cx="457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 adapted to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3429000"/>
            <a:ext cx="1524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g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03848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en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8000" y="387360"/>
            <a:ext cx="882000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９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The media can often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＿＿＿＿＿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and 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＿＿＿＿＿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situations 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where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 help is need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媒体常常能够帮助解决问题，让大家关注需要帮助的境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０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The result is a better understanding of the world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＿＿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结果是大家能够对世界的方方面面有更好的认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533520"/>
            <a:ext cx="16002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380880"/>
            <a:ext cx="2666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lp s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990720"/>
            <a:ext cx="2590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066680"/>
            <a:ext cx="4114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draw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4724280"/>
            <a:ext cx="358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 all s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6160" y="333360"/>
            <a:ext cx="87469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１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.More than ninety responsible and caring citizens ________________________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今天有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多位富有爱心和责任心的公民发出了自己的呼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200400"/>
            <a:ext cx="8675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１２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.A website ____________a newspaper. Both of them _______________selling 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网站和报纸是相似的，他们都是靠销售广告来赚钱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838080"/>
            <a:ext cx="5181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de their voices he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00400"/>
            <a:ext cx="2819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 similar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809880"/>
            <a:ext cx="3581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ke money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420440" y="1159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24280" y="125280"/>
            <a:ext cx="46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认为这件蓝色的衬衫怎么样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360" y="846000"/>
            <a:ext cx="72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 do you think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blue shi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72880" y="149400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宁愿选那件白色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5080" y="2070000"/>
            <a:ext cx="72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ould rather choo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white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7560" y="2644920"/>
            <a:ext cx="29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的看法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000" y="3149640"/>
            <a:ext cx="44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’s your opin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11920" y="386712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认为我们不应该买那辆二手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4470480"/>
            <a:ext cx="87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 don’t thin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e should bu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 secondh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7400" y="5451480"/>
            <a:ext cx="51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什么你要选择自行车而不是地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36000" y="6027840"/>
            <a:ext cx="92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y do you choo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icycle,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stead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ub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268160" y="110808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5720" y="62064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许说服他会更好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2720" y="1413000"/>
            <a:ext cx="84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be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t would be better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ersuad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65000" y="249228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许健康要比金钱更重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00" y="3429000"/>
            <a:ext cx="92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haps health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s more important th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66680" y="2783160"/>
            <a:ext cx="76201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ditors and reporters will discus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events to report,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 report them and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Editors will listen to reporters’ ideas and give sugg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1231920"/>
            <a:ext cx="8076960" cy="1520280"/>
            <a:chOff x="533520" y="1231920"/>
            <a:chExt cx="8076960" cy="1520280"/>
          </a:xfrm>
        </p:grpSpPr>
        <p:sp>
          <p:nvSpPr>
            <p:cNvPr id="177" name=""/>
            <p:cNvSpPr/>
            <p:nvPr/>
          </p:nvSpPr>
          <p:spPr>
            <a:xfrm>
              <a:off x="609480" y="1231920"/>
              <a:ext cx="800100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2. How do reporters decide what they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are going to write?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533520" y="1371600"/>
              <a:ext cx="609480" cy="573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33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ke sure that…; make sur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会采取一切措施确保您的访问愉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will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ke all the measu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make sure tha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you enjoy your vis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应采取措施确保成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should take measures to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make sure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success/vic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0" y="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89208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A with 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相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compar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is answers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wi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e teacher’s and found he had made a mist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A to B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比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oet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compares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lover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 to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a rose in his po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0600" y="4568760"/>
            <a:ext cx="792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ood prices are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going u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\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going down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bring dow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lower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the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raise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prices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offer a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25780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60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agre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他同意提升价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agreed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bring u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都同意马上出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all agree to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et 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start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right now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336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relate to sb./sth.              relate A t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有些家长不十分理解孩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me parents don’t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late t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their childr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篇文章谈到了很多社会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article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lates t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many social problem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发现很难把真相和这个人联系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und it difficult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rel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he truth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he per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even if/ thou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尽管我已经卖了房子，我还要把我的事业继续下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Even though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I have sold my house, I will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kee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my business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going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8900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rather than = instea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想要冷饮，而不是咖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will have a cold drink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rather th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ff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instead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ff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要帮助他学习艺术而不是劝说他放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am going to help him to learn art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rather th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uading him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give u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adapt to +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发现适应新生活并不容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nd it not easy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adapt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new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765000"/>
            <a:ext cx="86756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With real pa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以极大的热情完成了这部电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finished the film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with real pass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be addicted to +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的儿子十分沉迷于电脑游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r son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is addicted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mputer g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99072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. Robert is said  _____  abroad, but I don’t know what country he studied in. 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( 98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年广东题  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have studied         B. to study</a:t>
            </a:r>
            <a:br>
              <a:rPr sz="3600"/>
            </a:b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 to be studying          D. to have been stud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. I can hardly imagine Peter ____ across the Atlantic Ocean in five days. (  91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年题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sail   B. to sail    C. sailing    D. to have sai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57240" y="304920"/>
            <a:ext cx="434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考试题精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99072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0760" y="4006800"/>
            <a:ext cx="9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3. ---Let me tell you something about the journalis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Don’t you remember _____ me the story yesterday.  ( 99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年上海题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ld    B. telling     C. to tell    D. to have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600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0600" y="7632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关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.There’s a good film ___ the cinema. Would you like to g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on        B. at        C. at on          D. on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.The book is said ____ into several other languages alrea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translate              B. to be translated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have translated   D. to have been trans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68580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733920"/>
            <a:ext cx="10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320" y="1206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关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990720"/>
            <a:ext cx="830556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3.Would you like___ there by yourself or would you like me ____ with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go; to go                  B. going; go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go going                 D.going;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4.---What about ___ a film this evening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see      B. seeing       C. see       D. s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90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52280"/>
            <a:ext cx="9144000" cy="66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5. Could you tell me_____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what to do it next     B. how to do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what to do next        D. how I should do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6.The young people got down ___ trees, as soon as they arrived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plant                      B. to planting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plant                         D. plan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152280"/>
            <a:ext cx="14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3733920"/>
            <a:ext cx="8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20" y="457200"/>
            <a:ext cx="898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交换位置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转换改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ur glasses have been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this is mi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ny voters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e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Labou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4280" y="281952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witch of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\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witch 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8920" y="4038480"/>
            <a:ext cx="466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关、电门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urn on the light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228600"/>
            <a:ext cx="9144000" cy="72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7.Please____ the spelling of the word in your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look for                B. look afte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look up                D. look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8.Reporters from all parts of the world came to ___ the big ev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 watch    B. remember     C. enjoy     D. c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304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380880"/>
            <a:ext cx="88390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9.It was the ___ invitation and it had just arrived from the US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last         B. late        C. latest         D. l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0.All the people who _____ the project tried their 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orked on                  B. did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 wrote at                    D. made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80880"/>
            <a:ext cx="6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34290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1.It’s no use ___ a  lot  without doing any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talk                            B. talk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talk about                  D. talking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2.She reached the top of the hill and stopped ____ on a big rock by the side of the ro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rest    B. resting     C. to rest    D. from r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3. Mr.Wang is popular ____ her neighb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  B. for    from   D.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304812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541008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401760"/>
            <a:ext cx="8458200" cy="62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4.—Do you  ___   to the cinema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 That sounds like 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feel like going               B. feel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feel going                      D. feel like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5._____ new words and useful expressions ___ very useful to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Learning; is                 B. Learning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Learn ; is                   D. Learn;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900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049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401760"/>
            <a:ext cx="891540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6.---Would you like to go to the Slee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eauty Castle tomorr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 ______. But I can’t tomorrow.  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No; Shall we make it some other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. Yes; What time shall we st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I’d love to; Will you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 I wish I could; What about some other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1752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38088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7.It took me a long time but I just didn’t know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how to write about      B. what to write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write about             D. to write about 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8.The most important international news is usually _____ the front p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in        B. on         C. at         D.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990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280" y="228600"/>
            <a:ext cx="876312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9.The journalist telephoned the very important man and ____ time ___ a face-to-face intervie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settled a ; for             B. fixed a ; for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fixed; for                  D. fixed a ;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0.After he had collected enough information, he got down to ___ the rep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write   B. written   C. writing   D. be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762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5181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152280"/>
            <a:ext cx="876312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1.His article _____ yesterday’s newspa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wrote on                   B. appeared in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written on                D. was appeare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2.This magazine is ____ most of the young peo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popular with                   B. popular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published with               D. welcomed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3.______ up early is a very good hab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 Get       B. Got        C. Gets       D. 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7632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666880"/>
            <a:ext cx="4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56272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44360"/>
            <a:ext cx="891540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4.His wife advised him to stop _____, but he wouldn’t lis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smoke               B. to smok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smoked            D. smo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5.---What’s____ the cinema this even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I’ve got no idea, but there’s ___ , I think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on at; nothing latest new on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. on at; nothing new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be in;nothing new show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to be shown; new something la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08640" y="763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9718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920" y="495360"/>
            <a:ext cx="9067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二战期间，很多国家遭受重大损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他十分沉迷于解决数学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应尽快适应新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尽管我采访过很多名人，这个普通女孩是最可爱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要执行计划，而不是改变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要采取措施确保你的安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读者们不太了解这篇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答应在班中举行一场辩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27000"/>
            <a:ext cx="91440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relate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…有联系或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for onc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这一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be addicted to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…上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on all side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各方面，到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nine out of ten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分之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keep the newspaper balanc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报纸保持均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in an organized wa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理地，有组织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adapt to a new lif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应新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draw attention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.look up to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尊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81080" y="1219320"/>
            <a:ext cx="5639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Thank you and Goodby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5920"/>
            <a:ext cx="856908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.fall in love wit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上，喜欢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.more than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仅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为，非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.current affai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4.change one’s min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变主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5.people to be interview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采访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.burn dow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烧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.be fir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解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.face difficultie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临困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.inform sb s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告知某人某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.even if / even thoug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使，尽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.rob sb /a place of st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某人某地抢走某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2.without effor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不费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4572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. They are said to be very g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6386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y are said to have visi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lot of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419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t is said t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y have visited a lot of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2004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778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2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b ﹢be +said +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0481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1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t is said that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6002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据说……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 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听说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2543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用以下结构表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914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ople say  they are very g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838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据说他们很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4100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The bus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star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in ten minu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7339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he train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leave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at 7 o’clock 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447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本句话用一般现在时表示将来的时间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一般将来时表示时间表上已经确定好或安排好的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57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2. What tim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oes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the correct st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3:35:42Z</dcterms:created>
  <dc:creator>jinma</dc:creator>
  <dc:description/>
  <dc:language>en-US</dc:language>
  <cp:lastModifiedBy>jinma</cp:lastModifiedBy>
  <dcterms:modified xsi:type="dcterms:W3CDTF">2005-11-06T15:28:21Z</dcterms:modified>
  <cp:revision>9</cp:revision>
  <dc:subject/>
  <dc:title>PowerPoint 演示文稿</dc:title>
</cp:coreProperties>
</file>