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2.gif" ContentType="image/gif"/>
  <Override PartName="/ppt/media/image14.png" ContentType="image/png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B6B-174B-4B04-B8AA-9F68C01C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EC0-A928-450D-894B-A91C70DE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131B-798F-4228-80FB-56E597BF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E5C7-CB5D-4500-A619-DA8AAB7F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B167-3EFD-4551-ADA5-49A162BA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A3CB8-C426-4E4E-A195-A176C66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8AE2-CF4F-4B57-BA60-CC00F61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DFB2-0523-42FC-A8BD-4D61B90D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E4F11-2085-4A1B-903B-571B3575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76090-3618-4000-8097-784E2084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3CB7F-249F-4E94-A39C-0AFA76D6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D4EE4-BEDA-4479-BA4B-278FF6D2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F42-B86E-4DF2-BB11-059C5C6A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63BD8-3DC2-4F01-9D25-88F136A7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E7DD2-EA24-4096-898C-B7B43F57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0C079-D328-4C63-90F4-D9D0F824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DC300-4994-4CE7-9CB5-BE3E54C4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8F7BE-043E-4DFC-9A8A-920BE20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2AF9C-2A43-4A53-9012-AE189D1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ACE1C-0BE8-4585-9219-A0CE347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B7870-64EA-473C-ACC0-714675ED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9998B-72AA-4150-A059-2E9457C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745D7-29B4-44F5-9288-0FF8C2F5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3EF-2F02-49F9-A5A1-CEB40D23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DCFAD-1F3D-4909-BB39-51547395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7A88D-C56F-46C0-99B8-567C768C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1607DE-2322-4885-BFFA-6FAFC92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580FA4-43EF-4682-A692-A57670C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4EAAFA-67D0-427F-B0F9-8E5816D2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B0AF4A-251D-459B-8182-E83CEE9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41BE6-F467-407E-80D4-C5F91BA0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1A4201-BAB3-480A-BD91-4E4821D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2F0796-27B9-4C06-B626-6E3A483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01B03C-1458-4B2F-AC84-FBC2505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A14630-A2D7-47BF-80DC-140B73D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8D32F-B5D4-4B39-B25E-747AA37C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B6F9DB-F93F-48D2-83B4-8E570CEE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7FBE9-9E4F-44AA-A451-13724A0B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15222-20B9-42BB-9698-560EBFF0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E1DEE-4A46-4343-8622-AFB02784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0E672-CB00-4E5F-A06A-E6FDF95B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4712C-27E1-4064-B5C3-5B9C062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74F36-013C-48F3-BF5D-C36ADA83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EB6A1-ACBF-4662-B931-EAE978F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247C0-B798-4032-98C6-F5234B2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EFF83-3CE3-4BD3-9BE9-500D127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41D6E-1ED8-48C6-8D8D-8E07433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37DCD-1611-46E9-974E-F2D4A346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3DBEC-42A2-44F0-9361-29A315AD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9783F-DCFF-4504-8A81-21CC80B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C2F2F-375C-465F-ADE2-C4B9B32D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270B7-17FE-4CAA-9F87-97B75289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5B3D4-8C67-4B42-8733-2320BF1F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AC045-6185-4B5A-9381-8473CE2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68C24-7C04-4C63-AA38-65A80975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3D186-302E-47C4-A85E-773910E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DF34F-9CDE-430A-B6F8-22D46E3C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9A8FD-AC4F-4FD1-9AFF-E588CB6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B4CA8-B48E-4EFA-9644-F6CB22C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D0F60-F662-47DA-86A7-3773A470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10507-D84E-4B54-9BD7-99E60A6C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F184E-B86F-4E57-88DE-0642379C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69ADF-B056-4FF2-BF72-4E36C8CB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6EDFC-C771-4E43-9923-381EADF9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09B98-46FC-43E3-AC96-0E1B2A03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B8807-1996-4515-B587-039CF169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FF06D-25EC-4E7F-B603-3A06FC90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E634A-9C08-4959-9FC6-D0596D93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EB4CD-939B-43C0-B74C-992ACCF8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EA81D-1BC7-4741-A122-50A6A1D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38460-43FB-413F-992F-FCE93B71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7D223-4C1C-4A5F-9229-D7EDCFCA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54C77-7599-4BCE-A34A-DC80FB07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32E90-2FB2-42A9-9963-754D6A2B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46EB3-7A5D-47CB-9A63-9A531F66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E9248-BF91-4A0B-BD64-BB54870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26EA5-CDBC-4A55-82CF-33597E1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3DD8F-9190-4AAD-AF82-18241E61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054FB-A710-427C-999A-71A752AF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440F2-A3A2-47B8-B481-3A92025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FCC22-11F4-43BE-BCC3-900D49CD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E5E00-C991-46AB-9C0F-79DCC445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9E3FF-89E0-4DCD-BC74-ACC04583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26CFB-C945-416F-845D-0F390930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18E9A-668C-4F2B-AAFE-F7910C55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CEC94-6D8D-4225-9D84-8F953446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053EA-07DC-400D-B671-41EE9E25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94758-F64D-4B6F-95A9-57B7F0EB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778D9-86B3-4409-88D2-A66CC51A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2CE49-170D-444C-A983-0461024B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19F11-3387-41C5-9D3B-1EAF3674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0FFDA-1BA4-49AD-A502-488FFD1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2BAF7-AF32-4F15-B3B5-C57D8E16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235CC-82B8-438D-8414-195579EC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733F2-654F-48D5-86A9-DCF6B3A4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A8670-FDA6-4181-AEF7-53BA8C7E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666A2-061D-4C9A-B808-DC9EBD00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F0870-CD5E-45D6-BA8D-A36D7400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AABF5-64D8-43C6-9391-65BC2D42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2F2B2-33D4-480A-B9C6-9C2639DF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1EC52-46ED-41D2-92B6-2A179D84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4A943-8EAF-492A-9B11-786A7AAA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1B867-E989-4982-BE51-03897285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11656B-7D1A-459A-A9CC-EF296D8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F33-0676-46B2-8257-7DA167D1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E8A9B-9863-4911-812C-617E9B3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AB387-39D9-4077-A67F-B1678B88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10090-3A41-4376-844B-C9A2E74F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10989-1F94-4B0D-BAB2-DC80F8E6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456E3-E3AB-45CB-94F5-1362B0AE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F1A32-BA08-4487-985E-ECD31B11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C7576-FF5F-41EF-A64A-0FB8D9CB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06FAE-4817-4813-885C-22CE43DA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AF0CF-820A-4558-8BF7-419F1CA2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05A83-0997-4150-BC24-3EE23F39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C1FD5-841D-44A6-9000-1D468FDF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4FDD5-6674-4B70-8D0E-854B7E4B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AA58E-3EFA-4951-A528-1610F897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1D445-4373-4B5D-B4CB-E04EAD3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5329A-B03E-4963-B06B-8FE6EF65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E0A00-1B5F-4461-8310-9952BC69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97CDE-AAB1-489B-832B-52467AD7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DE37A-D985-4C20-9696-C7CAD82B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BCE41-D796-4D29-9862-0982A0B5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675D7-E3A2-4F65-8B2D-A98F212E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7A98D-99A3-406C-8722-226B9994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7F76B-B2BE-4A56-AEA1-967E11D2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402DC-C682-40D5-8CF9-F0EADC4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B35FE-C75C-41BC-9A24-75243F7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1BF29-326F-4696-8D6C-4DE0E52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8B235-6270-4ED4-935F-6276AA2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42FAA-269E-4D06-8BD0-A1DB9F0C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2E5D3-C4C2-43F6-BADD-4D69C088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110BF-F3CF-4980-92F0-C248D46A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4551F2-FFA0-4659-8D2F-2D778E4C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7E6733-B554-47EC-A673-51F10F73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B623A3-8648-4E62-931E-30D0549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EEE853-86E3-4241-8CD4-A5EFDE1F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35A37E-2EB3-46F1-9F5A-AE0BAE98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0D5973-A85C-4F68-BEDB-4FDBD443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940500-3FAA-4FF3-9EC4-1B9157C3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67AFB9-59C9-4C1B-81DF-308C1320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A52292-A691-4EE2-83B5-484F188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C836E9-C127-4B98-B58B-075B628F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9F45E1-5463-4A88-AF8E-3802CB1D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BB4A48-FAAC-412E-8D45-EF36A9A6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8816E-3623-42E9-9C28-FC65A9AB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6A69C-CBCF-433D-8E69-F76F9E4F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07ECB-9FE3-47ED-BA23-2469078B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4D50F-B54A-4173-86EF-5801180B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9446C-9EE6-4353-8D45-18B6F55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EC790-AAF4-4CBB-87A7-1FB7F314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1BABC-CC33-48F6-B97A-DC071EE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B476F-4403-4FE5-82C1-E1C8671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16D1D-3DC7-44B3-A830-E7BDED9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564-48B1-405B-8A63-B3DE7417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69A776-01EF-4360-8982-581E5C6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48EDF-0276-4619-9AEA-7B524266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09956-9336-4E6D-87C8-47E0905F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0220A-E6A0-4F88-94B4-68DE50C2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D5534-7D99-42AC-A6F8-F1C99E2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91B7F-06B1-4476-9E17-F80F556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8D3ED-3438-493B-91FE-76196DF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52CA4-2690-46F0-82E7-A9320A5F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32041-53CB-4E94-BF37-C49F7CA4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83CC6-0A26-4576-B1AE-B816B52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BF89-5AD7-4A29-A1A8-AC424F5B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EC73F-9F67-42A7-8DC0-0F9960D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D0A4A-1776-4F95-A898-FCD3CB73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818C7-35A0-4A8A-A086-D68650B5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351CA-D0CE-4C72-B362-9BEB8B4A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3E5D7-47FB-482B-AAB0-247DBAE9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BB89C-98C7-4BAF-A0AE-61E6FDB3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3DC35F-7C4F-4D70-BE34-0F38FD24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EFDF48-09EF-45F6-BD87-1D176627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87E701-6423-4590-B55F-BD74F31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BBD964-CE3F-4EDE-A58F-1AE60CAC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465E-EB05-499F-91BF-376F26C8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42DAD7-9A4B-4A3D-A19A-BFB01DBE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E01EE9-E207-47A6-BE0C-05AE197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DDB78-F1BC-4363-B714-5603FCA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D0823-24C5-4242-B256-B1A9063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16A99-B309-4AD0-854C-AAE5147B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80123-A909-4AEF-924B-36E311B0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CEFA8-06E9-4C96-B734-07D01D33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E5CABD-585B-4BD2-B736-B591A673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04E557-6A48-48EC-B12F-0236A23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E260D8-CE5A-4C85-93A5-C0B31BF6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9CE6-0AF3-4A11-AC2E-DE303DA2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EAEDAA-E455-4FAA-B817-D36BCF63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35D284-9C50-475F-ABE0-37612CEC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8C98A-8EBF-4BF7-BC54-D9488129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769823-451E-4781-A9CD-843D4BEE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A26EB4-68CB-4522-890D-449996A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60F682-5536-4D8B-AFB8-D5806EB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8724A2-B805-4219-BE55-79D1752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FDA61-1CA5-4E26-9023-A2AE801E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7442B9-14D7-4176-A803-CBCC2991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B0FC6E-F2ED-4B48-AE21-EC31620D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CC3D-F3C8-48A5-AA65-F413C5B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B8B4FA-EA8E-424A-BA71-DC5CB3AC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1966CF-71FD-4B98-8CF5-D94313C8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CFDC80-8B82-4719-9CA4-6AFFF09E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26C70E-216C-4B98-AC7D-0976573F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5EF7CD-4537-4C64-8D2B-EFBA9FAF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C21D57-5D17-4819-8294-A5E26DA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179B64-37D0-46FC-911F-F5B2695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B9D27A-ED1A-4792-ADDE-FDBF9B3B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91280-322D-4372-B007-09896A3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9CD6EA-72D3-48A3-9623-D5D8DC14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59C-21EF-4A8A-95C0-60B342B4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72A9-3661-4175-BA70-FBEC3BE1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CF40E3-1601-487A-AF66-F94ECFBE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67F4-06E1-4351-AC3D-3E02A042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1FDE-8900-4153-9761-54E38E32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1D45-86A9-49A7-BF47-75698CB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8C18-03DD-4945-B018-B8BEBA71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252E-F81F-4844-A692-9878F2C9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32BC-E9F9-4D56-A479-F80424B7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477E-3D67-4557-BDF7-699CEB0F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7596-E8C5-4170-B3D6-8A414AED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6032-2C9D-40C9-BA18-B8DB27DD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312-CC8F-4D8B-B7AD-4F06B65C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DF71-4E0F-42DB-90F4-571A225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D2D4-5D2D-408C-B8FC-F621BF3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8A46-E0E9-46D8-ACA1-CA27C53F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67FE-C70B-49CD-A1F0-D3CA458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17148-7CA5-4F57-B09B-8703B6E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137D-6A00-4DAD-BE6F-BFF3E59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D77B-D683-41B2-B67D-2E07039E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9842-0E4D-4F42-A45E-08003791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CBB6-46D4-46AD-8811-65A1C089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C513-822D-480F-8A13-278452A8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D84-E7FD-48E8-B9DA-55EDA0C7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AA4F-F484-4B9D-BA4C-5161E8C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40297-2BCB-4A3C-9CF9-8FE732A6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F4C6-0955-40EB-907B-54C4C13F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43FE-1FBB-4FE7-8677-ACC2B2A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6CDB-CC6D-4C92-A97E-05AAACE8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49DF-B610-4AEF-A3B9-202483C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AE77-1BA3-4EAE-92E1-899782B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6DE3-9551-40B1-81AF-D13ACC9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4783-F5F8-4786-8F16-9C7F2EB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CF33-8473-45BA-9747-A857D5EA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9D6-560E-4BFD-A516-229FA0BE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4016-8A53-4533-A605-1DAE1CB3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3266-B5A2-47A9-A372-C0C943DD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0D4B-C272-4D99-84E1-E08476B8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C7B3-9A5B-41B1-8562-E7E1EA4F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3D93-D17B-470D-B49E-06076DC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26E13-7D5D-4FF6-BA4E-39AC618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EECF-2E7C-4126-9E32-CB62E8BB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FC82-84C5-4B50-9040-883147A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2F9FB-18CC-4B5F-AC6E-1716B41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3FC5-72B5-419C-9622-9DE25FA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F31-EDE8-4DC9-AE91-2774970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98F9E-11B6-4B34-A941-CC30E639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6AD3-9594-4932-B17E-B123F105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D7DF6-8765-475F-BB29-2AD5794E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A38D-E238-46E3-9729-E31F9173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C460-580D-45DC-9DA7-C1EB51BF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8B77-21E7-495B-8200-2A32DDAE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1AD94-74A8-46BA-A295-D046CA47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7B27C-F99F-4764-9F0F-091FA6B8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22A2F-3633-4216-B70F-0DE278B8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715E-594F-484E-9B3F-7F97389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755-08C9-4486-95F4-8557E65E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BEB8-312D-448F-A9EC-DE49467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1F37-4571-4ECA-A528-0381D77C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E9E1-1078-4661-8BBF-F1A28F69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704DD-3213-452A-B62B-AF6417A8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26A7-3EAB-4C7C-B0A8-FB2B0649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36AFE-47AE-478B-B4C7-BA4B5FE2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FCE7C-BF64-446F-B39C-1F467DF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AA6D-FF80-4588-B7F9-3B82CCD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8BC10-561F-4EE8-8C11-DA7B9F7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24B9E-7EAC-4763-8788-460D7806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3FE-4C04-40A0-A00F-F75F40AD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32AD-D89A-4928-87A6-5FE2DA2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F0441-82AD-4C1B-AF39-0739A5E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AA05-FCAF-40D7-A540-E7E2759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DB198-669E-4CE8-ADBD-83606F3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35152-2C58-42B0-9302-F54357D4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1A74-6E47-4CCE-936F-E0F95608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4CED2-38BC-4B6A-86F4-8C0A1EDD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6546-83CA-46FD-9A3D-9D5291F4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EADCF-F36E-4434-B8DA-D9B2FB9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D83CB-2C4E-495E-88FD-B7A70F2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E2DF-1D7D-430C-A6F8-BDA97F244E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4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05B7-3FE4-4FF9-B277-8F4A6241CA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12BC-730D-4948-80FE-759C32537F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F050-722B-4608-95DA-D5A14B78E80E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926D-ABB7-4FCF-B8E1-203F39E4E0F0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885E-9340-4D65-B774-FD490D57A4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E952-AFBF-40D1-91A3-33D7E8C75B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C1C-2871-4F32-B81B-EE344411F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395-0AFA-4C4E-A0B5-B07E83CA66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8AD1-DE88-4AC9-8D1F-19A81FF1736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E75-5288-481F-9B34-D22024BC984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7EC-AF7D-45ED-A4B5-19CA746A716F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02C-7576-410C-9260-671CDDB71D00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4A63-B36D-4DAD-9DE3-244E23776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6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05A-FA74-4702-9C90-80B4372C1E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1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2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52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3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9F97-FA45-4FC8-8613-DF12EF505E0F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9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0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61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61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62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62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3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29A1-64FE-409A-9606-8C672B656CD3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742D-545F-4E6B-B613-A27564CB942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17B-4B86-4A8C-AF7F-BC484FA969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8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B340-E154-451C-B860-8A3A0D6A11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6D16-2863-4BAC-9D9D-1E5143C9D796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00AE-8994-4782-BD7E-483EF973B8FF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3728-B992-4BD8-8A71-5AC42D282F3C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BB88-ADC3-4F8D-AF69-879E47BF268A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33520" y="609480"/>
            <a:ext cx="813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Language Point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         of Unit 8   Senior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28600" y="260280"/>
            <a:ext cx="86868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/bear .. in min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lease keep these rules in mi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n mind that the petrol can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ast 2 hou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438280" y="228600"/>
            <a:ext cx="57913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ring/call sth. to mind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ce of mind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t-mi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one’s mind on sth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ad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up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nd your own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457200" y="4572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alm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的；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a calm, cloudles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持平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/ stay/ remain cal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镇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go to calm the patien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295280" y="304920"/>
            <a:ext cx="78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anic 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fire, don’t p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响雷使马惊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under panicked the horse.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陷入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/get in a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起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(a)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nic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900000" y="1844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152280"/>
            <a:ext cx="9144000" cy="75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respon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作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/give no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fered him a cup of coffee but he didn’t respond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/gave no response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responded  to my suggestion  with a la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opened the door in response to a Kn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380880"/>
            <a:ext cx="91440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make sure :  find out whether sth. is 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You’d bett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time and pla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an you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Before you leave the lab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door is lock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want to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wheth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consciou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0" y="228600"/>
            <a:ext cx="9361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6.on the/ one’s way  on the way to doing s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hristmas is on the/its w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he is on the way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etting well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reco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on the way to succ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31240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平静的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vt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使平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e should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stay 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hen we are in da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advised him to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 down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and have a tal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t last I calmed down the crying bab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1" name=""/>
          <p:cNvGraphicFramePr/>
          <p:nvPr/>
        </p:nvGraphicFramePr>
        <p:xfrm>
          <a:off x="324000" y="692280"/>
          <a:ext cx="7561080" cy="5616360"/>
        </p:xfrm>
        <a:graphic>
          <a:graphicData uri="http://schemas.openxmlformats.org/drawingml/2006/table">
            <a:tbl>
              <a:tblPr/>
              <a:tblGrid>
                <a:gridCol w="2222640"/>
                <a:gridCol w="2478240"/>
                <a:gridCol w="28602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静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平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净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肮脏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弄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燥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空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倒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由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自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暖和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暖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慢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2" name=""/>
          <p:cNvSpPr/>
          <p:nvPr/>
        </p:nvSpPr>
        <p:spPr>
          <a:xfrm>
            <a:off x="205092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55640" y="333360"/>
            <a:ext cx="66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0" y="22860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to make i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I can do it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dirty on the grou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ound the hou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d bet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3276720"/>
            <a:ext cx="88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- to-mouth 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e-to-f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art-to- he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ulder-to shoul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ack- to-ba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0" y="260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conscious of sth.     be conscious 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he conscious enough to answe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ohn isn’t conscious of his bad ma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at time I was conscious of being w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ean is conscious that she annoys all of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has lost 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4581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0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  v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挤压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sb.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st press the button and the machin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art r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304920" y="228600"/>
            <a:ext cx="8397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. Listening &amp; Speaking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ive /do first aid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 first aid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to do sth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with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/ come to one’s aid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h the ai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ll in one’s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0" y="228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ittle girl to he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 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und to stop the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 the man to p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2130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vive : make sb. come back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hould try to revive a person if he 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n’t revive the wounded unles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1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0" y="0"/>
            <a:ext cx="9144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.He fell asleep while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He fell asleep whil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w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.Be careful when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Be careful whe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.Though young, he knows a lot of                                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hough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ng, he knows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.   If necessary, you’d better go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I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essary, you’d better g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50920" y="836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letters DR ABC to tell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give first 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9280" y="242100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rst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6836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ene is no longer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4000" y="378936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84720" y="371628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to get 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68360" y="386064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39640" y="4365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injured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4000" y="508464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564000" y="508464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8360" y="5734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’s airway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0" y="907920"/>
            <a:ext cx="867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ast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51280" y="907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f 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50920" y="1628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79280" y="306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726920" cy="110016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2025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1" name=""/>
          <p:cNvSpPr/>
          <p:nvPr/>
        </p:nvSpPr>
        <p:spPr>
          <a:xfrm>
            <a:off x="4003920" y="83808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某人的帮助下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with the help/ai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颠倒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杂乱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upsi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记住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eep/bear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保持镇定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y  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3521520" y="76212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陷入恐慌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/get in (a) p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代表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首先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r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答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应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751200" y="990720"/>
            <a:ext cx="467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受伤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et/be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即将来到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使情况更糟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ake things w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翻转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oll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602520" y="990720"/>
            <a:ext cx="48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穿破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筋疲力尽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worn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纪念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庆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honor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叫来一辆救护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an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吐出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p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28600" y="38088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drown vi. &amp; v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himself in the riv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great flood drowned many houses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借酒浇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rown one’s sp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淹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et/ be d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38680" y="3809880"/>
            <a:ext cx="312444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落水的男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ing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ed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ach v./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伸手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b.’s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ithin the reach of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外，某人够不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sb.’s 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 of the reach of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50920" y="277920"/>
            <a:ext cx="8424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upside down: upside-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boy held the book upside 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etended to be read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ast night all the desks were turned down upside down but noting was lo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6320" y="4330800"/>
            <a:ext cx="914400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f I had done----  , I would have d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----If I had known how to deal with it ,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ould have helped y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228600" y="343080"/>
            <a:ext cx="89154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not been there, he would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I had had enough money, I would have bought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been sent to hospital in ti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ould be aliv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304920"/>
            <a:ext cx="91440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ness: observe, ob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 to seeing/ having see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证说看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警察发现了谋杀案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police found the witness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urder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是事故的目击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a witness to the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目击了事故经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d you witness the accid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228600" y="3808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眼泪说明他感到羞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tears witnessed the shame he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些事实证明了他的粗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ts are a witness to his care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0" y="128520"/>
            <a:ext cx="9144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unt( be valuable/ importan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，有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不是数量而是质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quantity but quality that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你记住了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unts is how much you have rememb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分钟都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inute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21:07Z</dcterms:created>
  <dc:creator>GYSZ</dc:creator>
  <dc:description/>
  <dc:language>en-US</dc:language>
  <cp:lastModifiedBy>jinma</cp:lastModifiedBy>
  <dcterms:modified xsi:type="dcterms:W3CDTF">2005-12-08T08:08:22Z</dcterms:modified>
  <cp:revision>47</cp:revision>
  <dc:subject/>
  <dc:title>幻灯片 1</dc:title>
</cp:coreProperties>
</file>