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gif" ContentType="image/gif"/>
  <Override PartName="/ppt/media/image10.jpeg" ContentType="image/jpeg"/>
  <Override PartName="/ppt/media/image2.gif" ContentType="image/gif"/>
  <Override PartName="/ppt/media/image25.gif" ContentType="image/gif"/>
  <Override PartName="/ppt/media/image12.gif" ContentType="image/gif"/>
  <Override PartName="/ppt/media/image3.jpeg" ContentType="image/jpeg"/>
  <Override PartName="/ppt/media/image24.jpeg" ContentType="image/jpeg"/>
  <Override PartName="/ppt/media/image7.gif" ContentType="image/gif"/>
  <Override PartName="/ppt/media/image26.jpeg" ContentType="image/jpeg"/>
  <Override PartName="/ppt/media/image9.png" ContentType="image/png"/>
  <Override PartName="/ppt/media/image5.gif" ContentType="image/gif"/>
  <Override PartName="/ppt/media/image8.png" ContentType="image/png"/>
  <Override PartName="/ppt/media/image14.jpeg" ContentType="image/jpeg"/>
  <Override PartName="/ppt/media/image23.gif" ContentType="image/gif"/>
  <Override PartName="/ppt/media/image20.jpeg" ContentType="image/jpeg"/>
  <Override PartName="/ppt/media/image15.jpeg" ContentType="image/jpeg"/>
  <Override PartName="/ppt/media/image18.jpeg" ContentType="image/jpeg"/>
  <Override PartName="/ppt/media/image17.gif" ContentType="image/gif"/>
  <Override PartName="/ppt/media/image16.gif" ContentType="image/gif"/>
  <Override PartName="/ppt/media/image21.gif" ContentType="image/gif"/>
  <Override PartName="/ppt/media/image19.gif" ContentType="image/gif"/>
  <Override PartName="/ppt/media/image1.png" ContentType="image/png"/>
  <Override PartName="/ppt/media/image4.gif" ContentType="image/gif"/>
  <Override PartName="/ppt/media/image22.jpeg" ContentType="image/jpeg"/>
  <Override PartName="/ppt/media/image6.jpeg" ContentType="image/jpeg"/>
  <Override PartName="/ppt/media/image2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681D-0B15-42E9-94F3-A211A7201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DC2B-5D19-4CF4-89E0-91F24DCD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A652-EFDC-40FD-AABD-0DB3CBF52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2399-4E0A-48CB-8F60-4B1AEF604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0D9B-0CAE-4B5A-8D62-26FEF457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6722-9C9F-4669-8782-D330665F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26F1-DDAF-465B-84A4-3B7D5565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F2C9-B7E1-4F7B-8DBB-4EDDA622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17F9-7BAC-4A01-AF6D-913CA52F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4A9A-D882-49EF-AD85-CED39FB5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7712-5B8E-4F7A-A79B-8A08B827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8905-5080-417A-A54E-9F9041D0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8BD7-F1F3-4E01-8176-601DCA5727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orderpic.com/cn/search/80140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orderpic.com/cn/search/79367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www.orderpic.com/cn/search/79367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502128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C1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-431280" y="457200"/>
            <a:ext cx="10036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ff"/>
                </a:solidFill>
                <a:latin typeface="华文行楷"/>
                <a:ea typeface="华文行楷"/>
              </a:rPr>
              <a:t>A   Perfect   Day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8840" y="259092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Times New Roman"/>
              </a:rPr>
              <a:t>Liste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388620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ow many times do we have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hrase “perfect day” in the poem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ird" descr=""/>
          <p:cNvPicPr/>
          <p:nvPr/>
        </p:nvPicPr>
        <p:blipFill>
          <a:blip r:embed="rId2"/>
          <a:stretch/>
        </p:blipFill>
        <p:spPr>
          <a:xfrm>
            <a:off x="4495680" y="2666880"/>
            <a:ext cx="1406520" cy="743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3164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1999" descr=""/>
          <p:cNvPicPr/>
          <p:nvPr/>
        </p:nvPicPr>
        <p:blipFill>
          <a:blip r:embed="rId1"/>
          <a:stretch/>
        </p:blipFill>
        <p:spPr>
          <a:xfrm>
            <a:off x="0" y="0"/>
            <a:ext cx="440532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495680" y="304920"/>
            <a:ext cx="4648320" cy="61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’m a big big gir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big big ______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not a big big ______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you ______ 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 I do do fe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I do do will ______ you             much,miss you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side it’s now _______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ears are falling from my      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did it have to happ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did it have to happ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838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81680" y="1371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1905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le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8168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m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81680" y="3962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4876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e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girl3" descr=""/>
          <p:cNvPicPr/>
          <p:nvPr/>
        </p:nvPicPr>
        <p:blipFill>
          <a:blip r:embed="rId2"/>
          <a:stretch/>
        </p:blipFill>
        <p:spPr>
          <a:xfrm>
            <a:off x="7913520" y="0"/>
            <a:ext cx="1230480" cy="144792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3164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7800" y="176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1855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04920" y="139680"/>
            <a:ext cx="6172200" cy="67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’m a big big girl 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n a big big 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t’s not a big big 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f you _____ 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ut I do do f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at I do do will miss you much,miss you mu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have your arms ______ 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ooh like f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ut when I open my ey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ou’re 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8380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14479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20574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e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4419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6324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sing" descr=""/>
          <p:cNvPicPr/>
          <p:nvPr/>
        </p:nvPicPr>
        <p:blipFill>
          <a:blip r:embed="rId2"/>
          <a:stretch/>
        </p:blipFill>
        <p:spPr>
          <a:xfrm>
            <a:off x="6858000" y="5072040"/>
            <a:ext cx="2286000" cy="178596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053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343400" y="0"/>
            <a:ext cx="457200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’m a big big girl 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 a big big wor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t’s not a big big th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f you leave m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ut I do do f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at I do do will miss you much,miss you mu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girls2" descr=""/>
          <p:cNvPicPr/>
          <p:nvPr/>
        </p:nvPicPr>
        <p:blipFill>
          <a:blip r:embed="rId2"/>
          <a:stretch/>
        </p:blipFill>
        <p:spPr>
          <a:xfrm>
            <a:off x="5867280" y="5649840"/>
            <a:ext cx="2427480" cy="1208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4280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80133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572000" y="457200"/>
            <a:ext cx="457200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’m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big big girl 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 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big big wor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t’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not a big big th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 leave m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u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 do do f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 I do do will mis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ou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uch,miss you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u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9520" y="152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-14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0" y="-142920"/>
            <a:ext cx="9144000" cy="7143840"/>
            <a:chOff x="0" y="-142920"/>
            <a:chExt cx="9144000" cy="7143840"/>
          </a:xfrm>
        </p:grpSpPr>
        <p:sp>
          <p:nvSpPr>
            <p:cNvPr id="134" name=""/>
            <p:cNvSpPr/>
            <p:nvPr/>
          </p:nvSpPr>
          <p:spPr>
            <a:xfrm>
              <a:off x="0" y="-142920"/>
              <a:ext cx="9144000" cy="714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-142920"/>
              <a:ext cx="176220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zh-CN" sz="56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82600" y="189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8014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1600200"/>
            <a:ext cx="83059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lang="zh-CN" sz="9600" spc="-1" strike="noStrike">
                <a:solidFill>
                  <a:srgbClr val="ffffff"/>
                </a:solidFill>
                <a:latin typeface="Times New Roman"/>
              </a:rPr>
              <a:t>oo</a:t>
            </a:r>
            <a:r>
              <a:rPr b="1" lang="zh-CN" sz="25000" spc="-1" strike="noStrike">
                <a:solidFill>
                  <a:srgbClr val="ffffff"/>
                </a:solidFill>
                <a:latin typeface="华文行楷"/>
                <a:ea typeface="华文行楷"/>
              </a:rPr>
              <a:t>D</a:t>
            </a:r>
            <a:r>
              <a:rPr b="1" lang="zh-CN" sz="96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15000" spc="-1" strike="noStrike">
                <a:solidFill>
                  <a:srgbClr val="ffffff"/>
                </a:solidFill>
                <a:latin typeface="Monotype Corsiva"/>
                <a:ea typeface="方正舒体"/>
              </a:rPr>
              <a:t>y</a:t>
            </a:r>
            <a:r>
              <a:rPr b="1" lang="zh-CN" sz="9600" spc="-1" strike="noStrike">
                <a:solidFill>
                  <a:srgbClr val="ffffff"/>
                </a:solidFill>
                <a:latin typeface="华文彩云"/>
                <a:ea typeface="华文彩云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0"/>
            <a:ext cx="8229600" cy="73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A   Perfect   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Monotype Corsiva"/>
                <a:ea typeface="方正舒体"/>
              </a:rPr>
              <a:t>by Carrie Jacobs-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When you come to the end of a perfect 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And you sit alone with your though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While the chimes ring out with a carol g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For the joy that the day has brough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Do you think what the end of a perfect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Can mean to a tired hear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When the sun goes down with a flaming r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And the dear friends have to pa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Well,this is the end of a perfect 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Near the end of  a journey to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But it leaves a thought that is big and stro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With a wish that is kind and tr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For memory has painted this perfect 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With colours that never fad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And we find at the end of a perfect 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The soul of a friend we’ve m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32" descr="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49" name="female2" descr=""/>
          <p:cNvPicPr/>
          <p:nvPr/>
        </p:nvPicPr>
        <p:blipFill>
          <a:blip r:embed="rId3"/>
          <a:stretch/>
        </p:blipFill>
        <p:spPr>
          <a:xfrm>
            <a:off x="7162920" y="5668920"/>
            <a:ext cx="19810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00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609480"/>
            <a:ext cx="8915400" cy="59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                   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美好的日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当美好的日子即将流过，                  啊，这是一个美好日子的终点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你沉思着独自静坐；                          也是一次旅行的了结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当钟声伴随着快乐的颂歌响起，      但它留下了强烈的思念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为了这美好日子带来的快乐；          还有那亲切而真诚的祝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当太阳带着红霞西沉，                      这美好日子的回忆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亲爱的朋友你又得奔波，                  永不消退，永远新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你可曾想到对于一颗疲惫的心，      我们在这美好日子的终点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这美好日子的结束会意味着什么？  看到了朋友的神圣的心田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53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12392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13716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C1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1828800"/>
            <a:ext cx="7772400" cy="4385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1. Is this at the beginning of a day or at the end of a day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2. Is the writer alone or with                                someone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3. Is the writer meeting someone or saying goodbye to someo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7080" y="380880"/>
            <a:ext cx="198684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Times New Roman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DI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30800" y="579132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510552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ay/jo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4120" y="4648320"/>
            <a:ext cx="452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With colours that never f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1480" y="4114800"/>
            <a:ext cx="76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  With colours that will never become less b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99600" y="3657600"/>
            <a:ext cx="68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hen the sun goes down with a flaming 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0440" y="2819520"/>
            <a:ext cx="89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  When the light from the sun going down looks like       fl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17524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  While the bells ring out with a happy song being s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0040" y="502920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  happ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9680" y="5867280"/>
            <a:ext cx="24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  Say goodby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3808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Find the words or phrases in the poem which mean the same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22860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hile the chimes ring out with a carol g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3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228600"/>
            <a:ext cx="9144000" cy="64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Monotype Corsiva"/>
              </a:rPr>
              <a:t>by Thomas Nas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pring, the sweet spring, is the year’s pleasant k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hen blooms each thing, then maids dance in a r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old doth not sting, the pretty birds do s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uckoo, jug-jug, pu-we,to-witta-wo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he palm and may make country houses g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Lambs frisk and play,the shepherds pipe all 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nd we hear ay birds tune this merry l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uckoo,jug-jug, pu-we, to-witta-wo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he fields breathe sweet, the daisies kiss our fee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Young lovers meet, old wives a-sunning si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In every street these tunes our ears do gree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uckoo, jug-jug, pu-we,to-witta-wo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pring! The sweet Spr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92468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914400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304920"/>
            <a:ext cx="94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FL55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304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-14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0" y="-142920"/>
            <a:ext cx="9144000" cy="7143840"/>
            <a:chOff x="0" y="-142920"/>
            <a:chExt cx="9144000" cy="7143840"/>
          </a:xfrm>
        </p:grpSpPr>
        <p:sp>
          <p:nvSpPr>
            <p:cNvPr id="81" name=""/>
            <p:cNvSpPr/>
            <p:nvPr/>
          </p:nvSpPr>
          <p:spPr>
            <a:xfrm>
              <a:off x="0" y="-142920"/>
              <a:ext cx="9144000" cy="714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-142920"/>
              <a:ext cx="176220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  </a:t>
              </a:r>
              <a:r>
                <a:rPr b="0" lang="zh-CN" sz="56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3488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80130" descr=""/>
          <p:cNvPicPr/>
          <p:nvPr/>
        </p:nvPicPr>
        <p:blipFill>
          <a:blip r:embed="rId3"/>
          <a:stretch/>
        </p:blipFill>
        <p:spPr>
          <a:xfrm>
            <a:off x="4648320" y="4800600"/>
            <a:ext cx="1639800" cy="2057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228600"/>
            <a:ext cx="914400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Stopping by Woods on a Snowy Ev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99"/>
                </a:solidFill>
                <a:latin typeface="Times New Roman"/>
              </a:rPr>
              <a:t>                                        </a:t>
            </a:r>
            <a:r>
              <a:rPr b="0" lang="zh-CN" sz="2400" spc="-1" strike="noStrike">
                <a:solidFill>
                  <a:srgbClr val="00cc99"/>
                </a:solidFill>
                <a:latin typeface="Monotype Corsiva"/>
              </a:rPr>
              <a:t>by Robert Fr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Whose woods these are I think I know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He gives his harness bells a sh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is house is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in the village, though;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To ask if there is som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He will not see me stopping here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The only other sound’s the sw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To watch his woods fill up with snow.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Of easy wind and downy fl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My little horse must think it queer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The woods are lovely,dark,and deep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To stop without a farmhouse near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ut I have promises to kee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Between the woods and frozen lake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nd miles to go before I slee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The darkness evening of the year.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nd miles to go before I sle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57200" y="1371600"/>
            <a:ext cx="6934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9600" spc="-1" strike="noStrike">
                <a:solidFill>
                  <a:srgbClr val="3333ff"/>
                </a:solidFill>
                <a:latin typeface="Monotype Corsiva"/>
              </a:rPr>
              <a:t>Big Big</a:t>
            </a:r>
            <a:r>
              <a:rPr b="1" lang="en-US" sz="7200" spc="-1" strike="noStrike">
                <a:solidFill>
                  <a:srgbClr val="3333ff"/>
                </a:solidFill>
                <a:latin typeface="Monotype Corsiva"/>
              </a:rPr>
              <a:t> worl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380880"/>
            <a:ext cx="190512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 S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d22" descr=""/>
          <p:cNvPicPr/>
          <p:nvPr/>
        </p:nvPicPr>
        <p:blipFill>
          <a:blip r:embed="rId2"/>
          <a:stretch/>
        </p:blipFill>
        <p:spPr>
          <a:xfrm>
            <a:off x="0" y="5686560"/>
            <a:ext cx="9144000" cy="1171440"/>
          </a:xfrm>
          <a:prstGeom prst="rect">
            <a:avLst/>
          </a:prstGeom>
          <a:ln w="0">
            <a:noFill/>
          </a:ln>
        </p:spPr>
      </p:pic>
      <p:pic>
        <p:nvPicPr>
          <p:cNvPr id="90" name="dance2" descr=""/>
          <p:cNvPicPr/>
          <p:nvPr/>
        </p:nvPicPr>
        <p:blipFill>
          <a:blip r:embed="rId3"/>
          <a:stretch/>
        </p:blipFill>
        <p:spPr>
          <a:xfrm>
            <a:off x="3809880" y="5734080"/>
            <a:ext cx="1143000" cy="1123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3812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FL4913" descr=""/>
          <p:cNvPicPr/>
          <p:nvPr/>
        </p:nvPicPr>
        <p:blipFill>
          <a:blip r:embed="rId1"/>
          <a:stretch/>
        </p:blipFill>
        <p:spPr>
          <a:xfrm>
            <a:off x="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876920" y="380880"/>
            <a:ext cx="42670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’m a big big gir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big big _____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not a big big _____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you _____ 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 I do do f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I do do will _____ you much,miss you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can see the first leaves _____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all so yellow and ni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so very cold 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ke the way I’m feeling ins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86600" y="1447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2057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le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m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0100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f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05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out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1" descr=""/>
          <p:cNvPicPr/>
          <p:nvPr/>
        </p:nvPicPr>
        <p:blipFill>
          <a:blip r:embed="rId2"/>
          <a:stretch/>
        </p:blipFill>
        <p:spPr>
          <a:xfrm>
            <a:off x="2133720" y="6066000"/>
            <a:ext cx="5486400" cy="79200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07:59:02Z</dcterms:created>
  <dc:creator>hh</dc:creator>
  <dc:description/>
  <dc:language>en-US</dc:language>
  <cp:lastModifiedBy>hh</cp:lastModifiedBy>
  <dcterms:modified xsi:type="dcterms:W3CDTF">2002-05-23T07:28:07Z</dcterms:modified>
  <cp:revision>38</cp:revision>
  <dc:subject/>
  <dc:title>PowerPoint 演示文稿</dc:title>
</cp:coreProperties>
</file>