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gif" ContentType="image/gif"/>
  <Override PartName="/ppt/media/image10.jpeg" ContentType="image/jpeg"/>
  <Override PartName="/ppt/media/image2.gif" ContentType="image/gif"/>
  <Override PartName="/ppt/media/image25.gif" ContentType="image/gif"/>
  <Override PartName="/ppt/media/image12.gif" ContentType="image/gif"/>
  <Override PartName="/ppt/media/image3.jpeg" ContentType="image/jpeg"/>
  <Override PartName="/ppt/media/image24.jpeg" ContentType="image/jpeg"/>
  <Override PartName="/ppt/media/image7.gif" ContentType="image/gif"/>
  <Override PartName="/ppt/media/image26.jpeg" ContentType="image/jpeg"/>
  <Override PartName="/ppt/media/image9.png" ContentType="image/png"/>
  <Override PartName="/ppt/media/image5.gif" ContentType="image/gif"/>
  <Override PartName="/ppt/media/image8.png" ContentType="image/png"/>
  <Override PartName="/ppt/media/image14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8.jpeg" ContentType="image/jpeg"/>
  <Override PartName="/ppt/media/image17.gif" ContentType="image/gif"/>
  <Override PartName="/ppt/media/image16.gif" ContentType="image/gif"/>
  <Override PartName="/ppt/media/image21.gif" ContentType="image/gif"/>
  <Override PartName="/ppt/media/image19.gif" ContentType="image/gif"/>
  <Override PartName="/ppt/media/image1.png" ContentType="image/png"/>
  <Override PartName="/ppt/media/image4.gif" ContentType="image/gif"/>
  <Override PartName="/ppt/media/image22.jpeg" ContentType="image/jpeg"/>
  <Override PartName="/ppt/media/image6.jpeg" ContentType="image/jpeg"/>
  <Override PartName="/ppt/media/image2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EBAC-2C53-4B2C-98E5-3597F418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1E43-78CF-41BF-9F92-7394FA1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65D-4902-4E2D-8452-CCDDA0EF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2099-1C89-419C-90CD-D71E8FC2A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F49-42A4-4082-98DB-20C23DB1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FB84-58E9-4912-B35D-49EA1CCA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8C56-CC8E-4557-9C93-D8817F5E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C1E-CD8E-4079-9828-E156368F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E89-FB12-4722-B41A-5EFE5BC0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3DD0-68DE-4DD5-A3DE-A9EC7574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7CA0-A013-4D74-BB7F-F0131732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DBB7-A7D2-456D-9E98-6D3FA194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3ED5-9886-4EBC-86D0-5A0A468610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orderpic.com/cn/search/80140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orderpic.com/cn/search/79367" TargetMode="External"/><Relationship Id="rId3" Type="http://schemas.openxmlformats.org/officeDocument/2006/relationships/image" Target="../media/image14.jpeg"/><Relationship Id="rId4" Type="http://schemas.openxmlformats.org/officeDocument/2006/relationships/hyperlink" Target="http://www.orderpic.com/cn/search/79367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5021280"/>
            <a:ext cx="304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C1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-431280" y="457200"/>
            <a:ext cx="10036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0000ff"/>
                </a:solidFill>
                <a:latin typeface="华文行楷"/>
                <a:ea typeface="华文行楷"/>
              </a:rPr>
              <a:t>A   Perfect   Day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8840" y="259092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List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8620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How many times do we have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phrase “perfect day” in the poem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rd" descr=""/>
          <p:cNvPicPr/>
          <p:nvPr/>
        </p:nvPicPr>
        <p:blipFill>
          <a:blip r:embed="rId2"/>
          <a:stretch/>
        </p:blipFill>
        <p:spPr>
          <a:xfrm>
            <a:off x="4495680" y="2666880"/>
            <a:ext cx="1406520" cy="74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1999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495680" y="304920"/>
            <a:ext cx="4648320" cy="61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_ you            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utside it’s now _______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tears are falling from my      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y did it have to happ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199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1371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0080" y="1905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048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816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876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e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girl3" descr=""/>
          <p:cNvPicPr/>
          <p:nvPr/>
        </p:nvPicPr>
        <p:blipFill>
          <a:blip r:embed="rId2"/>
          <a:stretch/>
        </p:blipFill>
        <p:spPr>
          <a:xfrm>
            <a:off x="7913520" y="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7800" y="176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855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04920" y="139680"/>
            <a:ext cx="6172200" cy="67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m a big big girl 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n a big big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’s not a big big 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at I do do will miss you much,miss you muc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have your arms ______ m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ooh like f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 when I open my ey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ou’re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8380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14479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2057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44197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a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3880" y="63244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g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sing" descr=""/>
          <p:cNvPicPr/>
          <p:nvPr/>
        </p:nvPicPr>
        <p:blipFill>
          <a:blip r:embed="rId2"/>
          <a:stretch/>
        </p:blipFill>
        <p:spPr>
          <a:xfrm>
            <a:off x="6858000" y="5072040"/>
            <a:ext cx="2286000" cy="178596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534520" y="64008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532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343400" y="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a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f yo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 do do will miss you much,miss you m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girls2" descr=""/>
          <p:cNvPicPr/>
          <p:nvPr/>
        </p:nvPicPr>
        <p:blipFill>
          <a:blip r:embed="rId2"/>
          <a:stretch/>
        </p:blipFill>
        <p:spPr>
          <a:xfrm>
            <a:off x="5867280" y="5649840"/>
            <a:ext cx="2427480" cy="1208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428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80133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0" y="457200"/>
            <a:ext cx="45720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’m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 big big girl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g big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t’s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ot a big big 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 leave m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do do fe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a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 I do do will miss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o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uch,miss you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uc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9520" y="152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134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82600" y="189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80140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1600200"/>
            <a:ext cx="8305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oo</a:t>
            </a:r>
            <a:r>
              <a:rPr b="1" lang="zh-CN" sz="25000" spc="-1" strike="noStrike">
                <a:solidFill>
                  <a:srgbClr val="ffffff"/>
                </a:solidFill>
                <a:latin typeface="华文行楷"/>
                <a:ea typeface="华文行楷"/>
              </a:rPr>
              <a:t>D</a:t>
            </a:r>
            <a:r>
              <a:rPr b="1" lang="zh-CN" sz="9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15000" spc="-1" strike="noStrike">
                <a:solidFill>
                  <a:srgbClr val="ffffff"/>
                </a:solidFill>
                <a:latin typeface="Monotype Corsiva"/>
                <a:ea typeface="方正舒体"/>
              </a:rPr>
              <a:t>y</a:t>
            </a:r>
            <a:r>
              <a:rPr b="1" lang="zh-CN" sz="9600" spc="-1" strike="noStrike">
                <a:solidFill>
                  <a:srgbClr val="ffffff"/>
                </a:solidFill>
                <a:latin typeface="华文彩云"/>
                <a:ea typeface="华文彩云"/>
              </a:rPr>
              <a:t>e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8229600" cy="73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A   Perfect   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                          </a:t>
            </a:r>
            <a:r>
              <a:rPr b="1" lang="zh-CN" sz="2400" spc="-1" strike="noStrike">
                <a:solidFill>
                  <a:srgbClr val="0000ff"/>
                </a:solidFill>
                <a:latin typeface="Monotype Corsiva"/>
                <a:ea typeface="方正舒体"/>
              </a:rPr>
              <a:t>by Carrie Jacobs-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you come to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you sit alone with your th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ile the chimes ring out with a carol g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the joy that the day has brough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Do you think what the end of a perfect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Can mean to a tired hea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hen the sun goes down with a flaming r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the dear friends have to par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ell,this is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Near the end of  a journey to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But it leaves a thought that is big and stro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a wish that is kind and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For memory has painted this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With colours that never fa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And we find at the end of a perfect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       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The soul of a friend we’ve ma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2" descr=""/>
          <p:cNvPicPr/>
          <p:nvPr/>
        </p:nvPicPr>
        <p:blipFill>
          <a:blip r:embed="rId2"/>
          <a:stretch/>
        </p:blipFill>
        <p:spPr>
          <a:xfrm>
            <a:off x="7696080" y="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49" name="female2" descr=""/>
          <p:cNvPicPr/>
          <p:nvPr/>
        </p:nvPicPr>
        <p:blipFill>
          <a:blip r:embed="rId3"/>
          <a:stretch/>
        </p:blipFill>
        <p:spPr>
          <a:xfrm>
            <a:off x="7162920" y="5668920"/>
            <a:ext cx="1981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09480"/>
            <a:ext cx="891540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              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美好的日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美好的日子即将流过，                  啊，这是一个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沉思着独自静坐；                          也是一次旅行的了结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钟声伴随着快乐的颂歌响起，      但它留下了强烈的思念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为了这美好日子带来的快乐；          还有那亲切而真诚的祝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当太阳带着红霞西沉，                      这美好日子的回忆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亲爱的朋友你又得奔波，                  永不消退，永远新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你可曾想到对于一颗疲惫的心，      我们在这美好日子的终点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美好日子的结束会意味着什么？  看到了朋友的神圣的心田</a:t>
            </a:r>
            <a:r>
              <a:rPr b="0" lang="zh-CN" sz="2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5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12392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13716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1828800"/>
            <a:ext cx="7772400" cy="4385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. Is this at the beginning of a day or at the end of a da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. Is the writer alone or with                                someon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. Is the writer meeting someone or saying goodbye to some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7080" y="380880"/>
            <a:ext cx="198684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Times New Roman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I-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430800" y="5791320"/>
            <a:ext cx="83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52680" y="5105520"/>
            <a:ext cx="129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gay/j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4120" y="4648320"/>
            <a:ext cx="452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With colours that never f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1480" y="4114800"/>
            <a:ext cx="767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  With colours that will never become less b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9600" y="3657600"/>
            <a:ext cx="68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en the sun goes down with a flaming 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0440" y="2819520"/>
            <a:ext cx="895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  When the light from the sun going down looks like       fl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752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  While the bells ring out with a happy song being s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0040" y="502920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 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9680" y="5867280"/>
            <a:ext cx="244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  Say goodby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380880"/>
            <a:ext cx="86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Times New Roman"/>
              </a:rPr>
              <a:t>Find the words or phrases in the poem which mean the same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43000" y="228600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ile the chimes ring out with a carol g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5800" y="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228600"/>
            <a:ext cx="9144000" cy="64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Monotype Corsiva"/>
              </a:rPr>
              <a:t>by Thomas Nas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, the sweet spring, is the year’s pleasant k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n blooms each thing, then maids dance in a r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old doth not sting, the pretty birds do s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palm and may make country houses g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Lambs frisk and play,the shepherds pipe all d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And we hear ay birds tune this merry la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jug-jug, pu-we, to-witta-wo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The fields breathe sweet, the daisies kiss our f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Young lovers meet, old wives a-sunning si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In every street these tunes our ears do gre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Cuckoo, jug-jug, pu-we,to-witta-wo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Spring! The sweet Sp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0" y="388620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304920"/>
            <a:ext cx="94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77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FL552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-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0" y="-142920"/>
            <a:ext cx="9144000" cy="7143840"/>
            <a:chOff x="0" y="-142920"/>
            <a:chExt cx="9144000" cy="7143840"/>
          </a:xfrm>
        </p:grpSpPr>
        <p:sp>
          <p:nvSpPr>
            <p:cNvPr id="81" name=""/>
            <p:cNvSpPr/>
            <p:nvPr/>
          </p:nvSpPr>
          <p:spPr>
            <a:xfrm>
              <a:off x="0" y="-142920"/>
              <a:ext cx="9144000" cy="714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-142920"/>
              <a:ext cx="17622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 u="sng">
                  <a:solidFill>
                    <a:srgbClr val="ccccff"/>
                  </a:solidFill>
                  <a:uFillTx/>
                  <a:latin typeface="Times New Roman"/>
                  <a:hlinkClick r:id="rId2"/>
                </a:rPr>
                <a:t>  </a:t>
              </a:r>
              <a:r>
                <a:rPr b="0" lang="zh-CN" sz="56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43488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80130" descr=""/>
          <p:cNvPicPr/>
          <p:nvPr/>
        </p:nvPicPr>
        <p:blipFill>
          <a:blip r:embed="rId3"/>
          <a:stretch/>
        </p:blipFill>
        <p:spPr>
          <a:xfrm>
            <a:off x="4648320" y="4800600"/>
            <a:ext cx="1639800" cy="2057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22860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Stopping by Woods on a Snowy Ev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                                        </a:t>
            </a:r>
            <a:r>
              <a:rPr b="0" lang="zh-CN" sz="2400" spc="-1" strike="noStrike">
                <a:solidFill>
                  <a:srgbClr val="00cc99"/>
                </a:solidFill>
                <a:latin typeface="Monotype Corsiva"/>
              </a:rPr>
              <a:t>by Robert Fr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Whose woods these are I think I know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e gives his harness bells a sh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is house is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 in the village, though;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o ask if there is som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He will not see me stopping here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only other sound’s the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watch his woods fill up with snow.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Of easy wind and downy fl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My little horse must think it queer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The woods are lovely,dark,and deep</a:t>
            </a: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o stop without a farmhouse near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ut I have promises to k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Between the woods and frozen lake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</a:rPr>
              <a:t>The darkness evening of the year.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miles to go before I sle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57200" y="1371600"/>
            <a:ext cx="693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9600" spc="-1" strike="noStrike">
                <a:solidFill>
                  <a:srgbClr val="3333ff"/>
                </a:solidFill>
                <a:latin typeface="Monotype Corsiva"/>
              </a:rPr>
              <a:t>Big Big</a:t>
            </a:r>
            <a:r>
              <a:rPr b="1" lang="en-US" sz="7200" spc="-1" strike="noStrike">
                <a:solidFill>
                  <a:srgbClr val="3333ff"/>
                </a:solidFill>
                <a:latin typeface="Monotype Corsiva"/>
              </a:rPr>
              <a:t> worl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380880"/>
            <a:ext cx="190512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 S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d22" descr=""/>
          <p:cNvPicPr/>
          <p:nvPr/>
        </p:nvPicPr>
        <p:blipFill>
          <a:blip r:embed="rId2"/>
          <a:stretch/>
        </p:blipFill>
        <p:spPr>
          <a:xfrm>
            <a:off x="0" y="5686560"/>
            <a:ext cx="9144000" cy="1171440"/>
          </a:xfrm>
          <a:prstGeom prst="rect">
            <a:avLst/>
          </a:prstGeom>
          <a:ln w="0">
            <a:noFill/>
          </a:ln>
        </p:spPr>
      </p:pic>
      <p:pic>
        <p:nvPicPr>
          <p:cNvPr id="90" name="dance2" descr=""/>
          <p:cNvPicPr/>
          <p:nvPr/>
        </p:nvPicPr>
        <p:blipFill>
          <a:blip r:embed="rId3"/>
          <a:stretch/>
        </p:blipFill>
        <p:spPr>
          <a:xfrm>
            <a:off x="3809880" y="5734080"/>
            <a:ext cx="1143000" cy="112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3812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FL4913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76920" y="380880"/>
            <a:ext cx="426708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’m a big big gir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not a big big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you _____ m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I do do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at I do do will _____ you much,miss you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can see the first leaves _____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all so yellow and n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t’s so very cold 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ke the way I’m feeling insi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086600" y="1447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le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1000" y="4038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f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05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ut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1" descr=""/>
          <p:cNvPicPr/>
          <p:nvPr/>
        </p:nvPicPr>
        <p:blipFill>
          <a:blip r:embed="rId2"/>
          <a:stretch/>
        </p:blipFill>
        <p:spPr>
          <a:xfrm>
            <a:off x="2133720" y="6066000"/>
            <a:ext cx="5486400" cy="79200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104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1T07:59:02Z</dcterms:created>
  <dc:creator>hh</dc:creator>
  <dc:description/>
  <dc:language>en-US</dc:language>
  <cp:lastModifiedBy>hh</cp:lastModifiedBy>
  <dcterms:modified xsi:type="dcterms:W3CDTF">2002-05-23T07:28:07Z</dcterms:modified>
  <cp:revision>38</cp:revision>
  <dc:subject/>
  <dc:title>PowerPoint 演示文稿</dc:title>
</cp:coreProperties>
</file>