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275-49FD-43C4-BB85-084B0E08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143-7781-4CEF-8576-F026A78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5FD-E017-4FBD-A738-C75C0C24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903-F2C4-451B-8451-8E173FDE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43A4-0D27-4D40-99FE-6E2F2357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A29-09AB-4E0F-9DF9-6682740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64B3-5529-4A40-B958-F50F3ED0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ED3C-138A-49FB-8570-FCF7188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15BD-1FD5-43B9-BDFA-386BC77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B44-52C3-4F56-8048-5F2DB0F6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8C8A-4257-4C87-AF56-47DB3DC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AC7-161C-42E3-84E0-765EDF9A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C35-24F6-4B86-B40A-2722769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CFA7-5448-4362-8ACD-AD0F716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1E1-A1F0-4580-AB48-877921BF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2AA-1BE3-4D17-875C-A7A0DF89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330A-CC46-47E1-8EAA-8CA0806D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1E0-ECDC-433D-9A24-5B8488E5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2F7-1C00-42A6-A887-2E312847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133-CAD0-4392-8FED-1E2485B3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C11-F73A-47A4-90FD-13600EA2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96D-62C0-42F5-A031-75A4E57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B39-0B0D-44BD-9BB2-34510979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547-034D-418C-99A8-E1D3C76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99EC-1478-4CF9-A35E-89A8E858263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C1B-D03A-41C6-9380-3892D6B672E1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53352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老 马 识 途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828800"/>
            <a:ext cx="7238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：二千多年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：齐国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物：管仲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件：齐军人马被困山谷，管     仲用老马带领队伍回国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1447920"/>
            <a:ext cx="6248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马识途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喻有经验的人能在生活、工作中起引导作用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81080" y="380880"/>
            <a:ext cx="4953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走进成语王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438280"/>
            <a:ext cx="5638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好书推荐：读成语，学    历史（上，下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功能小学生插图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19320" y="609480"/>
            <a:ext cx="6486480" cy="5716080"/>
            <a:chOff x="1219320" y="609480"/>
            <a:chExt cx="6486480" cy="5716080"/>
          </a:xfrm>
        </p:grpSpPr>
        <p:sp>
          <p:nvSpPr>
            <p:cNvPr id="201" name=""/>
            <p:cNvSpPr/>
            <p:nvPr/>
          </p:nvSpPr>
          <p:spPr>
            <a:xfrm>
              <a:off x="2895840" y="4343400"/>
              <a:ext cx="4809960" cy="10666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724280"/>
              <a:ext cx="22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字端正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3352680"/>
              <a:ext cx="4078440" cy="99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840" y="3657600"/>
              <a:ext cx="203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词准确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360" y="2438280"/>
              <a:ext cx="304776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560" y="26668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句通顺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1676160"/>
              <a:ext cx="20574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640" y="17524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生动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760" y="5500440"/>
              <a:ext cx="563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自 写 步 步 高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01160" y="609480"/>
              <a:ext cx="1066680" cy="1143000"/>
              <a:chOff x="6401160" y="609480"/>
              <a:chExt cx="1066680" cy="114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401160" y="609480"/>
                <a:ext cx="1066680" cy="6094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78840 h 609480"/>
                  <a:gd name="textAreaBottom" fmla="*/ 530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01160" y="6854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8487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303" h="21600">
                <a:moveTo>
                  <a:pt x="6625" y="3985"/>
                </a:moveTo>
                <a:lnTo>
                  <a:pt x="13623" y="3985"/>
                </a:lnTo>
                <a:lnTo>
                  <a:pt x="17678" y="7484"/>
                </a:lnTo>
                <a:lnTo>
                  <a:pt x="17678" y="17615"/>
                </a:lnTo>
                <a:lnTo>
                  <a:pt x="6625" y="17615"/>
                </a:lnTo>
                <a:close/>
              </a:path>
              <a:path fill="darken" w="24303" h="21600">
                <a:moveTo>
                  <a:pt x="13623" y="3985"/>
                </a:moveTo>
                <a:lnTo>
                  <a:pt x="17678" y="7484"/>
                </a:lnTo>
                <a:lnTo>
                  <a:pt x="13623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1905120"/>
            <a:ext cx="8458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十分沉着。他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2408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是，他在雪地上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43434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最后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848720" y="601992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090" h="21600">
                <a:moveTo>
                  <a:pt x="12018" y="3985"/>
                </a:moveTo>
                <a:lnTo>
                  <a:pt x="19016" y="3985"/>
                </a:lnTo>
                <a:lnTo>
                  <a:pt x="23072" y="7484"/>
                </a:lnTo>
                <a:lnTo>
                  <a:pt x="23072" y="17615"/>
                </a:lnTo>
                <a:lnTo>
                  <a:pt x="12018" y="17615"/>
                </a:lnTo>
                <a:close/>
              </a:path>
              <a:path fill="darken" w="35090" h="21600">
                <a:moveTo>
                  <a:pt x="19016" y="3985"/>
                </a:moveTo>
                <a:lnTo>
                  <a:pt x="23072" y="7484"/>
                </a:lnTo>
                <a:lnTo>
                  <a:pt x="19016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4080" y="2133720"/>
            <a:ext cx="5791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英勇善战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足智多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将士们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老马识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连词成句     组合多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着急，但他十分沉着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着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但他十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沉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1981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80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迷路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2193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隆冬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0574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狂风怒号     寒气逼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819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积雪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505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惊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49568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71440" y="685800"/>
            <a:ext cx="68580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2590920"/>
            <a:ext cx="6094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438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4382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800" y="17524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5105520"/>
            <a:ext cx="2895480" cy="642600"/>
            <a:chOff x="1219320" y="5105520"/>
            <a:chExt cx="2895480" cy="642600"/>
          </a:xfrm>
        </p:grpSpPr>
        <p:sp>
          <p:nvSpPr>
            <p:cNvPr id="162" name=""/>
            <p:cNvSpPr/>
            <p:nvPr/>
          </p:nvSpPr>
          <p:spPr>
            <a:xfrm>
              <a:off x="1219320" y="5105520"/>
              <a:ext cx="121896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隆冬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510552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积雪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191120" y="5105520"/>
            <a:ext cx="1752480" cy="642600"/>
            <a:chOff x="4191120" y="5105520"/>
            <a:chExt cx="1752480" cy="642600"/>
          </a:xfrm>
        </p:grpSpPr>
        <p:sp>
          <p:nvSpPr>
            <p:cNvPr id="166" name=""/>
            <p:cNvSpPr/>
            <p:nvPr/>
          </p:nvSpPr>
          <p:spPr>
            <a:xfrm>
              <a:off x="4724280" y="5105520"/>
              <a:ext cx="121932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迷路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1120" y="52578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19920" y="4572000"/>
            <a:ext cx="2514600" cy="1477080"/>
            <a:chOff x="6019920" y="4572000"/>
            <a:chExt cx="2514600" cy="1477080"/>
          </a:xfrm>
        </p:grpSpPr>
        <p:sp>
          <p:nvSpPr>
            <p:cNvPr id="169" name=""/>
            <p:cNvSpPr/>
            <p:nvPr/>
          </p:nvSpPr>
          <p:spPr>
            <a:xfrm>
              <a:off x="6477120" y="4572000"/>
              <a:ext cx="2057400" cy="14770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狂风怒号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寒气逼人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95280" y="5257800"/>
            <a:ext cx="7848720" cy="1328400"/>
            <a:chOff x="1295280" y="5257800"/>
            <a:chExt cx="7848720" cy="1328400"/>
          </a:xfrm>
        </p:grpSpPr>
        <p:sp>
          <p:nvSpPr>
            <p:cNvPr id="172" name=""/>
            <p:cNvSpPr/>
            <p:nvPr/>
          </p:nvSpPr>
          <p:spPr>
            <a:xfrm>
              <a:off x="1295280" y="594360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惊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10480" y="5257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14600" y="5943600"/>
            <a:ext cx="1600200" cy="703440"/>
            <a:chOff x="2514600" y="5943600"/>
            <a:chExt cx="1600200" cy="703440"/>
          </a:xfrm>
        </p:grpSpPr>
        <p:sp>
          <p:nvSpPr>
            <p:cNvPr id="175" name=""/>
            <p:cNvSpPr/>
            <p:nvPr/>
          </p:nvSpPr>
          <p:spPr>
            <a:xfrm>
              <a:off x="2895480" y="5943600"/>
              <a:ext cx="1219320" cy="70344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着急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6019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91_00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143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问题归类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666880"/>
            <a:ext cx="4648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原因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表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结果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371600" y="4724280"/>
            <a:ext cx="5867280" cy="1084680"/>
            <a:chOff x="1371600" y="4724280"/>
            <a:chExt cx="5867280" cy="1084680"/>
          </a:xfrm>
        </p:grpSpPr>
        <p:sp>
          <p:nvSpPr>
            <p:cNvPr id="181" name=""/>
            <p:cNvSpPr/>
            <p:nvPr/>
          </p:nvSpPr>
          <p:spPr>
            <a:xfrm>
              <a:off x="2666880" y="4724280"/>
              <a:ext cx="4572000" cy="106704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5105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通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657600" y="3733920"/>
            <a:ext cx="3581280" cy="99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962520"/>
            <a:ext cx="1219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99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读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76720" y="2819520"/>
            <a:ext cx="3886200" cy="932040"/>
            <a:chOff x="3276720" y="2819520"/>
            <a:chExt cx="3886200" cy="932040"/>
          </a:xfrm>
        </p:grpSpPr>
        <p:sp>
          <p:nvSpPr>
            <p:cNvPr id="186" name=""/>
            <p:cNvSpPr/>
            <p:nvPr/>
          </p:nvSpPr>
          <p:spPr>
            <a:xfrm>
              <a:off x="4648320" y="2819520"/>
              <a:ext cx="251460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6720" y="30481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好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038480" y="2057400"/>
            <a:ext cx="3048120" cy="779760"/>
            <a:chOff x="4038480" y="2057400"/>
            <a:chExt cx="3048120" cy="779760"/>
          </a:xfrm>
        </p:grpSpPr>
        <p:sp>
          <p:nvSpPr>
            <p:cNvPr id="189" name=""/>
            <p:cNvSpPr/>
            <p:nvPr/>
          </p:nvSpPr>
          <p:spPr>
            <a:xfrm>
              <a:off x="5257800" y="2057400"/>
              <a:ext cx="18288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213372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熟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90920" y="603396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自 读 步 步 高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48520" y="990720"/>
            <a:ext cx="1066680" cy="1143000"/>
            <a:chOff x="6248520" y="990720"/>
            <a:chExt cx="1066680" cy="1143000"/>
          </a:xfrm>
        </p:grpSpPr>
        <p:sp>
          <p:nvSpPr>
            <p:cNvPr id="193" name=""/>
            <p:cNvSpPr/>
            <p:nvPr/>
          </p:nvSpPr>
          <p:spPr>
            <a:xfrm>
              <a:off x="6248520" y="990720"/>
              <a:ext cx="1066680" cy="6094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10666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1905120"/>
            <a:ext cx="769608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管仲带领人马回到齐国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齐桓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士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亲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57200"/>
            <a:ext cx="20574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写  话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01:08:29Z</dcterms:created>
  <dc:creator>lihua</dc:creator>
  <dc:description/>
  <dc:language>en-US</dc:language>
  <cp:lastModifiedBy>SJ</cp:lastModifiedBy>
  <dcterms:modified xsi:type="dcterms:W3CDTF">2001-12-02T04:01:28Z</dcterms:modified>
  <cp:revision>6</cp:revision>
  <dc:subject/>
  <dc:title>没有幻灯片标题</dc:title>
</cp:coreProperties>
</file>