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A70-3521-4DA4-B086-03F06B2F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CFB-F1A0-45F8-98C9-151E5E6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55F-8DCA-497C-A21C-4FCC8FF3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8E7-E42F-4F71-BE14-F5B48BA6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CAFF-BE8B-4FD3-9CAB-2165161A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C8B8-4EC5-4085-9BAF-2034CFB1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7437-4DC1-4042-BDA3-C2E4961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E567-9EF0-4A64-B60B-EA2A5A08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434B-5D56-4B96-8144-B6718F2E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F25C-0B23-48EC-9091-B35650DC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9A8F-78CE-4B7C-A13D-6647233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2A6-62D7-4E0D-81B8-9DE4D015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E518-9BC1-4106-B10D-5A8A813D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E1D8-6E14-48A7-B717-37453D9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4A4-3B47-4500-BBDD-8DECCA85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0284-F31B-462D-BD08-222D7BD9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E90-8DF0-427E-9550-8D583560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9F3-FC96-4633-AE24-87F9C1A9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3FB-7391-4868-B878-AE707C5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626-24DB-4C06-803D-AAEFAAC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76C-238F-444D-B2B0-6D0452E8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373-4119-476F-985A-BE93C20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B7E-5370-424B-BF4C-D342A37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247-E23E-4DB6-81E7-1A5D5BB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FF16-B6EE-4716-B9AD-B1C1B2ED41B1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AC4C-F19E-4873-9028-A343A180E30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53352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老 马 识 途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828800"/>
            <a:ext cx="7238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：二千多年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：齐国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物：管仲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件：齐军人马被困山谷，管     仲用老马带领队伍回国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1447920"/>
            <a:ext cx="6248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马识途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喻有经验的人能在生活、工作中起引导作用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81080" y="380880"/>
            <a:ext cx="4953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走进成语王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438280"/>
            <a:ext cx="5638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好书推荐：读成语，学    历史（上，下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功能小学生插图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语词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19320" y="609480"/>
            <a:ext cx="6486480" cy="5716080"/>
            <a:chOff x="1219320" y="609480"/>
            <a:chExt cx="6486480" cy="5716080"/>
          </a:xfrm>
        </p:grpSpPr>
        <p:sp>
          <p:nvSpPr>
            <p:cNvPr id="201" name=""/>
            <p:cNvSpPr/>
            <p:nvPr/>
          </p:nvSpPr>
          <p:spPr>
            <a:xfrm>
              <a:off x="2895840" y="4343400"/>
              <a:ext cx="4809960" cy="106668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724280"/>
              <a:ext cx="22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字端正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3352680"/>
              <a:ext cx="4078440" cy="990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840" y="3657600"/>
              <a:ext cx="203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词准确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360" y="2438280"/>
              <a:ext cx="304776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560" y="26668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句通顺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1676160"/>
              <a:ext cx="20574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1640" y="17524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生动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760" y="5500440"/>
              <a:ext cx="563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自 写 步 步 高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01160" y="609480"/>
              <a:ext cx="1066680" cy="1143000"/>
              <a:chOff x="6401160" y="609480"/>
              <a:chExt cx="1066680" cy="1143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401160" y="609480"/>
                <a:ext cx="1066680" cy="6094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78840 h 609480"/>
                  <a:gd name="textAreaBottom" fmla="*/ 530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01160" y="6854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8487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303" h="21600">
                <a:moveTo>
                  <a:pt x="6625" y="3985"/>
                </a:moveTo>
                <a:lnTo>
                  <a:pt x="13623" y="3985"/>
                </a:lnTo>
                <a:lnTo>
                  <a:pt x="17678" y="7484"/>
                </a:lnTo>
                <a:lnTo>
                  <a:pt x="17678" y="17615"/>
                </a:lnTo>
                <a:lnTo>
                  <a:pt x="6625" y="17615"/>
                </a:lnTo>
                <a:close/>
              </a:path>
              <a:path fill="darken" w="24303" h="21600">
                <a:moveTo>
                  <a:pt x="13623" y="3985"/>
                </a:moveTo>
                <a:lnTo>
                  <a:pt x="17678" y="7484"/>
                </a:lnTo>
                <a:lnTo>
                  <a:pt x="13623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1905120"/>
            <a:ext cx="8458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十分沉着。他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2408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于是，他在雪地上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43434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最后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848720" y="601992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090" h="21600">
                <a:moveTo>
                  <a:pt x="12018" y="3985"/>
                </a:moveTo>
                <a:lnTo>
                  <a:pt x="19016" y="3985"/>
                </a:lnTo>
                <a:lnTo>
                  <a:pt x="23072" y="7484"/>
                </a:lnTo>
                <a:lnTo>
                  <a:pt x="23072" y="17615"/>
                </a:lnTo>
                <a:lnTo>
                  <a:pt x="12018" y="17615"/>
                </a:lnTo>
                <a:close/>
              </a:path>
              <a:path fill="darken" w="35090" h="21600">
                <a:moveTo>
                  <a:pt x="19016" y="3985"/>
                </a:moveTo>
                <a:lnTo>
                  <a:pt x="23072" y="7484"/>
                </a:lnTo>
                <a:lnTo>
                  <a:pt x="19016" y="74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4080" y="2133720"/>
            <a:ext cx="5791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英勇善战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足智多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管仲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将士们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老马识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连词成句     组合多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着急，但他十分沉着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666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管仲虽然也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着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但他十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沉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1981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表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80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迷路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2193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隆冬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0574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狂风怒号     寒气逼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819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积雪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505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惊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SzPct val="15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49568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71440" y="685800"/>
            <a:ext cx="68580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2590920"/>
            <a:ext cx="6094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438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4382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800" y="17524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5105520"/>
            <a:ext cx="2895480" cy="642600"/>
            <a:chOff x="1219320" y="5105520"/>
            <a:chExt cx="2895480" cy="642600"/>
          </a:xfrm>
        </p:grpSpPr>
        <p:sp>
          <p:nvSpPr>
            <p:cNvPr id="162" name=""/>
            <p:cNvSpPr/>
            <p:nvPr/>
          </p:nvSpPr>
          <p:spPr>
            <a:xfrm>
              <a:off x="1219320" y="5105520"/>
              <a:ext cx="121896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隆冬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510552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积雪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191120" y="5105520"/>
            <a:ext cx="1752480" cy="642600"/>
            <a:chOff x="4191120" y="5105520"/>
            <a:chExt cx="1752480" cy="642600"/>
          </a:xfrm>
        </p:grpSpPr>
        <p:sp>
          <p:nvSpPr>
            <p:cNvPr id="166" name=""/>
            <p:cNvSpPr/>
            <p:nvPr/>
          </p:nvSpPr>
          <p:spPr>
            <a:xfrm>
              <a:off x="4724280" y="5105520"/>
              <a:ext cx="121932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迷路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1120" y="52578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19920" y="4572000"/>
            <a:ext cx="2514600" cy="1477080"/>
            <a:chOff x="6019920" y="4572000"/>
            <a:chExt cx="2514600" cy="1477080"/>
          </a:xfrm>
        </p:grpSpPr>
        <p:sp>
          <p:nvSpPr>
            <p:cNvPr id="169" name=""/>
            <p:cNvSpPr/>
            <p:nvPr/>
          </p:nvSpPr>
          <p:spPr>
            <a:xfrm>
              <a:off x="6477120" y="4572000"/>
              <a:ext cx="2057400" cy="14770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狂风怒号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寒气逼人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525780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95280" y="5257800"/>
            <a:ext cx="7848720" cy="1328400"/>
            <a:chOff x="1295280" y="5257800"/>
            <a:chExt cx="7848720" cy="1328400"/>
          </a:xfrm>
        </p:grpSpPr>
        <p:sp>
          <p:nvSpPr>
            <p:cNvPr id="172" name=""/>
            <p:cNvSpPr/>
            <p:nvPr/>
          </p:nvSpPr>
          <p:spPr>
            <a:xfrm>
              <a:off x="1295280" y="5943600"/>
              <a:ext cx="1143000" cy="642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惊慌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10480" y="52578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14600" y="5943600"/>
            <a:ext cx="1600200" cy="703440"/>
            <a:chOff x="2514600" y="5943600"/>
            <a:chExt cx="1600200" cy="703440"/>
          </a:xfrm>
        </p:grpSpPr>
        <p:sp>
          <p:nvSpPr>
            <p:cNvPr id="175" name=""/>
            <p:cNvSpPr/>
            <p:nvPr/>
          </p:nvSpPr>
          <p:spPr>
            <a:xfrm>
              <a:off x="2895480" y="5943600"/>
              <a:ext cx="1219320" cy="70344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着急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6019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91_00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143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问题归类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666880"/>
            <a:ext cx="4648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原因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表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沉着的结果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371600" y="4724280"/>
            <a:ext cx="5867280" cy="1084680"/>
            <a:chOff x="1371600" y="4724280"/>
            <a:chExt cx="5867280" cy="1084680"/>
          </a:xfrm>
        </p:grpSpPr>
        <p:sp>
          <p:nvSpPr>
            <p:cNvPr id="181" name=""/>
            <p:cNvSpPr/>
            <p:nvPr/>
          </p:nvSpPr>
          <p:spPr>
            <a:xfrm>
              <a:off x="2666880" y="4724280"/>
              <a:ext cx="4572000" cy="106704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600" y="5105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通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657600" y="3733920"/>
            <a:ext cx="3581280" cy="99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962520"/>
            <a:ext cx="1219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99"/>
                </a:solidFill>
                <a:uFillTx/>
                <a:latin typeface="Times New Roman"/>
                <a:ea typeface="黑体"/>
                <a:hlinkClick r:id="rId1" action="ppaction://hlinksldjump"/>
              </a:rPr>
              <a:t>读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76720" y="2819520"/>
            <a:ext cx="3886200" cy="932040"/>
            <a:chOff x="3276720" y="2819520"/>
            <a:chExt cx="3886200" cy="932040"/>
          </a:xfrm>
        </p:grpSpPr>
        <p:sp>
          <p:nvSpPr>
            <p:cNvPr id="186" name=""/>
            <p:cNvSpPr/>
            <p:nvPr/>
          </p:nvSpPr>
          <p:spPr>
            <a:xfrm>
              <a:off x="4648320" y="2819520"/>
              <a:ext cx="2514600" cy="91440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6720" y="30481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好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038480" y="2057400"/>
            <a:ext cx="3048120" cy="779760"/>
            <a:chOff x="4038480" y="2057400"/>
            <a:chExt cx="3048120" cy="779760"/>
          </a:xfrm>
        </p:grpSpPr>
        <p:sp>
          <p:nvSpPr>
            <p:cNvPr id="189" name=""/>
            <p:cNvSpPr/>
            <p:nvPr/>
          </p:nvSpPr>
          <p:spPr>
            <a:xfrm>
              <a:off x="5257800" y="2057400"/>
              <a:ext cx="1828800" cy="7621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2133720"/>
              <a:ext cx="19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读熟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90920" y="603396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自 读 步 步 高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48520" y="990720"/>
            <a:ext cx="1066680" cy="1143000"/>
            <a:chOff x="6248520" y="990720"/>
            <a:chExt cx="1066680" cy="1143000"/>
          </a:xfrm>
        </p:grpSpPr>
        <p:sp>
          <p:nvSpPr>
            <p:cNvPr id="193" name=""/>
            <p:cNvSpPr/>
            <p:nvPr/>
          </p:nvSpPr>
          <p:spPr>
            <a:xfrm>
              <a:off x="6248520" y="990720"/>
              <a:ext cx="1066680" cy="6094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10666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1905120"/>
            <a:ext cx="769608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管仲带领人马回到齐国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齐桓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士们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亲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57200"/>
            <a:ext cx="20574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写  话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01:08:29Z</dcterms:created>
  <dc:creator>lihua</dc:creator>
  <dc:description/>
  <dc:language>en-US</dc:language>
  <cp:lastModifiedBy>SJ</cp:lastModifiedBy>
  <dcterms:modified xsi:type="dcterms:W3CDTF">2001-12-02T04:01:28Z</dcterms:modified>
  <cp:revision>6</cp:revision>
  <dc:subject/>
  <dc:title>没有幻灯片标题</dc:title>
</cp:coreProperties>
</file>