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5799138" cy="795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EA1-466C-40D7-94CD-4741B528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6A2-3246-41C6-8F7D-37F49CF0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78B-A798-41CC-99EF-EB199DC2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AC1-629E-497D-9369-5E60CE1C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A1E8-4D15-47A3-A862-AAB365CD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4C8-809F-4889-8165-3F1A5409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69A7-49BD-429B-AFC8-491F391E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ED73-838C-4752-8D55-CCB49070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189B-CB7C-46BD-BE07-871012F4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59BB-73E9-49C5-9206-3F1FAA6E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2250-5A4D-495C-8AEB-B82483E7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D3C-7196-4CC9-8146-B1FAF78A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84DC-72F6-4E4B-AF42-C9C9BA0E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4848-8BDE-4183-82D8-E7CF847B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782F-A531-4596-99D9-CC123AE5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637A-71C3-410E-8D40-9E91EF5E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57B7-6CE0-4065-A7A9-9E5EFE71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2A3-6A99-4040-A5D8-10303AE7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256-121C-47E3-97D8-B90BD9E0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ABD-5D4A-44E6-92E8-25575180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096-64F9-4F7C-9E48-467AF4DE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DFF-07A4-43B4-BBD6-8D6B3194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A0D-D765-4A4F-AA57-1B7ECE1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7DA-5B46-4044-81E9-48AF255B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6B38-854C-4D9A-9EC0-1F247915492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DAD-3C3A-4506-A02F-57B98301999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1523880"/>
            <a:ext cx="655308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nit 10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rightening nature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ord study 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tched it rising from a mountain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-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such a distance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n’t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, but we afterwards learnt that it was Mount Vesuvius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a place that is not very close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tective followed him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ble to see how one person or thing is different from anoth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taste buds can ______________ between four basic flavors.(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区分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33412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ell the differe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6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ht of it awok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cientist in my uncl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o and see it from clos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ha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ienti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y uncl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学灵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ar in time or spa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hops and buses clo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you to b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my interview with the applicants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arted out as a trip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now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led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age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ll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ed, ask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工人要求罢工运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ers ar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ing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ike act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工作需要耐力和耐心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s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durance and patienc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fferent direction; on the contrar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看见警察后转向另一方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he saw the police com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觉得去时用的时间比来时短，其实正相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ould think to go there is quicker than to come back, but it was jus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dv. immediately; directly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轮船直沉江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wen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bottom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进门就打开了电视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on the TV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e came into the room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some dirty weather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cking about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ctive, and esp. to travel continuousl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has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ed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frica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young man he suffered a lot from poverty. He used to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arket, trying to find a job for a few coi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rricane,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its pow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ink ships, to uproot trees and to overturn strong walls ha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little ship in its path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360" y="2285640"/>
            <a:ext cx="8875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subject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the hurrica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e, f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 can have the nouns to be their subjec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ld house ha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day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a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ople singing and dancing happily in a street parad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096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active v_______ on Monstserrat caused more than US$323,000 damage to crops and the island’s water system, the government said Thursd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island was covered with d______ and a______, as deep as four inches. Fruit trees and crops were severely damaged, but none of the people were reported injured, officials said. Some wildlife habitats were damage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09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volcan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5812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ir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1148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s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volcano on Montserrat sprang to life in 1995. More than half the population f______ and never returned a_______. An e_________ in 1997 killed 19 people and buried the capital of Plymouth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Although there was a feeling of p_________, people told reporters that they would not leave their islan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Officials in said costs for cleaning up could reach US$188,000. the UN has u________ other countries to help. Britain already gave 1 million pounds last aid Tuesd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838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l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3716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133992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rup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895480"/>
            <a:ext cx="312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rotec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9975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rg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6400" y="614880"/>
            <a:ext cx="5191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25000"/>
              </a:lnSpc>
              <a:buClr>
                <a:srgbClr val="ff0066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近在手边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附近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ha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冲击，漫游；闲逛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nock about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地，冷不防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of a sudde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需要勇气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courage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3657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ed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宋体"/>
              </a:rPr>
              <a:t>怕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 be frightened of the dark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at a ___________ dog! Even the bravest boys are _____________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914400"/>
            <a:ext cx="457200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feeling afrai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making you feel afraid or nervou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1294920"/>
            <a:ext cx="121896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295280"/>
            <a:ext cx="1143000" cy="6098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4038480"/>
            <a:ext cx="266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6483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04920"/>
            <a:ext cx="80773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另一个方向；相反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he other way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buClr>
                <a:srgbClr val="ff0066"/>
              </a:buClr>
              <a:buFont typeface="华文新魏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竖立起来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on e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注意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draw one`s attention to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97840" y="437040"/>
            <a:ext cx="462456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平静下来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m down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照亮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ght up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惊慌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a panic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船上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board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76520"/>
            <a:ext cx="4572000" cy="3802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；忽然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at once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完蛋了，不行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done fo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676520"/>
            <a:ext cx="4114800" cy="3802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度过，经受住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ve through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远处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a d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不理会他父亲的恐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took no notice of his father's thre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啄木鸟栖居于空心树上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oodpeckers inhabit hollow tre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里是建房的好地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is a nice spot for a hou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幅画远看就好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picture looks better at a distan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俩兄弟太像了，很难分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The twins are too much alike to tell them apa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现在手头没有字典，呆会儿我指给你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 haven’t the dictionary at hand but I will show it to you la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猜我没饿，其实正相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guessed that I was not hungry, but it was just the other w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在欧洲漫游了好几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s knocked about in Europe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丰一中见证了我们的失败与成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No. 1 Middle School of Xinfeng has seen our failure and succes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words were left out at the place of the question mark (?) in the following two sentence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1).Upon arrival, my uncle hugged Pompy and (?) tried to give him courag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2). Then came a smell of sulphur, and then (?) flame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look at the following sentences and tell me the full sentences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3360" y="23619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 Beg your pard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 Haven’t seen you for ag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 Some more tea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 Sounds like a good idea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 Joining us for a drin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 Going to the supermarket?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917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。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祈使句的主语省略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hel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和谓语的一部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e is) no smok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做宾语的不定式短语，只保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idn’t come although he promised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o have a try? I’d like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83908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如果该宾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或完成时态，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不能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Are you an engineer?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No, but I want to b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Have you finished the task? –No, but I ought to hav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并列句中可以省略分句中的相同的成分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ther is a doctor and my mother (is) a nur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主句中的省略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 am) Sorry to hear 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从句的一部分，用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o, no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代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he come tonight? I think so/ I think not/ I don’t think so.  (hope, be afraid, gues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般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并列不定式可以省略后面的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old him to sit down and wait for a mome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5867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ides this pair, what else?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boring , bored; threatening, threatened; terrifying, terrified; upsetting, upset; interesting,  interested;  exciting,  excited;…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76720"/>
            <a:ext cx="9144000" cy="22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iling an exam can be __________, but James was ________ today not because he had failed the exam, but because he had missed the live programme of the soccer match. (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pse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2767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t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77820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使役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t. make , 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感官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, watch, notice, observe, hear, feel, fool at, listen 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做宾语补足语的动词不定式一定要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但是在被结构中不能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aw the boy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was seen to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). find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lp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的可以省也可以不省略。但是如果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，则不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(to) work very har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to be hones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介词前若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后面的不定式符号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did nothing but pl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状语从句中，从句的主语和主句一致，或者主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时，可以省略主语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you are) asked, you may come 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it is) necessary, I will come to help you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more time, we can do it better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055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2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有形式主语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的主语从句可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(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) (that) Joe is ou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Jack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honor (that) I was invited to your birthday par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１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限制性定语从句中可省略作宾语的关系代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om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ich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he naughty boy (whom/that) we talked about last week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88455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It did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ake my uncle long to decide whether to go to save his friends or not to go to save his friend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They had a meal, they went out for a walk and they came back to sl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They discussed whether they should stay in the house or they should try the open ai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505320"/>
            <a:ext cx="11430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962520"/>
            <a:ext cx="3276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5181480"/>
            <a:ext cx="7621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477120"/>
            <a:ext cx="2133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88455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bathe if you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want to bath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I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visit my parents as much as I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ght to visit my parent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429000"/>
            <a:ext cx="990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5410080"/>
            <a:ext cx="2971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735120"/>
            <a:ext cx="8534520" cy="499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 is ________ that the volcano became active without warming. People were _________ by the eruption.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rrify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veral children decided to explore a _________ cave. They were ________ to death when they saw a giant spider. 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care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73512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y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0180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i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-76680"/>
            <a:ext cx="47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威胁；恫吓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;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造成威胁的人或事；凶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战争的危胁使商业变得不景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war has depressed business activi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seriou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fami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der threat of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危胁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死的危胁下他只得照他们的命令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forced to carry out their order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der threat of dea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aten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孩的父亲威胁说如果他再偷东西的话，就要揍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fathe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oy to beat him if he stole aga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younger boys _______________to give money to the older on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___________letter frightened him.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7018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re threa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952880"/>
            <a:ext cx="281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56386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j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 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one of the people who live in a particular place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tow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bi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. live ther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land mainly i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h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烟稀少的一个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ct sparsel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-38124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spot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rk on skin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她生病的时候，她脸上有斑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d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her face when she was ill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rty mark, usually made by a liquid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ot of grea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e shi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particular place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被谋杀的地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he was murde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little bit, small amou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吃点午饭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have a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lunc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sb.on the spo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position of having to make the right answer or decis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个问题使我得做出反应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estio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ut me on the 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t., vi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otice, to see, to recognize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rk with spots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’s very tall, so he is easy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row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loo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as spotted 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in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1:02:18Z</dcterms:created>
  <dc:creator>高一级老师请用该系统</dc:creator>
  <dc:description/>
  <dc:language>en-US</dc:language>
  <cp:lastModifiedBy>zys</cp:lastModifiedBy>
  <dcterms:modified xsi:type="dcterms:W3CDTF">2005-12-26T02:47:00Z</dcterms:modified>
  <cp:revision>129</cp:revision>
  <dc:subject/>
  <dc:title>Unit 18 NEW ZEALAND</dc:title>
</cp:coreProperties>
</file>