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6CF9-B66F-4BE2-B48A-F924B8C3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ECCC-B17A-4CB5-9229-FC0DE80B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2B05-9E54-4913-86D9-9E1B1807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E1D5-02CD-4ED1-A9A7-B31C8EAB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89B7-0782-4A7B-89F9-638E856B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C2DF-2320-49FE-A11F-6E410E5C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5846-BBFB-4F1F-BFCF-FF6A3BEE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50B8-AA56-452F-B378-C8C01DEE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70D5-D54C-41F7-AF0E-E1C3FB73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8A68-6DCD-42D4-86FA-4F60B659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434E-570C-4E23-BDD1-E7290B89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031F-3B8D-41CA-B74F-667484DC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FC8C-0889-4E92-967D-8807F02F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D583-BD53-49BA-8C2C-470FEC60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EAE5-4B9A-4206-8F5C-AEEB7386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17D9-0721-406B-B4E6-BF5690A0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5151-55D7-4FAC-9334-B354CE4D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5780-B76C-4E6B-9C2B-86A16AAD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2099-50C3-4C6B-82FC-DA50E38C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51D2-99AE-458A-9611-E9758C9C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EB81-6BBC-4B44-A0AE-71FEBD27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2B1E-76FC-4768-AFC4-6DA4343F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EAC7-1980-4582-A1BC-51D4A62B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24DE-0B5F-4F93-9A7B-2758F48C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0750-982E-4317-9F28-F86DDD139A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42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5C68-B7A8-4050-909A-1D6550AFDE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xnw.com.cn/nyqx/images/nq-gh.jpg&amp;imgrefurl=http://www.nxnw.com.cn/nyqx/nyqx.htm&amp;h=187&amp;w=172&amp;sz=7&amp;tbnid=dCGZvfjSsQQJ:&amp;tbnh=96&amp;tbnw=88&amp;start=15&amp;prev=/images%3Fq%3D%25E5%25B9%25B2%25E6%2597%25B1%26hl%3Dzh-CN%26lr%3D%26ie%3DUTF-8%26newwindow%3D1%26sa%3D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1125360"/>
            <a:ext cx="7848720" cy="328644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U.4  </a:t>
            </a:r>
            <a:r>
              <a:rPr b="1" lang="en-US" sz="9600" spc="-1" strike="noStrike">
                <a:solidFill>
                  <a:srgbClr val="ffff00"/>
                </a:solidFill>
                <a:latin typeface="Freestyle Script"/>
              </a:rPr>
              <a:t>Language points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00000" y="2924280"/>
            <a:ext cx="7417080" cy="2966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228600"/>
            <a:ext cx="889344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1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and out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引人注目；脱颖而出；突出；坚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在人群中很突出，因为他身高两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He stands out in the crowd, for he is two meters  hig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y stood out till victory.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他们坚持到胜利。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956720" y="556272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2920" y="0"/>
            <a:ext cx="889308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2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eatur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[Cn]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征，特点；面貌的一部分；相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 中国的地理特征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What are the geographical features of Chin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房子最好的特点就是那个漂亮的阳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best feature of the house is the beautiful balcon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译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r mouth is her worst fea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i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她五官中嘴最难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leasing feature    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讨人喜欢的相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580160" y="5334120"/>
            <a:ext cx="1563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 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84120"/>
            <a:ext cx="8820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3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llow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v.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遵循；听从；注视；领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 你为什么没有听老师的建议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Why didn’t you follow the teacher’s advic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们密切注意形势的发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y closely followed the development of the situ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的讲座很难听得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His lecture was very difficult to foll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43880" y="495288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391520" y="5667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98280"/>
            <a:ext cx="846144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4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---that is now difficul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underst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修饰形容词作表语的不定式常用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主动表被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i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e.g.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I think romantic poetry will be very nice to rea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看足球赛很有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Football match is interesting to wat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om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很难相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m is difficult to get along </a:t>
            </a: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with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543800" y="0"/>
            <a:ext cx="15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09480"/>
            <a:ext cx="88930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5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around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the time of ---,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ward(s)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快天亮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owards da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9.--- i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st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famous for his pla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没有定冠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，不表最高级，只表示“极、很、十分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.g.  She is a most beautiful gir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457200"/>
            <a:ext cx="76197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会见在极友好的气氛中进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proceed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e meeting proceeded in a most friendly atmospher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15920"/>
            <a:ext cx="883908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6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belo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“属于、应归于”时，常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 再加宾语。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栋房子属于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is house belongs to 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 “应被放置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处合适、适用”时，多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his chair belongs in the corner.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这把椅子应该放在角落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0"/>
            <a:ext cx="17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7.Once published ,his works became famous for the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bsence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f rhyme at the end of each line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623960"/>
            <a:ext cx="86868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bsence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在，缺席；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bsence fro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chool / 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缺乏，缺少  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bsence of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312408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我很快注意到他缺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886200"/>
            <a:ext cx="793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soon noticed his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bsence fro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cho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46483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我不在时规矩一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5410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have yourself during my abse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29528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bsence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rain caused the plants to di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2362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j.     absen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缺席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437000"/>
            <a:ext cx="1523880" cy="1981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62120" y="35053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body is absent to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23840" y="9968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206064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205000"/>
            <a:ext cx="79200" cy="719280"/>
          </a:xfrm>
          <a:custGeom>
            <a:avLst/>
            <a:gdLst>
              <a:gd name="textAreaLeft" fmla="*/ 50760 w 79200"/>
              <a:gd name="textAreaRight" fmla="*/ 79560 w 7920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8.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troduction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English poetry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h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27000" y="457200"/>
            <a:ext cx="32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英文诗歌传入中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1125360"/>
            <a:ext cx="7029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roduction + of  +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体内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 +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作方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76320" y="2209680"/>
            <a:ext cx="98298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be interested to do s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== be interested in doing s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4. Translation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a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e good, but 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can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 “理论上的可能性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经验丰富的教师也可能会犯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Even experienced teacher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ca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make mistak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89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Reading poetry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ring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people from different  places and different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time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gether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 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2. More tha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any other form of literature, poetry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plays with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sounds, words and gramm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. Poetry also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calls up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ll the colors, feelings,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experience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and curious images of a dream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troduction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English poetry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h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304920"/>
            <a:ext cx="8591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.Reading poetry in English also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opens t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door to find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ew ways of expressing yourself in Chine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2438280"/>
            <a:ext cx="7989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open the door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sth./ doing sth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为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创造条件” “向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…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开门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译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学好英语为将来找好工作创造了条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541008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aning English well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opens the door to 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</a:rPr>
              <a:t>find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 good job in the fu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4360" y="170028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light up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照亮，点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228600"/>
            <a:ext cx="861048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. Quietly, we embr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a world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lit u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y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434340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ghted (up)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a cigarette before speak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2590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up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可省略；表”照亮“时，一般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up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不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358128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说话前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点燃了一根烟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51814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照亮了我的心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601992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You have lighted up my he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" y="409680"/>
            <a:ext cx="913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1.come into being 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事物，局部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形成， 成立，产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209680"/>
            <a:ext cx="7920000" cy="1191240"/>
          </a:xfrm>
          <a:prstGeom prst="rect">
            <a:avLst/>
          </a:prstGeom>
          <a:solidFill>
            <a:srgbClr val="00cc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We do not know when the universe first came into be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5334120"/>
            <a:ext cx="734544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hen did the first railway come into being in China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40384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中国什么时候有的第一条铁路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87640" y="4797360"/>
            <a:ext cx="302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0492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ding poetry in English also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opens t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do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to find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ew ways of expressing yourself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ine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90440"/>
            <a:ext cx="9144000" cy="66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8.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Reading poetry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ring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people from different  places and different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time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gether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ring A and B together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i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使</a:t>
            </a:r>
            <a:r>
              <a:rPr b="0" i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---</a:t>
            </a:r>
            <a:r>
              <a:rPr b="0" i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会聚到一块儿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”   “</a:t>
            </a:r>
            <a:r>
              <a:rPr b="0" i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使</a:t>
            </a:r>
            <a:r>
              <a:rPr b="0" i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---</a:t>
            </a:r>
            <a:r>
              <a:rPr b="0" i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和解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loss of their son brought the parents toge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现代通讯技术能使世界各地的人都会集在一起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Modern technology of communication can ______________________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55948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ring the people from all over the world toge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280" y="631800"/>
            <a:ext cx="889344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9.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More tha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any other form of literature, poetry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plays with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sounds, words and gramm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)more than: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not only       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在此句中意为 “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胜过于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她的表演非常好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远远不止好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可以说是完美的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Her performance_____________________; it was 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-316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518148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as more than g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62520" y="1905120"/>
            <a:ext cx="11430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玩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3616200"/>
            <a:ext cx="20574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与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---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逗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5257800"/>
            <a:ext cx="20574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可以利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86600" y="228600"/>
            <a:ext cx="15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5720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)play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medians often play with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 have no brother at home to play wi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urry up!We have little time to play wit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830160"/>
            <a:ext cx="889308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0. Poetry also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calls up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ll the colors, feelings,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experience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and curious images of a dream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诗歌还能汇集梦幻世界中的一切色彩、感情、经历和各种奇妙的意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l up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汇集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召唤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唤起对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---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的回忆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给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---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打电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774720"/>
            <a:ext cx="91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首歌让我忆起了旧时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is song makes me call up old ti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明晚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点我给你打电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I’ll call you up at 7 tomorrow eve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0920" y="609480"/>
            <a:ext cx="8893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1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and out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引人注目；脱颖而出；突出；坚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e.g. Our daughter is a good dancer. She stands out above the r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译： 那帽子因为奇特而引人注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956720" y="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41008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hat stood out because of its strange shap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31T16:16:20Z</dcterms:created>
  <dc:creator>余幽趣</dc:creator>
  <dc:description/>
  <dc:language>en-US</dc:language>
  <cp:lastModifiedBy>jinma</cp:lastModifiedBy>
  <dcterms:modified xsi:type="dcterms:W3CDTF">2005-11-13T16:14:03Z</dcterms:modified>
  <cp:revision>66</cp:revision>
  <dc:subject/>
  <dc:title>拿来主义</dc:title>
</cp:coreProperties>
</file>