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type.wav" ContentType="audio/x-wav"/>
  <Override PartName="/ppt/media/image10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4.png" ContentType="image/png"/>
  <Override PartName="/ppt/media/image12.gif" ContentType="image/gif"/>
  <Override PartName="/ppt/media/image14.png" ContentType="image/png"/>
  <Override PartName="/ppt/media/image11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png" ContentType="image/png"/>
  <Override PartName="/ppt/media/hammer.wav" ContentType="audio/x-wav"/>
  <Override PartName="/ppt/media/image8.png" ContentType="image/pn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  <p:sldId id="280" r:id="rId51"/>
    <p:sldId id="281" r:id="rId52"/>
    <p:sldId id="282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slide" Target="slides/slide25.xml"/><Relationship Id="rId52" Type="http://schemas.openxmlformats.org/officeDocument/2006/relationships/slide" Target="slides/slide26.xml"/><Relationship Id="rId53" Type="http://schemas.openxmlformats.org/officeDocument/2006/relationships/slide" Target="slides/slide27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631B-9E6B-4F3F-898F-4A7BB3D76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B04C-1A90-437A-87E1-9612DE44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CA4A0-B45D-41F2-A731-E179C705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C26C8-3573-4514-8E94-2AB8B824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7362C-9D5F-439B-942E-4455C85E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132DE-3FD7-4607-8689-2DB71CCB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AED5E-ACBE-4DDB-9E56-18212C63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5FC18-9260-40BD-98F9-BD6A745E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D6AFB-8417-4243-9BE4-742CBE0B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57541-9A83-4ABB-B905-1EE66D862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FBBA1-A798-4D69-8333-A25228AFC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BF2700-21CE-4662-A65C-47E1D0EE7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B4BA-13D8-4D53-B4D2-8F5C400B8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3D61E-66FD-451F-9A58-3803FDF9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32F0C-A48C-4A17-A6C8-CBB59758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5B31E-3E81-44A3-B792-888D7D50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D4EE9-FD03-4F05-A05D-F9329BC2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2DC69C-D941-4795-8A00-CB59EA70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257EE-C55F-48C2-9640-29A8B4D2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2E686-9C72-46A0-8605-F1EFC7D9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AB5B2-C5CD-4248-9ED6-B059FD80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8FEBB-FA28-446F-A5B8-6A14691F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B6148-0C16-4142-B249-DC939609E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2D41-0E80-4EDE-B0A9-529DE9E63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89DEA-5F03-4684-975C-51EB9E905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28B0BC-AB7C-457A-9C02-2FEE8551F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CEF0CB-7D52-4E85-926D-334F898A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AA2AE3-1478-4B9F-ADC4-CCB0CE3E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3EA76B-EF8D-40DF-A70E-224FBB40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939D30-A414-47DF-8D89-6CFB78C8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9615E9-984D-4064-9029-3F019402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6FC217-9853-4352-B6C7-C5A8A6C6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5C0BFF-EFAF-4D1B-B873-39650B2E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F2AEAC-911F-4EC0-92AE-819A62C3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67CF6C-E240-4143-A5A8-AA9EBB21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2BE5D4-0E8D-4890-8487-60B427643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4C940F-F101-4C4B-8538-A38087260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E1ED7-DCF5-401A-BCC1-DA40ADBF2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EA79C-7E5E-46A7-BA9C-EEEAB94C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94778-597C-4228-ACE4-B1B7D028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CE6CA-9D86-42C6-AFA3-77D19102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70542-FC51-45BD-B699-5E7E29FC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42313-EBC8-45E3-8839-9319A9C8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35CA9-3AD4-4EBD-ABD0-452D1279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169C8-B851-4E25-A33D-6EC3CA56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D97EA-C730-4639-BDBF-5B8E25E3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FFA4F-FDBF-4B4B-8EC1-0D5C5AC2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DED86-9853-44A3-B1EA-831D800DD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83EBF-A574-4F6A-9D40-AC2603783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E02AF4-2215-4B0D-AD5D-DBAE1202C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F4B40C-885E-4519-B35F-E0827611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0C250C-FC45-40E2-8269-BD4C0A79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48D699-7EC1-4E0B-8901-3A7E4CA9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305BBB-0E3C-44BD-A029-A9785AC0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1426FF-CACA-42E6-8B02-CDEF327D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D4FE72-C36F-49FA-AC95-A3312000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AF26C6-C7C5-476F-A722-49CFDA0B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8D1CF8-0784-483E-9985-A97EE892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679BC3-EC58-4B2E-ADA7-3C87E354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6DD7E0-F7CA-4898-B437-F86E0C85E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C634BB-5C2B-4032-92F2-2506A6C58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FDB49A-ADD2-466E-B4F4-A2620719F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D5BDE8-1F52-430A-9B87-D16FAF1F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64F647-97C3-460A-8ADE-0D0DEA6E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628739-3028-4ED0-9633-C677BA68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5FFF8E-8326-410F-8B8E-D4A6AC32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FA81E7-B205-41BF-8C4D-6A507E0B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45C8C6-7FF2-4F7D-8520-E5B8199B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83C7BE-8806-4E6B-BB27-EBA89084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E82CA0-F2BE-4550-B64D-94578D7D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17F813-D8FE-4208-AE74-536C9DFE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36D44F-504C-4658-B8F5-B25888807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25C123-CF67-4E96-A24E-0FEA3D170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254285-6324-40C7-8F3D-4259A26CC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A793FC-4FE1-496D-BC18-54E90A33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4FBEEE-DE26-45F8-9661-30C61347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237FEB-D282-4F3E-94B5-9B5348FE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6F10A3-05A5-4A62-8F75-455EAF4C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DEF6CC-11F6-4F52-BF7E-1F4F1DAE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18F91E-1BBA-43BF-8C18-6382B85C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5B7730-F4AC-431F-A017-EF04E605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1CAFF6-43DE-43BD-B57F-BA8BAF07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42E820-F239-4327-B855-7AB6D5ED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5E7513-8BF9-4BFA-A10C-FB26EE4A2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F432D9-231A-474C-9730-67592340C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532795-E495-43F2-8DEA-852A50AF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0DC8E4-0825-413F-9F6C-6CFF30E2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051703-FD5B-4C8E-B589-44C49C10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C55DBB-FEE5-4E5F-8A57-04BF9CB5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58C44D-33C1-4DE8-B6DC-A8E478C4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FDC55E-9A3F-490B-B003-9B793B7E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E442D5-6131-4A5E-90F4-1AAA48D9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D776D7-4A74-471E-89AA-41256550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F31B58-0902-4362-82BC-FCF41AD4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9EC021-D9D2-46CA-B4A0-CC115D22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3BCFEA-4505-44B1-A0C7-F0F4ED7CD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1E71B3-AA3C-446B-95CA-1874019D1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47335A-2709-4762-959A-402D1E0AB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5FE99C-728F-45EB-8CD5-FB5A7A85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B9BEB1-AB2A-48BE-ADB3-A4DE2BCA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B3183E-4D2E-43B1-A0A9-5A01AEE4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214263-D896-49B3-A5A1-9EF6DD14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A4CA0F-6C72-4B06-A492-8ECAFF42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352C85-65A7-4D3E-AED7-CF311226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DDD8-3AEE-40BD-AAB2-B83A8BC8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F1464A-FC0A-4401-B350-29380DA8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B6BC82-AC63-4F67-B560-4C10D111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141D23-0387-4878-88E3-1B3A027D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96F2C9-F6EC-4010-A59A-D091D4286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E888EA-6103-49A0-80E7-9D5C5F599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C17A85-9249-4DA5-93ED-DE2F8882D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38A7A0-4E61-427A-9D7D-28984FB5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697F26-C748-431F-8A6D-90E5C91C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E62CA2-EC58-44CD-A1DE-2FCADBAA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5755E6-6FBD-43A6-86E9-ECE5EBC1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614493-53FD-44EB-9FA2-3CB1DAAD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82BD57-28AF-4BC9-A048-13F44304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3EDB59-CC7E-4558-933E-B53D63A0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8E7712-5ADD-4C54-A17C-160D126D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D90CA9-5482-4565-AABB-808D75BA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88429C-FC7C-4829-98C6-A390BD552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7083B2-412E-42DE-85BA-F7FA57B1C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63EF2A-AE11-40DC-9EFB-8A05C0752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72AC8C-44B9-46C3-954B-48AB628C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C59CEE-1BD9-4BAF-A3CB-23555D92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C7B6A0-60BB-41BD-8AB8-B9639CFF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51EC0B-68D8-46CE-9F8D-18F18A5F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1A1F80-8AB4-4F8E-8A3C-7E96D4FE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413E65-451C-4C74-8080-98B0F459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36CB7A-38C3-442B-B0CF-BCED5D87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701FA4-89B4-48EB-BAB3-88C94596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4372A8-84F7-43BD-8E94-253D6E54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8A4252-0B80-48AF-9B97-F8129ADF1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500264-D4B1-4902-B1C6-4360BABC7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9E609BD-3FB1-41A1-87EC-26DC0CFE8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015EA7F-3A16-43A2-9802-A053218E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300AF08-096A-4462-BD26-02ACE7F6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C812B3D-E7F4-404D-B968-841EFBA3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93D5AF1-4BA1-4327-84A9-63F7BB74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52C3459-BC25-4C0E-BAA3-0BFCA041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9984280-889D-4B80-89C6-F8F6B8FA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223EEEC-3B31-4945-A60C-6D2BE01F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5E71591-B2B8-4FF2-8F29-BA8B3609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A932BD9-CDF3-4C03-96BA-BAC98FAF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EB4B59C-FE8A-44F6-82F4-BF4563773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2F1E6C7-E21F-41CB-9295-3A365B3AB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E1BFC0-8151-46AD-972A-6488E7E2B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F1722E-8398-45E0-A67C-FB4C81BE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5E8BBE-22AF-402C-B9AC-150E82EB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1CCC1F-3C2B-4B62-B624-AAFA191A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EBBFBA-CC70-4F1A-8858-6BCFBE4C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7D76D2-3E58-4906-A8C6-DA33A42F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8D3257-5B1E-4567-B5D7-0D6830C2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AE62DC-AE94-4A32-BDA2-C5862C26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B74693-63AA-4D2E-BB1D-EAD8E6BA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A3B5-1266-4C49-8FCB-A52AB9485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A9530C-CC77-417F-9207-0213B1C6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DA1807-66DA-45E2-ADD2-B124D6D0D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C8EB6B-039A-46C4-81EF-5ECC2C4ED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E682F7-E5DF-494D-88D9-8D4424308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0F7D12-32D4-4785-B8D9-8DEB0D06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3B8E31-F3D7-40BC-9FA7-BB165126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CB0155-4639-454B-A6BB-6A0D6E76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CFCEDE-CA99-416D-803A-5001E170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1707C5-6A92-4A25-838E-7B6D677E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FD8FD1-EDC3-4255-A8ED-5836A97D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C66F-61D9-4271-B0A2-36418A30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C2B635-1C16-44A3-A558-8F2DAD34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8B641B-A965-4307-9729-4B9CCD5F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C302F9-2C7E-4D68-A9F4-0ABFD20F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1F1AFC-732B-4050-8885-D415EBDA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BFB237-074E-4F31-9A1A-983567CA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C0A27D-287D-44AB-9274-38F798A0D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5A18E9-D794-4403-AE64-C0DD3CB2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D12FF0-AB72-4252-B369-3B073F74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9E7361-0F57-44D7-94A6-5D1F2D36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70F3FF-0759-416C-8560-45D2A5AB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F68D-FB9E-495D-9678-2050224E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24EAC1-E0B6-4391-8F4B-6B19A4CC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29CCB6-FC87-44E2-9472-0DA40420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6141CD-6A74-443F-8F64-8B4C6F76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9C22B8-8CFD-4014-BDBE-A1673A22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D1FAE3-C86B-4C82-8FD1-1BB4A93E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1F8EAD-8059-4E79-908D-ACE7A84EC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A02A17-DAA1-4B25-8DD6-D57EBC096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FEA6B8-A7BA-40FB-99E8-D667D6201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46C111-816D-45E4-BECA-3BBA0A84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5F0BFD-A90C-482C-8408-8D15609D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093A-C1A7-43E5-B7F2-9EE87CAB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584F58-2C24-491E-AEB6-9F0A4A1B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08D56C-A623-43AA-8B4C-75693EED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EDFA45-47D9-4E88-96A3-7911ECFA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23967F-A6F1-48FA-A789-A115CEA5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0D553A-9EC8-42F4-AF61-A684BD53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3F44F6-A474-46B2-9026-A5881AB6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9E49CB-4E1E-453D-8C4A-671DB6CF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414DF2-C4F1-47F2-9868-26F6CD589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CFE8A4-ECF4-4E32-8E74-AABC0459A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AC72EC-10E0-45CE-B693-A41507C30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16B8-9A24-4B9A-818A-77E18E14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EE1B2C-663E-45AE-ADCE-2E2366FA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3E4F69-AC0B-44E1-B1A3-F6C488AC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EECD26-9C9D-421D-812F-2E0FD043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F9E325-2997-43FA-8AFF-746583C8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784464-2D43-4216-A521-21570B80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E4AE62-7216-4D4D-92A4-B5DCC2E3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1AC610-9EE4-4EDD-A2AD-2162A907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7F2AA7-F8F5-4AF6-8C5D-E95953BB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D3C988-01BC-422B-9DC6-536ED98C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E058E2-C74F-446A-893C-88D135C85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1233-0FEE-4E63-A585-EB0CF4F3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1DA6-71DE-42BD-BCA1-18DD3619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93B187-335F-4DCF-9B23-4D4234D96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C27F-7ADA-465F-A780-30034B0B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094E-76C6-4C27-8983-19F6BED5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5BE5-15AC-4C00-8546-F4BEB055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923C-572B-47A4-9E75-2953C521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8C31-02A8-4EAB-8AE1-7FFD49038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80CC-6C0E-442F-9BB7-2D1A6AD48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40FF3-63B6-47AA-B001-7921AB5C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F7E0F-0D73-44CF-869B-69E15050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1ADD1-64AF-4242-A4BE-565361E2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1D70-984D-49F8-B87E-2192D716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F1F42-82AB-4725-8192-B8CF0C68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5DBC8-0B38-4C86-A295-D6C617B9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4BB21-B641-4311-963C-C472C0BA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B399F-DDAA-4058-ABF3-FF1179DF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74B9D-1136-4E63-8AC9-2D7FDC0B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81DF9-E35E-4CB6-935D-E2102F18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B56EC-2857-4324-A11A-641DB8D4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EF021-CED5-49A0-861D-D88B7BFA6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D4622-0A60-4E34-9B7E-7EE85CDED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05803-8692-46C5-8333-E2915E448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D275-DF6F-45F2-97BA-EB151812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FEE0A-AA43-40AF-9FA0-DB202523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F0315-90B1-4BD1-A9C4-4891DBA8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F1C6B-F391-4226-AFAE-64E4E029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05E51-A302-406D-B303-63063009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9506D-E359-4BF8-A339-03CFB7A6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0D671-80BB-454C-BFA9-F79E09AC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865A8-4146-4527-AF7B-399B3A74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722DB-F8FB-4A33-A14D-9157080D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8B584-597F-47FE-B58E-5A696A38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F7878-6AE0-4456-9E2F-2304A385E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4296-6A8A-4502-B91D-E0D12874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A0A49-9328-449E-82DC-BCD5D2703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E6156-CFCC-423C-9851-5853D697C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3CE13-1CD7-46A7-B36F-DE831ECB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B753D-C24F-45CC-ABBA-A9AB92AD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71CC4-E035-4187-946F-5F532246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FE1C6-E0AA-4382-9E09-8092C051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BA4C7-E08E-4487-8CFB-3CA49226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9B96F-450F-4A2A-A4D5-33EC82BC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97BEF-E561-4BB7-95CA-51C199FF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24557-615D-439C-8115-92185EBB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841C-C01C-415A-BBF3-0F6DABE0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38E2D-091B-4BFC-B675-EB58962F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913C2-626D-4DE9-9F22-8156DFC09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E6807-B3F8-43F9-A4F9-FB566F717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C6487-9BA9-4DFC-BCED-CB3280F8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62E2D-4885-4197-8A12-869E3B98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E3312-2D9B-4075-80C3-E023A671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73A92-08D7-49D7-8BED-347DE55A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1C861-E3EA-4F06-9D63-3F924EA8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AEA32-5E4D-456E-9768-4EDEA1D4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5A77F-B0EA-4011-8D73-1334E6C7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1CB2-C92A-4400-A92E-5BB898BC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4463E-66E3-46CC-892B-C7C03D09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0ED21-B84A-4360-A40B-7C615AD5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FFFBA-A655-4E9C-BA6E-3A49CA0A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C686B-1D0B-4D20-9E9F-F6332A03B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14ADE-3774-40A7-944F-1D2267236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1297E-8B7F-46B0-9781-5EE8EF816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55DAA-5F81-4543-A262-8808D5CA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7CA7C-BD82-4BF2-A630-F3712E1D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203D8-1FDE-4A8F-A207-CD997983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0D4B8-2FF8-48C4-89A8-0EB3B677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652B-E65A-4070-8700-6F53DE0D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A95D3-04FD-4747-9A69-411C9E77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1CE22-22AC-40E2-96A9-3F4E8BB4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CBD76-BE7C-4877-88D6-B09709E7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61E7F-15DB-4FF7-BFF4-F32B9029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0BB8C-5DEF-4171-B524-25519D4E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E8357-7E97-4E90-BFB3-984297D9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6650E-1196-453E-86DA-C09189B3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17A9C-5FA8-4C16-B062-AE4C813B4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77562-F6AF-4082-8C61-0BC12ADB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03B32-BCBE-4A6E-AC27-E4F155D6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646F-6F3D-4CA4-A8A1-928BAB741B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3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74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4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BB7F-C0C6-44C7-AC7E-FE435EEE2B1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80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80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80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81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79A2-186D-4280-8DDB-088F93F1FBC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9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860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3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864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8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889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4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1B3F-85C3-43F1-8C10-D4C307A034E1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7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938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942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5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6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967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6F53-81D4-419C-9CE9-988C0A0AA5FD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" descr=""/>
          <p:cNvPicPr/>
          <p:nvPr/>
        </p:nvPicPr>
        <p:blipFill>
          <a:blip r:embed="rId2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1015" name="PlaceHolder 1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5215-A9E7-4841-B144-C8BFF9F89A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7" name="" descr=""/>
          <p:cNvPicPr/>
          <p:nvPr/>
        </p:nvPicPr>
        <p:blipFill>
          <a:blip r:embed="rId2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675E-DC4B-4E1A-89F1-975B10C087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 type="dt" idx="4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034C-A9B9-4B19-B260-C9F0C1F290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dt" idx="4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DD92-DCE5-4D5A-A16D-41A80B366E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9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80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D437-DAE5-4A64-87F6-5F94AF2BB6E7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6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237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BCAD-49C2-44B6-A0DC-59C361C8DF39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9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 type="ftr" idx="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 type="sldNum" idx="5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6D4A-65D1-40FC-BF89-38FEDC75B6BE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 type="dt" idx="5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35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C523-90EB-439E-8CB2-4F6E5CCF938D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7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418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6" name="PlaceHolder 1"/>
          <p:cNvSpPr>
            <a:spLocks noGrp="1"/>
          </p:cNvSpPr>
          <p:nvPr>
            <p:ph type="dt" idx="6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 type="ftr" idx="6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 type="sldNum" idx="6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EA44-E99E-41A8-831F-1263930FE9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7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468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dt" idx="6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 type="ftr" idx="6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 type="sldNum" idx="6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0A93-7BFA-42B0-B6DF-117EFDA91B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4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515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6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517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0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1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522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7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528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31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532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5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536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9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540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3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CB66-5E1A-4F1E-B682-A8C7B1A39A62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8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599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600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7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3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614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7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618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1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622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5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626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630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3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0" name="PlaceHolder 1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87BF-BE0C-44CD-9759-FD3A9AF9A6FB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B946-DC09-4BC6-94CB-6421DA2CCA50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9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-228600" y="666720"/>
            <a:ext cx="8688240" cy="6191280"/>
            <a:chOff x="-228600" y="666720"/>
            <a:chExt cx="8688240" cy="6191280"/>
          </a:xfrm>
        </p:grpSpPr>
        <p:sp>
          <p:nvSpPr>
            <p:cNvPr id="142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228600" y="3733920"/>
              <a:ext cx="124920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-228600" y="4916520"/>
              <a:ext cx="37828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2751-2169-4B80-BE41-9907662386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187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3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2C8F-D590-4CF6-A8C1-1ABDB72F79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3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4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53D7-7543-4D95-B2B5-53F3720D3307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1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2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3C4B-F3F6-4658-BE4C-2B8501575711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90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91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94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97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400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04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5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7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9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8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1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4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0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2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190E-ABF7-43FC-8BA3-600C9AB10921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566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67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570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71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4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75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76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8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79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1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82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4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85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7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88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0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91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3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94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6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97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9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00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2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03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5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06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8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09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1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12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4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15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7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18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0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21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6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27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9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30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1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2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33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5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36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38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40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641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3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644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5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6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47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8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9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650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2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653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5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656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1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62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4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65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68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0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71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73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674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675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2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3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84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0773-3DA8-4EEC-89EB-51A05F1FE6DD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8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25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27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7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7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0" name="" descr="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1" name=""/>
          <p:cNvSpPr/>
          <p:nvPr/>
        </p:nvSpPr>
        <p:spPr>
          <a:xfrm>
            <a:off x="533520" y="609480"/>
            <a:ext cx="8137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6600" spc="-1" strike="noStrike">
                <a:solidFill>
                  <a:srgbClr val="ff3300"/>
                </a:solidFill>
                <a:latin typeface="华文行楷"/>
                <a:ea typeface="华文行楷"/>
              </a:rPr>
              <a:t>Language Points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              of Unit 8   Senior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228600" y="260280"/>
            <a:ext cx="868680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keep /bear .. in mind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lease keep these rules in min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Keep in mind that the petrol can on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last 2 hour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"/>
          <p:cNvSpPr/>
          <p:nvPr/>
        </p:nvSpPr>
        <p:spPr>
          <a:xfrm>
            <a:off x="2438280" y="228600"/>
            <a:ext cx="5791320" cy="81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ring/call sth. to mind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hange one’s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bsence of mind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bsent-min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keep one’s mind on sth.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read one’s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make up one’s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mind your own busi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"/>
          <p:cNvSpPr/>
          <p:nvPr/>
        </p:nvSpPr>
        <p:spPr>
          <a:xfrm>
            <a:off x="457200" y="457200"/>
            <a:ext cx="8686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calm adj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平静的；镇定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as a calm, cloudless da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保持平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/ stay/ remain cal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平静；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镇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ase go to calm the patient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"/>
          <p:cNvSpPr/>
          <p:nvPr/>
        </p:nvSpPr>
        <p:spPr>
          <a:xfrm>
            <a:off x="1295280" y="304920"/>
            <a:ext cx="784872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panic v.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惊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ase of fire, don’t pani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响雷使马惊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under panicked the horse.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惊慌；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恐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陷入恐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/get in a pan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引起恐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 (a) pan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惊慌地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nic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"/>
          <p:cNvSpPr/>
          <p:nvPr/>
        </p:nvSpPr>
        <p:spPr>
          <a:xfrm>
            <a:off x="900000" y="1844640"/>
            <a:ext cx="864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0" y="152280"/>
            <a:ext cx="9144000" cy="75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33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respond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respo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作回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反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/give no response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response to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回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;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回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offered him a cup of coffee but he didn’t respond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e/gave no response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e responded  to my suggestion  with a laug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e opened the door in response to a Kno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16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"/>
          <p:cNvSpPr/>
          <p:nvPr/>
        </p:nvSpPr>
        <p:spPr>
          <a:xfrm>
            <a:off x="0" y="380880"/>
            <a:ext cx="9144000" cy="63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126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make sure :  find out whether sth. is s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You’d better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make sure of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the time and plac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Can you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make sure of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succes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Before you leave the lab,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make sure th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the door is locke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I want to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make sure whether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he is conscious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"/>
          <p:cNvSpPr/>
          <p:nvPr/>
        </p:nvSpPr>
        <p:spPr>
          <a:xfrm>
            <a:off x="0" y="228600"/>
            <a:ext cx="9361440" cy="24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6.on the/ one’s way  on the way to doing s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Christmas is on the/its w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She is on the way to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getting well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recove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He is on the way to succes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0" y="3124080"/>
            <a:ext cx="914400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7.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calm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adj.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平静的     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vt.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使平静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We should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stay calm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when we are in dange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I advised him to 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calm down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and have a talk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At last I calmed down the crying bab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1" name=""/>
          <p:cNvGraphicFramePr/>
          <p:nvPr/>
        </p:nvGraphicFramePr>
        <p:xfrm>
          <a:off x="324000" y="692280"/>
          <a:ext cx="7561080" cy="5616360"/>
        </p:xfrm>
        <a:graphic>
          <a:graphicData uri="http://schemas.openxmlformats.org/drawingml/2006/table">
            <a:tbl>
              <a:tblPr/>
              <a:tblGrid>
                <a:gridCol w="2222640"/>
                <a:gridCol w="2478240"/>
                <a:gridCol w="2860200"/>
              </a:tblGrid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形容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动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平静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使平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干净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使干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肮脏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弄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干燥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使干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空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倒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自由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使自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r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暖和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使暖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ow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慢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放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2" name=""/>
          <p:cNvSpPr/>
          <p:nvPr/>
        </p:nvSpPr>
        <p:spPr>
          <a:xfrm>
            <a:off x="2050920" y="620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55640" y="333360"/>
            <a:ext cx="662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"/>
          <p:cNvSpPr/>
          <p:nvPr/>
        </p:nvSpPr>
        <p:spPr>
          <a:xfrm>
            <a:off x="0" y="228600"/>
            <a:ext cx="91440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want to make it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lea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I can do it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eas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le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 dirty on the ground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found the hous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mp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’d better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mpt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rything in the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0" y="3276720"/>
            <a:ext cx="8820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8.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th- to-mouth ki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ace-to-fac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eart-to- hear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houlder-to should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back- to-bac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o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"/>
          <p:cNvSpPr/>
          <p:nvPr/>
        </p:nvSpPr>
        <p:spPr>
          <a:xfrm>
            <a:off x="0" y="260280"/>
            <a:ext cx="9144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e conscious of sth.     be conscious tha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s he conscious enough to answer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John isn’t conscious of his bad man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t that time I was conscious of being watc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Jean is conscious that she annoys all of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He has lost his conscious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0" y="458136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10.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ress   v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挤压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ress sb. to do s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Just press the button and the machine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tart right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"/>
          <p:cNvSpPr/>
          <p:nvPr/>
        </p:nvSpPr>
        <p:spPr>
          <a:xfrm>
            <a:off x="304920" y="228600"/>
            <a:ext cx="839772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I. Listening &amp; Speaking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give /do first aid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  first aid b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id sb. to do sth.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id sb. with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go/ come to one’s aid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ith the aid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all in one’s 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"/>
          <p:cNvSpPr/>
          <p:nvPr/>
        </p:nvSpPr>
        <p:spPr>
          <a:xfrm>
            <a:off x="0" y="228600"/>
            <a:ext cx="9144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ress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little girl to he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had t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ress 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wound to stop the blee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bo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ressed the man to p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eb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0" y="3213000"/>
            <a:ext cx="9144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1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revive : make sb. come back to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e should try to revive a person if he l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is conscious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on’t revive the wounded unless you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ow to do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20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1" dur="2000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7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770" fill="hold"/>
                                        <p:tgtEl>
                                          <p:spTgt spid="17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48" dur="20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"/>
          <p:cNvSpPr/>
          <p:nvPr/>
        </p:nvSpPr>
        <p:spPr>
          <a:xfrm>
            <a:off x="0" y="0"/>
            <a:ext cx="9144000" cy="78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2.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).He fell asleep while reading in 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He fell asleep whil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e wa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reading in 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).Be careful when crossing the r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Be careful when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you a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rossing the r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3).Though young, he knows a lot of                                 knowle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Though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e 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young, he knows a lo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wle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4).   If necessary, you’d better go yoursel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If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t 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ecessary, you’d better go your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"/>
          <p:cNvSpPr/>
          <p:nvPr/>
        </p:nvSpPr>
        <p:spPr>
          <a:xfrm>
            <a:off x="250920" y="836640"/>
            <a:ext cx="842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the letters DR ABC to tell your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o give first a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179280" y="2421000"/>
            <a:ext cx="878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irst, you shoul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3419640" y="2349360"/>
            <a:ext cx="57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 sure that the acc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468360" y="306864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ene is no longer danger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324000" y="3789360"/>
            <a:ext cx="864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econd, you shoul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4284720" y="3716280"/>
            <a:ext cx="468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y to get a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468360" y="386064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539640" y="436572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the injured per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324000" y="5084640"/>
            <a:ext cx="864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hird, you shoul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_________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3564000" y="5084640"/>
            <a:ext cx="55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 sure that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468360" y="573408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’s airway is cl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20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"/>
          <p:cNvSpPr/>
          <p:nvPr/>
        </p:nvSpPr>
        <p:spPr>
          <a:xfrm>
            <a:off x="0" y="907920"/>
            <a:ext cx="8675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ourth, you should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Last, you should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3851280" y="90792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ck if the person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250920" y="162864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ea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3419640" y="2349360"/>
            <a:ext cx="57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 sure that the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179280" y="306864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circul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7" name="" descr=""/>
          <p:cNvPicPr/>
          <p:nvPr/>
        </p:nvPicPr>
        <p:blipFill>
          <a:blip r:embed="rId1"/>
          <a:stretch/>
        </p:blipFill>
        <p:spPr>
          <a:xfrm>
            <a:off x="684360" y="4581360"/>
            <a:ext cx="1726920" cy="1100160"/>
          </a:xfrm>
          <a:prstGeom prst="rect">
            <a:avLst/>
          </a:prstGeom>
          <a:ln w="0">
            <a:noFill/>
          </a:ln>
        </p:spPr>
      </p:pic>
      <p:pic>
        <p:nvPicPr>
          <p:cNvPr id="1728" name="" descr=""/>
          <p:cNvPicPr/>
          <p:nvPr/>
        </p:nvPicPr>
        <p:blipFill>
          <a:blip r:embed="rId2"/>
          <a:stretch/>
        </p:blipFill>
        <p:spPr>
          <a:xfrm>
            <a:off x="4932360" y="4149720"/>
            <a:ext cx="2025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731" name=""/>
          <p:cNvSpPr/>
          <p:nvPr/>
        </p:nvSpPr>
        <p:spPr>
          <a:xfrm>
            <a:off x="4003920" y="838080"/>
            <a:ext cx="5026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在某人的帮助下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with the help/aid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倒转地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颠倒地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杂乱地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upside 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记住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keep/bear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4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保持镇定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stay  cal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734" name=""/>
          <p:cNvSpPr/>
          <p:nvPr/>
        </p:nvSpPr>
        <p:spPr>
          <a:xfrm>
            <a:off x="3521520" y="762120"/>
            <a:ext cx="5026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5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陷入恐慌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be/get in (a) pani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6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代表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stand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7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首先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first of 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8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回答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回应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in response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1737" name=""/>
          <p:cNvSpPr/>
          <p:nvPr/>
        </p:nvSpPr>
        <p:spPr>
          <a:xfrm>
            <a:off x="3751200" y="990720"/>
            <a:ext cx="4670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9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受伤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get/be hu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0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即将来到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on the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1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使情况更糟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make things wo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2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翻转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倒转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roll 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1740" name=""/>
          <p:cNvSpPr/>
          <p:nvPr/>
        </p:nvSpPr>
        <p:spPr>
          <a:xfrm>
            <a:off x="3602520" y="990720"/>
            <a:ext cx="4853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3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穿破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筋疲力尽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be worn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4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为了纪念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为了庆祝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in honor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5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叫来一辆救护车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call for an ambul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6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吐出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spit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"/>
          <p:cNvSpPr/>
          <p:nvPr/>
        </p:nvSpPr>
        <p:spPr>
          <a:xfrm>
            <a:off x="228600" y="380880"/>
            <a:ext cx="7924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 drown vi. &amp; v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man drowned in the riv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man drowned himself in the river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great flood drowned many houses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借酒浇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rown one’s sparr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被淹没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溺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get/ be drow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5638680" y="3809880"/>
            <a:ext cx="3124440" cy="2288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落水的男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 drowning b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溺死 的男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 drowned b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"/>
          <p:cNvSpPr/>
          <p:nvPr/>
        </p:nvSpPr>
        <p:spPr>
          <a:xfrm>
            <a:off x="228600" y="3808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reach v./ n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伸手够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在某人够的着的范围之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 sb.’s rea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within the reach of s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在某人够的着的范围之外，某人够不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 of sb.’s re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out of the reach of s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/>
          <p:nvPr/>
        </p:nvSpPr>
        <p:spPr>
          <a:xfrm>
            <a:off x="250920" y="277920"/>
            <a:ext cx="842472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1. upside down: upside-dow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e boy held the book upside dow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nd pretended to be reading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Last night all the desks were turned down upside down but noting was los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76320" y="4330800"/>
            <a:ext cx="9144000" cy="29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126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If I had done----  , I would have do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----If I had known how to deal with it , 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would have helped you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" dur="indefinite" restart="never" nodeType="tmRoot">
          <p:childTnLst>
            <p:seq>
              <p:cTn id="7" dur="indefinite" nodeType="mainSeq">
                <p:childTnLst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"/>
          <p:cNvSpPr/>
          <p:nvPr/>
        </p:nvSpPr>
        <p:spPr>
          <a:xfrm>
            <a:off x="228600" y="343080"/>
            <a:ext cx="891540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he had not been there, he would 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t di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I had had enough money, I would have bought the boo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he had been sent to hospital in tim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 would be alive 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20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"/>
          <p:cNvSpPr/>
          <p:nvPr/>
        </p:nvSpPr>
        <p:spPr>
          <a:xfrm>
            <a:off x="0" y="304920"/>
            <a:ext cx="9144000" cy="63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itness: observe, ob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ness to seeing/ having see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证说看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警察发现了谋杀案的证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e police found the witness to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murder c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他是事故的目击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e was a witness to the accide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你目击了事故经过了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id you witness the acciden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"/>
          <p:cNvSpPr/>
          <p:nvPr/>
        </p:nvSpPr>
        <p:spPr>
          <a:xfrm>
            <a:off x="228600" y="3808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他的眼泪说明他感到羞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 tears witnessed the shame he fel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这些事实证明了他的粗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facts are a witness to his carelessne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"/>
          <p:cNvSpPr/>
          <p:nvPr/>
        </p:nvSpPr>
        <p:spPr>
          <a:xfrm>
            <a:off x="0" y="128520"/>
            <a:ext cx="9144000" cy="72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count( be valuable/ important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重要，有价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重要的不是数量而是质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not quantity but quality that counts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重要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事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你记住了多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ounts is how much you have remember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每分钟都很重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minute counts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00:21:07Z</dcterms:created>
  <dc:creator>GYSZ</dc:creator>
  <dc:description/>
  <dc:language>en-US</dc:language>
  <cp:lastModifiedBy>jinma</cp:lastModifiedBy>
  <dcterms:modified xsi:type="dcterms:W3CDTF">2005-12-08T08:08:22Z</dcterms:modified>
  <cp:revision>47</cp:revision>
  <dc:subject/>
  <dc:title>幻灯片 1</dc:title>
</cp:coreProperties>
</file>