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4.wmf" ContentType="image/x-wmf"/>
  <Override PartName="/ppt/media/CAMERA.WAV" ContentType="audio/x-wav"/>
  <Override PartName="/ppt/media/image12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64B-43B6-4A1A-AC4E-3A57EEBF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8E4-FAC3-4098-AD2E-8BE3285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7A6-EDAE-4D81-A955-89A2AB46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C6E-7EAA-4CB6-A4E9-13BE9AE4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73F-E566-48BB-BED2-DD929D5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BFE-DF53-42C9-BEC6-CD1E795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83E-BEEB-4C09-8832-E7FAD56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CB9-016D-4B6E-8752-3C505A1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BF4-9A36-42EC-8A77-AAABA7A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3C7-F11B-4BCD-8D10-F089538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4E2-E7F2-4242-8BD9-8F3AC50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505-2BAC-4DCF-8A9A-3AC8A656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537-1CDE-475A-8C67-1FC04EAE7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456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年义务教育三年制初级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20560" y="1644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隶书"/>
                <a:ea typeface="隶书"/>
              </a:rPr>
              <a:t>初二英语  上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1800" y="318384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Unit 1— Uni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99880" y="5378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制作人：邱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100152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8280" y="116064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ow do you come to schoo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59560" y="614520"/>
            <a:ext cx="24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现在时：表示动作的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习惯性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经常性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168560"/>
            <a:ext cx="759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go to school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sometimes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720" y="2743200"/>
            <a:ext cx="7404120" cy="3805200"/>
            <a:chOff x="450720" y="2743200"/>
            <a:chExt cx="7404120" cy="3805200"/>
          </a:xfrm>
        </p:grpSpPr>
        <p:sp>
          <p:nvSpPr>
            <p:cNvPr id="116" name=""/>
            <p:cNvSpPr/>
            <p:nvPr/>
          </p:nvSpPr>
          <p:spPr>
            <a:xfrm>
              <a:off x="450720" y="2973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743200"/>
              <a:ext cx="63378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特别要注意，在英语的一般现在时的使用中，如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主语是第三人称单数，谓语动词也要相应地采用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人称单数的形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g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e go to school every da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n’t go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65280" y="316080"/>
            <a:ext cx="6953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频度副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usually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often   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通常    经常；常常    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2286000"/>
            <a:ext cx="8267040" cy="4382280"/>
            <a:chOff x="533520" y="2286000"/>
            <a:chExt cx="8267040" cy="4382280"/>
          </a:xfrm>
        </p:grpSpPr>
        <p:sp>
          <p:nvSpPr>
            <p:cNvPr id="121" name=""/>
            <p:cNvSpPr/>
            <p:nvPr/>
          </p:nvSpPr>
          <p:spPr>
            <a:xfrm>
              <a:off x="711360" y="2286000"/>
              <a:ext cx="8089200" cy="43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频度副词的位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tay at hom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es she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come her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don’t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watch TV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he gets up lat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play games after class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sometim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9680" y="380880"/>
            <a:ext cx="7794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8200" y="1143000"/>
            <a:ext cx="932472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How do you usually come/go to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I usually come/go t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ik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c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plane/ai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ship/se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50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运用某种交通工具去某地的表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53920" y="4754520"/>
            <a:ext cx="2070360" cy="581400"/>
            <a:chOff x="2653920" y="4754520"/>
            <a:chExt cx="2070360" cy="581400"/>
          </a:xfrm>
        </p:grpSpPr>
        <p:sp>
          <p:nvSpPr>
            <p:cNvPr id="127" name=""/>
            <p:cNvSpPr/>
            <p:nvPr/>
          </p:nvSpPr>
          <p:spPr>
            <a:xfrm>
              <a:off x="4343400" y="4952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3920" y="4754520"/>
              <a:ext cx="164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on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57452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218916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14300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194472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1084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她每天乘公共汽车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2840" y="21780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误：</a:t>
            </a: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She by bus to school every day.</a:t>
            </a:r>
            <a:r>
              <a:rPr b="0" lang="zh-CN" sz="3600" spc="-1" strike="noStrike">
                <a:solidFill>
                  <a:srgbClr val="ffff00"/>
                </a:solidFill>
                <a:latin typeface="Webdings"/>
                <a:ea typeface="Webdings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32140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正：</a:t>
            </a: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She goes to school by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every day. </a:t>
            </a:r>
            <a:r>
              <a:rPr b="0" lang="zh-CN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720" y="365040"/>
            <a:ext cx="714600" cy="15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6640" y="79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一无二的事物前要用定冠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6240" y="76140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603800"/>
            <a:ext cx="62629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U.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eople’s Republic of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14200"/>
            <a:ext cx="7533360" cy="3993480"/>
            <a:chOff x="685800" y="214200"/>
            <a:chExt cx="7533360" cy="3993480"/>
          </a:xfrm>
        </p:grpSpPr>
        <p:sp>
          <p:nvSpPr>
            <p:cNvPr id="143" name=""/>
            <p:cNvSpPr/>
            <p:nvPr/>
          </p:nvSpPr>
          <p:spPr>
            <a:xfrm>
              <a:off x="750600" y="214200"/>
              <a:ext cx="74685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a fine day for a wal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usually come to school by bik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1676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1981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2560" y="1050840"/>
            <a:ext cx="600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id-Autumn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8380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2960" y="587520"/>
            <a:ext cx="538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：表示两者之间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than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764360"/>
            <a:ext cx="6618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is taller than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ball is bigger than tha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386520"/>
            <a:ext cx="6535080" cy="1263240"/>
            <a:chOff x="609480" y="3386520"/>
            <a:chExt cx="6535080" cy="1263240"/>
          </a:xfrm>
        </p:grpSpPr>
        <p:sp>
          <p:nvSpPr>
            <p:cNvPr id="154" name=""/>
            <p:cNvSpPr/>
            <p:nvPr/>
          </p:nvSpPr>
          <p:spPr>
            <a:xfrm>
              <a:off x="60948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1000" y="3386520"/>
              <a:ext cx="4813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的最高级：表示三者或三者以上进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比较，程度最高的一个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85240" y="4659840"/>
            <a:ext cx="73497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is the tallest girl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bag is the heaviest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19080" y="188280"/>
            <a:ext cx="52419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比较级、最高级的变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29240" y="3129840"/>
            <a:ext cx="5269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词尾直接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在词尾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重读闭音节的词，词尾只有一个辅音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双写该辅音后，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辅音字母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变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再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796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800" y="1050840"/>
            <a:ext cx="51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lcome bac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795600" cy="15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4560" y="216000"/>
            <a:ext cx="738612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This cake is ________ (big) than that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ily is ____________ (young) in h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This watch is ________ (dear) tha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, but it’s ________ (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My ruler is ________ than Jim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im’s is ________ than Lily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ne is __________ of the three. (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Lucy is ________ (tall) than I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240" y="100404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3000" y="16898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2880" y="23756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120" y="36712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040" y="29854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320" y="42807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0560" y="4890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9200" y="54856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22960" y="54856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/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71600" y="457200"/>
            <a:ext cx="7086600" cy="3089160"/>
            <a:chOff x="1371600" y="457200"/>
            <a:chExt cx="7086600" cy="3089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12398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7960" y="2133720"/>
              <a:ext cx="7606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664240" y="1447920"/>
              <a:ext cx="142236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371600" y="1641600"/>
              <a:ext cx="152712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457200"/>
              <a:ext cx="2514600" cy="1066680"/>
            </a:xfrm>
            <a:prstGeom prst="wedgeEllipseCallout">
              <a:avLst>
                <a:gd name="adj1" fmla="val -38634"/>
                <a:gd name="adj2" fmla="val 6145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57200"/>
              <a:ext cx="2438640" cy="1143000"/>
            </a:xfrm>
            <a:prstGeom prst="cloudCallout">
              <a:avLst>
                <a:gd name="adj1" fmla="val -47657"/>
                <a:gd name="adj2" fmla="val 6069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03800" y="62388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How delic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 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0804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’r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deli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080" y="3427560"/>
            <a:ext cx="607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叹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How 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谓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How delicious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224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26180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80400" y="-44640"/>
            <a:ext cx="57402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Jim’s bag is ver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They’re very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The mooncakes are very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That ruler is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240" y="175176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ight Jim’s bag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0240" y="277236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full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38394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How nice the mooncakes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9040" y="4906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ong that ruler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19320" y="304920"/>
            <a:ext cx="5379840" cy="2287440"/>
            <a:chOff x="1219320" y="304920"/>
            <a:chExt cx="5379840" cy="2287440"/>
          </a:xfrm>
        </p:grpSpPr>
        <p:sp>
          <p:nvSpPr>
            <p:cNvPr id="189" name=""/>
            <p:cNvSpPr/>
            <p:nvPr/>
          </p:nvSpPr>
          <p:spPr>
            <a:xfrm>
              <a:off x="1239840" y="304920"/>
              <a:ext cx="535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感叹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How delicious they ar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1447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43000" y="2817720"/>
            <a:ext cx="7350120" cy="2287440"/>
            <a:chOff x="1143000" y="2817720"/>
            <a:chExt cx="7350120" cy="2287440"/>
          </a:xfrm>
        </p:grpSpPr>
        <p:sp>
          <p:nvSpPr>
            <p:cNvPr id="192" name=""/>
            <p:cNvSpPr/>
            <p:nvPr/>
          </p:nvSpPr>
          <p:spPr>
            <a:xfrm>
              <a:off x="1385640" y="2817720"/>
              <a:ext cx="7107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hat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a good girl she i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delicious mooncakes they ar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0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04360" y="1218240"/>
            <a:ext cx="1062360" cy="2334240"/>
            <a:chOff x="4104360" y="1218240"/>
            <a:chExt cx="1062360" cy="2334240"/>
          </a:xfrm>
        </p:grpSpPr>
        <p:sp>
          <p:nvSpPr>
            <p:cNvPr id="195" name=""/>
            <p:cNvSpPr/>
            <p:nvPr/>
          </p:nvSpPr>
          <p:spPr>
            <a:xfrm>
              <a:off x="4498200" y="1218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4360" y="2971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5181480"/>
            <a:ext cx="28465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7520" y="303840"/>
            <a:ext cx="3437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’d lik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ould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uld you lik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343400" y="303840"/>
            <a:ext cx="3276720" cy="1994760"/>
            <a:chOff x="4343400" y="303840"/>
            <a:chExt cx="3276720" cy="1994760"/>
          </a:xfrm>
        </p:grpSpPr>
        <p:sp>
          <p:nvSpPr>
            <p:cNvPr id="200" name=""/>
            <p:cNvSpPr/>
            <p:nvPr/>
          </p:nvSpPr>
          <p:spPr>
            <a:xfrm>
              <a:off x="4343400" y="303840"/>
              <a:ext cx="327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b.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762120"/>
              <a:ext cx="10666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48320" y="1371240"/>
              <a:ext cx="99036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2484720"/>
            <a:ext cx="7485480" cy="1629720"/>
            <a:chOff x="1066680" y="2484720"/>
            <a:chExt cx="7485480" cy="1629720"/>
          </a:xfrm>
        </p:grpSpPr>
        <p:sp>
          <p:nvSpPr>
            <p:cNvPr id="204" name=""/>
            <p:cNvSpPr/>
            <p:nvPr/>
          </p:nvSpPr>
          <p:spPr>
            <a:xfrm>
              <a:off x="1181160" y="2484720"/>
              <a:ext cx="7371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’d like a cup of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ea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 would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you 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opping with m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Would you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with me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4269960"/>
            <a:ext cx="5664240" cy="2140920"/>
            <a:chOff x="1066680" y="4269960"/>
            <a:chExt cx="5664240" cy="2140920"/>
          </a:xfrm>
        </p:grpSpPr>
        <p:sp>
          <p:nvSpPr>
            <p:cNvPr id="207" name=""/>
            <p:cNvSpPr/>
            <p:nvPr/>
          </p:nvSpPr>
          <p:spPr>
            <a:xfrm>
              <a:off x="1246680" y="4269960"/>
              <a:ext cx="548424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orang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Yes, plea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ric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No, thanks. I’m ful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480" y="440640"/>
            <a:ext cx="22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用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00520"/>
            <a:ext cx="5341320" cy="1263240"/>
            <a:chOff x="685800" y="1100520"/>
            <a:chExt cx="5341320" cy="1263240"/>
          </a:xfrm>
        </p:grpSpPr>
        <p:sp>
          <p:nvSpPr>
            <p:cNvPr id="211" name=""/>
            <p:cNvSpPr/>
            <p:nvPr/>
          </p:nvSpPr>
          <p:spPr>
            <a:xfrm>
              <a:off x="685800" y="135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880" y="1100520"/>
              <a:ext cx="51962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数量“一”的概念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One and one makes tw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2529360"/>
            <a:ext cx="7745760" cy="4406400"/>
            <a:chOff x="685800" y="2529360"/>
            <a:chExt cx="7745760" cy="4406400"/>
          </a:xfrm>
        </p:grpSpPr>
        <p:sp>
          <p:nvSpPr>
            <p:cNvPr id="214" name=""/>
            <p:cNvSpPr/>
            <p:nvPr/>
          </p:nvSpPr>
          <p:spPr>
            <a:xfrm>
              <a:off x="68580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240" y="2529360"/>
              <a:ext cx="7465320" cy="44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承接前面已出现过的同类可数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用以避免重复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代替单数名词时用 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Lucida Sans"/>
                </a:rPr>
                <a:t>one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代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复数名词时用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Lucida Sans"/>
                </a:rPr>
                <a:t>ones</a:t>
              </a:r>
              <a:r>
                <a:rPr b="1" lang="zh-CN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school is older than that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se books are mine. The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desks are you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30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640" y="7614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承接同一个东西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要用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1044720" cy="2155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1932480"/>
            <a:ext cx="66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Do you have a w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No, but my father has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one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He bought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买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last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76200" y="500040"/>
            <a:ext cx="5487840" cy="5212080"/>
            <a:chOff x="1276200" y="500040"/>
            <a:chExt cx="5487840" cy="5212080"/>
          </a:xfrm>
        </p:grpSpPr>
        <p:sp>
          <p:nvSpPr>
            <p:cNvPr id="221" name=""/>
            <p:cNvSpPr/>
            <p:nvPr/>
          </p:nvSpPr>
          <p:spPr>
            <a:xfrm>
              <a:off x="1477800" y="500040"/>
              <a:ext cx="528624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ould you lik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full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Good night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ay is it tomorrow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hungry/fre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ike you to meet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6200" y="1600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62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6200" y="3810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200" y="4496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6200" y="5257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4479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5440" y="1050840"/>
            <a:ext cx="70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’re going to work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on a far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17040" y="2035440"/>
            <a:ext cx="279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ing to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结构表示说话时刻以后将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生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19320" y="990360"/>
            <a:ext cx="6781680" cy="228960"/>
            <a:chOff x="1219320" y="990360"/>
            <a:chExt cx="6781680" cy="228960"/>
          </a:xfrm>
        </p:grpSpPr>
        <p:sp>
          <p:nvSpPr>
            <p:cNvPr id="233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195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0199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44480" y="12945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’m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3760" y="12945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’m going to watch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89920" y="53280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 even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760" y="3351600"/>
            <a:ext cx="84132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she going to do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 going to swim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n’t going to play basketball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she going to swim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es, sh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8880" y="461880"/>
            <a:ext cx="476928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May I…?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我可以……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表示客气的请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0200" y="1930320"/>
            <a:ext cx="7480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com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ome in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2)  -May I borrow your pen , pl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ertai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have a piece of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Of cour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0800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22520" y="730080"/>
            <a:ext cx="1882800" cy="1556280"/>
            <a:chOff x="1622520" y="730080"/>
            <a:chExt cx="1882800" cy="1556280"/>
          </a:xfrm>
        </p:grpSpPr>
        <p:sp>
          <p:nvSpPr>
            <p:cNvPr id="241" name=""/>
            <p:cNvSpPr/>
            <p:nvPr/>
          </p:nvSpPr>
          <p:spPr>
            <a:xfrm>
              <a:off x="1622520" y="730080"/>
              <a:ext cx="112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goo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295280"/>
              <a:ext cx="8384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1752120"/>
              <a:ext cx="91440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36640" y="14468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3680" y="2404440"/>
            <a:ext cx="441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ood, better,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ever let it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ll good is b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d bette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91520" y="4191120"/>
            <a:ext cx="108108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62040" y="578880"/>
            <a:ext cx="4560480" cy="642600"/>
            <a:chOff x="1562040" y="578880"/>
            <a:chExt cx="4560480" cy="642600"/>
          </a:xfrm>
        </p:grpSpPr>
        <p:sp>
          <p:nvSpPr>
            <p:cNvPr id="248" name=""/>
            <p:cNvSpPr/>
            <p:nvPr/>
          </p:nvSpPr>
          <p:spPr>
            <a:xfrm>
              <a:off x="2330280" y="578880"/>
              <a:ext cx="37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much +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形容词的比较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838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34680" y="1288080"/>
            <a:ext cx="303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w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l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3880" y="3200040"/>
            <a:ext cx="4003920" cy="2897280"/>
            <a:chOff x="1523880" y="3200040"/>
            <a:chExt cx="4003920" cy="2897280"/>
          </a:xfrm>
        </p:grpSpPr>
        <p:grpSp>
          <p:nvGrpSpPr>
            <p:cNvPr id="252" name=""/>
            <p:cNvGrpSpPr/>
            <p:nvPr/>
          </p:nvGrpSpPr>
          <p:grpSpPr>
            <a:xfrm>
              <a:off x="1523880" y="3200040"/>
              <a:ext cx="4003920" cy="916920"/>
              <a:chOff x="1523880" y="3200040"/>
              <a:chExt cx="4003920" cy="916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39920" y="3200040"/>
                <a:ext cx="3287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very + </a:t>
                </a: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形容词的原级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365760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25040" y="4102560"/>
              <a:ext cx="23526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bi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wa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lo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941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4160" y="105480"/>
            <a:ext cx="723672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What ____ you _________ (do)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_______________ (meet)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ook, what ______  they ________ (d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____________ (have)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___ (fly) kites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Kate usually __________ (wash) her 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_______ you often _____ (go) swi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sum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72600" y="837360"/>
            <a:ext cx="4581000" cy="1098360"/>
            <a:chOff x="1272600" y="837360"/>
            <a:chExt cx="4581000" cy="1098360"/>
          </a:xfrm>
        </p:grpSpPr>
        <p:sp>
          <p:nvSpPr>
            <p:cNvPr id="259" name=""/>
            <p:cNvSpPr/>
            <p:nvPr/>
          </p:nvSpPr>
          <p:spPr>
            <a:xfrm>
              <a:off x="2052000" y="837360"/>
              <a:ext cx="380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going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2600" y="1415160"/>
              <a:ext cx="34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m going to me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79440" y="2133000"/>
            <a:ext cx="4696920" cy="1130040"/>
            <a:chOff x="2179440" y="2133000"/>
            <a:chExt cx="4696920" cy="1130040"/>
          </a:xfrm>
        </p:grpSpPr>
        <p:sp>
          <p:nvSpPr>
            <p:cNvPr id="262" name=""/>
            <p:cNvSpPr/>
            <p:nvPr/>
          </p:nvSpPr>
          <p:spPr>
            <a:xfrm>
              <a:off x="3426480" y="2133000"/>
              <a:ext cx="34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        do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9440" y="27424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hav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4960" y="3351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going to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83280" y="411408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33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440" y="38088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3920" y="990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做……的时间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4720" y="2071800"/>
            <a:ext cx="645048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1) It’s time fo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2) It’s time for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3) It’s time __________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起床了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280" y="54540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Sans"/>
              </a:rPr>
              <a:t>to g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40280" y="837720"/>
            <a:ext cx="24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有用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Lucida Sans"/>
              </a:rPr>
              <a:t>help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676520"/>
            <a:ext cx="7199640" cy="3895560"/>
            <a:chOff x="1066680" y="1676520"/>
            <a:chExt cx="7199640" cy="3895560"/>
          </a:xfrm>
        </p:grpSpPr>
        <p:sp>
          <p:nvSpPr>
            <p:cNvPr id="274" name=""/>
            <p:cNvSpPr/>
            <p:nvPr/>
          </p:nvSpPr>
          <p:spPr>
            <a:xfrm>
              <a:off x="1174320" y="1676520"/>
              <a:ext cx="7092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!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命啊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 me! 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救我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an you help me with my less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omputers can help student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arn Englis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2143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2981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743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505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86680" y="3808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14637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62120" y="3275640"/>
            <a:ext cx="7781760" cy="1068840"/>
            <a:chOff x="762120" y="3275640"/>
            <a:chExt cx="7781760" cy="1068840"/>
          </a:xfrm>
        </p:grpSpPr>
        <p:sp>
          <p:nvSpPr>
            <p:cNvPr id="282" name=""/>
            <p:cNvSpPr/>
            <p:nvPr/>
          </p:nvSpPr>
          <p:spPr>
            <a:xfrm>
              <a:off x="959400" y="3275640"/>
              <a:ext cx="758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y’re going to leave tomorrow morn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3809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228240"/>
            <a:ext cx="6941880" cy="2896560"/>
            <a:chOff x="762120" y="228240"/>
            <a:chExt cx="6941880" cy="2896560"/>
          </a:xfrm>
        </p:grpSpPr>
        <p:sp>
          <p:nvSpPr>
            <p:cNvPr id="285" name=""/>
            <p:cNvSpPr/>
            <p:nvPr/>
          </p:nvSpPr>
          <p:spPr>
            <a:xfrm>
              <a:off x="932040" y="228240"/>
              <a:ext cx="67719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peak English in this way 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这样说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I’m going to go to the sho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ary is going to come here very so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514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11880" y="170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’m going to the sh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38160" y="28486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ry is coming here very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240" y="411408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’re leaving tomorrow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3520" y="301680"/>
            <a:ext cx="8506080" cy="5943240"/>
            <a:chOff x="533520" y="301680"/>
            <a:chExt cx="8506080" cy="5943240"/>
          </a:xfrm>
        </p:grpSpPr>
        <p:sp>
          <p:nvSpPr>
            <p:cNvPr id="292" name=""/>
            <p:cNvSpPr/>
            <p:nvPr/>
          </p:nvSpPr>
          <p:spPr>
            <a:xfrm>
              <a:off x="737640" y="301680"/>
              <a:ext cx="830196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ere are you go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ing home/to the shops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/How about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on’t you come with m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not? Good idea! That’s a good idea!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be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for clas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2133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52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4267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5029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5791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88960" y="1160640"/>
            <a:ext cx="79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Working hard on the fa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80080" y="4863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较物品数量的“多”和“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89160" y="1338840"/>
            <a:ext cx="5180400" cy="2014920"/>
            <a:chOff x="1289160" y="1338840"/>
            <a:chExt cx="5180400" cy="2014920"/>
          </a:xfrm>
        </p:grpSpPr>
        <p:grpSp>
          <p:nvGrpSpPr>
            <p:cNvPr id="305" name=""/>
            <p:cNvGrpSpPr/>
            <p:nvPr/>
          </p:nvGrpSpPr>
          <p:grpSpPr>
            <a:xfrm>
              <a:off x="1289160" y="1338840"/>
              <a:ext cx="5180400" cy="581400"/>
              <a:chOff x="1289160" y="1338840"/>
              <a:chExt cx="5180400" cy="58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89160" y="1538280"/>
                <a:ext cx="22824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44760" y="1338840"/>
                <a:ext cx="492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a few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r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17760" y="1995480"/>
              <a:ext cx="990000" cy="765000"/>
              <a:chOff x="1517760" y="1995480"/>
              <a:chExt cx="990000" cy="765000"/>
            </a:xfrm>
          </p:grpSpPr>
          <p:pic>
            <p:nvPicPr>
              <p:cNvPr id="309" name="APPLE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21477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APP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776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APPLE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968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APPLE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968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APP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460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APP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APP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17152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"/>
            <p:cNvGrpSpPr/>
            <p:nvPr/>
          </p:nvGrpSpPr>
          <p:grpSpPr>
            <a:xfrm>
              <a:off x="3543480" y="2068560"/>
              <a:ext cx="793080" cy="689040"/>
              <a:chOff x="3543480" y="2068560"/>
              <a:chExt cx="793080" cy="689040"/>
            </a:xfrm>
          </p:grpSpPr>
          <p:pic>
            <p:nvPicPr>
              <p:cNvPr id="317" name="APPLE" descr=""/>
              <p:cNvPicPr/>
              <p:nvPr/>
            </p:nvPicPr>
            <p:blipFill>
              <a:blip r:embed="rId8"/>
              <a:stretch/>
            </p:blipFill>
            <p:spPr>
              <a:xfrm>
                <a:off x="3771720" y="2373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APPLE" descr=""/>
              <p:cNvPicPr/>
              <p:nvPr/>
            </p:nvPicPr>
            <p:blipFill>
              <a:blip r:embed="rId9"/>
              <a:stretch/>
            </p:blipFill>
            <p:spPr>
              <a:xfrm>
                <a:off x="4003560" y="2220840"/>
                <a:ext cx="333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APPLE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71720" y="20685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APPLE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43480" y="222084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5457960" y="2144880"/>
              <a:ext cx="707400" cy="536400"/>
              <a:chOff x="5457960" y="2144880"/>
              <a:chExt cx="707400" cy="536400"/>
            </a:xfrm>
          </p:grpSpPr>
          <p:pic>
            <p:nvPicPr>
              <p:cNvPr id="322" name="APPLE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62520" y="2221200"/>
                <a:ext cx="402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APPLE" descr=""/>
              <p:cNvPicPr/>
              <p:nvPr/>
            </p:nvPicPr>
            <p:blipFill>
              <a:blip r:embed="rId13"/>
              <a:stretch/>
            </p:blipFill>
            <p:spPr>
              <a:xfrm flipH="1" rot="10800000">
                <a:off x="5457960" y="2144880"/>
                <a:ext cx="3920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540440" y="2772360"/>
              <a:ext cx="47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ine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ary’s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8520" y="3511800"/>
            <a:ext cx="7985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a few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fewer apple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fewest apple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51040" y="3049560"/>
            <a:ext cx="77533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man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more friend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most friend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729000"/>
            <a:ext cx="6400440" cy="2243880"/>
            <a:chOff x="1295280" y="729000"/>
            <a:chExt cx="6400440" cy="2243880"/>
          </a:xfrm>
        </p:grpSpPr>
        <p:grpSp>
          <p:nvGrpSpPr>
            <p:cNvPr id="328" name=""/>
            <p:cNvGrpSpPr/>
            <p:nvPr/>
          </p:nvGrpSpPr>
          <p:grpSpPr>
            <a:xfrm>
              <a:off x="1295280" y="729000"/>
              <a:ext cx="5738400" cy="581400"/>
              <a:chOff x="1295280" y="729000"/>
              <a:chExt cx="5738400" cy="581400"/>
            </a:xfrm>
          </p:grpSpPr>
          <p:sp>
            <p:nvSpPr>
              <p:cNvPr id="329" name=""/>
              <p:cNvSpPr/>
              <p:nvPr/>
            </p:nvSpPr>
            <p:spPr>
              <a:xfrm>
                <a:off x="1295280" y="92844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6560" y="72900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many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   more              mo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880280" y="2391480"/>
              <a:ext cx="48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mine       Mary’s      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447920" y="1576440"/>
              <a:ext cx="1371600" cy="8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3429000" y="1547640"/>
              <a:ext cx="1676520" cy="814680"/>
              <a:chOff x="3429000" y="1547640"/>
              <a:chExt cx="1676520" cy="8146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9880" y="1547640"/>
                <a:ext cx="1295640" cy="81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"/>
            <p:cNvGrpSpPr/>
            <p:nvPr/>
          </p:nvGrpSpPr>
          <p:grpSpPr>
            <a:xfrm>
              <a:off x="5562720" y="1547640"/>
              <a:ext cx="2133000" cy="890640"/>
              <a:chOff x="5562720" y="1547640"/>
              <a:chExt cx="2133000" cy="8906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1623960"/>
                <a:ext cx="1294920" cy="8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56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4480" y="228600"/>
            <a:ext cx="805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________ ________ b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r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! ________ this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Thank you. Oh, this one is short. Do you ________ a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, I d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Do you ________ a long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 borrow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Certainly! Here ________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9680" y="34308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May    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2520" y="1444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Certainly  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3040" y="2019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6480" y="25113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960" y="30862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2480" y="41911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          have            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5257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May                      i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520" y="5829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you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83340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6840" y="6854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询问路程的远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600200"/>
            <a:ext cx="5965200" cy="4041720"/>
            <a:chOff x="1371600" y="1600200"/>
            <a:chExt cx="5965200" cy="4041720"/>
          </a:xfrm>
        </p:grpSpPr>
        <p:sp>
          <p:nvSpPr>
            <p:cNvPr id="342" name=""/>
            <p:cNvSpPr/>
            <p:nvPr/>
          </p:nvSpPr>
          <p:spPr>
            <a:xfrm>
              <a:off x="1811520" y="1600200"/>
              <a:ext cx="55252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 from here 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your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It’s about 2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198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16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705720" y="561960"/>
            <a:ext cx="1721880" cy="1495440"/>
            <a:chOff x="6705720" y="561960"/>
            <a:chExt cx="1721880" cy="14954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813440" y="561960"/>
              <a:ext cx="61416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6705720" y="685800"/>
              <a:ext cx="1090080" cy="133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399960"/>
            <a:ext cx="8212320" cy="6013440"/>
            <a:chOff x="533520" y="399960"/>
            <a:chExt cx="8212320" cy="6013440"/>
          </a:xfrm>
        </p:grpSpPr>
        <p:sp>
          <p:nvSpPr>
            <p:cNvPr id="349" name=""/>
            <p:cNvSpPr/>
            <p:nvPr/>
          </p:nvSpPr>
          <p:spPr>
            <a:xfrm>
              <a:off x="655560" y="399960"/>
              <a:ext cx="8090280" cy="60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引出的疑问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old are yo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any apples are there in the box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uch is this watch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it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tall is Mar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are you toda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3352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3962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4648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334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943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58040" y="388800"/>
            <a:ext cx="4842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all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形容词）    身材高的；高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2893320"/>
            <a:ext cx="6688080" cy="3601800"/>
            <a:chOff x="762120" y="2893320"/>
            <a:chExt cx="6688080" cy="3601800"/>
          </a:xfrm>
        </p:grpSpPr>
        <p:sp>
          <p:nvSpPr>
            <p:cNvPr id="360" name=""/>
            <p:cNvSpPr/>
            <p:nvPr/>
          </p:nvSpPr>
          <p:spPr>
            <a:xfrm>
              <a:off x="1143000" y="2893320"/>
              <a:ext cx="63072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igh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形容词）    高的；高处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副词）        高地；高处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mountain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山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buil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this build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副词用法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3139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53920" y="653400"/>
            <a:ext cx="44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1371600"/>
            <a:ext cx="8037720" cy="3603240"/>
            <a:chOff x="533520" y="1371600"/>
            <a:chExt cx="8037720" cy="3603240"/>
          </a:xfrm>
        </p:grpSpPr>
        <p:sp>
          <p:nvSpPr>
            <p:cNvPr id="365" name=""/>
            <p:cNvSpPr/>
            <p:nvPr/>
          </p:nvSpPr>
          <p:spPr>
            <a:xfrm>
              <a:off x="801360" y="1371600"/>
              <a:ext cx="7769880" cy="36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ome of the apples are hard to reac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very glad to see you aga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ok is easy to understand 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理解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lad to help you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4495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1828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33080" y="1522800"/>
            <a:ext cx="37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饿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园离这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3080" y="164160"/>
            <a:ext cx="4209840" cy="1361160"/>
            <a:chOff x="973080" y="164160"/>
            <a:chExt cx="4209840" cy="1361160"/>
          </a:xfrm>
        </p:grpSpPr>
        <p:sp>
          <p:nvSpPr>
            <p:cNvPr id="373" name=""/>
            <p:cNvSpPr/>
            <p:nvPr/>
          </p:nvSpPr>
          <p:spPr>
            <a:xfrm>
              <a:off x="1211040" y="164160"/>
              <a:ext cx="3971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正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’m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I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3080" y="496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577320" y="16754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She is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5000" y="231516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The park is near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970720"/>
            <a:ext cx="6299640" cy="1361160"/>
            <a:chOff x="985680" y="2970720"/>
            <a:chExt cx="6299640" cy="1361160"/>
          </a:xfrm>
        </p:grpSpPr>
        <p:sp>
          <p:nvSpPr>
            <p:cNvPr id="378" name=""/>
            <p:cNvSpPr/>
            <p:nvPr/>
          </p:nvSpPr>
          <p:spPr>
            <a:xfrm>
              <a:off x="1235880" y="2970720"/>
              <a:ext cx="60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正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uch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ore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3316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52760" y="4342320"/>
            <a:ext cx="2960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e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f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499520" y="304920"/>
            <a:ext cx="1172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990720" y="423720"/>
            <a:ext cx="5699880" cy="5212080"/>
            <a:chOff x="990720" y="423720"/>
            <a:chExt cx="5699880" cy="5212080"/>
          </a:xfrm>
        </p:grpSpPr>
        <p:sp>
          <p:nvSpPr>
            <p:cNvPr id="383" name=""/>
            <p:cNvSpPr/>
            <p:nvPr/>
          </p:nvSpPr>
          <p:spPr>
            <a:xfrm>
              <a:off x="1223280" y="423720"/>
              <a:ext cx="54673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Be careful! It’s dangero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can/can’t reach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get on the b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07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0720" y="2971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072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072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51814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5987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67720" y="1050840"/>
            <a:ext cx="803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Shall we go to the par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079360" y="287640"/>
            <a:ext cx="5331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询问、征求别人的意见，用于提建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为“……好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7960" y="1992960"/>
            <a:ext cx="725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we go to the park on Sun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 open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6360" y="3473280"/>
            <a:ext cx="2323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ll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1680" y="3473280"/>
            <a:ext cx="2163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不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No, let’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orry, 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0764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15200" y="45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提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5920" y="490320"/>
            <a:ext cx="4185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no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n’t you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/How abou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49240" y="3884400"/>
            <a:ext cx="6514920" cy="2432520"/>
            <a:chOff x="849240" y="3884400"/>
            <a:chExt cx="6514920" cy="2432520"/>
          </a:xfrm>
        </p:grpSpPr>
        <p:sp>
          <p:nvSpPr>
            <p:cNvPr id="401" name=""/>
            <p:cNvSpPr/>
            <p:nvPr/>
          </p:nvSpPr>
          <p:spPr>
            <a:xfrm>
              <a:off x="849240" y="3885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答语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2640" y="3884400"/>
              <a:ext cx="48715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at’s a 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ll right! / OK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ure! Go ahead, pl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81680" y="447840"/>
            <a:ext cx="19051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02160" y="45612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od a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…… 方面（学得、做得）好；善于……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3277080"/>
            <a:ext cx="7683840" cy="3018600"/>
            <a:chOff x="533520" y="3277080"/>
            <a:chExt cx="7683840" cy="3018600"/>
          </a:xfrm>
        </p:grpSpPr>
        <p:sp>
          <p:nvSpPr>
            <p:cNvPr id="406" name=""/>
            <p:cNvSpPr/>
            <p:nvPr/>
          </p:nvSpPr>
          <p:spPr>
            <a:xfrm>
              <a:off x="861480" y="3277080"/>
              <a:ext cx="73558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od at Englis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eimei is good at her lesson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y is good at playing footb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good at 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2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80360"/>
            <a:ext cx="5105520" cy="1221120"/>
            <a:chOff x="533520" y="1980360"/>
            <a:chExt cx="5105520" cy="1221120"/>
          </a:xfrm>
        </p:grpSpPr>
        <p:grpSp>
          <p:nvGrpSpPr>
            <p:cNvPr id="410" name=""/>
            <p:cNvGrpSpPr/>
            <p:nvPr/>
          </p:nvGrpSpPr>
          <p:grpSpPr>
            <a:xfrm>
              <a:off x="744120" y="1980360"/>
              <a:ext cx="4894920" cy="1221120"/>
              <a:chOff x="744120" y="1980360"/>
              <a:chExt cx="4894920" cy="122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4120" y="2239200"/>
                <a:ext cx="22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be good at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000240" y="2286000"/>
                <a:ext cx="762120" cy="380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0240" y="2666880"/>
                <a:ext cx="76212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53440" y="1980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名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000" y="2620080"/>
                <a:ext cx="187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doing sth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3520" y="2438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58360" y="4952160"/>
            <a:ext cx="2315160" cy="1297440"/>
            <a:chOff x="4158360" y="4952160"/>
            <a:chExt cx="2315160" cy="1297440"/>
          </a:xfrm>
        </p:grpSpPr>
        <p:sp>
          <p:nvSpPr>
            <p:cNvPr id="418" name=""/>
            <p:cNvSpPr/>
            <p:nvPr/>
          </p:nvSpPr>
          <p:spPr>
            <a:xfrm>
              <a:off x="4786920" y="4952160"/>
              <a:ext cx="16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lay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8360" y="566820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3360" y="289080"/>
            <a:ext cx="6113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aper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纸；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不可数名词，通常不用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或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n”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不定冠词来修饰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320920"/>
            <a:ext cx="6132240" cy="1263240"/>
            <a:chOff x="1066680" y="2320920"/>
            <a:chExt cx="6132240" cy="1263240"/>
          </a:xfrm>
        </p:grpSpPr>
        <p:sp>
          <p:nvSpPr>
            <p:cNvPr id="63" name=""/>
            <p:cNvSpPr/>
            <p:nvPr/>
          </p:nvSpPr>
          <p:spPr>
            <a:xfrm>
              <a:off x="1408320" y="2320920"/>
              <a:ext cx="5790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Paper is very useful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有用的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paper here is not clea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251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3819600"/>
            <a:ext cx="5231160" cy="2432520"/>
            <a:chOff x="1066680" y="3819600"/>
            <a:chExt cx="5231160" cy="2432520"/>
          </a:xfrm>
        </p:grpSpPr>
        <p:sp>
          <p:nvSpPr>
            <p:cNvPr id="66" name=""/>
            <p:cNvSpPr/>
            <p:nvPr/>
          </p:nvSpPr>
          <p:spPr>
            <a:xfrm>
              <a:off x="1334880" y="3819600"/>
              <a:ext cx="496296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wo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ree glasses of wa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even bottles of o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40384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934320" y="4800600"/>
            <a:ext cx="1576440" cy="1569960"/>
            <a:chOff x="6934320" y="4800600"/>
            <a:chExt cx="1576440" cy="1569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238880" y="4800600"/>
              <a:ext cx="127188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127152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447920" y="516240"/>
            <a:ext cx="5870880" cy="1847880"/>
            <a:chOff x="1447920" y="516240"/>
            <a:chExt cx="5870880" cy="1847880"/>
          </a:xfrm>
        </p:grpSpPr>
        <p:sp>
          <p:nvSpPr>
            <p:cNvPr id="421" name=""/>
            <p:cNvSpPr/>
            <p:nvPr/>
          </p:nvSpPr>
          <p:spPr>
            <a:xfrm>
              <a:off x="1666800" y="516240"/>
              <a:ext cx="5652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 don’t think chicken can swi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B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不认为小鸡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7920" y="822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447920" y="2665800"/>
            <a:ext cx="2372040" cy="581400"/>
            <a:chOff x="1447920" y="2665800"/>
            <a:chExt cx="2372040" cy="581400"/>
          </a:xfrm>
        </p:grpSpPr>
        <p:sp>
          <p:nvSpPr>
            <p:cNvPr id="424" name=""/>
            <p:cNvSpPr/>
            <p:nvPr/>
          </p:nvSpPr>
          <p:spPr>
            <a:xfrm>
              <a:off x="1447920" y="2819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240" y="26658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认为他不喜欢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425600" y="4220280"/>
            <a:ext cx="3171960" cy="581400"/>
            <a:chOff x="1425600" y="4220280"/>
            <a:chExt cx="3171960" cy="581400"/>
          </a:xfrm>
        </p:grpSpPr>
        <p:sp>
          <p:nvSpPr>
            <p:cNvPr id="427" name=""/>
            <p:cNvSpPr/>
            <p:nvPr/>
          </p:nvSpPr>
          <p:spPr>
            <a:xfrm>
              <a:off x="1425600" y="44193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840" y="4220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们认为玛丽不善长踢足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2760" cy="167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27720" y="327564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don’t think he likes c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80840" y="4778640"/>
            <a:ext cx="649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 don’t think Mary is good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ying foot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667520" y="1172160"/>
            <a:ext cx="2995200" cy="810000"/>
            <a:chOff x="1667520" y="1172160"/>
            <a:chExt cx="2995200" cy="810000"/>
          </a:xfrm>
        </p:grpSpPr>
        <p:sp>
          <p:nvSpPr>
            <p:cNvPr id="433" name=""/>
            <p:cNvSpPr/>
            <p:nvPr/>
          </p:nvSpPr>
          <p:spPr>
            <a:xfrm>
              <a:off x="3455280" y="1172160"/>
              <a:ext cx="120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7520" y="1278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Monotype Sorts"/>
                  <a:ea typeface="Monotype Sorts"/>
                </a:rPr>
                <a:t>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3520" y="334080"/>
            <a:ext cx="2357640" cy="581400"/>
            <a:chOff x="533520" y="334080"/>
            <a:chExt cx="2357640" cy="581400"/>
          </a:xfrm>
        </p:grpSpPr>
        <p:sp>
          <p:nvSpPr>
            <p:cNvPr id="436" name=""/>
            <p:cNvSpPr/>
            <p:nvPr/>
          </p:nvSpPr>
          <p:spPr>
            <a:xfrm>
              <a:off x="533520" y="53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47400" y="33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表达法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00200" y="1143000"/>
            <a:ext cx="1981080" cy="2501280"/>
            <a:chOff x="1600200" y="1143000"/>
            <a:chExt cx="1981080" cy="2501280"/>
          </a:xfrm>
        </p:grpSpPr>
        <p:grpSp>
          <p:nvGrpSpPr>
            <p:cNvPr id="439" name=""/>
            <p:cNvGrpSpPr/>
            <p:nvPr/>
          </p:nvGrpSpPr>
          <p:grpSpPr>
            <a:xfrm>
              <a:off x="1600200" y="1143000"/>
              <a:ext cx="1981080" cy="1905120"/>
              <a:chOff x="1600200" y="1143000"/>
              <a:chExt cx="1981080" cy="1905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600200" y="1143000"/>
                <a:ext cx="1981080" cy="1905120"/>
                <a:chOff x="1600200" y="1143000"/>
                <a:chExt cx="1981080" cy="1905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00200" y="1143000"/>
                  <a:ext cx="1981080" cy="1905120"/>
                  <a:chOff x="1600200" y="1143000"/>
                  <a:chExt cx="1981080" cy="1905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00200" y="1143000"/>
                    <a:ext cx="1981080" cy="1905120"/>
                  </a:xfrm>
                  <a:prstGeom prst="flowChartConnector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52480" y="1295280"/>
                    <a:ext cx="1675800" cy="1600200"/>
                  </a:xfrm>
                  <a:prstGeom prst="flowChartConnector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2590920" y="1295640"/>
                  <a:ext cx="0" cy="18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241800" y="207504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0920" y="2708280"/>
                  <a:ext cx="0" cy="18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1752120" y="2057400"/>
                  <a:ext cx="1875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3120" y="1446840"/>
                  <a:ext cx="47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446200" y="23612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87632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828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2880" y="175212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V="1">
                <a:off x="2590560" y="1371600"/>
                <a:ext cx="0" cy="752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590560" y="1523880"/>
                <a:ext cx="0" cy="60984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0760" y="30628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’cl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105520" y="1143000"/>
            <a:ext cx="1981080" cy="2485440"/>
            <a:chOff x="5105520" y="1143000"/>
            <a:chExt cx="1981080" cy="2485440"/>
          </a:xfrm>
        </p:grpSpPr>
        <p:sp>
          <p:nvSpPr>
            <p:cNvPr id="457" name=""/>
            <p:cNvSpPr/>
            <p:nvPr/>
          </p:nvSpPr>
          <p:spPr>
            <a:xfrm>
              <a:off x="5717160" y="30470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ha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05520" y="1143000"/>
              <a:ext cx="1981080" cy="1905120"/>
              <a:chOff x="5105520" y="1143000"/>
              <a:chExt cx="1981080" cy="19051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105520" y="1143000"/>
                <a:ext cx="1981080" cy="1905120"/>
                <a:chOff x="5105520" y="1143000"/>
                <a:chExt cx="1981080" cy="1905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105520" y="1143000"/>
                  <a:ext cx="1981080" cy="190512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257800" y="1295280"/>
                  <a:ext cx="1675800" cy="1600200"/>
                </a:xfrm>
                <a:prstGeom prst="flowChartConnector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096240" y="1295640"/>
                <a:ext cx="0" cy="18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47120" y="2075040"/>
                <a:ext cx="18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6240" y="2708280"/>
                <a:ext cx="0" cy="187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57440" y="2057400"/>
                <a:ext cx="18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78440" y="14468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51520" y="2361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8164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8360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8200" y="1752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5929560" y="2101680"/>
              <a:ext cx="154440" cy="514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5880" y="2133720"/>
              <a:ext cx="0" cy="7524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3886200"/>
            <a:ext cx="1981080" cy="2515680"/>
            <a:chOff x="5029200" y="3886200"/>
            <a:chExt cx="1981080" cy="2515680"/>
          </a:xfrm>
        </p:grpSpPr>
        <p:grpSp>
          <p:nvGrpSpPr>
            <p:cNvPr id="474" name=""/>
            <p:cNvGrpSpPr/>
            <p:nvPr/>
          </p:nvGrpSpPr>
          <p:grpSpPr>
            <a:xfrm>
              <a:off x="5029200" y="3886200"/>
              <a:ext cx="1981080" cy="2515680"/>
              <a:chOff x="5029200" y="3886200"/>
              <a:chExt cx="1981080" cy="251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5785560" y="5820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9200" y="3886200"/>
                <a:ext cx="1981080" cy="1905120"/>
                <a:chOff x="5029200" y="3886200"/>
                <a:chExt cx="1981080" cy="19051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029200" y="3886200"/>
                  <a:ext cx="1981080" cy="1905120"/>
                  <a:chOff x="5029200" y="3886200"/>
                  <a:chExt cx="1981080" cy="19051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029200" y="3886200"/>
                    <a:ext cx="1981080" cy="1905120"/>
                    <a:chOff x="5029200" y="3886200"/>
                    <a:chExt cx="1981080" cy="1905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29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181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6019560" y="4038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670080" y="481824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019560" y="545148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5181480" y="480060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80176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75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305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4069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951880" y="449496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5181480" y="4114800"/>
                  <a:ext cx="838080" cy="1523880"/>
                  <a:chOff x="5181480" y="4114800"/>
                  <a:chExt cx="838080" cy="1523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5257440" y="41148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5181480" y="41148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>
                    <a:off x="5257080" y="434340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5333760" y="457164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409720" y="48006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>
                    <a:off x="5486040" y="50292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638680" y="525744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5790600" y="54100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333400" y="4833720"/>
              <a:ext cx="696600" cy="548280"/>
              <a:chOff x="5333400" y="4833720"/>
              <a:chExt cx="696600" cy="54828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5726880" y="4833720"/>
                <a:ext cx="303120" cy="548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333400" y="4876920"/>
                <a:ext cx="685800" cy="3808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600200" y="3886200"/>
            <a:ext cx="1981080" cy="2439360"/>
            <a:chOff x="1600200" y="3886200"/>
            <a:chExt cx="1981080" cy="2439360"/>
          </a:xfrm>
        </p:grpSpPr>
        <p:grpSp>
          <p:nvGrpSpPr>
            <p:cNvPr id="503" name=""/>
            <p:cNvGrpSpPr/>
            <p:nvPr/>
          </p:nvGrpSpPr>
          <p:grpSpPr>
            <a:xfrm>
              <a:off x="1600200" y="3886200"/>
              <a:ext cx="1981080" cy="2439360"/>
              <a:chOff x="1600200" y="3886200"/>
              <a:chExt cx="1981080" cy="243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2188080" y="5744160"/>
                <a:ext cx="90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a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600200" y="3886200"/>
                <a:ext cx="1981080" cy="1905120"/>
                <a:chOff x="1600200" y="3886200"/>
                <a:chExt cx="1981080" cy="1905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600200" y="3886200"/>
                  <a:ext cx="1981080" cy="1905120"/>
                  <a:chOff x="1600200" y="3886200"/>
                  <a:chExt cx="1981080" cy="190512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600200" y="3886200"/>
                    <a:ext cx="1981080" cy="1905120"/>
                    <a:chOff x="1600200" y="3886200"/>
                    <a:chExt cx="1981080" cy="19051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600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52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2590920" y="403884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3241800" y="481824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590920" y="5451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1752120" y="480060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37312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46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876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97828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522880" y="449532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2590560" y="4114440"/>
                  <a:ext cx="838080" cy="1523880"/>
                  <a:chOff x="2590560" y="4114440"/>
                  <a:chExt cx="838080" cy="15238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>
                    <a:off x="2819160" y="51811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2590560" y="48762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2590920" y="472392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90560" y="457200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2590920" y="44190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2590560" y="42667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590560" y="419076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2590920" y="41144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H="1">
              <a:off x="2293200" y="4846320"/>
              <a:ext cx="287280" cy="3135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90920" y="4647960"/>
              <a:ext cx="76176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833400" y="456480"/>
            <a:ext cx="1381320" cy="5549760"/>
            <a:chOff x="833400" y="456480"/>
            <a:chExt cx="1381320" cy="5549760"/>
          </a:xfrm>
        </p:grpSpPr>
        <p:sp>
          <p:nvSpPr>
            <p:cNvPr id="531" name=""/>
            <p:cNvSpPr/>
            <p:nvPr/>
          </p:nvSpPr>
          <p:spPr>
            <a:xfrm>
              <a:off x="833400" y="456480"/>
              <a:ext cx="137628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1294560"/>
              <a:ext cx="13766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2299680"/>
              <a:ext cx="1376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3290040"/>
              <a:ext cx="13766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4190400"/>
              <a:ext cx="13766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5485680"/>
              <a:ext cx="13766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2278080" y="4564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/ eight o’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680" y="129456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ve / five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91120" y="2057400"/>
            <a:ext cx="5801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een / fifteen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9800" y="327600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thirty /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3800" y="4190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orty / twenty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1520" y="5049720"/>
            <a:ext cx="3192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y-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een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LOCK7" descr=""/>
          <p:cNvPicPr/>
          <p:nvPr/>
        </p:nvPicPr>
        <p:blipFill>
          <a:blip r:embed="rId7"/>
          <a:stretch/>
        </p:blipFill>
        <p:spPr>
          <a:xfrm>
            <a:off x="7620120" y="5181480"/>
            <a:ext cx="12240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915480" y="791280"/>
            <a:ext cx="7355880" cy="1800720"/>
            <a:chOff x="915480" y="791280"/>
            <a:chExt cx="7355880" cy="1800720"/>
          </a:xfrm>
        </p:grpSpPr>
        <p:sp>
          <p:nvSpPr>
            <p:cNvPr id="545" name=""/>
            <p:cNvSpPr/>
            <p:nvPr/>
          </p:nvSpPr>
          <p:spPr>
            <a:xfrm>
              <a:off x="3368520" y="791280"/>
              <a:ext cx="188928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Rea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5480" y="2010600"/>
              <a:ext cx="73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s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Jim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ary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828800" y="1371600"/>
              <a:ext cx="236232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81280" y="1371600"/>
              <a:ext cx="60984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1371600"/>
              <a:ext cx="114300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1120" y="1371600"/>
              <a:ext cx="281916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197000" cy="1625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70320" y="2772000"/>
            <a:ext cx="83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Zh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hites are having supper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angs are going to see you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685800" y="225360"/>
            <a:ext cx="7904160" cy="5943240"/>
            <a:chOff x="685800" y="225360"/>
            <a:chExt cx="7904160" cy="5943240"/>
          </a:xfrm>
        </p:grpSpPr>
        <p:sp>
          <p:nvSpPr>
            <p:cNvPr id="554" name=""/>
            <p:cNvSpPr/>
            <p:nvPr/>
          </p:nvSpPr>
          <p:spPr>
            <a:xfrm>
              <a:off x="905040" y="225360"/>
              <a:ext cx="76849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hall I/w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ve no idea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think s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ove t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have quite a lot of homework to 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don’t you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make it at nine o’cloc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295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" y="3505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419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4952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800" y="5715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38520" y="1050840"/>
            <a:ext cx="54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inly Re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86000" y="303840"/>
            <a:ext cx="54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1— Unit 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短语及固定表达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760" y="927000"/>
            <a:ext cx="83005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/next te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lcome to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doesn’t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bus/train/b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d l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kind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ope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e ov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Mid-Autum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night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thing much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f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612200" y="4678200"/>
            <a:ext cx="998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840" y="433440"/>
            <a:ext cx="767268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time for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xt week/mont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lp… with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t 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hard to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har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ly a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ve no idea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goo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the ti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goo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 earl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must com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ch a ga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90560" y="57744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复习时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15800" y="1400760"/>
            <a:ext cx="6631920" cy="3552840"/>
            <a:chOff x="1315800" y="1400760"/>
            <a:chExt cx="6631920" cy="3552840"/>
          </a:xfrm>
        </p:grpSpPr>
        <p:sp>
          <p:nvSpPr>
            <p:cNvPr id="572" name=""/>
            <p:cNvSpPr/>
            <p:nvPr/>
          </p:nvSpPr>
          <p:spPr>
            <a:xfrm>
              <a:off x="1754640" y="1400760"/>
              <a:ext cx="606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1. do/does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一般现在时态（习惯性、经常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5800" y="284832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2. be doing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在进行时态 （进行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0040" y="4372200"/>
              <a:ext cx="64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3. be going to do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表示将要发生的动作或状态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29080" y="1980360"/>
            <a:ext cx="7606080" cy="3507120"/>
            <a:chOff x="829080" y="1980360"/>
            <a:chExt cx="7606080" cy="3507120"/>
          </a:xfrm>
        </p:grpSpPr>
        <p:sp>
          <p:nvSpPr>
            <p:cNvPr id="576" name=""/>
            <p:cNvSpPr/>
            <p:nvPr/>
          </p:nvSpPr>
          <p:spPr>
            <a:xfrm>
              <a:off x="867600" y="1980360"/>
              <a:ext cx="75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swims every day in the summ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60" y="3458160"/>
              <a:ext cx="70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swimming in the river n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9080" y="4906080"/>
              <a:ext cx="65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going to swim tomorr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110760" y="1980360"/>
            <a:ext cx="4563360" cy="3507120"/>
            <a:chOff x="3110760" y="1980360"/>
            <a:chExt cx="4563360" cy="3507120"/>
          </a:xfrm>
        </p:grpSpPr>
        <p:sp>
          <p:nvSpPr>
            <p:cNvPr id="580" name=""/>
            <p:cNvSpPr/>
            <p:nvPr/>
          </p:nvSpPr>
          <p:spPr>
            <a:xfrm>
              <a:off x="3110760" y="198036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every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6160" y="3458160"/>
              <a:ext cx="10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5680" y="4906080"/>
              <a:ext cx="22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tomorr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92920" y="5334120"/>
            <a:ext cx="927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0000" y="840600"/>
            <a:ext cx="7774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Listen, who ________ (sing)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____ they always _____ (go) to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 (see) Uncle W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The students _________ (have) classes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Kate is a student. She _______ (stu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a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4720" y="3038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924680" y="5046840"/>
            <a:ext cx="795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761760" y="928080"/>
            <a:ext cx="8145720" cy="4635360"/>
            <a:chOff x="761760" y="928080"/>
            <a:chExt cx="8145720" cy="4635360"/>
          </a:xfrm>
        </p:grpSpPr>
        <p:sp>
          <p:nvSpPr>
            <p:cNvPr id="588" name=""/>
            <p:cNvSpPr/>
            <p:nvPr/>
          </p:nvSpPr>
          <p:spPr>
            <a:xfrm>
              <a:off x="884880" y="928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Li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6758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alw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176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this 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760" y="4342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67320" y="5042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Kate is a studen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00960" y="9136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4000" y="161388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7600" y="29854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going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1680" y="42807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83560" y="504288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00" y="1344600"/>
            <a:ext cx="74120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want to buy an evening 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need some paper to write a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ease hand in your papers, ple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1320" y="201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报纸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1160" y="292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论文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7560" y="3763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卷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072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9040" y="5821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汁（不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339840"/>
            <a:ext cx="6702480" cy="1263240"/>
            <a:chOff x="457200" y="339840"/>
            <a:chExt cx="6702480" cy="1263240"/>
          </a:xfrm>
        </p:grpSpPr>
        <p:sp>
          <p:nvSpPr>
            <p:cNvPr id="78" name=""/>
            <p:cNvSpPr/>
            <p:nvPr/>
          </p:nvSpPr>
          <p:spPr>
            <a:xfrm>
              <a:off x="1860120" y="339840"/>
              <a:ext cx="5299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paper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既可以作可数名词，也可以作不可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，但所表达的意思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2712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33520" y="4248000"/>
            <a:ext cx="6212520" cy="1848600"/>
            <a:chOff x="533520" y="4248000"/>
            <a:chExt cx="6212520" cy="1848600"/>
          </a:xfrm>
        </p:grpSpPr>
        <p:sp>
          <p:nvSpPr>
            <p:cNvPr id="81" name=""/>
            <p:cNvSpPr/>
            <p:nvPr/>
          </p:nvSpPr>
          <p:spPr>
            <a:xfrm>
              <a:off x="627840" y="4248000"/>
              <a:ext cx="611820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n orange is orang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ould you like some orang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648320"/>
              <a:ext cx="228600" cy="3045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59000" y="38016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英文中的“看”：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look, see, read,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85800" y="2471760"/>
            <a:ext cx="7276680" cy="1263240"/>
            <a:chOff x="685800" y="2471760"/>
            <a:chExt cx="7276680" cy="1263240"/>
          </a:xfrm>
        </p:grpSpPr>
        <p:sp>
          <p:nvSpPr>
            <p:cNvPr id="600" name=""/>
            <p:cNvSpPr/>
            <p:nvPr/>
          </p:nvSpPr>
          <p:spPr>
            <a:xfrm>
              <a:off x="1254600" y="2471760"/>
              <a:ext cx="6707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e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看到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结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outside! Can you see a ca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27428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5800" y="3843720"/>
            <a:ext cx="6571080" cy="1263240"/>
            <a:chOff x="685800" y="3843720"/>
            <a:chExt cx="6571080" cy="1263240"/>
          </a:xfrm>
        </p:grpSpPr>
        <p:sp>
          <p:nvSpPr>
            <p:cNvPr id="603" name=""/>
            <p:cNvSpPr/>
            <p:nvPr/>
          </p:nvSpPr>
          <p:spPr>
            <a:xfrm>
              <a:off x="685800" y="414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6840" y="3843720"/>
              <a:ext cx="61700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atch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观看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注视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注意看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atch what I do, and learn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1100520"/>
            <a:ext cx="6944760" cy="1263240"/>
            <a:chOff x="685800" y="1100520"/>
            <a:chExt cx="6944760" cy="1263240"/>
          </a:xfrm>
        </p:grpSpPr>
        <p:sp>
          <p:nvSpPr>
            <p:cNvPr id="606" name=""/>
            <p:cNvSpPr/>
            <p:nvPr/>
          </p:nvSpPr>
          <p:spPr>
            <a:xfrm>
              <a:off x="905400" y="1100520"/>
              <a:ext cx="6725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look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……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at the blackboard, please.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5800" y="5180040"/>
            <a:ext cx="6276240" cy="1263240"/>
            <a:chOff x="685800" y="5180040"/>
            <a:chExt cx="6276240" cy="1263240"/>
          </a:xfrm>
        </p:grpSpPr>
        <p:sp>
          <p:nvSpPr>
            <p:cNvPr id="609" name=""/>
            <p:cNvSpPr/>
            <p:nvPr/>
          </p:nvSpPr>
          <p:spPr>
            <a:xfrm>
              <a:off x="846720" y="5180040"/>
              <a:ext cx="6115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read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阅读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读书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朗读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read newspapers every da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45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29528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180880" y="467280"/>
            <a:ext cx="100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地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比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80880" y="431640"/>
            <a:ext cx="1724040" cy="1854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630240" y="459360"/>
            <a:ext cx="502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a match/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828800" y="643320"/>
            <a:ext cx="5405400" cy="1263240"/>
            <a:chOff x="1828800" y="643320"/>
            <a:chExt cx="5405400" cy="1263240"/>
          </a:xfrm>
        </p:grpSpPr>
        <p:sp>
          <p:nvSpPr>
            <p:cNvPr id="616" name=""/>
            <p:cNvSpPr/>
            <p:nvPr/>
          </p:nvSpPr>
          <p:spPr>
            <a:xfrm>
              <a:off x="2141640" y="64332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a teach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28800" y="914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28800" y="2090880"/>
            <a:ext cx="5357160" cy="1263240"/>
            <a:chOff x="1828800" y="2090880"/>
            <a:chExt cx="5357160" cy="1263240"/>
          </a:xfrm>
        </p:grpSpPr>
        <p:sp>
          <p:nvSpPr>
            <p:cNvPr id="619" name=""/>
            <p:cNvSpPr/>
            <p:nvPr/>
          </p:nvSpPr>
          <p:spPr>
            <a:xfrm>
              <a:off x="2062800" y="2090880"/>
              <a:ext cx="5123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father likes reading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like read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88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828800" y="4834080"/>
            <a:ext cx="5329080" cy="1263240"/>
            <a:chOff x="1828800" y="4834080"/>
            <a:chExt cx="5329080" cy="1263240"/>
          </a:xfrm>
        </p:grpSpPr>
        <p:sp>
          <p:nvSpPr>
            <p:cNvPr id="622" name=""/>
            <p:cNvSpPr/>
            <p:nvPr/>
          </p:nvSpPr>
          <p:spPr>
            <a:xfrm>
              <a:off x="2065320" y="48340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Me too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28800" y="510516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828800" y="3462480"/>
            <a:ext cx="5329080" cy="1263240"/>
            <a:chOff x="1828800" y="3462480"/>
            <a:chExt cx="5329080" cy="1263240"/>
          </a:xfrm>
        </p:grpSpPr>
        <p:sp>
          <p:nvSpPr>
            <p:cNvPr id="625" name=""/>
            <p:cNvSpPr/>
            <p:nvPr/>
          </p:nvSpPr>
          <p:spPr>
            <a:xfrm>
              <a:off x="2065320" y="34624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a teacher,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to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8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9400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685800" y="422280"/>
            <a:ext cx="7644960" cy="3165840"/>
            <a:chOff x="685800" y="422280"/>
            <a:chExt cx="7644960" cy="3165840"/>
          </a:xfrm>
        </p:grpSpPr>
        <p:sp>
          <p:nvSpPr>
            <p:cNvPr id="629" name=""/>
            <p:cNvSpPr/>
            <p:nvPr/>
          </p:nvSpPr>
          <p:spPr>
            <a:xfrm>
              <a:off x="849960" y="422280"/>
              <a:ext cx="74808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交际用语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Sorry, I’m bus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Football is a very popular gam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505320" y="4702320"/>
            <a:ext cx="1981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9720" y="457200"/>
            <a:ext cx="3249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ort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短的；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long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1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tal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571680"/>
            <a:ext cx="210024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77120" y="571680"/>
            <a:ext cx="2100240" cy="674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952560"/>
            <a:ext cx="1905120" cy="571320"/>
            <a:chOff x="6324480" y="952560"/>
            <a:chExt cx="1905120" cy="5713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324480" y="952560"/>
              <a:ext cx="1600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629400" y="1009800"/>
              <a:ext cx="160020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01760" y="434880"/>
            <a:ext cx="4911120" cy="1361160"/>
            <a:chOff x="1301760" y="434880"/>
            <a:chExt cx="4911120" cy="1361160"/>
          </a:xfrm>
        </p:grpSpPr>
        <p:sp>
          <p:nvSpPr>
            <p:cNvPr id="93" name=""/>
            <p:cNvSpPr/>
            <p:nvPr/>
          </p:nvSpPr>
          <p:spPr>
            <a:xfrm>
              <a:off x="1702440" y="434880"/>
              <a:ext cx="4510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 （不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to go to b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760" y="6858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5280" y="1981080"/>
            <a:ext cx="4045680" cy="2628360"/>
            <a:chOff x="1295280" y="1981080"/>
            <a:chExt cx="4045680" cy="2628360"/>
          </a:xfrm>
        </p:grpSpPr>
        <p:sp>
          <p:nvSpPr>
            <p:cNvPr id="96" name=""/>
            <p:cNvSpPr/>
            <p:nvPr/>
          </p:nvSpPr>
          <p:spPr>
            <a:xfrm>
              <a:off x="2136960" y="1981080"/>
              <a:ext cx="320400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次数 （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next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re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fiv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224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4876920"/>
            <a:ext cx="3370320" cy="1068840"/>
            <a:chOff x="1295280" y="4876920"/>
            <a:chExt cx="3370320" cy="1068840"/>
          </a:xfrm>
        </p:grpSpPr>
        <p:sp>
          <p:nvSpPr>
            <p:cNvPr id="99" name=""/>
            <p:cNvSpPr/>
            <p:nvPr/>
          </p:nvSpPr>
          <p:spPr>
            <a:xfrm>
              <a:off x="1295280" y="49528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4880" y="4876920"/>
              <a:ext cx="33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一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wi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两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5440" y="4343400"/>
            <a:ext cx="1500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2081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9320" y="423720"/>
            <a:ext cx="6272640" cy="5212080"/>
            <a:chOff x="1219320" y="423720"/>
            <a:chExt cx="6272640" cy="5212080"/>
          </a:xfrm>
        </p:grpSpPr>
        <p:sp>
          <p:nvSpPr>
            <p:cNvPr id="104" name=""/>
            <p:cNvSpPr/>
            <p:nvPr/>
          </p:nvSpPr>
          <p:spPr>
            <a:xfrm>
              <a:off x="1378440" y="423720"/>
              <a:ext cx="61135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elcome back to school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come in, please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sorry I’m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 doesn’t ma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borrow/have…, pl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re, take this on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15238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2860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29718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7339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4197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51814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8:01:13Z</dcterms:created>
  <dc:creator>陆珉 侯淑珍</dc:creator>
  <dc:description/>
  <dc:language>en-US</dc:language>
  <cp:lastModifiedBy>a</cp:lastModifiedBy>
  <dcterms:modified xsi:type="dcterms:W3CDTF">2001-03-13T06:21:05Z</dcterms:modified>
  <cp:revision>126</cp:revision>
  <dc:subject/>
  <dc:title>没有幻灯片标题</dc:title>
</cp:coreProperties>
</file>