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jpeg" ContentType="image/jpeg"/>
  <Override PartName="/ppt/media/applause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0328-5B7C-461A-9E42-CCADFB17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E08D-E61B-47BB-8AB4-0A91870D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08B0-63DA-471B-81DF-336029C1C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2416-FEB1-4944-832E-6A9EBC270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F9E8-DE93-48C4-A370-21A88196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264C-5C65-45AA-94F4-B718A8B39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BC4A-3F68-4953-A6A8-D02D58E27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C4A4-3DC9-4B1D-88CE-A8A99CDE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CDA7-81D2-4F5D-BA48-48C9F8F2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9347-F957-411A-B609-2D753F78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2DFA-DF61-49C1-8282-F15141C98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624F-31B0-47B3-9BBC-B954B1687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B604-4D52-4C4E-BD3B-CCC37FE758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162920" y="5240160"/>
            <a:ext cx="1904760" cy="1389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676520" y="17859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60480" y="1773360"/>
            <a:ext cx="5457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Unit 1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知识点复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304920"/>
            <a:ext cx="89154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takes + n. + to do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t will take a lot of courage to tell the tru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sistence is an important quality and it is what it takes to do everything w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 known as / for /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 is well-known for his film “Titanic” as a director to all in the wor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533520"/>
            <a:ext cx="8763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ave a lot / much / little / nothing in common ( with sb.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拓展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 common with / in comm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共用，公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 common with most boys, he likes footb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om and I had background in comm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17460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eem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用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seem to do / to be doing / to have d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seem like: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He seems like an honest m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It seems that / as if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seems (to him) that he would never be able to work out the proble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seems as if he has been at the scene of the cr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Times New Roman"/>
              </a:rPr>
              <a:t>There didn’t seem ( to be ) + 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=There seemed to be no + n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似乎没有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7142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seem ( to be ) n. / adj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3808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re b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句型变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re lives / stands / comes / remain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re appeared ( to be) a quarrel between the two girl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re was said to be a fight between Tom and Ji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1181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re used to be / appeared to be / must be / will be / was said to be…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22860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 be/ get engaged to sb. ( engage A to B 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与某人订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e engaged in doing ( engage oneself in doing)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忙于从事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 wants to engage himself in foreign trad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can’t go with you. I’m engag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father was shocked to learn that his daughter had got engaged to the poor young m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80880" y="380880"/>
            <a:ext cx="8763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nor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及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only +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状语开头的倒装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拓展：把否定词或否定结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ot, little, hardly, never, no sooner….than, hardly……when, not only….but also, at no time, by no means, on no condition, in no case, nowhere, nor, seldom, few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等置于句首时，常使用部分倒装结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685800"/>
            <a:ext cx="868680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 sooner had we got to the railway station than the train lef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you don’t do it,  nor shall 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y no means will this method be satisfac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ver has she heard such a beautiful English s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ly after he told me about it did I know the tru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" y="609480"/>
            <a:ext cx="8915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a promising man = a man of prom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romise n. / (to be) adj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有……的希望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预示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is year promises a good harve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promises to be cool in the even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ake / keep / break one’s prom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romise sb. sth. / promise to do / promise sb. to do / promise sb. that cla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228600"/>
            <a:ext cx="891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There is no point / seems to be no 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 doesn’t seem to be point)in doing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做某事没意义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做某事似乎没有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2514600"/>
            <a:ext cx="8915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be on fire for…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热衷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/ on fir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着火了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set fire to sth. ( set sth. on fire 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放火烧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catch fir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着火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make a fir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生火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light a fir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点火炉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play with fire / open fir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开火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under fire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受到攻击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 go through fire and water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赴汤蹈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s a child, he was on fire for drawing sth. free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4572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ake a difference to sb./ sth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某人有影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ake a difference between……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区分，对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不同对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ell the difference between….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说出……之间的区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difference in / between / fr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某方面的不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…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之间的不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和……的不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162920" y="5240160"/>
            <a:ext cx="1904760" cy="138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76520" y="17859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20120" y="2133720"/>
            <a:ext cx="3949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</a:rPr>
              <a:t>Unit 1 </a:t>
            </a: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华文彩云"/>
              </a:rPr>
              <a:t>词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700360" y="3789360"/>
            <a:ext cx="4176720" cy="2016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66600"/>
            <a:ext cx="914400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rain didn’t make much difference to the ga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makes a great difference which you choo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makes no difference to me whether he goes or no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You should make a difference between right and wr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an you tell me the difference in spelling between the word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2.make up one’s m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打定主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hange one’s m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改主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ave sth. in one’s m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记得，想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lose one’s mind / out of one’s m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失去理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sth. ) on one’s m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（某事）使人担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out of sight , out of m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眼不见，心不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b.’s mind is on sth. / keep one’s mind on sth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某人心思在某事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Keep sth. in m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记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8380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ore tha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多于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不仅仅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极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o more tha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只有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拓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o better th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=as bad 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o worse th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=as good 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ot more tha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不超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3808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atch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使相配、相称，使较量，是……的对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 A matches B , be well matched, match A with B) 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ui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指颜色、款式等适合某人的口味、需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i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衣服等大小合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533520"/>
            <a:ext cx="89154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curtain doesn’t match the pai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No one can match him in footb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se gloves don’t mat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’m ready to match my strength with / against you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is deeds don’t match his wor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’m no match for you at ches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" y="7621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hat if…..?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假如…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会怎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sth.)come up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被提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sb.) come up with sth.: think of sth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提出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question hasn’t come up y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cientists have to come up with better ways to deal with pollu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00000" y="404640"/>
            <a:ext cx="273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3493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89000"/>
            <a:ext cx="9144000" cy="65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– Where would you like to go, to the cinema or theatr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 It ___ to 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s not a differe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 makes no dif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is not different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 makes not a dif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789360"/>
            <a:ext cx="50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8120" y="4114800"/>
            <a:ext cx="28908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00000" y="328680"/>
            <a:ext cx="273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227340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83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His opinion is similar ___ his brother’s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A. with      B. like      C. to     D. 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They _____ the foreign affairs those day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 engaged themselves in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 were engaged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were engaged on  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 were engaged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3713040"/>
            <a:ext cx="50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52880" y="914400"/>
            <a:ext cx="28908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4038480"/>
            <a:ext cx="289080" cy="503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4000" y="620640"/>
            <a:ext cx="8820000" cy="57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Einstein’s theory _____ correct later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 was proved 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 was turned out to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was proving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 turned out to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Mr. Baker is busy these days ____ a new book on how to develop a child’s reading ski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orking out             B. working 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working for             D. working i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3440" y="2743200"/>
            <a:ext cx="2872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5257800"/>
            <a:ext cx="28872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24000" y="620640"/>
            <a:ext cx="8820000" cy="51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 Don’t let a chance _____ easily. It may never retur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ive up             B. go b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fall off              D get o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.I’ve always dreamt __ coming to China, and now the dream has come 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 about; real               B. of; 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out; truth                 D. from; tru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32440" y="1600200"/>
            <a:ext cx="2872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57800" y="4648320"/>
            <a:ext cx="2890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990720" y="304560"/>
            <a:ext cx="4086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derta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vi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i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a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ory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t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sund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1080" y="228600"/>
            <a:ext cx="1247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从事，承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明显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在范围之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好奇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分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浏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理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相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预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误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2520" y="609480"/>
            <a:ext cx="2895480" cy="50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观察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庆祝节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悲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有才智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容忍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犯罪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天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灵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难以治愈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91320" y="533520"/>
            <a:ext cx="4109760" cy="57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e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happ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llig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t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pi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u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00000" y="2205000"/>
            <a:ext cx="676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333360"/>
            <a:ext cx="928836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8. If you are ___ about Australia cities, just read the book written by Dr. John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ested                  B. anx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upset                        D. curi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3200400"/>
            <a:ext cx="2872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00000" y="2205000"/>
            <a:ext cx="676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33360"/>
            <a:ext cx="928836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9.– Shall we have a talk with her and tried to persuade her not to see a movie tonigh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-- There is no ___ talking to her. She never listen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ood                 B. val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point                D. wo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3600" y="4572000"/>
            <a:ext cx="2872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00000" y="2205000"/>
            <a:ext cx="6769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33360"/>
            <a:ext cx="928836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. You can’t ___ everybody. If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jority ___ your decision, that’s O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tisfy; was satisfied wi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. be satisfied; satisf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. satisfy; are satisfied wi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. satisfy; satisfied wi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320" y="3733920"/>
            <a:ext cx="28728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826920" y="2924280"/>
            <a:ext cx="7777440" cy="30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Thank you</a:t>
            </a:r>
            <a:endParaRPr b="1" lang="en-US" sz="6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615120" y="1413000"/>
            <a:ext cx="1186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华文彩云"/>
              </a:rPr>
              <a:t>语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050920" y="3500280"/>
            <a:ext cx="4176720" cy="2016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162920" y="5240160"/>
            <a:ext cx="1904760" cy="13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39640" y="40464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不定式的结构形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523880" y="1413000"/>
          <a:ext cx="6720120" cy="404784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656080"/>
              </a:tblGrid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1547640" y="1413000"/>
            <a:ext cx="201636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580000" y="3860280"/>
            <a:ext cx="201636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580000" y="4653000"/>
            <a:ext cx="2087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00360" y="148428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92360" y="1773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08360" y="170028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主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162864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被动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35280" y="2421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一般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835280" y="3213000"/>
            <a:ext cx="14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完成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79640" y="39337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进行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47640" y="479736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完成进行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51280" y="242100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华文行楷"/>
              </a:rPr>
              <a:t>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24360" y="22766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19640" y="3141720"/>
            <a:ext cx="27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hav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2997360"/>
            <a:ext cx="23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have been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64000" y="4005360"/>
            <a:ext cx="20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be do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09280" y="4581360"/>
            <a:ext cx="216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h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en d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2565360"/>
            <a:ext cx="11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不定式的用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63640" y="1341360"/>
            <a:ext cx="287280" cy="4103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106920 h 4103640"/>
              <a:gd name="textAreaBottom" fmla="*/ 399672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050920" y="1052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It is right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to give u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mok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50920" y="1916280"/>
            <a:ext cx="59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She wanted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to borrow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y bi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050920" y="270828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I came here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to se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79640" y="3500280"/>
            <a:ext cx="56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He needs a room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to live 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79640" y="422100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I asked him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to d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e work with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50920" y="515772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My wish is 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to beco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 doctor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236000" y="981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主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67640" y="19162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宾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72360" y="270828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状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948360" y="3500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定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812000" y="422100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行楷"/>
              </a:rPr>
              <a:t>宾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40720" y="51577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行楷"/>
              </a:rPr>
              <a:t>表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76320" y="152280"/>
            <a:ext cx="8964360" cy="67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 has a lot of work ____ today, so he can’t go with u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ing     B. to do     C. done       D. 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He told me about the things ____ at the next me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 discuss              B. being discu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discussed             D. to be discus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He seems ___ the old la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nowing                B to be know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to know                D.  to b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062080" y="1405080"/>
            <a:ext cx="528840" cy="576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67200" y="4038480"/>
            <a:ext cx="528480" cy="576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320" y="6205680"/>
            <a:ext cx="528480" cy="576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52280" y="0"/>
            <a:ext cx="8964720" cy="84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4. We all  hope ___ scientis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A. become             B. to becom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C. becoming          D. beca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5. With a lot of difficult problems _____, the newly-elected president is having a hard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settled                         B. settl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C. to settle                      D. being settl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6. It is said that in Australia there is more land than the government knows______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it what to do with          B. what to do it wi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C. what to do with it         D. to do what with 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05320" y="685800"/>
            <a:ext cx="530280" cy="576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3886200"/>
            <a:ext cx="530280" cy="576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6357960"/>
            <a:ext cx="530280" cy="576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260280"/>
            <a:ext cx="914400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Do let your mother know all the truth. She appears_____ every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tell                B. to be to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to be telling    D. to have been to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 The shirt looks tight on you. You seem __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e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to put on              B. to put 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 to have put on     D. to have pu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They expect___ their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to be seen B. to be seeing C. to see D. s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43280" y="1916280"/>
            <a:ext cx="504720" cy="576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508640"/>
            <a:ext cx="504720" cy="5760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32360" y="5805360"/>
            <a:ext cx="504720" cy="576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162920" y="5240160"/>
            <a:ext cx="1904760" cy="1389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76520" y="17859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94520" y="1905120"/>
            <a:ext cx="3483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华文彩云"/>
              </a:rPr>
              <a:t>词 汇 练 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700360" y="3789360"/>
            <a:ext cx="4176720" cy="2016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The most recent survey of rare bird was u_________ in 199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His disappointment was o______ to everyone. Didn’t you see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The school is w_____ 5 minutes walk of my house; I go to it on foot every 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Don’t be so c_____ . It’s got nothing to do with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The little boy climbed the tree and sat on a b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692280"/>
            <a:ext cx="212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ndert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2000" y="1268280"/>
            <a:ext cx="14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bv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08720" y="2349360"/>
            <a:ext cx="10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04000" y="3429000"/>
            <a:ext cx="14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u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17080" y="5013360"/>
            <a:ext cx="128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ra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162920" y="5240160"/>
            <a:ext cx="1904760" cy="13892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676520" y="17859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03600" y="1981080"/>
            <a:ext cx="3566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华文彩云"/>
              </a:rPr>
              <a:t>短 语 与 句 型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700360" y="3789360"/>
            <a:ext cx="4176720" cy="201600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114800" y="-360"/>
            <a:ext cx="64008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go 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et engaged to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make a differ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urn out to b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he other way a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ream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be similar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reach one’s 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be curious to 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44480" y="0"/>
            <a:ext cx="26719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新宋体"/>
              </a:rPr>
              <a:t>走过，过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新宋体"/>
              </a:rPr>
              <a:t>与…订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新宋体"/>
              </a:rPr>
              <a:t>有所作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新宋体"/>
              </a:rPr>
              <a:t>结果是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新宋体"/>
              </a:rPr>
              <a:t>,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新宋体"/>
              </a:rPr>
              <a:t>后来证实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新宋体"/>
              </a:rPr>
              <a:t>相反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新宋体"/>
              </a:rPr>
              <a:t>梦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新宋体"/>
              </a:rPr>
              <a:t>与…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新宋体"/>
              </a:rPr>
              <a:t>..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新宋体"/>
              </a:rPr>
              <a:t>相似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新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新宋体"/>
              </a:rPr>
              <a:t>达到目的，实现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新宋体"/>
              </a:rPr>
              <a:t>很想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657600" y="304560"/>
            <a:ext cx="54864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n the early 1970s 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since then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　　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seek answers to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seek for/after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ccording to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on the other hand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　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3640" y="6497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28600"/>
            <a:ext cx="36576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新宋体"/>
                <a:ea typeface="新宋体"/>
              </a:rPr>
              <a:t>20</a:t>
            </a:r>
            <a:r>
              <a:rPr b="1" lang="zh-CN" sz="3200" spc="-1" strike="noStrike">
                <a:solidFill>
                  <a:srgbClr val="333399"/>
                </a:solidFill>
                <a:latin typeface="新宋体"/>
                <a:ea typeface="新宋体"/>
              </a:rPr>
              <a:t>世纪</a:t>
            </a:r>
            <a:r>
              <a:rPr b="1" lang="zh-CN" sz="3200" spc="-1" strike="noStrike">
                <a:solidFill>
                  <a:srgbClr val="333399"/>
                </a:solidFill>
                <a:latin typeface="新宋体"/>
                <a:ea typeface="新宋体"/>
              </a:rPr>
              <a:t>70</a:t>
            </a:r>
            <a:r>
              <a:rPr b="1" lang="zh-CN" sz="3200" spc="-1" strike="noStrike">
                <a:solidFill>
                  <a:srgbClr val="333399"/>
                </a:solidFill>
                <a:latin typeface="新宋体"/>
                <a:ea typeface="新宋体"/>
              </a:rPr>
              <a:t>年代早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新宋体"/>
                <a:ea typeface="新宋体"/>
              </a:rPr>
              <a:t>从那时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新宋体"/>
                <a:ea typeface="新宋体"/>
              </a:rPr>
              <a:t>寻找问题的答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新宋体"/>
                <a:ea typeface="新宋体"/>
              </a:rPr>
              <a:t>追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新宋体"/>
                <a:ea typeface="新宋体"/>
              </a:rPr>
              <a:t>根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新宋体"/>
                <a:ea typeface="新宋体"/>
              </a:rPr>
              <a:t>另一方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350496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新宋体"/>
                <a:ea typeface="新宋体"/>
              </a:rPr>
              <a:t>好管闲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新宋体"/>
                <a:ea typeface="新宋体"/>
              </a:rPr>
              <a:t>继续某种行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新宋体"/>
                <a:ea typeface="新宋体"/>
              </a:rPr>
              <a:t>和某人结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新宋体"/>
                <a:ea typeface="新宋体"/>
              </a:rPr>
              <a:t>用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新宋体"/>
                <a:ea typeface="新宋体"/>
              </a:rPr>
              <a:t>做某事没有作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新宋体"/>
                <a:ea typeface="新宋体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新宋体"/>
                <a:ea typeface="新宋体"/>
              </a:rPr>
              <a:t>或没有意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新宋体"/>
              </a:rPr>
              <a:t>从事于某事；忙于做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62520" y="44280"/>
            <a:ext cx="5035320" cy="71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be curious abou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one’s busines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go on wit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get married to s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use up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There is no point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doing sth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engage(oneself) in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或</a:t>
            </a:r>
            <a:r>
              <a:rPr b="0" lang="zh-CN" sz="3600" spc="-1" strike="noStrike">
                <a:solidFill>
                  <a:srgbClr val="333399"/>
                </a:solidFill>
                <a:latin typeface="Arial"/>
              </a:rPr>
              <a:t>be/get engaged in      doing s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1:10:32Z</dcterms:created>
  <dc:creator>Billgates</dc:creator>
  <dc:description/>
  <dc:language>en-US</dc:language>
  <cp:lastModifiedBy>jinma</cp:lastModifiedBy>
  <dcterms:modified xsi:type="dcterms:W3CDTF">2005-11-02T14:51:31Z</dcterms:modified>
  <cp:revision>18</cp:revision>
  <dc:subject/>
  <dc:title>幻灯片 1</dc:title>
</cp:coreProperties>
</file>