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5799138" cy="7959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A2C-5462-4DC0-BA18-FA1FBCC9D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E17C-B7C3-485D-ACED-62195587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C45B-603E-4F41-9297-1303DD2F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C775-BB6B-45B9-9476-FDE63CA0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EFB3-3DDC-4C5D-A127-6414C5CB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9E9F-088C-43DC-B6CA-293D8ED87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D45DA-AA40-4863-AE01-2C1F2714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D7170-37FA-4F03-A170-10C8D2835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BDDE-876B-40DA-BD20-F499B6922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CAD90-E13F-4BF1-9BB9-A00A845F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E804-4B99-4533-B91E-7D8BFC0D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6D94-F6C0-4DD7-9DC9-0B551C35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C2E3-D4FF-4F07-B47B-DECC36416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1FD7-78A8-4338-BE13-E7F10EFE7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82F2-97BD-4629-BF6A-5089C6BE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0437-D599-42C8-A5D2-A2336D1B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CB6F-49B5-4044-8590-A4EA42D3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0EE-0DCD-4E62-B170-97FC75424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DB0A-C180-4506-B43E-87ABA33D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C166-821D-4DFC-9BE1-FF898104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FE2C-65C7-46F6-8CE5-4C3B869C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8D9-1EE1-47DE-9934-601D5B40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F537-50A0-41E6-A5C5-67E6E641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2358-A311-45AC-B175-9BE49B8B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E50D-B399-44EA-B084-6621FA07478A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4D79-DE13-4D2B-8B58-05A77F35F8EA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143000" y="1523880"/>
            <a:ext cx="6553080" cy="34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cap="sq" w="9360">
                  <a:solidFill>
                    <a:srgbClr val="ffff66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unit 10</a:t>
            </a:r>
            <a:endParaRPr b="1" lang="en-US" sz="8000" spc="1" strike="noStrike">
              <a:ln cap="sq" w="9360">
                <a:solidFill>
                  <a:srgbClr val="ffff66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cap="sq" w="9360">
                  <a:solidFill>
                    <a:srgbClr val="ffff66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frightening nature</a:t>
            </a:r>
            <a:endParaRPr b="1" lang="en-US" sz="8000" spc="1" strike="noStrike">
              <a:ln cap="sq" w="9360">
                <a:solidFill>
                  <a:srgbClr val="ffff66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cap="sq" w="9360">
                  <a:solidFill>
                    <a:srgbClr val="ffff66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word study </a:t>
            </a:r>
            <a:endParaRPr b="1" lang="en-US" sz="8000" spc="1" strike="noStrike">
              <a:ln cap="sq" w="9360">
                <a:solidFill>
                  <a:srgbClr val="ffff66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100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15400" cy="198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watched it rising from a mountain</a:t>
            </a:r>
            <a:r>
              <a:rPr b="0" lang="zh-CN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-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 such a distance</a:t>
            </a:r>
            <a:r>
              <a:rPr b="0" lang="zh-CN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couldn’t</a:t>
            </a:r>
            <a:r>
              <a:rPr b="0" lang="zh-CN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ll</a:t>
            </a:r>
            <a:r>
              <a:rPr b="0" lang="zh-CN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ch one, but we afterwards learnt that it was Mount Vesuvius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192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t a distanc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from a place that is not very close: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etective followed him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t a distanc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ell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 be able to see how one person or thing is different from another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man taste buds can ______________ between four basic flavors.(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区分不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5334120"/>
            <a:ext cx="4343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ell the differenc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6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ght of it awoke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scientist in my uncle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go and see it from closer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 hand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    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cientis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my uncl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科学灵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t ha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ear in time or spac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shops and buses clos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t ha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ant you to b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t ha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uring my interview with the applicants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6933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started out as a trip for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ledge now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lled for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urage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all fo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eed, ask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工人要求罢工运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kers ar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calling fo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rike actio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工作需要耐力和耐心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k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calls for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durance and patience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304560"/>
            <a:ext cx="914400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had to wait for a good wind, blowing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other way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an the one that carried my uncle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ight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in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9144000" cy="449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he other way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: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different direction; on the contrar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看见警察后转向另一方向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turned to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e other wa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n he saw the police coming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他觉得去时用的时间比来时短，其实正相反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would think to go there is quicker than to come back, but it was just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e other wa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had to wait for a good wind, blowing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other way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an the one that carried my uncle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ight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in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1048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igh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dv. immediately; directly.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轮船直沉江底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hip went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igh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the bottom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进门就打开了电视机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turned on the TV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righ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he came into the room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800" y="380520"/>
            <a:ext cx="67816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some dirty weather</a:t>
            </a:r>
            <a:r>
              <a:rPr b="1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nocking about</a:t>
            </a:r>
            <a:r>
              <a:rPr b="1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knock abo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to be active, and esp. to travel continuousl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has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knocked abo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frica for year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a young man he suffered a lot from poverty. He used to 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knock abo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the market, trying to find a job for a few coins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hurricane,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th its power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ink ships, to uproot trees and to overturn strong walls had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found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little ship in its path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360" y="2285640"/>
            <a:ext cx="8875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fou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’s subject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the hurrican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ee, fi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 can have the nouns to be their subjec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old house has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ee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tter day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ional Day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oun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ople singing and dancing happily in a street parade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5640" y="2209680"/>
            <a:ext cx="3429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572"/>
                </a:solidFill>
                <a:latin typeface="Times New Roman"/>
              </a:rPr>
              <a:t>Fill in the blanks:</a:t>
            </a:r>
            <a:r>
              <a:rPr b="0" lang="en-US" sz="36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The active v_______ on Monstserrat caused more than US$323,000 damage to crops and the island’s water system, the government said Thursda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The island was covered with d______ and a______, as deep as four inches. Fruit trees and crops were severely damaged, but none of the people were reported injured, officials said. Some wildlife habitats were damage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90920" y="609480"/>
            <a:ext cx="2743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volcano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3581280"/>
            <a:ext cx="1219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dir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4114800"/>
            <a:ext cx="167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sh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5640" y="1981080"/>
            <a:ext cx="3429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572"/>
                </a:solidFill>
                <a:latin typeface="Times New Roman"/>
              </a:rPr>
              <a:t>Fill in the blanks:</a:t>
            </a:r>
            <a:r>
              <a:rPr b="0" lang="en-US" sz="3600" spc="-1" strike="noStrike">
                <a:solidFill>
                  <a:srgbClr val="007572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380880"/>
            <a:ext cx="9144000" cy="647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The volcano on Montserrat sprang to life in 1995. More than half the population f______ and never returned a_______. An e_________ in 1997 killed 19 people and buried the capital of Plymouth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Although there was a feeling of p_________, people told reporters that they would not leave their islan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Officials in said costs for cleaning up could reach US$188,000. the UN has u________ other countries to help. Britain already gave 1 million pounds last aid Tuesday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838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fl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62520" y="1371600"/>
            <a:ext cx="167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agai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1339920"/>
            <a:ext cx="2895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erup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53080" y="2895480"/>
            <a:ext cx="3124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protectio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499752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urg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76400" y="614880"/>
            <a:ext cx="5191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25000"/>
              </a:lnSpc>
              <a:buClr>
                <a:srgbClr val="ff0066"/>
              </a:buClr>
              <a:buFont typeface="华文新魏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近在手边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附近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t han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2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冲击，漫游；闲逛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knock about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3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突然地，冷不防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ll of a sudde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4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需要勇气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call for courage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914400"/>
            <a:ext cx="36576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ghten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ightened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2819520"/>
            <a:ext cx="854064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宋体"/>
              </a:rPr>
              <a:t>怕黑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 be frightened of the dark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hat a ___________ dog! Even the bravest boys are _____________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038480" y="914400"/>
            <a:ext cx="4572000" cy="18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dj. feeling afrai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adj. making you feel afraid or nervou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1294920"/>
            <a:ext cx="1218960" cy="76212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1295280"/>
            <a:ext cx="1143000" cy="609840"/>
          </a:xfrm>
          <a:prstGeom prst="line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057400" y="4038480"/>
            <a:ext cx="2666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frighten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2520" y="4648320"/>
            <a:ext cx="312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frighten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66680" y="304920"/>
            <a:ext cx="807732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5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另一个方向；相反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the other way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buClr>
                <a:srgbClr val="ff0066"/>
              </a:buClr>
              <a:buFont typeface="华文新魏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竖立起来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tand on en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7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注意到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draw one`s attention to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697840" y="437040"/>
            <a:ext cx="4624560" cy="60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8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平静下来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calm down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9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照亮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light up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0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惊慌地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in a panic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1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船上         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on board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04920" y="1676520"/>
            <a:ext cx="4572000" cy="38026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2.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突然；忽然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ll at once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3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完蛋了，不行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be done for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1676520"/>
            <a:ext cx="4114800" cy="38026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4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度过，经受住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live through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15. </a:t>
            </a: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在远处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at a distanc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8394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不理会他父亲的恐吓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took no notice of his father's threa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啄木鸟栖居于空心树上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oodpeckers inhabit hollow tree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里是建房的好地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is is a nice spot for a hous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幅画远看就好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is picture looks better at a distanc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俩兄弟太像了，很难分辨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The twins are too much alike to tell them apar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现在手头没有字典，呆会儿我指给你看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 haven’t the dictionary at hand but I will show it to you later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猜我没饿，其实正相反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guessed that I was not hungry, but it was just the other wa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在欧洲漫游了好几年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 has knocked about in Europe for year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新丰一中见证了我们的失败与成功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e No. 1 Middle School of Xinfeng has seen our failure and success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4582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ich words were left out at the place of the question mark (?) in the following two sentences?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1).Upon arrival, my uncle hugged Pompy and (?) tried to give him courag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</a:rPr>
              <a:t>2). Then came a smell of sulphur, and then (?) flames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7162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w look at the following sentences and tell me the full sentences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3360" y="23619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) Beg your pardo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) Haven’t seen you for age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) Some more tea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) Sounds like a good idea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) Joining us for a drink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) Going to the supermarket?</a:t>
            </a: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51920" y="457200"/>
            <a:ext cx="899172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).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主语。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祈使句的主语省略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nk you for your help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2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主语和谓语的一部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here is) no smoking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3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做宾语的不定式短语，只保留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didn’t come although he promised to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 you like to have a try? I’d like to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83908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如果该宾语是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e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动词或完成时态，则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e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ave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不能省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 Are you an engineer?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No, but I want to b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 Have you finished the task? –No, but I ought to hav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4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在并列句中可以省略分句中的相同的成分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 father is a doctor and my mother (is) a nurs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5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主句中的省略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 am) Sorry to hear tha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6).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从句的一部分，用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o, not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代替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he come tonight? I think so/ I think not/ I don’t think so.  (hope, be afraid, guess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一般使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结构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7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并列不定式可以省略后面的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old him to sit down and wait for a momen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5867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sides this pair, what else? 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8390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(boring , bored; threatening, threatened; terrifying, terrified; upsetting, upset; interesting,  interested;  exciting,  excited;…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276720"/>
            <a:ext cx="9144000" cy="228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Failing an exam can be __________, but James was ________ today not because he had failed the exam, but because he had missed the live programme of the soccer match. (</a:t>
            </a:r>
            <a:r>
              <a:rPr b="0" lang="zh-CN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upset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15000" y="3276720"/>
            <a:ext cx="312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upsett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377820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upse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8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使役动词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let. make , have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和感官动词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ee, watch, notice, observe, hear, feel, fool at, listen t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后面做宾语补足语的动词不定式一定要省略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，但是在被结构中不能省略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aw the boy fall from the tre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y was seen to fall from the tre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9). find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help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后面的可以省也可以不省略。但是如果是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e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动词，则不省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found him (to) work very har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found him to be hones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360" y="457200"/>
            <a:ext cx="8839080" cy="640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0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介词前若有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d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，后面的不定式符号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o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省略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oy did nothing but play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1)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在状语从句中，从句的主语和主句一致，或者主语是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时，可以省略主语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be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(you are) asked, you may come i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(it is) necessary, I will come to help you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are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more time, we can do it better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04560" y="609480"/>
            <a:ext cx="830556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12).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有形式主语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的主语从句可省略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a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seems (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ears) (that) Joe is out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Jack.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n honor (that) I was invited to your birthday part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１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.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在限制性定语从句中可省略作宾语的关系代词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hom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hich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a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s the naughty boy (whom/that) we talked about last week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s: some of the words in the following sentences are unnecessary. Cross these words out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2286000"/>
            <a:ext cx="884556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. It did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take my uncle long to decide whether to go to save his friends or not to go to save his friend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. They had a meal, they went out for a walk and they came back to sleep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. They discussed whether they should stay in the house or they should try the open air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3505320"/>
            <a:ext cx="114300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3962520"/>
            <a:ext cx="32767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209680" y="5181480"/>
            <a:ext cx="7621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6477120"/>
            <a:ext cx="21337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rcises: some of the words in the following sentences are unnecessary. Cross these words out.</a:t>
            </a:r>
            <a:br>
              <a:rPr sz="3600"/>
            </a:b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-360" y="2819520"/>
            <a:ext cx="884556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. Do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bathe if you do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want to bath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. I don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visit my parents as much as I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ght to visit my parents.</a:t>
            </a:r>
            <a:r>
              <a:rPr b="0" lang="zh-CN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238880" y="3429000"/>
            <a:ext cx="99072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5410080"/>
            <a:ext cx="2971800" cy="0"/>
          </a:xfrm>
          <a:prstGeom prst="line">
            <a:avLst/>
          </a:prstGeom>
          <a:ln w="57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735120"/>
            <a:ext cx="8534520" cy="499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t is ________ that the volcano became active without warming. People were _________ by the eruption.(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terrify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everal children decided to explore a _________ cave. They were ________ to death when they saw a giant spider. (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care</a:t>
            </a: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52480" y="735120"/>
            <a:ext cx="236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errify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1801800"/>
            <a:ext cx="198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errifi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3706920"/>
            <a:ext cx="198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scary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3706920"/>
            <a:ext cx="1981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scar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14600" y="-76680"/>
            <a:ext cx="472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at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n. 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威胁；恫吓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;</a:t>
            </a:r>
            <a:r>
              <a:rPr b="1" lang="zh-CN" sz="3600" spc="-1" strike="noStrike">
                <a:solidFill>
                  <a:srgbClr val="0033cc"/>
                </a:solidFill>
                <a:latin typeface="宋体"/>
              </a:rPr>
              <a:t>造成威胁的人或事；凶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战争的危胁使商业变得不景气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rea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war has depressed business activity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is a serious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rea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famine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der threat of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危胁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在死的危胁下他只得照他们的命令做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5360" indent="-31536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was forced to carry out their orders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under threat of dea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reaten 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v.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男孩的父亲威胁说如果他再偷东西的话，就要揍他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 father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reaten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e boy to beat him if he stole agai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younger boys _______________to give money to the older ones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___________letter frightened him.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3701880"/>
            <a:ext cx="3504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ere threaten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4952880"/>
            <a:ext cx="2819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threateni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56386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dj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habitant </a:t>
            </a: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 one of the people who live in a particular place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24379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habitan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tow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habit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t. live there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sland mainly is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habit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sheep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烟稀少的一个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district sparsely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inhabit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90920" y="-381240"/>
            <a:ext cx="424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572"/>
                </a:solidFill>
                <a:latin typeface="Times New Roman"/>
                <a:ea typeface="Times New Roman"/>
              </a:rPr>
              <a:t>spot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.</a:t>
            </a:r>
            <a:endParaRPr b="0" lang="en-US" sz="36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rk on skin</a:t>
            </a: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当她生病的时候，她脸上有斑点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 had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her face when she was ill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dirty mark, usually made by a liquid;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are a lot of greas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n the shirt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particular place</a:t>
            </a:r>
            <a:r>
              <a:rPr b="0" lang="zh-CN" sz="3600" spc="-1" strike="noStrike">
                <a:solidFill>
                  <a:srgbClr val="ff3300"/>
                </a:solidFill>
                <a:latin typeface="宋体"/>
              </a:rPr>
              <a:t>；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被谋杀的地点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here he was murdered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little bit, small amoun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们吃点午饭吧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t’s have a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lunch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52280" y="304920"/>
            <a:ext cx="88394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ut sb.on the spot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a position of having to make the right answer or decision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个问题使我得做出反应了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question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put me on the spo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t., vi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notice, to see, to recognize;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mark with spots;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k’s very tall, so he is easy to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spo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 crowd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loor </a:t>
            </a:r>
            <a:r>
              <a:rPr b="0" lang="zh-CN" sz="36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was spotted wi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int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1:02:18Z</dcterms:created>
  <dc:creator>高一级老师请用该系统</dc:creator>
  <dc:description/>
  <dc:language>en-US</dc:language>
  <cp:lastModifiedBy>zys</cp:lastModifiedBy>
  <dcterms:modified xsi:type="dcterms:W3CDTF">2005-12-26T02:47:00Z</dcterms:modified>
  <cp:revision>129</cp:revision>
  <dc:subject/>
  <dc:title>Unit 18 NEW ZEALAND</dc:title>
</cp:coreProperties>
</file>