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9AF8-462D-43EC-9ADD-9EF4E1EFE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176-EF8B-4365-89A3-0FE02B98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73ED-3FE2-4715-ACF3-6938BA21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0116-FC9C-4FB1-877B-0136FA395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9C5D-7EA5-4330-A802-05124283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D101-22EA-4A02-A72F-44CC52E9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D3C4-A081-49AC-ADCB-6A2D1999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1B2D-3D34-46A4-B03E-9C468015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7C52-0086-47A1-A0DE-FDD23C9B4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21C8-E11F-4778-999C-4341AB39D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349F-A721-4CB1-AC35-C0DF0FC4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B448-8336-42F8-91ED-5EA3DEACC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ED5E-2F00-4BEA-A8C9-6A49A168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5E47-BFD8-4BE6-A0AB-414E29E9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B0D4-F58A-4F51-AB8B-8123D41C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D2B62-7141-4376-9056-45BA0E0C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8036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79480" y="205740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808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8036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79480" y="4166640"/>
            <a:ext cx="2379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3192-B4A5-4686-8D46-DBA05890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2F90-8ED2-4EC3-819F-5EFCA07A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36D0-195D-4ADB-AC03-929DD9A6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683D-3F5D-441F-8AE9-9B2A604C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143A-CF25-43D3-8EC3-43FFB928B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0517-34F6-4CED-9298-CBC72B30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8440" y="416664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9CFF-D54F-4B26-8210-40163D2C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8440" y="2057400"/>
            <a:ext cx="36068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66640"/>
            <a:ext cx="7391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8190-09B2-4EF6-B1DA-FB8BC7E8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8D48-1E1D-4C29-935B-72114FFFF3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5AFA-4AD4-4A28-AF2E-CA82042981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84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0787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Unit 3  Art and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2742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Language points</a:t>
            </a:r>
            <a:endParaRPr b="1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43200" y="3809880"/>
            <a:ext cx="4484520" cy="1849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04920"/>
            <a:ext cx="91440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look as if +clause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看起来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fill up sth with sth.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用…装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be filled with sth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充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keep sb informed of sth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随时让某人了解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succeed in sth/doing sth.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在…成功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/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成功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pull sth down 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拆掉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7560" y="692280"/>
            <a:ext cx="720396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tergating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stand empty without use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空置不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ith one’s help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…的帮助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decorated with sth.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被用…装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remind sb of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使某人想起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set sb/ sth aside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搁置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把…放在一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ring sth together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把…汇集在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changed into sth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被变成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53200" y="981000"/>
            <a:ext cx="76482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be good for sb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对某人有好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far from sw.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远离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句子，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so that +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句子   …，因此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以至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turn sth. into sth.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把…变成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give new uses to sth.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赋予…新用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save sth/sb. from …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把…从…中挽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glance at sb.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看一下…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扫视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9080" y="555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-462600" y="304920"/>
            <a:ext cx="104173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If you were free to design your own d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house, what would that house look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引导的非真实条件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我要是你的话，我会立即给他打电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假如我身上带了钱的话，我就会借给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你要是早来一点的话，你就见到他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下个月我要是有时间的话，我就去休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I were you, I would ring her up right n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I had any money with me, I could lend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you had come a little earlier, you wou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have met h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If I had time next month, I would have a holida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920" y="3016080"/>
            <a:ext cx="15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8380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. So I felt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nervou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uncertain at fir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133720"/>
            <a:ext cx="723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e nervous about (doing)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be nervous of (doing)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743200"/>
            <a:ext cx="823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对做某事心中忐忑不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为…担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害怕做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8276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 are nervous about his physical condi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 was nervous of that jo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.free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空闲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自由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2947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e free to do sth.=do sth freely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随意地或自由地做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one’s free time=in one’s spare tim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某人的空闲时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et……free…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释放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medical car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公费医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or fre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费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of charg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免费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from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受影响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ree of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摆脱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1.free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空闲的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自由的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每个人都可以畅所欲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veryone is free to express himsel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他同意无偿的演唱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e agreed to sing for fr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们多么希望不受噪音的影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ow we wished to be free from noise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2.Design –v.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设计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构思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计划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谋划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Design building/ to build a hous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打算建房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hopeless desig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毫无希望的计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beautiful desig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美丽的图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y desig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故意地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蓄意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谁设计的悉尼歌剧院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ho designed the Sydney Opera Hou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3.furniture---n 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家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 piece of furnitur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一件家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urnish—v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陈设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供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urnish one’s hous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布置某人的房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8377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4.taste—n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爱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嗜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鉴赏力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味道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品尝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Link-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尝起来味道如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23623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n attractive taste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诱人的味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 one’s tast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适合每人的口味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中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good taste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雅致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行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高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ave a taste for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有…爱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aste snake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尝蛇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28600"/>
            <a:ext cx="84978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一．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arming-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sth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某物，爱好某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sth.…to sth…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…胜过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to do sth.= prefer doing s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干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to do…rather than do.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喜欢干…胜过干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=prefer doing sth to doing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4.taste—n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爱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嗜好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鉴赏力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味道  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品尝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Link-v.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尝起来味道如何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菜吃起来味道不错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dish tastes n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这食品的味道很诱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food has an attractive tas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她对水彩画很有鉴赏力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he shows good taste in water-col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类似系动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 smell, sound, feel, l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5. Would rather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宁愿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10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rather ( not ) do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rather ( not ) have done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做过某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rather do sth than do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做…也不愿做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ould do sth. rather than do sth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宁愿做…也不愿做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efer to do…rather than do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喜欢做…而不愿做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5. Would rather—</a:t>
            </a: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宁愿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宁可一个人去那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uld rather go there al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宁愿我没说过那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uld rather not have said tha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我宁愿死也不愿投降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Would rather die than give 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I would die rather than give 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6.miss—v.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思念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错过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未击中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未得到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免于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ss sb. terribly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非常想念某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没接到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missed the b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险些遇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ss being 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险些掉到河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Miss falling into the r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没赶上影片的开头部分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missed the first part of the fil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不明白你怎么会迷路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onder how you came to miss your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u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7.stand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经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承当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耐情况如何或处于某种状态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倒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站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one’s head/fe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立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稍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at attention/e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代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and for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忍受不了那个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说话太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can’t stand that man; he talks too muc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忍受不了受那样的对待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can’t stand being treated like th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7.stand—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经受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承当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忍耐情况如何或处于某种状态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照目前的情况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s things now st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经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n’t stand wa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目前情况怎么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do things stand at the mo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0920" y="7632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prefer sb to do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想某人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ould prefer that clause(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主语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+were /did)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（从句用虚拟语气）想某人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a preference for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爱好某物，喜爱某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838080"/>
            <a:ext cx="9144000" cy="45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design sth for sb/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为某人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/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某物…设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design sth to do sth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为干…设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a piece of furniture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一件家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a taste for sth.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爱好某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a taste in sth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某物有鉴赏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81080" y="533520"/>
            <a:ext cx="914400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convenient to /for sb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某人很方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t is convenient for sb to do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某人干某事很方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live close to sw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住在靠近…的地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stand close to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靠近…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ould rather do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愿意干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get excited about sth.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对…感到兴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48520" y="0"/>
            <a:ext cx="7561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二．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all the same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都一样，仍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personal style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有个人风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can’t stand sth/ one’s doing s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不能容忍某事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某人干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take examples from nature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效仿自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have sth done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让某物被…，使…遭受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762120" y="339840"/>
            <a:ext cx="7705440" cy="66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n different styles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以不同的风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go against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违反，违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want sth. constructed …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想…建成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e under construction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建设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look unnatural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看上去不合乎自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685800"/>
            <a:ext cx="9144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mpress sth on sb.=impress sb.with sth.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使某人铭记某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act as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充当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n the choice of sth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选择…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in nature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在自然界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80880"/>
            <a:ext cx="9144000" cy="50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despite the fact that clause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尽管…的事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despite sth=in spite of sth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尽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find oneself inspired by sth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发现自己从…中得到灵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seen/ viewed from the top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从上面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look as if +clause  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看起来象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05:37:53Z</dcterms:created>
  <dc:creator>asiasys</dc:creator>
  <dc:description/>
  <dc:language>en-US</dc:language>
  <cp:lastModifiedBy>Lenovo User</cp:lastModifiedBy>
  <dcterms:modified xsi:type="dcterms:W3CDTF">2005-11-14T08:08:48Z</dcterms:modified>
  <cp:revision>75</cp:revision>
  <dc:subject/>
  <dc:title>  Unit 3  Art and architecture</dc:title>
</cp:coreProperties>
</file>