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4C40-7911-4808-8EB1-9C2B32F2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8DC-EA49-4F4F-869E-7E2A43FC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8E9-B11A-49F0-AA9B-32A61552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D072-A8ED-4D5E-A22F-72B31073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5A0C3-E49D-47F1-8805-BF62A958C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37F0-2595-4B22-AB5A-9F004F5B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E545-3CA5-42D7-883C-C80A4E63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4A11-34C8-49F2-921C-D596E66E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C286-0620-4DC4-87DD-D33D412A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043D-03B8-4DB2-A730-51D4345D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F3CF-D497-45D1-80D4-7FE291B9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1D0-E139-4EB9-8272-B21E9AEE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F218-5141-47E6-ADA0-917363A6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7D09-D3BE-459E-BD64-9251ECA9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84FAC-C2B1-440B-96D4-C255B4011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9827-DE93-4F51-BEB9-E522ADDE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0E40-5C37-4614-A255-18151E42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186-EBC0-4418-91CF-02A7097E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2626-B1EA-4033-A5D2-2B59B9EF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2C10-1F24-4D2D-BC46-F9688E82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C6BA-CF6E-4203-9801-F7A0A997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F01A-EE6B-40C8-9549-E0018026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0CDB-637F-417D-A654-6C7F5876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4F8-1AFC-49DA-A26A-307909F3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E44F-6BF2-4FD8-965F-FB2A72C298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2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3" name="" descr=""/>
            <p:cNvPicPr/>
            <p:nvPr/>
          </p:nvPicPr>
          <p:blipFill>
            <a:blip r:embed="rId2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3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F8CDB-59F0-42FC-8EBA-859829BEE0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nxnw.com.cn/nyqx/images/nq-gh.jpg&amp;imgrefurl=http://www.nxnw.com.cn/nyqx/nyqx.htm&amp;h=187&amp;w=172&amp;sz=7&amp;tbnid=dCGZvfjSsQQJ:&amp;tbnh=96&amp;tbnw=88&amp;start=15&amp;prev=/images%3Fq%3D%25E5%25B9%25B2%25E6%2597%25B1%26hl%3Dzh-CN%26lr%3D%26ie%3DUTF-8%26newwindow%3D1%26sa%3D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125360"/>
            <a:ext cx="7848720" cy="3286440"/>
          </a:xfrm>
          <a:prstGeom prst="rect">
            <a:avLst/>
          </a:prstGeom>
          <a:solidFill>
            <a:srgbClr val="00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U.4  </a:t>
            </a:r>
            <a:r>
              <a:rPr b="1" lang="en-US" sz="9600" spc="-1" strike="noStrike">
                <a:solidFill>
                  <a:srgbClr val="ffff00"/>
                </a:solidFill>
                <a:latin typeface="Freestyle Script"/>
              </a:rPr>
              <a:t>Language points</a:t>
            </a: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417080" cy="29667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228600"/>
            <a:ext cx="889344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and ou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引人注目；脱颖而出；突出；坚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在人群中很突出，因为他身高两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e stands out in the crowd, for he is two meters  hig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They stood out till victory.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他们坚持到胜利。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56720" y="556272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2920" y="0"/>
            <a:ext cx="889308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2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eature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[Cn]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征，特点；面貌的一部分；相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 中国的地理特征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hat are the geographical features of Chin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房子最好的特点就是那个漂亮的阳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best feature of the house is the beautiful balcon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译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er mouth is her worst fea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  </a:t>
            </a:r>
            <a:r>
              <a:rPr b="0" i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她五官中嘴最难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pleasing feature     </a:t>
            </a: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讨人喜欢的相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7580160" y="5334120"/>
            <a:ext cx="1563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 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384120"/>
            <a:ext cx="882000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3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llow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v.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遵循；听从；注视；领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 你为什么没有听老师的建议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Why didn’t you follow the teacher’s adv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们密切注意形势的发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y closely followed the development of the situ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的讲座很难听得懂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is lecture was very difficult to foll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643880" y="495288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391520" y="56674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" y="98280"/>
            <a:ext cx="846144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4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-that is now difficult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understan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修饰形容词作表语的不定式常用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主动表被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e.g.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I think romantic poetry will be very nice to re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看足球赛很有趣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Football match is interesting to watc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om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很难相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om is difficult to get along </a:t>
            </a:r>
            <a:r>
              <a:rPr b="1" i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with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43800" y="0"/>
            <a:ext cx="15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609480"/>
            <a:ext cx="8893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5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around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the time of ---,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ward(s)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快天亮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owards daw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9.--- i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os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famous for his pla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前没有定冠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不表最高级，只表示“极、很、十分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.g.  She is a most beautiful gir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533520" y="457200"/>
            <a:ext cx="76197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会见在极友好的气氛中进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proceed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e meeting proceeded in a most friendly atmospher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115920"/>
            <a:ext cx="883908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6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belo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“属于、应归于”时，常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 再加宾语。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栋房子属于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This house belongs to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表 “应被放置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处合适、适用”时，多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译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This chair belongs in the corner.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这把椅子应该放在角落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0"/>
            <a:ext cx="17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7.Once published ,his works became famous for th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bsence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of rhyme at the end of each line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623960"/>
            <a:ext cx="86868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在，缺席；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fr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chool / clas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缺乏，缺少  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of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312408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很快注意到他缺课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886200"/>
            <a:ext cx="793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soon noticed his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from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464832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我不在时规矩一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410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ehave yourself during my absen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2952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Absence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rain caused the plants to d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2362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j.     absen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缺席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437000"/>
            <a:ext cx="1523880" cy="1981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762120" y="35053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body is absent to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023840" y="9968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11640" y="206064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205000"/>
            <a:ext cx="79200" cy="719280"/>
          </a:xfrm>
          <a:custGeom>
            <a:avLst/>
            <a:gdLst>
              <a:gd name="textAreaLeft" fmla="*/ 50760 w 79200"/>
              <a:gd name="textAreaRight" fmla="*/ 79560 w 7920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8.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i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nglish poetry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27000" y="457200"/>
            <a:ext cx="32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Times New Roman"/>
              </a:rPr>
              <a:t>英文诗歌传入中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1125360"/>
            <a:ext cx="7029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troduction + of 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具体内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o  +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动作方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76320" y="2209680"/>
            <a:ext cx="98298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be interested to do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== be interested in doing s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4. Translation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e good, but 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can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表 “理论上的可能性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经验丰富的教师也可能会犯错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Even experienced teachers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c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make mistak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89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Reading poetry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ring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people from different  places and different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tim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 (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2. More th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y other form of literature, poetr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plays wi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sounds, words and gramm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. Poetry als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calls up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ll the colors, feelings,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experienc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d curious images of a dream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ntroduction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English poetry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hi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24000" y="304920"/>
            <a:ext cx="8591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.Reading poetry in English also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door to 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ew ways of expressing yourself in Chine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33520" y="2438280"/>
            <a:ext cx="7989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open the doo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 sth./ doing s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创造条件” “向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…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开门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学好英语为将来找好工作创造了条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5410080"/>
            <a:ext cx="824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aning English well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 door to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Times New Roman"/>
              </a:rPr>
              <a:t>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a good job in the futu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684360" y="17002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ight up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照亮，点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228600"/>
            <a:ext cx="8610480" cy="14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0. Quietly, we embr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 a world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it up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y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34340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ighted (up)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 cigarette before spea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5909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up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可省略；表”照亮“时，一般</a:t>
            </a:r>
            <a:r>
              <a:rPr b="0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up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不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358128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说话前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点燃了一根烟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814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照亮了我的心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019920"/>
            <a:ext cx="69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You have lighted up my he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409680"/>
            <a:ext cx="913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1.come into being 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事物，局部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形成， 成立，产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2209680"/>
            <a:ext cx="7920000" cy="1191240"/>
          </a:xfrm>
          <a:prstGeom prst="rect">
            <a:avLst/>
          </a:prstGeom>
          <a:solidFill>
            <a:srgbClr val="00cc99"/>
          </a:solidFill>
          <a:ln w="93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.g. We do not know when the universe first came into be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334120"/>
            <a:ext cx="734544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hen did the first railway come into being in China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403848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中国什么时候有的第一条铁路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87640" y="4797360"/>
            <a:ext cx="302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304920"/>
            <a:ext cx="9144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ding poetry in English also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opens th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d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to find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new ways of expressing yourself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hine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190440"/>
            <a:ext cx="9144000" cy="66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8.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Reading poetry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ring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people from different  places and different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tim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ogether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ring A and B together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   “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</a:t>
            </a:r>
            <a:r>
              <a:rPr b="0" i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会聚到一块儿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”   “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使</a:t>
            </a:r>
            <a:r>
              <a:rPr b="0" i="1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---</a:t>
            </a:r>
            <a:r>
              <a:rPr b="0" i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和解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loss of their son brought the parents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现代通讯技术能使世界各地的人都会集在一起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Modern technology of communication can _______________________________________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5594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bring the people from all over the world togeth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52280" y="631800"/>
            <a:ext cx="889344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9.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More than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y other form of literature, poetry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plays with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sounds, words and gramm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)more than: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not only      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在此句中意为 “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胜过于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她的表演非常好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远远不止好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可以说是完美的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Her performance_____________________; it was 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-316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518148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was more than g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62520" y="1905120"/>
            <a:ext cx="11430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玩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616200"/>
            <a:ext cx="20574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与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黑体"/>
              </a:rPr>
              <a:t>---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逗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29400" y="5257800"/>
            <a:ext cx="205740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可以利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086600" y="228600"/>
            <a:ext cx="156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45720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)play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Comedians often play with w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I have no brother at home to play wi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Hurry up!We have little time to play with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830160"/>
            <a:ext cx="889308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0. Poetry also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calls up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all the colors, feelings, </a:t>
            </a:r>
            <a:r>
              <a:rPr b="1" lang="en-US" sz="3600" spc="-1" strike="noStrike" u="sng">
                <a:solidFill>
                  <a:srgbClr val="0000ff"/>
                </a:solidFill>
                <a:uFillTx/>
                <a:latin typeface="Times New Roman"/>
              </a:rPr>
              <a:t>experiences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and curious images of a dream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诗歌还能汇集梦幻世界中的一切色彩、感情、经历和各种奇妙的意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all up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汇集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召唤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唤起对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的回忆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给</a:t>
            </a: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---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打电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ara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774720"/>
            <a:ext cx="91440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这首歌让我忆起了旧时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is song makes me call up old ti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明晚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点我给你打电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I’ll call you up at 7 tomorrow eve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0920" y="609480"/>
            <a:ext cx="8893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1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and out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引人注目；脱颖而出；突出；坚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e.g. Our daughter is a good dancer. She stands out above the r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译： 那帽子因为奇特而引人注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56720" y="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41008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</a:rPr>
              <a:t>The hat stood out because of its strange shap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2-31T16:16:20Z</dcterms:created>
  <dc:creator>余幽趣</dc:creator>
  <dc:description/>
  <dc:language>en-US</dc:language>
  <cp:lastModifiedBy>jinma</cp:lastModifiedBy>
  <dcterms:modified xsi:type="dcterms:W3CDTF">2005-11-13T16:14:03Z</dcterms:modified>
  <cp:revision>66</cp:revision>
  <dc:subject/>
  <dc:title>拿来主义</dc:title>
</cp:coreProperties>
</file>