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4541-256F-4679-BC19-14904178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E3D-2CE6-4201-8395-37FA2E2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4BD-336A-4837-B623-0A42BA16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378E-329B-4365-9485-2C80509C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D74-CBFC-427A-96F6-4EA6774A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BEDD-73CA-44CA-9B08-33242A28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7E10-BB1D-438D-B021-9510FCB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BCC4-0494-4960-BF9A-6AD8F3DC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CFE8-F6FB-4FB1-B91B-CF5DD8FC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695-14C1-4249-A857-D17B060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9377-E398-4D8C-B1DB-80DAACEB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5A72-B320-4003-9776-347C23EB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1AA8-E0E4-4E80-9B97-608CC14C9B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219320" y="2971800"/>
            <a:ext cx="6858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0c0c0"/>
                  </a:outerShdw>
                </a:effectLst>
                <a:latin typeface="Impact"/>
              </a:rPr>
              <a:t>The British Isles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371600" y="1600200"/>
            <a:ext cx="2438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868686"/>
                  </a:outerShdw>
                </a:effectLst>
                <a:latin typeface="Impact"/>
              </a:rPr>
              <a:t>Unit 5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868686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303120"/>
            <a:ext cx="891540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. consist of = include, be made up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…组成　（不可用进行时态）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水由氢和氧组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ater consists of hydrogen and oxyg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本书包括十个单元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is book consists of ten un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教育不仅仅在于传授大量知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Education doesn’t consist simply in teaching a lot of f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230040"/>
            <a:ext cx="9144000" cy="80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真正的友谊在于帮助处于困境中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riendship consists in helping a friend in his ne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的言行应该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r actions should consist with / in your wo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理论应与实践相结合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ory should consist with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. have chance of doing sth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有…可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成为导演的可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a chance of becoming a dir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344520"/>
            <a:ext cx="9144000" cy="64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今天碰巧见到了你哥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d a chance of meeting your brother 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6. have an advantage over/ have the ~ of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胜过，优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ake advantage of = make use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肯动脑筋的人总能胜过别人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man who can think will always have an advantage over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有健康的强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has the advantage of good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173160"/>
            <a:ext cx="8686800" cy="60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别乘虚而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Don’t take advantage of others’ wea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应该好好利用一切机会，在英语学习中取得进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should take advantage of all the opportunities and try to make progress in English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_____ good use of our time to learn our subject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. take     B. have      C. make       D.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724280"/>
            <a:ext cx="1219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228600"/>
            <a:ext cx="9144000" cy="66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reach ( come to, make, arrive at ) an agreement on sth. with sb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上与某人达成协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agreement on/ upon/ about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．．．意见一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关于那一点应该与那家公司达成协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agreement should be reached immediately with the company on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在这个计划上意见还是不一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are not in agreement about the pla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’ll never agree _____ what he said ____ that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with; with  B. with; on  C. on; on  D. on;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8120" y="5334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380880"/>
            <a:ext cx="9144000" cy="47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sand for = represe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（不用被动语态）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中华人民共和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RC stands for the People’s Republic of Chi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代表邮局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PO stands for Post Off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2860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 the fact that …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是一个同位语从句，表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fac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内容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位语从句是对与之同位的名词中心词作进一步解释．常见名词有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dea, fact, news, belief, hope, opinion, problem, truth, answer, proposal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建议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 decision, promise, thought, possibility , doubt, chance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由连词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, whether, how, when, where, why,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引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不知道杰克什么时候回来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have no idea when Jack will be ba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毫不怀疑他是最好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re is no doubt that he is the best 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无法回答这笔钱他是怎样得到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can’t answer the question how he got the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意：同位语从句和定语从句的区别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达了他们曾经表示过的那种希望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(that ) they had express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表示希望他们再来中国访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xpressed the hope that they would come to visit China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152280"/>
            <a:ext cx="8915400" cy="73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make the most of = make the best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充分利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充分利用时间来学习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make the most of out time to stud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农民们要充分利用这样的好天气来收获庄稼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farmers should make the most of the fine weather to get in the cr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要尽量利用我们在这里的这段时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should try to make the best of our stay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的假期很短，好好利用吧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You have only a short holiday, so make the most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52280" y="457200"/>
            <a:ext cx="899172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4. hold together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使团结一致，连在一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夫妇往往为了孩子的需要维持婚姻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 needs of the children often hold a marriage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请用大头针把两页纸别在一起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Please use a pin to hold the 2 pages together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5. Lie in / lie to / lie on / lie of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225360"/>
            <a:ext cx="91440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Within Great Britain for many years now, the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as been a growing movement to 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ts cultural d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The largest island is called Britain, which i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d from France by the English Channel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ich _____________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有一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 is only 20 miles w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They realize that it is 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常有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record and teach them to the younger gener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9414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ake the most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71600" y="3730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t one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8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f great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282600"/>
            <a:ext cx="8991720" cy="63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6. at one poin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一度，在某处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= at one 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我们一度是同学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We were classmates at one point / tim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舞会进行中，她一度伤过脚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At one point of the party, she got her foot hur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会议上她一度几乎要大发雷霆．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nearly lost her temper at one point in the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228600"/>
            <a:ext cx="89913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in general = generally speaking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体上，一般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言（用作插入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多数女人都喜欢买新衣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men in general like to buy new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 the whole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总的说来     　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s a rul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most cases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数情况下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few words/ in shor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简而言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other word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换句话说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a sen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某重意义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summar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地说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my view/ opinio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看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 the first plac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首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311040"/>
            <a:ext cx="9144000" cy="77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end up 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以．．．结束　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art/ begin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晚会在流行歌曲中结束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party ended up with a popular song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信尾他祝全家好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ended his letter up with good wishes to his fami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最后吃水果和咖啡结束晚餐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ended the dinner up with fruit and coffe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go on stealing things, you’ll ______ in priso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end up  B. end up with   C. be ended up   D. be ended up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505944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52280"/>
            <a:ext cx="9144000" cy="354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9. consider : think carefully about sth.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考虑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 n./ d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+how / what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+ that/ wh-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52480" y="990720"/>
            <a:ext cx="381240" cy="1676160"/>
          </a:xfrm>
          <a:custGeom>
            <a:avLst/>
            <a:gdLst>
              <a:gd name="textAreaLeft" fmla="*/ 243720 w 381240"/>
              <a:gd name="textAreaRight" fmla="*/ 381600 w 38124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016080"/>
            <a:ext cx="8610480" cy="452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经常考虑别人的感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lways considers the feelings of other peo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开始考虑怎样利用水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began to consider what use could be made of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6320" y="380880"/>
            <a:ext cx="89154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考虑应当如何回答这些问题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nsidered how he should 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在考虑改变主意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is considering changing his mi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是否考虑过如何去那里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you considered how to get ther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得考虑用什么材料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have to consider what material to us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6320" y="168120"/>
            <a:ext cx="8915400" cy="3180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 regard as / think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cl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sider     sb/sth to be + adj./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sb. As +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981080" y="914400"/>
            <a:ext cx="304920" cy="1676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280" y="2682720"/>
            <a:ext cx="8839440" cy="499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认为那消息不正确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consider that the news was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是我最好的朋友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consider him (to be)/ as my best fri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的意见被认为是宝贵的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Our opinion was considered to be valu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272880"/>
            <a:ext cx="883944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. judg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法官，裁判员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判断，认为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=cons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无法判断她是否说实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couldn’t judge whether she was telling the tru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不该以貌取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can’t judge a person by his appear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认为他诚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judge him to be hone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380880"/>
            <a:ext cx="9144000" cy="57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 by 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独立成分  “从…看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从他所说的话判断，他一定是个诚实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 /by what he said, he must be an honest m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听他的口音，他一定是河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Judging from/by his accent, he must be from Hen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222120"/>
            <a:ext cx="8686800" cy="74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11. be on a diet / go on a diet </a:t>
            </a: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节食，吃限定食物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正在节食的人不能吃巧克力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People who are on a diet mustn’t have chocolate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她在一星期前开始节食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She went on a diet a week ago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这病人的饮食有限制。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The patient is on a diet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52280" y="123840"/>
            <a:ext cx="8991720" cy="68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ki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2. the (great ) number of… is…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…的巨大数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学校的学生数目已增加到大约四千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number of the students in our school has increased to about 40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表示“许多”可分为三类：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修饰可数名词复数形式，谓语动词用复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, a good/ great many, quite a few, a large(great)/ small number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number of new factories have been set up in my homet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347760"/>
            <a:ext cx="9144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4776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There could be 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多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万只羊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ed within six miles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alisbury , measuring every way round and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wn in the cent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The cathedral 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而出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eight of itstower, which is 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疑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highest and the  most handsome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gland being from the ground 404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34776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s many as six hundred thous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03356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h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39290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s famous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62720" y="47545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hout dou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6320" y="266760"/>
            <a:ext cx="8915400" cy="71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不可数名词，谓语动词用单数形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of, quite a little, much, an amount of = amounts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has spent a large amount of money on his new ho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deal / Quite a little has been done to stop the noi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)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修饰可数或不可数名词，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lot of / lots of, plenty of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用肯定，否定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疑问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n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reat quantity of + n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谓语用单数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quantities of +n. 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谓语用复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320" y="450720"/>
            <a:ext cx="8991360" cy="65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great quantity of flour (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面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/ apples has been taken a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3. as far as (20 miles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远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far as I know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据我所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any / few + c.n + as/ as many as (60books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much as 50 ton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多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long as 3 metres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长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s high as 10 metre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高达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2280" y="0"/>
            <a:ext cx="89154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4. measure n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尺寸，措施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测量，经过，仔细考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应该按照你自己的尺寸制作衣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You should make clothes to your own m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必须采取强硬的措施来防止污染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must take strong measures to prevent the pollu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教室有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宽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米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classroom measures 5 metres wide ( across) and 7 metres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89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们每天必须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英里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must measure 20 miles every 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她总是努力工作，并不考虑自己的健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he always works hare and doesn’t measure her own heal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5. join sth. together / up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接，接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join A to B ( by sth.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nnect … with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parate …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了举晚会，他们把书桌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y joined the desks together so as to have a par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52280"/>
            <a:ext cx="899172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们可以用一条直线把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联结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e can join point A to point B with a straight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上有座桥与大陆相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island is joined to main land by a brid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铁路把两座城市连接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railway connects the two cities. / A with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好学生必须把学到的知识与周围看到的事物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good student must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nnec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hat he read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th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hat he sees around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1969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给我接北京大学。 （电话用语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nect me with Beijing Univers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村里发出的早班车与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的火车衔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early bus from the village connects with the 8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05 tr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6. employ sb.(as…)/ + prep./ phrase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雇佣， 利用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个四星级酒店聘用的女孩比男孩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four-star hotel employs more girls than b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3" dur="indefinite" restart="never" nodeType="tmRoot">
          <p:childTnLst>
            <p:seq>
              <p:cTn id="1444" dur="indefinite" nodeType="mainSeq">
                <p:childTnLst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249120"/>
            <a:ext cx="9144000" cy="81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聘用你在我们学校当英语老师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We shall employ you as an English teacher in 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他们聘用了两个人来收获庄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ey employed two men for the harv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我们的老师总是合理使用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Our teacher always employs his time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6174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mploy oneself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格林先生正忙于写一篇长篇小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Green is employing himself in writing a long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清洁工正在花园除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cleaner is employing herself in weeding the gard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5" dur="indefinite" restart="never" nodeType="tmRoot">
          <p:childTnLst>
            <p:seq>
              <p:cTn id="1526" dur="indefinite" nodeType="mainSeq">
                <p:childTnLst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ur hometown is an _______county. It i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rounded by mountains with fresh air 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ear rivers and streams. It is rich in na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sources and_______ ___10 towns. A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esent the government of our coun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e making every effort to______its peopl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and attract the Chinese foreign joi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mpanies to_____ _____ ___its natural re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24382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nsists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41148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769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58212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ke  most 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hope next year all of you can be admitte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ey universities and have a company of your 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 the fu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317520"/>
            <a:ext cx="91440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Then, through a deep channel they __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some gardens, and _____ to Christchurch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the s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. But I want to tell the reader that these hills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fields are most beautiful, ______________________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有很多清澈的小河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d rich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生长着水果和粮食的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3175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low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1079640"/>
            <a:ext cx="1371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419720" y="102060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17524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389880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ith many small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4645080"/>
            <a:ext cx="2514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r riv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ring fruit and gr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8991720" cy="70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.name v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取名、给…命名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 give a name to )   name sb sth ( after\ fo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的祖父给他取名叫詹姆斯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is grandfather names him Ja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以自己祖母的名字为女儿取名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named his daughter after his grandm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叫出…名字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(tell the nam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你能举出多少国家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ow many countries can you nam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228600"/>
            <a:ext cx="9144000" cy="71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田里有好多花我叫不出名字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any of the flowers in the fields I can’t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指命、任命　（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hoose, appoint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们都选他当班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We all named him (as ) moni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们已选定元旦结婚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y have named New Year as their wedd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91440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2.a matter of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一个… 的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这是一个职责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a matter a du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把这件事看得很严重，这是一个责任问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takes this seriously. It is a matter of princip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警察抓住他只是时间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’s only a matter of time before the police get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152280"/>
            <a:ext cx="891540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3. confusing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令人糊涂的，使人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d  (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人感到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　糊涂的，混乱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e sb ( with sth )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使…糊涂／混淆　　把…和…弄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＝　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mix up in mind, mist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路标司机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e road signs confused the driv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问了我许多问题，把我都弄糊涂了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asked so many questions that I got confus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304920"/>
            <a:ext cx="891540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我总是分不清格林先生和怀特先生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always confuse Mr. Green with Mr. Whi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他因犯了错而不知所措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e was confused with his mist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_______ by his sudden appearance, I had no idea what to do with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ahom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onfusing              B. Confused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C. Confuse                 D. Conf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5800" y="32004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02:12:18Z</dcterms:created>
  <dc:creator>csms</dc:creator>
  <dc:description/>
  <dc:language>en-US</dc:language>
  <cp:lastModifiedBy>jinma</cp:lastModifiedBy>
  <dcterms:modified xsi:type="dcterms:W3CDTF">2005-11-16T08:33:46Z</dcterms:modified>
  <cp:revision>33</cp:revision>
  <dc:subject/>
  <dc:title>PowerPoint 演示文稿</dc:title>
</cp:coreProperties>
</file>