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png" ContentType="image/png"/>
  <Override PartName="/ppt/media/image5.png" ContentType="image/pn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553C-8BC1-4A4E-93B7-FF2BCCF9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1EF-19BC-40FE-8F34-9A07618B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9068-8EC3-455E-84DC-0B301043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4D43-3CD8-4D50-9250-E14EA4E3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AC28-D524-41FE-B124-26A38A2C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3091-F9B0-4F99-BFE8-4CBC7925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E1FC-309F-4EE8-9989-1CE186384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C555-5F33-4D1D-B504-4D55C0EE7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AD84-11D7-4823-995B-34EC4F45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2F41-C3F2-4A5E-ABA7-23C5D2B6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6E49-E4A2-4533-B500-E42B3B1D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9E6B-EEB2-4F42-A7CD-E46F974D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0160" indent="-228600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288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0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6DC3-53BB-4023-ABEC-B67F6DC45ACA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209680" y="1600200"/>
            <a:ext cx="6400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unit 6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in the future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62520" y="3657600"/>
            <a:ext cx="2539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777240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glimp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63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993366"/>
                </a:solidFill>
                <a:latin typeface="Times New Roman"/>
              </a:rPr>
              <a:t>n.</a:t>
            </a:r>
            <a:r>
              <a:rPr b="0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瞥见</a:t>
            </a:r>
            <a:r>
              <a:rPr b="0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一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隶书"/>
              </a:rPr>
              <a:t>catch /get/have a glimpse o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I only caught a glimpse of the thief, so I can’t really describe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g.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他一眼瞥见远处的汽车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caught a glimpse of a car in the dista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他在人群中瞥见了她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caught a glimpse of her in the crow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77240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glimp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630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I glimpsed her among the crowd just before she disappeared from s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就在她消失前的一杀那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我在人群中瞥见了她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971800" y="-360"/>
            <a:ext cx="26668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major/mai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6858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jor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指“较大的，较重要的”。它虽含有比较的意思，但无比较级，不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tha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连用。多用做定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905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Mai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指“主要的，最重要的”，无比较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646360"/>
            <a:ext cx="9144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,The car needs _______ repai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,Our _______meal is in the eve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,Note down the _______ points of the spee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,There has been a _______ improvement in his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2590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maj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35053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4340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480060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8320" y="5638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j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54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contemporary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8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>
                <a:solidFill>
                  <a:srgbClr val="993366"/>
                </a:solidFill>
                <a:latin typeface="Times New Roman"/>
              </a:rPr>
              <a:t>adj.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属于该时代或该时期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,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属于同一时代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;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当代的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,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现代的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eg: </a:t>
            </a:r>
            <a:r>
              <a:rPr b="1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Dickens was contemporary with Thackera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狄更斯和萨克莱属于同一时代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contemporary events/building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当代的事件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/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建筑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85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n.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同时期的人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;</a:t>
            </a:r>
            <a:r>
              <a:rPr b="0" lang="zh-CN" sz="3400" spc="-1" strike="noStrike">
                <a:solidFill>
                  <a:srgbClr val="993366"/>
                </a:solidFill>
                <a:latin typeface="隶书"/>
                <a:ea typeface="隶书"/>
              </a:rPr>
              <a:t>同辈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She and I were contemporaries at colleg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她和我在大学是同学</a:t>
            </a:r>
            <a:r>
              <a:rPr b="0" lang="zh-CN" sz="34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3000"/>
            <a:ext cx="8305920" cy="698760"/>
          </a:xfrm>
          <a:prstGeom prst="rect">
            <a:avLst/>
          </a:prstGeom>
          <a:solidFill>
            <a:srgbClr val="c9ddf1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amaze/astonish/surpri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9907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三个词都有“使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吃惊“的意思，在句型结构上有相同之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2860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作及物动词，以“事物过它人”作主语。以”人“做宾语，表示“使……吃惊”。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news surprised/amazed/astonished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4495680"/>
            <a:ext cx="8381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用现在分词作定语，表示“令人吃惊的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new plane goes at an surprising/amazing/astonishing spe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48420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用过去分词作定语或表语，表示“感到吃惊的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was surprised/amazed/astonished at she new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320" y="370188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从意义上看，第二和第三“吃惊”的程度不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508788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urpris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含意较弱，仅表示出乎意料之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I’m surprised that you think this w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228600"/>
            <a:ext cx="91533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5)amaz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强调“使惊讶”，有时还有“惊叹”“佩服”之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Your answer simply amazed 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We were amazed at the ingenuity with which they overcome their difficul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3979800"/>
            <a:ext cx="82296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astonis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表示“大吃一惊，几乎无法使人相信”的意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astonish us by announcing that was going to be married in a few d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2286000"/>
            <a:ext cx="784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209000" cy="69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ensure vt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一定得到，保证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905120"/>
            <a:ext cx="86868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.He wrote a poem which ensured his undying f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.Come early to ensure that you catch the plane,take a tax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5410080"/>
            <a:ext cx="8381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51814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sur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可接宾语或双宾语，也可接动名词作宾语或宾语从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8480" y="134640"/>
            <a:ext cx="88851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6,Keep in touch with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同……保持联系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280" y="865080"/>
            <a:ext cx="8991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Keep in touch with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同……保持联系，前不加冠词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tou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例：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We have not seen each other since he left here, but I have  always kept in touch with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394488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625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ring sb.into touch with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392800"/>
            <a:ext cx="815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Get in/into touch with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Come in touch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449568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使某人与……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接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86400" y="5818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与……取得联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24080" y="3868560"/>
            <a:ext cx="160020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3868560"/>
            <a:ext cx="144792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2895480" y="4402080"/>
            <a:ext cx="190512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3868560"/>
            <a:ext cx="167652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5697360"/>
            <a:ext cx="685800" cy="990720"/>
          </a:xfrm>
          <a:custGeom>
            <a:avLst/>
            <a:gdLst>
              <a:gd name="textAreaLeft" fmla="*/ 0 w 685800"/>
              <a:gd name="textAreaRight" fmla="*/ 247680 w 68580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2a3d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7080" y="685440"/>
            <a:ext cx="83516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6. Keep in touch with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同……保持联系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3657600"/>
            <a:ext cx="8610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175248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lose  touch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31687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Be out of touch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48320" y="1752480"/>
            <a:ext cx="2133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失去联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3124080"/>
            <a:ext cx="41911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与……没有联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-45720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A good example of ___________________ _________is the new maglev tr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__________ that things will chan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We don’t think about the world and re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 you did ei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1206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ow transportation 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609480"/>
            <a:ext cx="2361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an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7524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t is cert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33526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n the same 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43434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If we learn to accept change and appreci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______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新而不同的东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 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e will __________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好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备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atever the  future may have in sto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6520" y="54100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e well- prepared f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280" y="48448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at is new and differ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9880" y="228240"/>
            <a:ext cx="8885160" cy="6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7.Necessity  n. 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必要性，必须性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91440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necessit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作“必要性”解时是不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作“必须性”解时是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76320" y="2362320"/>
            <a:ext cx="76964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od and clothing ar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necessity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)Large masses of the people lack the necessities of lif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3)Necessity is the mother of inven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)Is there any necessity for another election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0572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34320" y="32004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10280" y="460224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不可数名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5943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不可数名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58480" y="304560"/>
            <a:ext cx="8885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ay attention to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2280" y="1447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）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ay attention to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介词，后接名词和动名词。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tten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不可数名词该词组可用于被动语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3505320"/>
            <a:ext cx="883908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1.I advise you to lay more attention to recording new uses of old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2.He paid much attention to his pronunci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533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注意下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tten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的搭配用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1963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ttract/catch one’s att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7255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ive one’s attention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3564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vote attention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44784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x  one’s attention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91320" y="19638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吸引……注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91320" y="2860560"/>
            <a:ext cx="2209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91320" y="3622680"/>
            <a:ext cx="2590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4478400"/>
            <a:ext cx="3429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注意力集中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8280" y="304560"/>
            <a:ext cx="3353040" cy="685800"/>
          </a:xfrm>
          <a:prstGeom prst="rect">
            <a:avLst/>
          </a:prstGeom>
          <a:solidFill>
            <a:srgbClr val="c3e684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9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，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certain/sur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4920" y="132084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ure/certai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都有“确信，有把握”的意思，两者在句型结构中有许多相同之处，的语气稍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694368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6943680"/>
            <a:ext cx="22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2311560"/>
            <a:ext cx="220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42160" y="278460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292104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同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3911760"/>
            <a:ext cx="7467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Certai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可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it is certain+that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sur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不可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定，有把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04920" y="65556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Sure/certai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都有“确信，有把握”的意思，两者在句型结构中有许多相同之处，的语气稍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0" y="1722600"/>
          <a:ext cx="9144000" cy="5047920"/>
        </p:xfrm>
        <a:graphic>
          <a:graphicData uri="http://schemas.openxmlformats.org/drawingml/2006/table">
            <a:tbl>
              <a:tblPr/>
              <a:tblGrid>
                <a:gridCol w="711360"/>
                <a:gridCol w="4775040"/>
                <a:gridCol w="3657600"/>
              </a:tblGrid>
              <a:tr h="581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4572000" y="6964200"/>
            <a:ext cx="228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6964200"/>
            <a:ext cx="2209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934320" y="2332080"/>
            <a:ext cx="2209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42160" y="285768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19320" y="3855960"/>
            <a:ext cx="35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18748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sure/certain of(about sth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确信，有把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2560680"/>
            <a:ext cx="83059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e sure/certain to do sth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定（表示说话人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看法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3855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e sure/certain+tha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从句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信，确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461808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do sth for sure/certain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肯定，确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560880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be not sure /certain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无把握，不敢肯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14400" y="614196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ake sure/certain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弄清，查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4496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9</a:t>
            </a: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，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ertain/sur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180200" cy="9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3d7a"/>
                </a:solidFill>
                <a:latin typeface="Times New Roman"/>
              </a:rPr>
              <a:t>10.Cheat/deceiv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914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he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指为了占别人的便宜而采取用不诚实的手段进行欺骗，常用句型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heat sb(out) of sth. deceiv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指蓄意歪曲事实造成的错误印象，以达到个人目的。在被动句中常有“被弄错”的意味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28954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Tom ________at the examination,but the teacher was not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That was simply a blind designed  to_______ the  enem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I was _______ in his apparent compe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The boy _______ his friend (out) his ap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90720" y="2666880"/>
            <a:ext cx="7848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eated                          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e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00800" y="41450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e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19320" y="53341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eiv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60199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914400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</a:rPr>
              <a:t>search, search for, search…for, in search of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844200"/>
            <a:ext cx="9144000" cy="6165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search </a:t>
            </a:r>
            <a:r>
              <a:rPr b="1" i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vt.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 search sb.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搜某人的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            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search a place </a:t>
            </a:r>
            <a:r>
              <a:rPr b="1" lang="zh-CN" sz="3600" spc="-1" strike="noStrike">
                <a:solidFill>
                  <a:srgbClr val="990033"/>
                </a:solidFill>
                <a:latin typeface="Times New Roman"/>
                <a:ea typeface="隶书"/>
              </a:rPr>
              <a:t>搜某个地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policeman is searching a thie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search…for sb./sth. 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搜…寻找某人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y searched the woods for a lost chi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search for sb./sth. 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搜寻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,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寻找某人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/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y searched for that man everyw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in search of 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中的为名词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, “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寻找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;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寻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y went to Australia in search of go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17440"/>
            <a:ext cx="77724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11.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本单元几个前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/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后缀的用法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638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前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re-: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事先；先前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reca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预报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rete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预知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forefather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祖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-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“又，再，重新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form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改革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tell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复述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buil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重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-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“使．．．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su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确信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ric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变富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nlarg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－扩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140760"/>
            <a:ext cx="77724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11.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本单元几个前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/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后缀的用法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6381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后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-ly: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．．．地”一般作副词后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gularly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定期地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ardly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几乎不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-or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“．．．人，．．．者，．．．家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ducator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教育家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visitor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游客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inventor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发明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7772400" cy="6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-76320" y="930240"/>
            <a:ext cx="9144000" cy="63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un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.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购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g: the date of purchas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购买日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他给儿子一些钱去购买教科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He gave his son some money for the purchase of his school book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cn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.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所购买的物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eg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卡车里装满了买来的东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The truck was filled with purch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90720" y="0"/>
            <a:ext cx="3276360" cy="1447920"/>
          </a:xfrm>
          <a:prstGeom prst="cloudCallout">
            <a:avLst>
              <a:gd name="adj1" fmla="val 55523"/>
              <a:gd name="adj2" fmla="val 50986"/>
            </a:avLst>
          </a:prstGeom>
          <a:solidFill>
            <a:srgbClr val="e2f14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mm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1600200"/>
            <a:ext cx="89438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What you need is more practice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主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I can’t imagine when we will be able to tra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in space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动词宾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This reminded me of what he had once told 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            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介词宾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The problem is whether robots will be smar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than human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表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Monotype Corsiva"/>
              </a:rPr>
              <a:t>Scientists haven’t found answers to the question why there is no life on Mars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同位语从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772400" cy="62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purchase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630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vt</a:t>
            </a: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.</a:t>
            </a: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购买</a:t>
            </a: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采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eg: Employees are encouraged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purchase shares in the compan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该企业号召职工购买其股份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i)ty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无特殊含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real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现实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abil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能力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ossibil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可能性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necessit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－必要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必需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628640"/>
            <a:ext cx="9144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secret of his success is that he does everything 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efficiently                  B. curious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anxiously                   D. suffici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surprises me most is that the ____ is also a(an) 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visiter; inventer          B. visiter; inven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visitor; inventer          D. visitor; inven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343080" y="2781360"/>
            <a:ext cx="799920" cy="799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4762440" y="6134040"/>
            <a:ext cx="80028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58480" y="228240"/>
            <a:ext cx="888516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Regularly </a:t>
            </a:r>
            <a:br>
              <a:rPr sz="3200"/>
            </a:b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 adv. regularly   </a:t>
            </a:r>
            <a:r>
              <a:rPr b="0" lang="zh-CN" sz="3200" spc="-1" strike="noStrike">
                <a:solidFill>
                  <a:srgbClr val="2a3d7a"/>
                </a:solidFill>
                <a:latin typeface="隶书"/>
                <a:ea typeface="隶书"/>
              </a:rPr>
              <a:t>规则地</a:t>
            </a:r>
            <a:r>
              <a:rPr b="0" lang="zh-CN" sz="3200" spc="-1" strike="noStrike">
                <a:solidFill>
                  <a:srgbClr val="2a3d7a"/>
                </a:solidFill>
                <a:latin typeface="隶书"/>
                <a:ea typeface="隶书"/>
              </a:rPr>
              <a:t>,</a:t>
            </a:r>
            <a:r>
              <a:rPr b="0" lang="zh-CN" sz="3200" spc="-1" strike="noStrike">
                <a:solidFill>
                  <a:srgbClr val="2a3d7a"/>
                </a:solidFill>
                <a:latin typeface="隶书"/>
                <a:ea typeface="隶书"/>
              </a:rPr>
              <a:t>定期地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  </a:t>
            </a:r>
            <a:br>
              <a:rPr sz="3200"/>
            </a:b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adj.  regular      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  <a:ea typeface="隶书"/>
              </a:rPr>
              <a:t>规则的，定期的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n.     regularity    </a:t>
            </a:r>
            <a:r>
              <a:rPr b="0" lang="zh-CN" sz="3200" spc="-1" strike="noStrike">
                <a:solidFill>
                  <a:srgbClr val="2a3d7a"/>
                </a:solidFill>
                <a:latin typeface="隶书"/>
                <a:ea typeface="隶书"/>
              </a:rPr>
              <a:t>正规，规律性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2286000"/>
            <a:ext cx="914400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的心脏有规律的跳动着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is heart_____  _____      _____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们常常见面，但不定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meet now and then,____ _____  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每日三次，定时服药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______________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5120" y="297180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as     beating  regul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191120" y="444960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ut   not      regul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76720" y="4648320"/>
            <a:ext cx="33526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56386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ake   the   medicine   regularly   three   time   a  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762120" y="1442880"/>
            <a:ext cx="784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13320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quire  vt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需要，要求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quirement n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要求的东西，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句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require sth; require  sth of(form)sb;   require sb do sth ;   require+that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从句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should +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动词原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3271680"/>
            <a:ext cx="914400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o you _____________________________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你向我要求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is healthy ______   ______   ______   ______   ___   ______  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的健康情况要求他早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3271680"/>
            <a:ext cx="69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quire anything of (from )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462924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quire     that          he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go          to      bed           ear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762120" y="1401840"/>
            <a:ext cx="784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28600"/>
            <a:ext cx="9144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Require  vt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需要，要求；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requirement n.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要求的东西，要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句型：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require sth;      require sth of(form)sb;   require sb do sth ;   require+that(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从句用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should +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动词原形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84012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essential _________   ______   _____   ______   _____   ______and adaptabil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个工作的主要要求就是精力充沛，有适应能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80880" y="379404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quirement   for         the        job          are         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85520" cy="199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注意：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require </a:t>
            </a:r>
            <a:r>
              <a:rPr b="1" lang="zh-CN" sz="3600" spc="-1" strike="noStrike">
                <a:solidFill>
                  <a:srgbClr val="2a3d7a"/>
                </a:solidFill>
                <a:latin typeface="Times New Roman"/>
              </a:rPr>
              <a:t>作“需要”解时，可接不定式被动式，若接动名词，则要主动式表被动含义。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266688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floor  require washing (to be washed).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地面需要清洗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19112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Realit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(1)reality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即可作可数，又可作不可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短语：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in reality (=in actual fact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04920" y="609480"/>
            <a:ext cx="883908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not imagination but real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r dream of marrying Dick became a reality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veryone trusted the stranger,but in reality he was a crimin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57200" y="13716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这不是想象，而是现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35812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她梦想和</a:t>
            </a:r>
            <a:r>
              <a:rPr b="1" lang="zh-CN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Dick</a:t>
            </a:r>
            <a:r>
              <a:rPr b="1" lang="zh-CN" sz="3600" spc="-1" strike="noStrike">
                <a:solidFill>
                  <a:srgbClr val="0000ff"/>
                </a:solidFill>
                <a:latin typeface="方正舒体"/>
                <a:ea typeface="方正舒体"/>
              </a:rPr>
              <a:t>结婚已成为事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" y="566748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每个人都相信这个陌生人，但事实上他是个罪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67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82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0"/>
            <a:ext cx="89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etermine  vt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决定，下决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320" y="533520"/>
            <a:ext cx="883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句型：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termine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名词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termine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定式；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termine+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去分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termi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用作表语，表状态，后接不定式或从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2666880"/>
            <a:ext cx="89154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ave you _______     _______  _______  _______  _______ _______  ______   the   holiday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决定在哪儿度假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he ______     _____      _____   _____    _____  his advice.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决意不按他的劝告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438280"/>
            <a:ext cx="86724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determined  where    yo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are        going        to        spend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536256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              </a:t>
            </a:r>
            <a:r>
              <a:rPr b="1" lang="en-US" sz="3600" spc="-1" strike="noStrike">
                <a:solidFill>
                  <a:srgbClr val="ff0000"/>
                </a:solidFill>
                <a:latin typeface="方正舒体"/>
                <a:ea typeface="方正舒体"/>
              </a:rPr>
              <a:t>was     determined   not      to    follo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020160" cy="147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1.I remember_______this used to be a quiet village.</a:t>
            </a:r>
            <a:br>
              <a:rPr sz="3200"/>
            </a:br>
            <a:r>
              <a:rPr b="1" lang="en-US" sz="32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A.When     B.how   C.where   D.what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590920" y="1062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1446120"/>
            <a:ext cx="8381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Please tell me_______you would like to have your coffee-black or whi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.what   B.where   C.when   D.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95480" y="14461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198960"/>
            <a:ext cx="91440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_______get such a boo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.Where do you think can 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.Do you think where can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.Do you think where I 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.Where do you think I c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322884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1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28600" y="735120"/>
            <a:ext cx="9448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658800"/>
            <a:ext cx="7391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0" y="9684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4.-----Do you know_________Mr.Black’s address 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-----He may live at No.18orNo.10 of Bridge Street.I.’m not sure of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what;which            B.where;whic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.where;what            D.what;w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5.-----My foot hurts terrible,doct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-----Well,I wonder_____it has been like t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since when   B.since then    C.how    D.w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2030400"/>
            <a:ext cx="2286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31640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43400" y="1206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91120" y="525780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3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5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5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4120" y="914400"/>
            <a:ext cx="8369280" cy="642600"/>
          </a:xfrm>
          <a:prstGeom prst="rect">
            <a:avLst/>
          </a:prstGeom>
          <a:solidFill>
            <a:srgbClr val="e2f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Noun clauses introduced by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Question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03960" y="1905120"/>
            <a:ext cx="5529600" cy="3385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从句时的结构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疑问词 ＋ 主语＋ 谓语动词 ＋其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本身是主语的疑问词＋谓语动词＋ 其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5334120"/>
            <a:ext cx="1366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09480" y="1311120"/>
            <a:ext cx="8001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6.The reason____their failure you know is____they didn’t get fully prepared for the experi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A.why;that               B.that;why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C.for;that                 D.why;bec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429000" y="1371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76320" y="53352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good example of how transportation is changing is the new maglev t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公共交通正在改善的一个很好的例子就是磁悬浮列车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" y="3048120"/>
            <a:ext cx="861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该句为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引导的一个名词性从句作介词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的宾语，介词后面跟一般均可接疑问词引起的从句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4419720"/>
            <a:ext cx="9144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)He was not conscious of what an important discovery he had ma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Did she say anything about how the work was to be do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6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Instead of just searching a crowded store for basic goods,such as food and clothing,people want to go a pleasant mall and combine shopping with fu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43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nstead o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成语介词（连）词，表“代替”“而不是”，后接、代词、动名词、形容词、介词短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4294080"/>
            <a:ext cx="91440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king exercise every day makes him look younger instead of old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)In warm weather he often reads under a tree instead of in the libr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380880"/>
            <a:ext cx="914400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You should_____  _____  ______  ____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持联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your friend by lette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_______  _______  ________ o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匆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瞥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r before she vanished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消失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i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crow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lease_________  __________  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注意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at I am saying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always keeps several basket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pples_______  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贮藏着）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048120" y="38088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.keep/be  in    touch   wi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20574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aught/got/had    a     glimp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133720" y="37018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ay              attention            t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58356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n             sto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2095560"/>
            <a:ext cx="9144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6. Smoking cigarettes _____  ____ (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导致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) lu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disea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7.You should be out playing_______ 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而不是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) working indo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8. _____  _______(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像往常一样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), he stayed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late last 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95680" y="2103480"/>
            <a:ext cx="3200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202716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eads      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3475080"/>
            <a:ext cx="5425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86400" y="36576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nstead     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5410080"/>
            <a:ext cx="44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s         us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22860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is dream of being a famous  singe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  _______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实现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t las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38080" y="914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ame          tru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304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The news which our team had won plea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veryon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 I don’t doubt whether he can work out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 I have been worrying about if I have hurt 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eeling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don’t know that he want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743200" y="914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ich→th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19520" y="251460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ether→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0" y="41148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f→wh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5880" y="5334120"/>
            <a:ext cx="3048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52578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at→w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311040"/>
            <a:ext cx="9144000" cy="84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5. The reason why he didn’t come is bec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he was ill. 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6. Who walks around in such a heavy rain w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catch a cold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7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I think important that we learn Englis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well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8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It’s not certain that the sports meet will 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held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2a3d7a"/>
                </a:solidFill>
                <a:latin typeface="Times New Roman"/>
              </a:rPr>
              <a:t>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19520" y="11113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ecause→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24080" y="27874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o→Who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57400" y="434340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mportant→it import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6064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at→wh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53352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is the suggestion which we have a tr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day after tomorrow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hina is a great socialist country is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know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38680" y="1111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ich→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2666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ina→That Ch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11448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语法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填上适当的连词完成以下名词性从句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1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is to take Li Ming’s place is be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iscuss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got very angry with______he sai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y idea is_____we should get more 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o finish the work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wonder_________it is true or no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problem is______we could hel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mokers kick their habi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38080" y="6858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724280" y="22860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895480" y="3429000"/>
            <a:ext cx="1524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95480" y="34290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14600" y="5029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h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733920" y="56386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9856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8720" y="1447920"/>
            <a:ext cx="7515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l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e mad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is practic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 one of them has made a plan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ey will improve their English in  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an fifty da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1371600"/>
            <a:ext cx="2057400" cy="642600"/>
          </a:xfrm>
          <a:prstGeom prst="rect">
            <a:avLst/>
          </a:prstGeom>
          <a:solidFill>
            <a:srgbClr val="000000"/>
          </a:solidFill>
          <a:ln w="9360">
            <a:solidFill>
              <a:srgbClr val="cec8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99"/>
                </a:solidFill>
                <a:latin typeface="Times New Roman"/>
              </a:rPr>
              <a:t>定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0240" y="3886200"/>
            <a:ext cx="155232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ff99"/>
                </a:solidFill>
                <a:latin typeface="Times New Roman"/>
              </a:rPr>
              <a:t>同位语从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523880" y="457200"/>
            <a:ext cx="13716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比较：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1295280" y="4800600"/>
            <a:ext cx="70866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609480"/>
            <a:ext cx="874404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我不明白他为什么周末还要去上班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我没有忘记我们什么时候放假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你有没有问他什么时候回家过年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752480"/>
            <a:ext cx="83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don’t understand why he always goes to work at the week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8800" y="3733920"/>
            <a:ext cx="739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 never forget when we will have a holi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533412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Do you ask him when he will go back home to spend the Spring Festival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885160" cy="77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1. forecast v.&amp;n. 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预报，预测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2096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.Experts rain has been _______ for tomorr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.He couldn’t_______that his trip would be delayed by bad wea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3.Who can ______what will happen to the world in 1,000years’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4.Did you listen to the weather _______ on TV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00600" y="22096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ore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124080" y="2971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fore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666880" y="414504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fore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5410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fore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620244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cast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的过去分词有两种：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cast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或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ca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8380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cast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与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predict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意思和用法类似，表示这一意义的词还有</a:t>
            </a:r>
            <a:r>
              <a:rPr b="0" lang="zh-CN" sz="3200" spc="-1" strike="noStrike">
                <a:solidFill>
                  <a:srgbClr val="2a3d7a"/>
                </a:solidFill>
                <a:latin typeface="Times New Roman"/>
              </a:rPr>
              <a:t>foresee,fore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960" y="228240"/>
            <a:ext cx="8915400" cy="184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exact / actua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xac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强调“准确无误的，正确的，精确的”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表示“实际的，现实的，确实的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7632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1.You _______height is 5 feet 6 inch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533520" y="32767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2.It is difficult to tell his _______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038480"/>
            <a:ext cx="906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3.The______result differed from our predi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041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4.You have to be _______ in this job because  a small mistake can make a big differe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9680" y="2362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ex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4280" y="32767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ex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403848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ac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29000" y="50292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exa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In store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必将发生，存储备用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5960" y="129492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)we must____   ____   ____   _____   ____ for a big r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们必须储存力量准备长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)we have _____________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们储存了大量食物过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)____________________________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希望你前途光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2666880"/>
            <a:ext cx="5715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124776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eep    our   strength    in      st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31240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a lot of food in store for the wi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449568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 hope that a bright future is in store for yo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8T05:07:34Z</dcterms:created>
  <dc:creator>政治处</dc:creator>
  <dc:description/>
  <dc:language>en-US</dc:language>
  <cp:lastModifiedBy>jinma</cp:lastModifiedBy>
  <dcterms:modified xsi:type="dcterms:W3CDTF">2005-11-27T15:50:05Z</dcterms:modified>
  <cp:revision>71</cp:revision>
  <dc:subject/>
  <dc:title>PowerPoint 演示文稿</dc:title>
</cp:coreProperties>
</file>