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91BB-207E-40B3-8534-C91DA82C6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3B5-9927-4A5C-B703-166BA20B4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8296-25FC-4EA0-BCB2-1171A84D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E04C-FD72-40C3-ADAE-9628AC10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4562-2B05-40E9-A487-8DAB276D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68C5-F766-40B3-84DB-F5CD8CA8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168-681E-43E0-A3AC-B6BD4591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9B59-3A7C-4089-A4E0-66794359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3841-FC2F-4B4D-BBBC-9A3BC593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3B49-EAAE-4993-8D52-016A9653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80C3-D5DB-4735-A877-8ABB8819C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D90-D7DD-4588-820D-50AE89FB8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9837-2194-4CC4-BE90-F61876D077C5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9320" y="129528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Words and expressio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3886200"/>
            <a:ext cx="6096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Unit 7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oper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合适的；适当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1523880"/>
            <a:ext cx="8534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与介词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proper tool for the job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用于做这个工作的工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96252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vailable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可利用的；可达到的；有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6280" y="5438880"/>
            <a:ext cx="839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will be informed when the book is avail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52280" y="149400"/>
            <a:ext cx="883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reak d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破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因机械、电力等故障）停止运转，失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败；崩溃；瓦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健康）衰弱；（人）垮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5029200"/>
            <a:ext cx="933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s small electric fan broke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ace talks have broken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will break down under such pressur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57200" y="3049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4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泄气；使失去信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3716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n’t let one failure discourage you,try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3623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 sb from doing sth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劝阻某人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397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到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4311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courag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沮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5226120"/>
            <a:ext cx="54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ed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5987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couraging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令人鼓舞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52280" y="3049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高兴；使鼓舞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；喝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1219320"/>
            <a:ext cx="8076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er sb u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r visit has cheered the sick man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68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one was cheered by the good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42354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oys cheered their football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240160"/>
            <a:ext cx="8610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欢呼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heer arose from the crowd when he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" y="6858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ffer from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遭受（痛苦、疾病、损失等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17524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night he suffers from headach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30481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y suffered huge losses in the earthqu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120" y="502920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Suffering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痛苦；困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68580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 vt &amp; vi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恢复；康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7524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recovered her heal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8195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she will recover so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3733920"/>
            <a:ext cx="7162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covered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痊愈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recovered from (illnes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54100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e you recovered from your illnes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304920" y="304920"/>
            <a:ext cx="906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8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ary adj &amp; 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反的；相对的； 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2193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t is the contrary of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20574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contrar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正相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9401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am not sick; on the contrary I am quite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39625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9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ve wit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忍受；接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47242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must live with the fact you are an ad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5605560"/>
            <a:ext cx="8382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matter how bad the situation may be, you must live with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85800" y="6858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ree from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不受……的影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1981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ants to live a life entirely free from trou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35053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ee of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远离； 摆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0060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your wages are very small, you will be free of income ta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533520"/>
            <a:ext cx="85345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二．句型转换与完成句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 am not clever enough to find 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f I _____clever enough, I _____ _____a possible solution to the probl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t’s a pity that I can’t recite that po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How I ______that I ______ ______that poem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22096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22096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would  f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4952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ish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4876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could   reci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228600"/>
            <a:ext cx="87627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AIDS is a disease that stops a person from defending himself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AIDS is a disease that _________ a person ___________ against infections and illne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. In 2002, there were 3.2 million children in all who were infect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th HIV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. In 2002, the ______ _______of the children infected with HIV ______ 3.2 mill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7800" y="1905120"/>
            <a:ext cx="1600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leave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4382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defenseles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95480" y="5181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total number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579132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was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1447920"/>
            <a:ext cx="716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8380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adl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致命的；极有害的；非常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905120"/>
            <a:ext cx="883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ncer is a deadly disea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28195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癌症是一种致命的疾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8098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deadly silence filled the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48006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教室里极其安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80880" y="533520"/>
            <a:ext cx="8458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. The disease is spreading fast in Africa mainly because people there lack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 disease is spreading fast in Africa mainly because of __ _____ ___ proper health care, prevention an educ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3809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    lack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457200" y="374760"/>
            <a:ext cx="83818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企业因缺乏投资而日子不好过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business has ______ ______lack of invest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句子没有错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sentence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__ _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来，冒险一试，也许你会失败，但值得一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e on, and____ __ ______. You may lose , but it’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 ________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4860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uffered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36511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free  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533412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ke  a  ch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58672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orth    tr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04920" y="609480"/>
            <a:ext cx="84582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尽情地过了一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 lived his life___ _____ _______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目前我们甘心在一旁观察和等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 ____ _______we are content to watch and wa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你来负责预防森里林火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of forest fire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 ___ ___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11430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   the     full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81952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the  mo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502920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re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49528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s  up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380880" y="228600"/>
            <a:ext cx="87631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平谈判已经失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peace talks____ ____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们对爱滋病毒携带者的态度是错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eople  ____ _____ __________  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towards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  those with AI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035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have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broken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do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2666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show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wrong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attitu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76600"/>
            <a:ext cx="8686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希望我十年前认识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wish I had known him ten years a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04920" y="374760"/>
            <a:ext cx="86868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你昨天来，你就看见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f you had come yesterday, you would have seen him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建议我们马上动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 suggest that we (should ) start out at onc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395280" y="549360"/>
            <a:ext cx="8209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1be5"/>
                </a:solidFill>
                <a:latin typeface="Times New Roman"/>
              </a:rPr>
              <a:t>Homework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Go over the language poin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Preview next period----- Grammar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ec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染；感染（精神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20574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ect someone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将……传染给某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30481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/become infected with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感染上，沾染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96252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of them became infected with bird flu and di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55627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r spirit infected me a l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457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aginary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想象中的；虚构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15238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story is not real, it is only imagi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66688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富于想象力的；爱想象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4400" y="3886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maginative chil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想象力的孩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aginabl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可想像的；想像的到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57200" y="38088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ia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经由；通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3716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went to Russia via Mongo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28600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deaf and dumb people communicate via gesture langu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8098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ransmit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传播；传送；传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4568760"/>
            <a:ext cx="8839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ron transmits he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world Cup is being transmitted live now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Transmiss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发射；传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09480" y="533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ersuade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说服，劝服，使某人相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133720"/>
            <a:ext cx="762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1447920"/>
            <a:ext cx="152280" cy="5029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31040 h 5029200"/>
              <a:gd name="textAreaBottom" fmla="*/ 4898160 h 502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676520"/>
            <a:ext cx="88390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服，说服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into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ut of (doing)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不要做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of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说服某人信服某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uade sb tha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句  使某人相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to persuade sb to do s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劝说某人没有成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0880" y="609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mun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除的；豁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44792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immune to/from/agains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疫的；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362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dicine will make you immune to this dis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342900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enseless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防备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e    n &amp; 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；防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4400" y="51498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d   v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卫；保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14400" y="60199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ensiv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防御用的；防御性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33520" y="533520"/>
            <a:ext cx="86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nprotected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无保护的；无防卫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6002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. Prote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；保卫；防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36232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tect sb /sth from/against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某人或某物使其免受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396252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need warm clothes to protect you against the c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5627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. Protection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. Protectiv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护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4e756b"/>
            </a:gs>
            <a:gs pos="50000">
              <a:srgbClr val="abffe9"/>
            </a:gs>
            <a:gs pos="100000">
              <a:srgbClr val="4e756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094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ck   n &amp; vt/ vi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缺乏；短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8288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名词时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ck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； 缺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281952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作不及物动词时 常和介词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搭配（用于否定句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41911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e doesn't’t lack for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480" y="51814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lacking in (wisdom,courage,humor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缺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种品质、特点等）不够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inma</cp:lastModifiedBy>
  <dcterms:modified xsi:type="dcterms:W3CDTF">2006-05-03T09:48:28Z</dcterms:modified>
  <cp:revision>39</cp:revision>
  <dc:subject/>
  <dc:title>PowerPoint Presentation</dc:title>
</cp:coreProperties>
</file>