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type.wav" ContentType="audio/x-wav"/>
  <Override PartName="/ppt/media/image10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4.png" ContentType="image/png"/>
  <Override PartName="/ppt/media/image12.gif" ContentType="image/gif"/>
  <Override PartName="/ppt/media/image14.png" ContentType="image/png"/>
  <Override PartName="/ppt/media/image11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7.png" ContentType="image/png"/>
  <Override PartName="/ppt/media/hammer.wav" ContentType="audio/x-wav"/>
  <Override PartName="/ppt/media/image8.png" ContentType="image/png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7D4D-959D-4E2B-AD5A-BCB5E879A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3FC2-E839-4806-97F2-A05381C6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E1D03-5E27-49B9-9485-5922489A2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239C0-4407-4541-A30C-E885D899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483EB-9152-47FB-97EC-493BF43E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EDAD9-38A9-4C77-89BA-52C69114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FA5DB-3A1F-4742-A7AE-6707F001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778FA-D46A-4976-8D2E-A05E50F5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5FCA88-4163-48A6-A855-43101136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3E3CC7-AF20-4D9A-85B5-6C5E045E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BE03F-5E42-4306-9279-3341DFB09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6CCE86-FE08-461F-99AE-63E805E7A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2A63-0AAF-4099-90AA-5D31F4252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0E4326-6663-4418-8738-9A75A4EC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2D18C-BF5A-44CD-B9A9-8692D9B0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5A635-9D6B-495C-8161-6BEAF3F1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AD5A4-D20B-49BE-8D80-69FF3CB4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5462D2-F94D-4692-9186-5BC36472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A2A12A-586A-4F87-9FED-318985D4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E5512-05D3-4AAE-BD19-32CCDF75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C4986-5B04-4459-8B9F-A0082871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A8BB4F-2451-49B5-9EE8-39C2EFBF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96087-CB28-4F30-BFCB-7D6905EFA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52AC-3974-46D1-AEE9-48F203CC6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09EE4-7D0C-4821-9071-207231493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3E30FF-756C-4642-B901-C38A7185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906B83-15B7-4B60-A7BE-652A258FB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5573345-3A3D-438B-80BF-B3DA9173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6E168D-5937-425D-999B-68E642E6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E612307-D4BB-4B05-87AF-0191742C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90C3FE-CDF9-44A6-BD14-FCBD18A0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3A363E-A65D-4579-A2AE-27933F5E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F6E6161-E429-4E08-930D-B341B28E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9163DD9-92F8-4885-8F9F-744F567D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9C6ABB-2260-4969-BEEC-F2788337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E6D63DB-7D94-44E4-9671-EC50CF9EF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387A88-AD58-46C5-B738-CFBC3A77D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586F3F-FD1B-47B2-BCCF-8888B2212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B2E17-1DEF-4F9A-BA29-81470957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9FC39D-610D-42C4-B0F5-332D0F33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F9D1C-DB67-4EC1-A4D1-05F23574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491B89-50C8-408D-ACC8-715F53ED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AB8B0B-8332-4E07-B52A-C1EAEEBC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A84F6-7770-444D-B52F-B74B0C328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3A398-F923-4414-A844-67730A35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57BA5-3387-4A56-8E12-BC383178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6E647-2028-4E46-A33F-EF6DD6C9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2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0F1D2-1986-439F-ABAF-83BBC718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3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08481A-0A54-4F1C-81AD-F3E343DA7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CD1940-42A6-47D5-AC09-7FA89F0E3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1357E9-9C64-4BF6-AC0D-F1DC5EB72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276257-C838-44E7-B210-A6E33CFD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C404B5-C6CD-4E36-9DB9-6134E818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1F63A5-7648-4A69-BF19-CDD42DF7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8DAD8-1166-4E8F-A951-9A32A5D8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0ED2F-17BE-4935-9D6A-332B16D0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E8A5E1-3E59-440A-BE71-27127078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4A43A-19B4-4B80-86C7-34882EB5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938D1F-BB23-4060-BF12-F69FAF6A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002340-4723-4F6B-ACD8-0BB94E018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7A5B0-1786-47FF-A7D3-A8E0FC92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37E23-DF41-45C5-AD45-C37D1AE8D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6BA029-D097-49D9-8B3F-27BB0DF69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949A76-63CB-421E-99C7-8E867E4B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AAADA9-E5BF-4939-BE21-AF6A8133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78CCD-959F-4B3A-B4B7-ECE82F03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79F53-4184-4271-B0A0-D921947E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D5619-62F9-4B59-991D-BB6A6B0E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132094-4C0C-4FC6-ADCF-6C3A9F78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E8C7E-FBB0-459A-8F72-641992BF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EC961-EB9B-4871-8556-EDBE5A67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6A18C-FDD4-44BE-8FB3-ACF4257C4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6DB2BB-86DE-4F0A-A7EE-7910E91AB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A817C-6561-4586-AAB9-59EFEE092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9B651-3137-44CE-802A-6926EB31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8322E-86C8-4816-A642-6C504BD5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C277C4-6E46-4719-B1D1-C77A1759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E56CE-D745-4AE1-9E60-BEA472A9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968D49-C0B8-4FD2-9D96-78D5464D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5CB322-FAC7-48E3-8768-B5A88753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A8364-399E-4688-B0C0-510A609D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228F6-37FD-4645-88AF-A5BD0834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D55931-7072-42DB-B3F8-929AD4BB6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D78FC-BAD7-4B58-9042-6661A5773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5F392-C59B-4EE5-87C4-68F187570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A5363-6792-45F3-ABBC-2895C968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B4D23E-48F1-43B5-9DB6-6B6C63010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A2468E-85C2-4C8E-BEE7-3DFACB9E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9190B3-200A-4486-A111-4F81DCD1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3B877-9ABC-471A-8014-8F8BDD75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BEC673-407A-48CE-BCB5-BB403842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6ECCBF-DB4F-4C08-9C3F-A7E61C01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D5B3AD-AF71-43E2-88DC-8020E396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BBA2EF-BA34-4FF0-B9DD-E5CC162C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3AC01A-EEA2-4B36-B593-660C8E49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333DFC-3B8B-4722-B842-92ED01E5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3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EC2122-72B0-4929-A3C7-D55FA03A4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A3F8BB-0BED-4199-AB59-2B98BF72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4EE498-27FF-4C37-9ABD-0EB149B0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66ED81-36C7-4B76-96E5-41821E50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3B7938-6E8C-44F6-898F-2CD61C677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4D050C-D5F7-4976-9FA5-1DA6503E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C20D5-ECF7-4FE4-9CBB-B2BC6F0A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42B6E-8291-4EB7-BEC8-74FE748C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4A47-A74C-4DCA-8A2C-6DA77174E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A4B622-2EE6-42AA-BB73-848D48EF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D91E3-E041-4D3E-B47A-72200B00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AB7764-E22A-42EE-82FB-B70A1F98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ED5947-6606-420D-A791-0CBEE37C9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D3C056-89A8-4434-951E-68686892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A07C6F-DDBB-4DE4-ACD5-70E49715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E08737-D94B-4283-9FD2-7868D1BB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363CD2-8F66-4288-BFE7-B997957E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79535-90ED-496B-93A3-95906EDFC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C01194-5CB3-4EC1-8B03-B4EC1F77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FADCF1-A14A-4362-B716-D8B08B55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79BB1F-D13C-4A98-AEED-417B5BD9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D15870-9D27-46BA-8CCB-2F53A31B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964B1E-01CB-4734-AF39-2CDD5BA1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9AA448-4B0C-4207-8DEC-04F09284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50262A-24D5-4CB5-8765-92681FB02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F12876-DC10-454F-B609-CBFF1335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F8EA85-3EF0-4BCC-BE53-4E0C2EBE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30EF3E-71BD-4290-BF9D-17E0CFFB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5F18FB-50A0-4998-9F78-EEDF70A5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A590ED-A1FB-4C8F-AB00-C0190253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45977A-561A-4469-9BF1-130758ED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C091C05-E102-4AE0-BD35-BF2DF33A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5E21C2-32B7-4C0A-828D-62D2D257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B9465F-F1A6-4FF9-88B5-74AAF732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8EC850-3A5E-44CB-BD64-C8A725BC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0869C0-A8B2-4115-966F-1AFDCE92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4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AE1D2F-D89A-45C8-9A09-5D263317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0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1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8A4B96-E850-40BF-8BA4-5356E1A12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AEFC77A-5913-4189-A886-9E051F46C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A178F57-493F-40BB-BAD3-5869224DA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A1C3D22-355F-45CF-B928-D7F6F252F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C91C3FA-C374-49CC-A33D-C3B5B929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737653C-8B7B-4A88-A7D2-4C1E121F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69B44C3-52A1-46B1-9D12-78CFCCEC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E303809C-7029-45F5-8557-6ABB01B4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64F086C-F631-413B-B340-388B7242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95572D8-9EA1-429F-B2ED-770C0BEE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D2852C3-3CA3-4291-93D1-CF04904E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4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130BAE7C-B641-4953-9A2A-3B2200DD9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5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202A123-5FD0-4B3E-B407-57CD9AB04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A21356-ECEA-4A97-A484-6C6C3B897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846867-2E73-4A02-9AB1-1743546A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1CE725-6E17-4E2C-901F-9BB04903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D0BC2-75B0-4811-A3FA-18BB12112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FFF71C-82A1-47E3-B32C-6B4CE6E2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4C1491-3EEC-4EE3-90E6-472D378B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EFA52B-E479-4345-9D02-D7E1218D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764172-73D6-4AD2-95BD-C4E4D002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555A99-6D62-4513-9692-B8F0E610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8431-17EF-4327-A156-DEEA0F77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AE7B2B-56E7-4192-B5ED-479C0EF7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787E6A-91E4-4215-9FE4-551C569C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A4BFD3-7CBE-4B72-86F5-B22B7329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47F698-E997-4B9F-8120-5F9113DF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054609-84EF-4BEF-8D1F-65C0EBA4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B20B3B-10E9-4422-A7BD-9A3E7670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D5BAB1-A43D-48F3-AC1D-510503C2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A19BC0-DD11-4F78-8588-4E69C585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27FC0C-E422-48E1-8200-4C74FE6AA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151888-171F-4840-80A9-839610F1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2B6B-5879-48D6-BF2A-DD2447F8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398344-E3AB-4099-BC29-1ECF678E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F306D1-C5AD-48C3-9219-F70F0762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3BE1EF-6DA9-4266-9AF9-38BF040C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BA716A-38A6-4FE6-BE86-1F8C5A937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5C8147-E1F9-4AB8-9B52-A30449FB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387692-319A-4AE6-97EE-3D0201D8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A98C67-5A0F-41C0-AD0F-2CA3C966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A25582-ED5C-48A1-A4C8-F37AE3650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0DCFA1-1299-4512-BD82-FBB37F85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F1F125B-402E-4D28-9D24-07831FD7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3C2C-C8A5-4A3C-975D-F8C61DCA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A190A0-FCEC-4617-922C-982702BB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12FDD0-DD62-4411-BC3E-BF1A864D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AB32CC-0A85-409A-AA32-BBA7A3ED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EF79E5-EDEF-44C5-A552-EC026E8B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352C85-C187-44B8-9A15-86C14962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58EE82-E4AE-473C-9E1B-DD24837F2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4A9BA9-52DF-44DA-8F2F-88135014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E70B78-C0B1-407A-A54F-0C04AD68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5AE756-D825-4799-A242-4DE2B736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2D6B48-8EDA-4C56-B8B2-BD15D42B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DFD76-E5A6-4A71-89C6-C567C2C8B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C5E909-8334-4601-B738-111EB61F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D334CB-387C-4941-B1BB-38412623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D7E86F-9B64-4742-8FB2-ED897625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6F6B9E-849D-4D19-8A1D-2FDC73B6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DEB391-4743-4CDA-8A34-DB8339B0A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0293025-D04E-420C-9311-A278C4DC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85810C-5FA5-4891-B423-866CFDA1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3A07CE-DB51-4C41-A7AF-856182A4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9EB3A1-1B5F-41D3-9298-E3EC78A1D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655E69-7200-4F38-8A55-AE8D33843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E23F-33C1-49B8-9D83-FABD98B6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F46A85-09D4-4CD5-A411-A16B62B6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34FAC84-E2BF-4A1E-8A65-914BCED86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8337B3-9E48-4AB9-9A64-9A0D8969E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8FD2A50-3105-4FB7-A313-C0C2C1BD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AA923D-A71A-40BB-8D79-944A0970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1D5ECE-90ED-46A0-AEB1-27E525A6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E46C1F-467A-4BA7-AFFD-961524F8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097E43-FE4E-44BF-9C43-5AFDFE62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DBD172-D2A1-4BCC-9D9F-9316ABCC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A14A84-C7E2-4976-B516-850E0F51E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2F1-BACF-4D83-86CF-806991CD4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DF8C-751D-4121-AD36-CC12B7CAB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7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2E564E-DCF9-4247-85FA-B9F95650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B9AB-AD24-469A-A4DF-301C396A9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EACF8-A3DB-49CE-855C-B9429BBA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D639-A3CD-44E9-9DB8-ED87B85C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3CBB-08FA-4152-8CB3-45206E90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CBDFF-741B-4A97-8B9B-890FC10B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097E-DB21-4B24-AC0F-D613DB6C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FC20C-B012-4F03-9895-AC76DDE9D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072AC-5BA9-483F-B6BF-673188D22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4B35E-CF55-48CA-9AB4-DC1DA01E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B8E-7997-41BF-A754-31F2716E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72D6D-62DF-421E-8425-D3C03AB9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A7E0A-DECD-4FA7-A1DA-7469C3B4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91984-A348-4487-A6AF-EE3206A0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12B9F-16FE-4B7C-847D-10AF19CD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86BB2-E66E-4163-919E-DD04101A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27CB0-A045-49E5-80EE-44F2F4DE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709F2-0532-4D2F-945E-3B110F7F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215D0-B55A-4792-881D-65A764FB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248B-D30A-4962-AFCE-AC8178E4F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71162-275C-4ABD-A8E8-AF9941F7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9AE0-EC29-428F-96D7-B802F474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844A0-E0E8-4AD9-9D85-1FFC1177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5793E-D73F-48CC-ABC9-7D5C9028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1B158-CA46-4396-AF88-46B377156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89A5A-65AB-4B4C-8A82-0A168A59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3E0B0-1FB8-42D2-9C48-AB521E2EC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E066F-25F7-4603-800E-67C3AA19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5F99B-2AA2-46BC-B681-68A9B42E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E1237-5164-4F09-957E-ABF695F7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F4E20-56C6-4C3B-A6AC-C76F8F8E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B081D-7630-4CC4-8014-BE709423D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3F8-5738-4231-AE7B-82F6AA8D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F2B6D-C101-41D9-BEC6-3AC22142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C64F1-22D7-4190-8A4F-40E7F05B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CA080-40CD-4656-B330-17705FFA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8A475-CF37-4F6B-8B0A-63F83B01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A1E2A-A92E-426F-9E62-7BF9D2AC9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B3A6E-2975-4499-A100-6CC4C5D6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0D8E7-6C5F-42FC-B9EE-4937A230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D0BD4-75EB-4E52-8341-4F172AE1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62771-FC86-41F6-864C-39D31565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61FB4-63A1-440B-9F5C-B1148AC2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EBA7-B3B5-4D38-85C9-575085A40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57AB3-B09C-4BFC-BA63-898ECC4A5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75FC2-C246-4565-AF2C-8F157A0EF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D9B0E-4121-4879-A445-7EB2F62C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9E9BE-9B64-4E5D-A989-9C0A7CDF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7E037-1F5E-431A-8CE6-0FB9A23B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0C9D9-B1C7-4CFF-B26A-C3828569D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12C8B-7BFA-4D3D-B709-A61691B3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8AC6A-8AA1-4953-954F-A0FA2217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EAB280-C3D3-430A-B043-9AB8C944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F7E8D-EF75-4B86-AC85-FB01A097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F3BC-33F2-48F0-9075-F308321E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34895-1D53-46B4-B41D-DCF84D9C0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8866B-8525-4304-A2DE-1C393248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3FF70-2181-4F42-B23D-CEAE5012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E2D91-9DA9-4F77-8342-ACC9CBC49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1A2BF-C08D-4C71-BDFC-49E57A073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7877B-13D7-4025-AA14-AF6C1A74E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BDC0E-07CD-4BBD-BC03-D810E4C8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2816C-8BAB-4810-B263-29EE15B3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ADBAB-D325-4A61-B971-C969335F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513AC-D815-4830-84F8-CA204D6B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2160-4BF3-41D2-A03B-3D303AB2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391E9-13F9-46FA-BBB9-A0EA00FA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52B98-7FD1-4C08-9114-EEAE1366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D0B5F5-B8AE-4571-A8A3-3C913DA2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6548E-FA83-46C2-8FB8-A4B190EB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8C66B-7CD7-476C-A2B1-C2DD396E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5EC72-9848-467E-815D-3158FB29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391EF-2A5E-4D1E-9686-714F89CDB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D7A59-F5FC-42F1-B85C-BC7422D27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EE0FB-16EC-4C26-BD10-736D9E2B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76DAC-98ED-4BEB-8B61-5E22E1D4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55EA-554B-41DD-AB10-ED6FAE21A9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74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4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F661-A779-491B-BC86-B703BDB2735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80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80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80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81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E2EF-4C22-4E0A-9405-C78162F304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6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6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88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2195-2BC7-4FB2-9E8B-AC5E96EFC5F3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93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94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96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3F12-1A09-46B9-B537-CFCB3A43C5EB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4" name="" descr=""/>
          <p:cNvPicPr/>
          <p:nvPr/>
        </p:nvPicPr>
        <p:blipFill>
          <a:blip r:embed="rId2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1015" name="PlaceHolder 1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625C-E897-4F22-8265-26C126C425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CCED-A9B7-4C47-977B-88DBA69D93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CBCD-C9BE-495E-BE80-E3F59CC0EC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dt" idx="4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B63C-5188-4E9C-8D3A-ABE414DF02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9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80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C5B2-D735-4E7A-AAD8-492C047AD781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6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237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1FFB-A0EA-4F95-8BA8-F0F449A6B93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9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ftr" idx="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 type="sldNum" idx="5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A131-9491-409F-8438-76175B9EE6FB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 type="dt" idx="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5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56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06BF0-F070-4630-89DE-852BFACC4CD3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7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418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6" name="PlaceHolder 1"/>
          <p:cNvSpPr>
            <a:spLocks noGrp="1"/>
          </p:cNvSpPr>
          <p:nvPr>
            <p:ph type="dt" idx="6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ftr" idx="6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sldNum" idx="6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07D9-E351-4E01-96B7-C084BFF043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7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468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dt" idx="6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ftr" idx="6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sldNum" idx="6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FD4F-CDAC-4EE2-B080-516910C433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4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515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6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517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1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1522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7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528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1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532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536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9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540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3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693C-17B5-4F52-A61F-28D4F392FD0A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8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599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600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7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3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614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618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622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5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626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9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630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3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0" name="PlaceHolder 1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A430-92ED-4A38-893B-6A6C66DD6C4A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BEFD-A6F4-4793-A94A-56F6D76B70C9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8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9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42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677C-72C2-4824-B82F-9F2559E3EF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187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04E34-2C89-4D4C-9C7F-BD4EC90D02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3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4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0D5F-40A6-4811-8F8D-4C61F95AB25E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1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2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59AC-50F9-44BC-AB3C-021D91009261}" type="slidenum">
              <a:rPr b="0" lang="zh-CN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9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9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9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9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0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0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42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42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2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3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3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4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4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5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45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45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46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47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47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8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0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99B43-D7B1-430F-A475-35B0F38076D4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56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6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57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57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7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9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9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0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0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0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0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1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1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1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62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62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63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3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63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4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64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64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4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65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65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8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F55E-2376-4AF4-8091-060BF7B82EB6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25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audio" Target="../media/hammer.wav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0" name="" descr="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1" name=""/>
          <p:cNvSpPr/>
          <p:nvPr/>
        </p:nvSpPr>
        <p:spPr>
          <a:xfrm>
            <a:off x="533520" y="609480"/>
            <a:ext cx="81374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6600" spc="-1" strike="noStrike">
                <a:solidFill>
                  <a:srgbClr val="ff3300"/>
                </a:solidFill>
                <a:latin typeface="华文行楷"/>
                <a:ea typeface="华文行楷"/>
              </a:rPr>
              <a:t>Language Points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              of Unit 8   Senior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28600" y="260280"/>
            <a:ext cx="8686800" cy="58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/bear .. in mind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lease keep these rules in min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in mind that the petrol can on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last 2 hour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/>
          <p:nvPr/>
        </p:nvSpPr>
        <p:spPr>
          <a:xfrm>
            <a:off x="2438280" y="228600"/>
            <a:ext cx="579132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ring/call sth. to mind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hange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sence of mind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bsent-mind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keep one’s mind on sth.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read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ake up one’s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ind your own busin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16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"/>
          <p:cNvSpPr/>
          <p:nvPr/>
        </p:nvSpPr>
        <p:spPr>
          <a:xfrm>
            <a:off x="457200" y="457200"/>
            <a:ext cx="8686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calm adj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平静的；镇定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was a calm, cloudless da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持平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/ stay/ remain cal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平静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镇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ease go to calm the patient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"/>
          <p:cNvSpPr/>
          <p:nvPr/>
        </p:nvSpPr>
        <p:spPr>
          <a:xfrm>
            <a:off x="1295280" y="304920"/>
            <a:ext cx="78487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panic v.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ase of fire, don’t panic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响雷使马惊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under panicked the horse.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陷入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/get in a p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引起恐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use (a) pani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惊慌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nic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/>
          <p:nvPr/>
        </p:nvSpPr>
        <p:spPr>
          <a:xfrm>
            <a:off x="900000" y="1844640"/>
            <a:ext cx="864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0" y="152280"/>
            <a:ext cx="9144000" cy="75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33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respond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respo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作回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反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/give no respons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response to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回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 offered him a cup of coffee but he didn’t respond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e/gave no response)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responded  to my suggestion  with a laug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opened the door in response to a Kn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7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770" fill="hold"/>
                                        <p:tgtEl>
                                          <p:spTgt spid="16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" dur="77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" dur="77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"/>
          <p:cNvSpPr/>
          <p:nvPr/>
        </p:nvSpPr>
        <p:spPr>
          <a:xfrm>
            <a:off x="0" y="380880"/>
            <a:ext cx="9144000" cy="63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126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make sure :  find out whether sth. is s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You’d better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of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the time and plac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Can you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of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success?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Before you leave the lab,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th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the door is locked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 want to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make sure whether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he is conscious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"/>
          <p:cNvSpPr/>
          <p:nvPr/>
        </p:nvSpPr>
        <p:spPr>
          <a:xfrm>
            <a:off x="0" y="228600"/>
            <a:ext cx="936144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6.on the/ one’s way  on the way to doing sth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Christmas is on the/its wa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She is on the way to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etting well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recove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He is on the way to success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0" y="3124080"/>
            <a:ext cx="914400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7.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calm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adj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平静的 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vt.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使平静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e should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stay calm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hen we are in danger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 advised him to </a:t>
            </a:r>
            <a:r>
              <a:rPr b="1" lang="zh-CN" sz="3400" spc="-1" strike="noStrike">
                <a:solidFill>
                  <a:srgbClr val="ff3300"/>
                </a:solidFill>
                <a:latin typeface="Arial"/>
              </a:rPr>
              <a:t>calm down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and have a talk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At last I calmed down the crying baby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1" name=""/>
          <p:cNvGraphicFramePr/>
          <p:nvPr/>
        </p:nvGraphicFramePr>
        <p:xfrm>
          <a:off x="324000" y="692280"/>
          <a:ext cx="7561080" cy="5616360"/>
        </p:xfrm>
        <a:graphic>
          <a:graphicData uri="http://schemas.openxmlformats.org/drawingml/2006/table">
            <a:tbl>
              <a:tblPr/>
              <a:tblGrid>
                <a:gridCol w="2222640"/>
                <a:gridCol w="2478240"/>
                <a:gridCol w="2860200"/>
              </a:tblGrid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形容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动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平静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平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ar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干净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干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肮脏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弄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干燥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干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mp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空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倒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e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自由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自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m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暖和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使暖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low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慢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放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2" name=""/>
          <p:cNvSpPr/>
          <p:nvPr/>
        </p:nvSpPr>
        <p:spPr>
          <a:xfrm>
            <a:off x="2050920" y="620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55640" y="333360"/>
            <a:ext cx="6624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"/>
          <p:cNvSpPr/>
          <p:nvPr/>
        </p:nvSpPr>
        <p:spPr>
          <a:xfrm>
            <a:off x="0" y="228600"/>
            <a:ext cx="91440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want to make i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ea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I can do it very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eas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cle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dirty on the ground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found the hous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’d better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empt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erything in the 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0" y="3276720"/>
            <a:ext cx="8820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8.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uth- to-mouth ki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ace-to-fac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art-to- hea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houlder-to shoulde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back- to-bac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"/>
          <p:cNvSpPr/>
          <p:nvPr/>
        </p:nvSpPr>
        <p:spPr>
          <a:xfrm>
            <a:off x="0" y="260280"/>
            <a:ext cx="91440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e conscious of sth.     be conscious th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s he conscious enough to answer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ohn isn’t conscious of his bad man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that time I was conscious of being watch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ean is conscious that she annoys all of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He has lost his consci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0" y="458136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0.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ress   v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挤压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press sb. to do s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Just press the button and the machine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tart right aw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"/>
          <p:cNvSpPr/>
          <p:nvPr/>
        </p:nvSpPr>
        <p:spPr>
          <a:xfrm>
            <a:off x="304920" y="228600"/>
            <a:ext cx="839772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. Listening &amp; Speaking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ive /do first aid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  first aid bo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id sb. to do sth.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id sb. with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go/ come to one’s aid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th the aid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all in one’s a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"/>
          <p:cNvSpPr/>
          <p:nvPr/>
        </p:nvSpPr>
        <p:spPr>
          <a:xfrm>
            <a:off x="0" y="22860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little girl to her he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had to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 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ound to stop the blee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o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pressed the man to p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b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0" y="321300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vive : make sb. come back to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e should try to revive a person if he l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is conscious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Don’t revive the wounded unless 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ow to d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2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2000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77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" dur="770" fill="hold"/>
                                        <p:tgtEl>
                                          <p:spTgt spid="17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7" dur="77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44" dur="2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"/>
          <p:cNvSpPr/>
          <p:nvPr/>
        </p:nvSpPr>
        <p:spPr>
          <a:xfrm>
            <a:off x="0" y="0"/>
            <a:ext cx="9144000" cy="78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2.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.He fell asleep while reading in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He fell asleep while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 wa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ading in b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.Be careful when crossing the 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Be careful when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ou 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rossing the ro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.Though young, he knows a lot of                                 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Though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he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young, he knows a lo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led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.   If necessary, you’d better go yourself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If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t 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necessary, you’d better go yoursel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"/>
          <p:cNvSpPr/>
          <p:nvPr/>
        </p:nvSpPr>
        <p:spPr>
          <a:xfrm>
            <a:off x="250920" y="836640"/>
            <a:ext cx="8424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the letters DR ABC to tell your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give first a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179280" y="2421000"/>
            <a:ext cx="878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irst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3419640" y="234936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 ac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468360" y="306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ene is no longer danger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324000" y="378936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Second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4284720" y="3716280"/>
            <a:ext cx="468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y to get a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468360" y="3860640"/>
            <a:ext cx="792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539640" y="436572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om the injured per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324000" y="5084640"/>
            <a:ext cx="864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Third, you shoul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____________________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3564000" y="5084640"/>
            <a:ext cx="55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468360" y="57340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on’s airway is cl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1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" dur="2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"/>
          <p:cNvSpPr/>
          <p:nvPr/>
        </p:nvSpPr>
        <p:spPr>
          <a:xfrm>
            <a:off x="0" y="907920"/>
            <a:ext cx="8675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Fourth, you should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Last, you should</a:t>
            </a: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 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_____________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3851280" y="90792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eck if the person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250920" y="162864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ea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3419640" y="234936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sure that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179280" y="3068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circul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" descr=""/>
          <p:cNvPicPr/>
          <p:nvPr/>
        </p:nvPicPr>
        <p:blipFill>
          <a:blip r:embed="rId1"/>
          <a:stretch/>
        </p:blipFill>
        <p:spPr>
          <a:xfrm>
            <a:off x="684360" y="4581360"/>
            <a:ext cx="1726920" cy="1100160"/>
          </a:xfrm>
          <a:prstGeom prst="rect">
            <a:avLst/>
          </a:prstGeom>
          <a:ln w="0">
            <a:noFill/>
          </a:ln>
        </p:spPr>
      </p:pic>
      <p:pic>
        <p:nvPicPr>
          <p:cNvPr id="1728" name="" descr=""/>
          <p:cNvPicPr/>
          <p:nvPr/>
        </p:nvPicPr>
        <p:blipFill>
          <a:blip r:embed="rId2"/>
          <a:stretch/>
        </p:blipFill>
        <p:spPr>
          <a:xfrm>
            <a:off x="4932360" y="4149720"/>
            <a:ext cx="2025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31" name=""/>
          <p:cNvSpPr/>
          <p:nvPr/>
        </p:nvSpPr>
        <p:spPr>
          <a:xfrm>
            <a:off x="4003920" y="838080"/>
            <a:ext cx="502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某人的帮助下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with the help/aid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倒转地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颠倒地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杂乱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upside d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记住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keep/bear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保持镇定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y  cal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734" name=""/>
          <p:cNvSpPr/>
          <p:nvPr/>
        </p:nvSpPr>
        <p:spPr>
          <a:xfrm>
            <a:off x="3521520" y="762120"/>
            <a:ext cx="5026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陷入恐慌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/get in (a) pan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6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代表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nd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7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首先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irst of 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8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回答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回应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respons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737" name=""/>
          <p:cNvSpPr/>
          <p:nvPr/>
        </p:nvSpPr>
        <p:spPr>
          <a:xfrm>
            <a:off x="3751200" y="990720"/>
            <a:ext cx="4670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9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受伤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get/be hu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0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即将来到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n the w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1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使情况更糟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make things wo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翻转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倒转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roll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1740" name=""/>
          <p:cNvSpPr/>
          <p:nvPr/>
        </p:nvSpPr>
        <p:spPr>
          <a:xfrm>
            <a:off x="3602520" y="990720"/>
            <a:ext cx="4853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3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穿破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筋疲力尽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 worn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4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纪念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为了庆祝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honor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5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叫来一辆救护车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l for an ambul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6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吐出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pit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"/>
          <p:cNvSpPr/>
          <p:nvPr/>
        </p:nvSpPr>
        <p:spPr>
          <a:xfrm>
            <a:off x="228600" y="380880"/>
            <a:ext cx="7924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 drown vi. &amp; v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man drowned himself in the rive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great flood drowned many houses 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借酒浇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rown one’s sparr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被淹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溺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et/ be drow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"/>
          <p:cNvSpPr/>
          <p:nvPr/>
        </p:nvSpPr>
        <p:spPr>
          <a:xfrm>
            <a:off x="5638680" y="3809880"/>
            <a:ext cx="3124440" cy="2288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落水的男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drowning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溺死 的男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drowned bo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"/>
          <p:cNvSpPr/>
          <p:nvPr/>
        </p:nvSpPr>
        <p:spPr>
          <a:xfrm>
            <a:off x="22860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reach v./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伸手够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够的着的范围之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 sb.’s reac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within the reach of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够的着的范围之外，某人够不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 of sb.’s re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out of the reach of sb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250920" y="277920"/>
            <a:ext cx="8424720" cy="34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1. upside down: upside-dow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The boy held the book upside dow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nd pretended to be reading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Last night all the desks were turned down upside down but noting was los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6320" y="4330800"/>
            <a:ext cx="9144000" cy="29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126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If I had done----  , I would have don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----If I had known how to deal with it , 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would have helped you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" dur="indefinite" restart="never" nodeType="tmRoot">
          <p:childTnLst>
            <p:seq>
              <p:cTn id="7" dur="indefinite" nodeType="mainSeq">
                <p:childTnLst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"/>
          <p:cNvSpPr/>
          <p:nvPr/>
        </p:nvSpPr>
        <p:spPr>
          <a:xfrm>
            <a:off x="228600" y="343080"/>
            <a:ext cx="89154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he had not been there, he would ha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t di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I had had enough money, I would have bought the bo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f he had been sent to hospital in time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e would be alive n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2000"/>
                                        <p:tgtEl>
                                          <p:spTgt spid="1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"/>
          <p:cNvSpPr/>
          <p:nvPr/>
        </p:nvSpPr>
        <p:spPr>
          <a:xfrm>
            <a:off x="0" y="304920"/>
            <a:ext cx="9144000" cy="63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tness: observe, ob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ness to seeing/ having see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证说看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警察发现了谋杀案的证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police found the witness to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urder c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是事故的目击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as a witness to the accid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目击了事故经过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id you witness the acciden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"/>
          <p:cNvSpPr/>
          <p:nvPr/>
        </p:nvSpPr>
        <p:spPr>
          <a:xfrm>
            <a:off x="228600" y="38088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的眼泪说明他感到羞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tears witnessed the shame he fel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些事实证明了他的粗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facts are a witness to his carelessnes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"/>
          <p:cNvSpPr/>
          <p:nvPr/>
        </p:nvSpPr>
        <p:spPr>
          <a:xfrm>
            <a:off x="0" y="128520"/>
            <a:ext cx="914400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count( be valuable/ important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重要，有价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要的不是数量而是质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 quantity but quality that counts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重要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事情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你记住了多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unts is how much you have remember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每分钟都很重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ry minute counts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00:21:07Z</dcterms:created>
  <dc:creator>GYSZ</dc:creator>
  <dc:description/>
  <dc:language>en-US</dc:language>
  <cp:lastModifiedBy>jinma</cp:lastModifiedBy>
  <dcterms:modified xsi:type="dcterms:W3CDTF">2005-12-08T08:08:22Z</dcterms:modified>
  <cp:revision>47</cp:revision>
  <dc:subject/>
  <dc:title>幻灯片 1</dc:title>
</cp:coreProperties>
</file>