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156-3EB5-42D2-BA19-0814F84B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3FEE-CAF3-44EB-A2EF-E1AC4A807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9E6B-FA89-4CD8-A920-6BAEF948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D6CE-DA4D-4261-B382-AC457AEAD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50D-E8E0-48A7-B9AD-8167BC1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BE2-F4DF-4E44-92BD-46DB6365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3042-DE3D-4EDE-85E9-8AE34E949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A75-04E5-46F9-BE77-8172763C8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8DD5-5192-4BE7-B66B-F385AC79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A5F-1CCF-4364-B188-E1C416EBA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BDA8-EAB2-42F0-9FEA-4D1874FDF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1E9D-15FA-41B4-B477-DC131B91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5F49-7ACE-4967-ABF4-7BB7A115EC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95280" y="1701720"/>
            <a:ext cx="80643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2">
                    <a:alphaModFix amt="99000"/>
                  </a:blip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Language pionts</a:t>
            </a:r>
            <a:endParaRPr b="1" lang="en-US" sz="66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3">
                  <a:alphaModFix amt="99000"/>
                </a:blip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p:transition spd="slow"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替代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m, appear, become, remain, b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词后面的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形容词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frai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之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could hardly believe it but it was tru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几乎不能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过这确实是真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从属连词搭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构成无动词条件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本周的衣服洗完了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洗完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今晚请你看电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you done this week’s washing? If so, I’ll ask you to see a film tonigh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89080" y="457200"/>
            <a:ext cx="8702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representative </a:t>
            </a:r>
            <a:r>
              <a:rPr b="1" lang="en-GB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，代理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 have the honor to have been sent as their representati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很荣幸被派来作他们的代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dj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代表性的；典型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4191120"/>
            <a:ext cx="6705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g: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ijing is a representative Chinese cit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北京是一个典型的中国城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95280" y="404640"/>
            <a:ext cx="64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484280"/>
            <a:ext cx="8351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y left the school in a hurry, without saying goodbye to any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2924280"/>
            <a:ext cx="756144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not/never……without doing s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840" y="3933720"/>
            <a:ext cx="9074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two can never talk without smil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e can’t take his meal without wi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250600" y="426960"/>
            <a:ext cx="13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做…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09760" y="306864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1be5"/>
                </a:solidFill>
                <a:latin typeface="Comic Sans MS"/>
              </a:rPr>
              <a:t>无…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5320" y="1152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01440" y="457200"/>
            <a:ext cx="445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or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关的几个搭配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2320" y="1482840"/>
            <a:ext cx="4169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often than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a li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… than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more than 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 more…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…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nothing mor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578200" y="1533600"/>
            <a:ext cx="249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通常，多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非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其说…倒不如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更加，越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仅仅，只不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与…一样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没有…那样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和…完全一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23760" y="177840"/>
            <a:ext cx="916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about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论，论及”  比较详尽地说一个问题或题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peak of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指一般地提及某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They were speaking about their bo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 hope you’ll not speak of it ag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1240" y="3200400"/>
            <a:ext cx="4425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from the he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by the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ill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to one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speak out one’s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13440" y="3139920"/>
            <a:ext cx="155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声说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凭良心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话确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…坏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自言自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说出心里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52280" y="152280"/>
            <a:ext cx="8839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 earth “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世界上”，用于加强最高级的语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’m the luckiest man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hina is one of the greatest nations on ear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n earth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用在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when, what, who, where, how, why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等之后，用来加强语气，“究竟，到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What on earth do you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on ear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用在否定句中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not…at 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.g. Nothing on earth can prev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e from doing tha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8080"/>
            <a:ext cx="91440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at i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它在句中还常作插入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思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对上文的解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ly, 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drove 150 kilometres an hour, that is 300 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开车每小时时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公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6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1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1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42552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作插入语时还常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is to say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翻译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获得了学士学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就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成功地毕业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e got a bachelor’s degree, that is to say, he graduated successfu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3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30492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9. access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(u) 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场所，人等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接近；进入；（资料等的）取得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利用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很少人能接近国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 men have direct access to the 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接近（取得）的方法；门路；使用（参加）的权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可以进出他的办公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ave access to his off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907640" y="1066680"/>
            <a:ext cx="55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容易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易接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easy/hard/difficult of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2880" y="2666880"/>
            <a:ext cx="476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得以接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进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会见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ain/ obtain access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12200" y="4648320"/>
            <a:ext cx="334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能接近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give access to 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2286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ace  vt./ vi   (1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朝，向，面向；面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y house faces the park.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房子面对公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正视，应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g: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must learn to face difficulties squarely and try to overcome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面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eg: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difficulty that faces us is the number of those in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5640" y="533520"/>
            <a:ext cx="768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0. Alone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v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只，只有，仅仅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alone is not responsible for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oney alone cannot make you happ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7280" y="2895480"/>
            <a:ext cx="455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地，独自地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He did it all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6920" y="4800600"/>
            <a:ext cx="68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dj. 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单独的，独一无二的，唯一的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 I am not alone in this opin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080" y="324000"/>
            <a:ext cx="86263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1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we are to develop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orld successfully, we must make sure that everyone is able to take part in the new world we cre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果我们要成功地开发世界，就必须确保人人都能够参与我们创造的新世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计划，打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下午我们打算去城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we are to go to town this afternoon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38880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拓展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to d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常见用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命令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“必须，不得不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are to do your homework before you watch TV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可能性，相当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主要用于疑问句和否定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am I to know what has become of hi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380880"/>
            <a:ext cx="868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表示假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Certain skills must be learned if one is to use English effective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目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house is to be lent or sol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结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was to blame for not locking the doo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2760" y="95400"/>
            <a:ext cx="8931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命运注定……，通常用于过去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came to power, but he was to pay dearly for it; soon he was assassinated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3809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g:In such dry weather, the flowers will have to be watered if they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have survived       B. are to surv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ould survive       D. will survi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64160" y="426708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6440" y="609480"/>
            <a:ext cx="8702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12. all to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意为”实在太…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太过” “非常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形容词或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It was all too early when we reached the top of the hill. The sun hadn’t risen y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istakes that he has made are always too f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2760" y="380880"/>
            <a:ext cx="8931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3. Str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vt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强调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着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ther stressed that Jacky should be home by ten o’cloc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(c)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重读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其复数形式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sses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接介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ess is on the first part of the w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力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压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is vacation freed him from the stress of his jo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4920" y="609480"/>
            <a:ext cx="883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.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there exist serious problem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属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There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还可以用其他动词来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ive, stand, exist, lie, come ab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些动词通常为不及物动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upon a time, there lived a fisherman on the isl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1895, there came about a war between the two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990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ake 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采取行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开始起作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名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可有形容词修饰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2590920"/>
            <a:ext cx="7483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we must take immediate action if we want to avoid future loss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89080" y="380880"/>
            <a:ext cx="885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harmony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n. (u)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调和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一致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谐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睦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;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融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 was not much harmony in international affairs during those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些年国际事态不很协调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6560" y="3962520"/>
            <a:ext cx="84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地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谐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n /out of harmony with 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与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调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不调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live in harmony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和睦相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65292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79760" y="1905120"/>
            <a:ext cx="7441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ou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坚持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up 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大胆面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save (one‘s)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挽回面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ut a good face on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装作若无其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on the face of i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从表面上来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make a face a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向…做鬼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ace to fac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常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用）面对面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in the face of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顾；面对，在…前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45720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用）用…包面；覆盖上一层不同的材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763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eg:Bob and I worked together in harmony for ye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There was once a town in this country where all life seemed to live in harmony with its surrounding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8600" y="92160"/>
            <a:ext cx="8458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.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put an end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终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废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此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介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接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代词或动名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political solution could put an end to the violence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政治解决方案才能结束暴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9080" y="2355840"/>
            <a:ext cx="8550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ring…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使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come to a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完毕，结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an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把…终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make (both) ends meet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量入为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at the end of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在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by the end of…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到…末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in the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终于，归根到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on end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竖着，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连续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10680" y="406440"/>
            <a:ext cx="8757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wipe vt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揩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干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other told her son to wipe his face clea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母亲叫儿子把脸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pe away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ff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ou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洗…的内部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wipe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擦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液体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174600"/>
            <a:ext cx="91440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content: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). n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内容，目录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作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~ s ) 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容量，容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g: the contents of a boo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table of conten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ook up the contents at the beginning of the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ook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). Adj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满足的，满意的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to do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content with s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ontent oneself with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is quite content to watch TV for hours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’m very content with my life at presen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5840" y="685800"/>
            <a:ext cx="915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 there’s no butter we must content ourselves with dry bread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763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: Fill in the blank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ttend / join / join in / take part in / join sb in st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12724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’ll ______ an important meeting tomorrow.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Almost all the teams in our school ___________________ the basketball match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 My wish is to _____ the army after graduation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2101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40384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 in/took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334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30492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We’ll _______________ social activities during the summer vacation.</a:t>
            </a:r>
            <a:br>
              <a:rPr sz="3600"/>
            </a:b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They didn’t _______ the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6. I ______ the party last year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7. Our headmaster will _______ us ____ the discussion this afternoon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8380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in/take part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24382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35812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457200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join             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6320" y="-152280"/>
            <a:ext cx="518148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可持续发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取得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继续做某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据……所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世界上；到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925560"/>
            <a:ext cx="5486400" cy="481500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sustainable develop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ke much/ little progr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continue doing/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ccording to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on ear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7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2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7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762120"/>
            <a:ext cx="2895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2120"/>
            <a:ext cx="48769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对……负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尽力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9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采取行动做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0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影响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起作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762120"/>
            <a:ext cx="6095880" cy="56494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ave a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 responsible fo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b. do whatever sb. can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ake action to 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make a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7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8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4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0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3301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尽管有巨大的困难，但他成功了。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考试没及格，但她尽量装作若无其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必须正视她已不再年轻这一事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600" y="1092240"/>
            <a:ext cx="88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He succeeded in the face of great difficult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2847960"/>
            <a:ext cx="876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hadn't passed the exam but she tried to put a good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face on 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53341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She must face up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o the fact that she is no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longer you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762120"/>
            <a:ext cx="4952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1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是……的关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和睦，融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隶书"/>
              <a:buAutoNum type="arabicPlain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擦洗 ，去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消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5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有……的机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838080"/>
            <a:ext cx="4495680" cy="5825880"/>
          </a:xfrm>
          <a:prstGeom prst="rect">
            <a:avLst/>
          </a:prstGeom>
          <a:solidFill>
            <a:srgbClr val="ffffcc"/>
          </a:solidFill>
          <a:ln w="2844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the key to sth./doing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in harmony with …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put an end t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ipe 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There is a good chance that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749160" y="457200"/>
            <a:ext cx="79441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机会进入……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ave access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清洁的饮用水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lean drinking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在农村地区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rural ar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暖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取暖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tay wa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平等和 公正的需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he need for equality and fair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80640" y="609480"/>
            <a:ext cx="57952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采取行动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有害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bad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有很大影响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make a big differ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传遍全世界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spread across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0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与……和谐相处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harmon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9560" y="380880"/>
            <a:ext cx="65282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1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结束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 an end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2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除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消灭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3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经常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;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常常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ll too oft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4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重视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ut/lay stress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5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对……负责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responsible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take /bear responsibility f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683000" y="914400"/>
            <a:ext cx="5179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6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愿意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乐意干某事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 willing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7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护某人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/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物免遭……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/sth. f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8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保卫某人抵御……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efend sb. again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19.</a:t>
            </a: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建议某人做某事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dvise sb.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380880"/>
            <a:ext cx="91440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1)  vt.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出席，参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ttend a meeting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出席会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的老师建议他去上技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Our teacher suggested that he (should) attend a technical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228600"/>
            <a:ext cx="91440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) vi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注意听；倾听   此时常与介词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to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连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The boy didn’t attend to the teacher/ to what the teacher was say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个男生没有注意听老师讲话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15228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3) v.i &amp; v.t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o look after someone, especially because they are ill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照顾；护理；伺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He is attending to some very important customers.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正在接待一些重要顾客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514600"/>
            <a:ext cx="9144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 using the machine, you must 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arefully to these instructions.     (    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join                              B. join in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ake part in                D. attend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183080" y="419112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457200"/>
            <a:ext cx="861048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句型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do you think s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替代词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来替代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think, believe, hope, expect,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3333cc"/>
                </a:solidFill>
                <a:latin typeface="Times New Roman"/>
              </a:rPr>
              <a:t>imagine, guess, suppo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表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相信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设想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含义动词后的从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使得句子简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g:  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he going to study abroa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elieve 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838080"/>
            <a:ext cx="845820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注意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示意义否定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可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ieve, suppose, think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也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n’t believe(…)so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pe, be afraid, gues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只可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hope not; I’m afraid not; I guess no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7:02:38Z</dcterms:created>
  <dc:creator>COMMON</dc:creator>
  <dc:description/>
  <dc:language>en-US</dc:language>
  <cp:lastModifiedBy>jinma</cp:lastModifiedBy>
  <dcterms:modified xsi:type="dcterms:W3CDTF">2005-12-18T15:24:10Z</dcterms:modified>
  <cp:revision>101</cp:revision>
  <dc:subject/>
  <dc:title> </dc:title>
</cp:coreProperties>
</file>