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E3EE-BFED-4F95-9F41-579508F2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CFB-5A6D-4241-9FCD-1BCF4620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0825-8DD4-4EE4-8383-210AA7D1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A34-0E16-40EF-AFEF-B739CEE7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E2F2-AF97-4704-B06E-8F010927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5545-0083-4DD6-86F4-F6E8FAD1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22D5-E542-4250-97F0-D40F9258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4D8-8315-40BC-ABCE-164A6C89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605-D00E-4FA0-884B-D62EA00F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FF4-E345-4E82-A1C4-85A84753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86F-8D3C-4288-B28B-CF16AFDD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02F-9DAC-42F6-9DA3-28EC43D5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1FCB-079F-45EF-9299-57321E2897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0480" y="1773360"/>
            <a:ext cx="545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Unit 1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知识点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304920"/>
            <a:ext cx="8915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takes + n. + to do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will take a lot of courage to tell the tru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istence is an important quality and it is what it takes to do everything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known as / for /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is well-known for his film “Titanic” as a director to all in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53352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a lot / much / little / nothing in common ( with sb.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common with / in co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共用，公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common with most boys, he likes foo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m and I had background in comm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746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ee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用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seem to do / to be doing / to hav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seem like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He seems like an honest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It seems that / as i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seems (to him) that he would never be able to work out the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seems as if he has been at the scene of the cr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There didn’t seem ( to be ) + 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There seemed to be no +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似乎没有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714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em ( to be ) n. / adj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380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b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句型变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lives / stands / comes / remain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appeared ( to be) a quarrel between the two gir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was said to be a fight between Tom and J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used to be / appeared to be / must be / will be / was said to be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286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 be/ get engaged to sb. ( engage A to B 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与某人订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engaged in doing ( engage oneself in doing)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忙于从事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wants to engage himself in foreign tr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can’t go with you. I’m engag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father was shocked to learn that his daughter had got engaged to the poor young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8088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n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及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only +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状语开头的倒装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拓展：把否定词或否定结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, little, hardly, never, no sooner….than, hardly……when, not only….but also, at no time, by no means, on no condition, in no case, nowhere, nor, seldom, few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等置于句首时，常使用部分倒装结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85800"/>
            <a:ext cx="86868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sooner had we got to the railway station than the train lef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you don’t do it,  nor shall 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no means will this method be satisfac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ver has she heard such a beautiful English s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ly after he told me about it did I know the tru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60948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a promising man = a man of prom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mise n. / (to be) adj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……的希望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预示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year promises a good harv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promises to be cool in the eve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ke / keep / break one’s prom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mise sb. sth. / promise to do / promise sb. to do / promise sb. that cl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22860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There is no point / seems to be no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doesn’t seem to be point)in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某事没意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某事似乎没有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51460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be on fire for…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热衷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/ on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着火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set fire to sth. ( set sth. on fire 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放火烧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catch fi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着火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make a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生火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light a fi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点火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play with fire / open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开火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under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受到攻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go through fire and wate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赴汤蹈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s a child, he was on fire for drawing sth. free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572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ke a difference to sb./ sth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某人有影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ke a difference between……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区分，对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同对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ell the difference between….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说出……之间的区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difference in / between /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方面的不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之间的不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……的不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20120" y="2133720"/>
            <a:ext cx="394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Unit 1 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词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6660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rain didn’t make much difference to the g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makes a great difference which you choo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makes no difference to me whether he goes or n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You should make a difference between right and w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an you tell me the difference in spelling between the word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.make up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打定主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hange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改主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sth. in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记得，想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ose one’s mind / out of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失去理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sth. ) on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某事）使人担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out of sight , out of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眼不见，心不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b.’s mind is on sth. / keep one’s mind on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某人心思在某事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Keep sth. in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记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8380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ore tha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多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仅仅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极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more tha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better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as bad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worse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as good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 more tha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超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808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相配、相称，使较量，是……的对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A matches B , be well matched, match A with B)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ui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指颜色、款式等适合某人的口味、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i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衣服等大小合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33520"/>
            <a:ext cx="89154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curtain doesn’t match the pai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one can match him in foo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se gloves don’t mat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’m ready to match my strength with / against yo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deeds don’t match his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’m no match for you at ches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7621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at if…..?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假如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会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sth.)come up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被提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sb.) come up with sth.: think of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提出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question hasn’t come up y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cientists have to come up with better ways to deal with pol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0000" y="404640"/>
            <a:ext cx="273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349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9000"/>
            <a:ext cx="9144000" cy="65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– Where would you like to go, to the cinema or theatr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 It ___ to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not a differ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makes no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is not different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makes not a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789360"/>
            <a:ext cx="50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120" y="411480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328680"/>
            <a:ext cx="273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2273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83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His opinion is similar ___ his brother’s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A. with      B. like      C. to     D.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They _____ the foreign affairs those 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engaged themselves in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were engag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were engaged on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were engag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713040"/>
            <a:ext cx="50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91440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403848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620640"/>
            <a:ext cx="8820000" cy="57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Einstein’s theory _____ correct later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was proved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was turned ou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was proving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turned ou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Mr. Baker is busy these days ____ a new book on how to develop a child’s reading sk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ing out             B. working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working for             D. working 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3440" y="27432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5257800"/>
            <a:ext cx="2887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620640"/>
            <a:ext cx="882000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Don’t let a chance _____ easily. It may never retur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up             B. go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fall off              D get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I’ve always dreamt __ coming to China, and now the dream has come 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about; real               B. of;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out; truth                 D. from; tr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32440" y="16002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464832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90720" y="304560"/>
            <a:ext cx="4086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t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v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1080" y="228600"/>
            <a:ext cx="1247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从事，承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明显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范围之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好奇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分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浏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相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预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误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609480"/>
            <a:ext cx="289548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观察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庆祝节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悲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有才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容忍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犯罪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天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灵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难以治愈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533520"/>
            <a:ext cx="41097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happ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llig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2205000"/>
            <a:ext cx="67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3360"/>
            <a:ext cx="92883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 If you are ___ about Australia cities, just read the book written by Dr. John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ested                  B. anx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upset                        D. cu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2004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2205000"/>
            <a:ext cx="67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3360"/>
            <a:ext cx="92883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.– Shall we have a talk with her and tried to persuade her not to see a movie ton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 There is no ___ talking to her. She never liste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                 B. val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point                D. 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3600" y="45720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00000" y="2205000"/>
            <a:ext cx="67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3360"/>
            <a:ext cx="9288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. You can’t ___ everybody. I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jority ___ your decision, that’s 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isfy; was satisfied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be satisfied; satis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satisfy; are satisfied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satisfy; satisfi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73392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826920" y="2924280"/>
            <a:ext cx="777744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15120" y="1413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语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0920" y="3500280"/>
            <a:ext cx="4176720" cy="201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不定式的结构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413000"/>
          <a:ext cx="6720120" cy="40478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65608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1547640" y="1413000"/>
            <a:ext cx="201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80000" y="3860280"/>
            <a:ext cx="201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80000" y="4653000"/>
            <a:ext cx="2087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14842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177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1700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主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1628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被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2421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一般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3213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完成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3933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进行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4797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完成进行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2421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行楷"/>
              </a:rPr>
              <a:t>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2276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314172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v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99736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ve been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400536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be d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9280" y="4581360"/>
            <a:ext cx="216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en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不定式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1341360"/>
            <a:ext cx="287280" cy="410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1052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It is right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give 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mo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191628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She wante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borr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y b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70828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I came her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s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35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He needs a room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live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422100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I asked him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work with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51577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My wish is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beco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doct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6000" y="981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主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67640" y="1916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宾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27082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状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48360" y="3500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定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12000" y="4221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宾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40720" y="5157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表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320" y="152280"/>
            <a:ext cx="896436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has a lot of work ____ today, so he can’t go with u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ing     B. to do     C. done       D.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e told me about the things ____ at the next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iscuss              B. being discu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discussed             D. to be discu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He seems ___ the old l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ing                B to be know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to know                D.  to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62080" y="1405080"/>
            <a:ext cx="52884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7200" y="4038480"/>
            <a:ext cx="5284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6205680"/>
            <a:ext cx="52848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0"/>
            <a:ext cx="8964720" cy="84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4. We all  hope ___ scienti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A. become             B. to bec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. becoming          D. bec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5. With a lot of difficult problems _____, the newly-elected president is having a hard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settled                         B. sett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. to settle                      D. being sett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6. It is said that in Australia there is more land than the government knows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it what to do with          B. what to do it w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. what to do with it         D. to do what with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685800"/>
            <a:ext cx="5302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886200"/>
            <a:ext cx="5302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6357960"/>
            <a:ext cx="5302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60280"/>
            <a:ext cx="91440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Do let your mother know all the truth. She appears_____ ever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tell                B. to be t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to be telling    D. to have been t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The shirt looks tight on you. You seem 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to put on              B. to put 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to have put on     D. to have pu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They expect___ their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to be seen B. to be seeing C. to see D.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1916280"/>
            <a:ext cx="50472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508640"/>
            <a:ext cx="50472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5805360"/>
            <a:ext cx="50472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4520" y="1905120"/>
            <a:ext cx="348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词 汇 练 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he most recent survey of rare bird was u_________ in 19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is disappointment was o______ to everyone. Didn’t you se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he school is w_____ 5 minutes walk of my house; I go to it on foot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Don’t be so c_____ . It’s got nothing to do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he little boy climbed the tree and sat on a b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692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nder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2000" y="126828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v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720" y="23493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4000" y="342900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7080" y="501336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a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3600" y="1981080"/>
            <a:ext cx="35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短 语 与 句 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114800" y="-360"/>
            <a:ext cx="6400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go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et engaged to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make a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urn ou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 other way 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ream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e similar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ach one’s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e curious 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4480" y="0"/>
            <a:ext cx="2671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走过，过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与…订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有所作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结果是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后来证实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相反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梦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与…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.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相似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达到目的，实现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很想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657600" y="304560"/>
            <a:ext cx="5486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the early 1970s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ince then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ek answers t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eek for/after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ccording to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on the other hand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36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"/>
            <a:ext cx="36576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70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年代早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从那时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寻找问题的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追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根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另一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3504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好管闲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新宋体"/>
                <a:ea typeface="新宋体"/>
              </a:rPr>
              <a:t>继续某种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和某人结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新宋体"/>
                <a:ea typeface="新宋体"/>
              </a:rPr>
              <a:t>用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做某事没有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或没有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新宋体"/>
              </a:rPr>
              <a:t>从事于某事；忙于做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4280"/>
            <a:ext cx="5035320" cy="71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be curious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one’s busines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go on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get married to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use up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There is no point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doing s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engage(oneself) in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或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be/get engaged in      doing s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1:10:32Z</dcterms:created>
  <dc:creator>Billgates</dc:creator>
  <dc:description/>
  <dc:language>en-US</dc:language>
  <cp:lastModifiedBy>jinma</cp:lastModifiedBy>
  <dcterms:modified xsi:type="dcterms:W3CDTF">2005-11-02T14:51:31Z</dcterms:modified>
  <cp:revision>18</cp:revision>
  <dc:subject/>
  <dc:title>幻灯片 1</dc:title>
</cp:coreProperties>
</file>