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5799138" cy="7959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22D5-2D11-4A5F-9B69-2EAC56E48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638-CA98-4E0B-8BF0-0B179219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AB0-F392-4028-96C8-C70ADC81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8B53-EC60-43BB-AB87-592BB7CE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32BD-7CF7-4C1B-9CE5-EAA4E4E6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54E7-4C08-4333-AA1C-31928B2C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8BB7-E5F9-40BC-96E5-9E9052BB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D702-C6FF-4EE0-93C8-8B6421A3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EB65-EBC2-4A72-8143-81EA5FD0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D8EC-ED27-45E9-92A5-3F7CAC0D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2745-6C6F-4268-B816-B7CB2188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24A6-3015-4F3C-9683-70BF4F59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F672-CF31-45FC-A9BD-8AE579D7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A119-429D-4BD5-80D6-A63B2DE8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C0F9-D95F-4CD2-84FB-393133B9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4842-F27D-4CE7-A880-C2EA1DE4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C92B-5466-45A6-BF7A-ADBCC21A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6AF8-F216-400F-A228-12FFD3E2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7384-4951-4583-9923-0072A5DE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29A-760C-4786-8996-D5FBC260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3BA-4FF1-4EDD-8CFB-2C2E32A8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219-DA3F-4168-A26B-FCCEB66B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6D2-C354-48A2-8237-4CED7673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49C8-94FE-48E8-BDF1-6A6A3C20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10B7-9ACC-4346-8AD4-F3002465D66F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A8CE-F96B-4901-A6BD-3279D583A4E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43000" y="1523880"/>
            <a:ext cx="655308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unit 10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rightening nature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ord study 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atched it rising from a mountain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-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such a distance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uldn’t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ll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ne, but we afterwards learnt that it was Mount Vesuvius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t a distanc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om a place that is not very close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tective followed him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a distanc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el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be able to see how one person or thing is different from anoth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taste buds can ______________ between four basic flavors.(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区分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533412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ell the differe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6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ht of it awoke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cientist in my uncle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o and see it from close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han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   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cientis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my uncl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科学灵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ar in time or spac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hops and buses clos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nt you to b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my interview with the applicants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933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tarted out as a trip fo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now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led fo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age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ll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ed, ask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工人要求罢工运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ers ar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alling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ike acti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工作需要耐力和耐心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alls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durance and patience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d to wait for a good wind, blowing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ther way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n the one that carried my uncl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in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fferent direction; on the contrar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看见警察后转向另一方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urned to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he saw the police coming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觉得去时用的时间比来时短，其实正相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ould think to go there is quicker than to come back, but it was just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d to wait for a good wind, blowing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ther way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n the one that carried my uncl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in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dv. immediately; directly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轮船直沉江底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went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igh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bottom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进门就打开了电视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urned on the TV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igh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he came into the room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some dirty weather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cking about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nock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be active, and esp. to travel continuousl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has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nocked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frica for year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young man he suffered a lot from poverty. He used to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nock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arket, trying to find a job for a few coin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rricane,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its powe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ink ships, to uproot trees and to overturn strong walls ha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un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little ship in its path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360" y="2285640"/>
            <a:ext cx="8875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ou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subject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the hurrican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ee, f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 can have the nouns to be their subjec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ld house ha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e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ter day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Day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u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ople singing and dancing happily in a street parade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2209680"/>
            <a:ext cx="3429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</a:rPr>
              <a:t>Fill in the blanks: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active v_______ on Monstserrat caused more than US$323,000 damage to crops and the island’s water system, the government said Thursda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island was covered with d______ and a______, as deep as four inches. Fruit trees and crops were severely damaged, but none of the people were reported injured, officials said. Some wildlife habitats were damage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09480"/>
            <a:ext cx="274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volcano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58128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ir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11480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sh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3429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</a:rPr>
              <a:t>Fill in the blanks: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volcano on Montserrat sprang to life in 1995. More than half the population f______ and never returned a_______. An e_________ in 1997 killed 19 people and buried the capital of Plymouth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Although there was a feeling of p_________, people told reporters that they would not leave their islan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Officials in said costs for cleaning up could reach US$188,000. the UN has u________ other countries to help. Britain already gave 1 million pounds last aid Tuesday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838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l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137160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1339920"/>
            <a:ext cx="289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erup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2895480"/>
            <a:ext cx="312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rotec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499752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rg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6400" y="614880"/>
            <a:ext cx="5191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25000"/>
              </a:lnSpc>
              <a:buClr>
                <a:srgbClr val="ff0066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近在手边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附近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t han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冲击，漫游；闲逛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knock about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突然地，冷不防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ll of a sudde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需要勇气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l for courage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36576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ghten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ghtened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宋体"/>
              </a:rPr>
              <a:t>怕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 be frightened of the dark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at a ___________ dog! Even the bravest boys are _____________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914400"/>
            <a:ext cx="457200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dj. feeling afrai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dj. making you feel afraid or nervou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1294920"/>
            <a:ext cx="1218960" cy="7621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295280"/>
            <a:ext cx="1143000" cy="6098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4038480"/>
            <a:ext cx="2666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righten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648320"/>
            <a:ext cx="312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righte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304920"/>
            <a:ext cx="80773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5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另一个方向；相反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the other way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buClr>
                <a:srgbClr val="ff0066"/>
              </a:buClr>
              <a:buFont typeface="华文新魏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竖立起来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nd on en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7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注意到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draw one`s attention to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97840" y="437040"/>
            <a:ext cx="4624560" cy="60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8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平静下来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m down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9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照亮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ight up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0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惊慌地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a panic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1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船上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n board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676520"/>
            <a:ext cx="4572000" cy="3802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突然；忽然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ll at once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3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完蛋了，不行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 done for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676520"/>
            <a:ext cx="4114800" cy="3802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4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度过，经受住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ive through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5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远处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t a d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不理会他父亲的恐吓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took no notice of his father's thre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啄木鸟栖居于空心树上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oodpeckers inhabit hollow tre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里是建房的好地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is is a nice spot for a hous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幅画远看就好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is picture looks better at a distanc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俩兄弟太像了，很难分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The twins are too much alike to tell them apar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现在手头没有字典，呆会儿我指给你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 haven’t the dictionary at hand but I will show it to you lat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猜我没饿，其实正相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guessed that I was not hungry, but it was just the other wa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在欧洲漫游了好几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s knocked about in Europe for year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丰一中见证了我们的失败与成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No. 1 Middle School of Xinfeng has seen our failure and succes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words were left out at the place of the question mark (?) in the following two sentence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1).Upon arrival, my uncle hugged Pompy and (?) tried to give him courag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2). Then came a smell of sulphur, and then (?) flame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look at the following sentences and tell me the full sentences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3360" y="23619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) Beg your pard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) Haven’t seen you for ag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) Some more tea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) Sounds like a good idea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) Joining us for a drin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) Going to the supermarket?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9172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主语。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祈使句的主语省略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hel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主语和谓语的一部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re is) no smoking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做宾语的不定式短语，只保留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idn’t come although he promised 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like to have a try? I’d like 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83908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如果该宾语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动词或完成时态，则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av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不能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Are you an engineer?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No, but I want to b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Have you finished the task? –No, but I ought to hav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并列句中可以省略分句中的相同的成分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ther is a doctor and my mother (is) a nurs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主句中的省略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 am) Sorry to hear 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从句的一部分，用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o, no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代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he come tonight? I think so/ I think not/ I don’t think so.  (hope, be afraid, gues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般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结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并列不定式可以省略后面的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old him to sit down and wait for a mome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5867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ides this pair, what else?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boring , bored; threatening, threatened; terrifying, terrified; upsetting, upset; interesting,  interested;  exciting,  excited;…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76720"/>
            <a:ext cx="9144000" cy="22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iling an exam can be __________, but James was ________ today not because he had failed the exam, but because he had missed the live programme of the soccer match. (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pset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3276720"/>
            <a:ext cx="312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psett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77820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pse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使役动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et. make , hav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感官动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e, watch, notice, observe, hear, feel, fool at, listen 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后面做宾语补足语的动词不定式一定要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但是在被结构中不能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aw the boy fall from the tre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was seen to fall from the tre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9). find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lp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后面的可以省也可以不省略。但是如果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动词，则不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und him (to) work very har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und him to be hones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83908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介词前若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后面的不定式符号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did nothing but play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1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状语从句中，从句的主语和主句一致，或者主语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时，可以省略主语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you are) asked, you may come i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it is) necessary, I will come to help you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more time, we can do it better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0556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2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有形式主语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的主语从句可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ems (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) (that) Joe is ou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Jack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honor (that) I was invited to your birthday part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１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限制性定语从句中可省略作宾语的关系代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om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ich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the naughty boy (whom/that) we talked about last week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s: some of the words in the following sentences are unnecessary. Cross these words out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884556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It did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take my uncle long to decide whether to go to save his friends or not to go to save his friend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They had a meal, they went out for a walk and they came back to slee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They discussed whether they should stay in the house or they should try the open ai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505320"/>
            <a:ext cx="11430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962520"/>
            <a:ext cx="3276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5181480"/>
            <a:ext cx="7621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6477120"/>
            <a:ext cx="2133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s: some of the words in the following sentences are unnecessary. Cross these words out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2819520"/>
            <a:ext cx="884556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bathe if you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want to bath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I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visit my parents as much as I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ght to visit my parent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3429000"/>
            <a:ext cx="990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5410080"/>
            <a:ext cx="29718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735120"/>
            <a:ext cx="8534520" cy="499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 is ________ that the volcano became active without warming. People were _________ by the eruption.(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errify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veral children decided to explore a _________ cave. They were ________ to death when they saw a giant spider. (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care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735120"/>
            <a:ext cx="236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rrify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80180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rrifi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7069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car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37069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car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14600" y="-76680"/>
            <a:ext cx="47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t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威胁；恫吓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;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造成威胁的人或事；凶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战争的危胁使商业变得不景气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war has depressed business activit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seriou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famin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der threat of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危胁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死的危胁下他只得照他们的命令做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s forced to carry out their order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der threat of dea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aten 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男孩的父亲威胁说如果他再偷东西的话，就要揍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father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en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boy to beat him if he stole agai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younger boys _______________to give money to the older on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___________letter frightened him.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70188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ere threate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952880"/>
            <a:ext cx="281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en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56386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j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ant 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one of the people who live in a particular place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a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tow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bit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. live ther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sland mainly i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shee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烟稀少的一个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trict sparsely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920" y="-38124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spot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rk on skin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她生病的时候，她脸上有斑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had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her face when she was ill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irty mark, usually made by a liquid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 lot of greas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he shir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particular place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被谋杀的地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re he was murder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little bit, small amou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们吃点午饭吧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have a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lunch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t sb.on the spo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position of having to make the right answer or decisi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个问题使我得做出反应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uestion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ut me on the 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t., vi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notice, to see, to recognize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rk with spots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k’s very tall, so he is easy to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crow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loor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as spotted wi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int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1:02:18Z</dcterms:created>
  <dc:creator>高一级老师请用该系统</dc:creator>
  <dc:description/>
  <dc:language>en-US</dc:language>
  <cp:lastModifiedBy>zys</cp:lastModifiedBy>
  <dcterms:modified xsi:type="dcterms:W3CDTF">2005-12-26T02:47:00Z</dcterms:modified>
  <cp:revision>129</cp:revision>
  <dc:subject/>
  <dc:title>Unit 18 NEW ZEALAND</dc:title>
</cp:coreProperties>
</file>