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F666-7C57-4CA9-9206-DDC10CED0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7391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166640"/>
            <a:ext cx="7391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4826-A66A-45FB-83D0-22114F9DE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6844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2DF6-D92E-4A91-98B5-C6F1CF15D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80360" y="205740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79480" y="205740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16664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80360" y="416664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79480" y="416664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F809-6AFD-4E00-A5DA-2B814A0F3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E9A3E-D10B-4BEA-A0A6-C423A2411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F0A55-CA0E-4C4F-B8A1-941B8E48C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3CD07-1900-446B-9982-9B3EBD5C9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6B5C5-3833-48DE-97D8-9FB280A86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51C46-29F0-471C-873E-2673276D2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80880" y="68544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8528B-8F4E-4A84-8438-91B2B7B7A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D3F0C-35FF-4A3C-AA6E-7282A4DC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D716-E016-40EC-A6B2-C3EA1DE83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16844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2DF7C-8526-4FD6-96BE-A59B8650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7391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49974-28FC-41C5-BBEE-82D75312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7391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0880" y="4166640"/>
            <a:ext cx="7391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576FD-96A5-452B-97C9-80558AAAC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16844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138E2-31A4-41F7-864A-CC806E49C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880360" y="205740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79480" y="205740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80880" y="416664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880360" y="416664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79480" y="416664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BCE89-3746-4050-950E-C29F28524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815D-950B-45DC-B1DC-282951D6F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B10E-40E5-43FE-9377-45DDEEE01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BFDF-F748-4409-AEBC-E2EED5533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68544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7B92-0B40-409D-A9F9-B7AF3F4C5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B158-3616-4CAF-B4D4-6BED495F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6844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648D-8751-4AD6-B306-0146EF8F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7391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E599-70A3-4374-A03E-4B25BFB1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A119A-9B7E-4EF8-928B-91B1321021A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0800" y="847800"/>
            <a:ext cx="7505640" cy="5162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62120" y="4038480"/>
            <a:ext cx="1374480" cy="2008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9125F-8DD4-4403-A420-70FE7290C77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848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0787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Unit 3  Art and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19320" y="274284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Language points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743200" y="3809880"/>
            <a:ext cx="4484520" cy="184968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304920"/>
            <a:ext cx="9144000" cy="50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look as if +clause  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看起来象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fill up sth with sth. 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用…装满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be filled with sth  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充满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keep sb informed of sth 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随时让某人了解某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succeed in sth/doing sth. 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在…成功 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/ 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成功干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pull sth down   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拆掉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97560" y="692280"/>
            <a:ext cx="7203960" cy="53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ntergating sk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stand empty without use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空置不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with one’s help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在…的帮助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be decorated with sth.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被用…装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remind sb of sth.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使某人想起某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set sb/ sth aside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搁置…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把…放在一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bring sth together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把…汇集在一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be changed into sth.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被变成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53200" y="981000"/>
            <a:ext cx="7648200" cy="56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be good for sb  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对某人有好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far from sw.    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远离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句子，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so that +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句子   …，因此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以至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turn sth. into sth.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把…变成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give new uses to sth.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赋予…新用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save sth/sb. from …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把…从…中挽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glance at sb.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看一下…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扫视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9080" y="555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-462600" y="304920"/>
            <a:ext cx="1041732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If you were free to design your own dr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house, what would that house look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If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引导的非真实条件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我要是你的话，我会立即给他打电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假如我身上带了钱的话，我就会借给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你要是早来一点的话，你就见到他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下个月我要是有时间的话，我就去休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If I were you, I would ring her up right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If I had any money with me, I could lend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If you had come a little earlier, you wou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have met hi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If I had time next month, I would have a holida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50920" y="3016080"/>
            <a:ext cx="153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83808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. So I felt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nervou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nd uncertain at fir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2133720"/>
            <a:ext cx="7238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be nervous about (doing) s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be nervous of (doing) s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2743200"/>
            <a:ext cx="8234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对做某事心中忐忑不安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为…担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害怕做某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8276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are nervous about his physical condi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was nervous of that jo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1.free—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空闲的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自由的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2947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Be free to do sth.=do sth freely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随意地或自由地做某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n one’s free time=in one’s spare time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在某人的空闲时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et……free…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释放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Free medical care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公费医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For free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免费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Free of charge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免费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Free from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不受影响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Free of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摆脱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1.free—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空闲的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自由的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每个人都可以畅所欲言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Everyone is free to express himself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他同意无偿的演唱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e agreed to sing for fre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我们多么希望不受噪音的影响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ow we wished to be free from noises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2.Design –v. 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设计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构思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计划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谋划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Design building/ to build a house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打算建房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 hopeless desig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毫无希望的计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 beautiful desig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美丽的图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By desig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故意地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蓄意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谁设计的悉尼歌剧院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Who designed the Sydney Opera Hous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3.furniture---n 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家具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 piece of furniture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一件家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Furnish—v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陈设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供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Furnish one’s house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布置某人的房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8377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4.taste—n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爱好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嗜好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鉴赏力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味道      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v.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品尝   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Link-v.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尝起来味道如何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23623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n attractive taste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诱人的味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o one’s taste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适合每人的口味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中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n good taste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雅致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, 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行为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高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ave a taste for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有…爱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aste snake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尝蛇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228600"/>
            <a:ext cx="84978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Useful 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一．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Warming-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prefer sth.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喜欢某物，爱好某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prefer sth.…to sth…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喜欢…胜过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prefer to do sth.= prefer doing sth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喜欢干某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prefer to do…rather than do.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喜欢干…胜过干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=prefer doing sth to doing s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4.taste—n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爱好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嗜好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鉴赏力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味道      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v.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品尝   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Link-v.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尝起来味道如何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这菜吃起来味道不错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dish tastes ni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这食品的味道很诱人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food has an attractive tast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她对水彩画很有鉴赏力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he shows good taste in water-colo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类似系动词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: smell, sound, feel, loo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5. Would rather—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宁愿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Would rather ( not ) do sth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宁愿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不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做某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Would rather ( not ) have done sth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宁愿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没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做过某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Would rather do sth than do sth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宁愿做…也不愿做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Would do sth. rather than do sth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宁愿做…也不愿做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Prefer to do…rather than do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喜欢做…而不愿做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5. Would rather—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宁愿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我宁可一个人去那里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 Would rather go there alon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我宁愿我没说过那话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 Would rather not have said that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我宁愿死也不愿投降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 Would rather die than give 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=I would die rather than give 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6.miss—v.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思念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错过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未击中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未得到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免于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Miss sb. terribly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非常想念某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他没接到球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 missed the ba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险些遇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Miss being kil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险些掉到河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Miss falling into the ri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没赶上影片的开头部分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 missed the first part of the fil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不明白你怎么会迷路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 wonder how you came to miss your 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7.stand—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忍受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经受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承当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忍耐情况如何或处于某种状态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倒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站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tand one’s head/f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立正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稍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tand at attention/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代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表示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主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tand for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忍受不了那个人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他说话太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 can’t stand that man; he talks too much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他忍受不了受那样的对待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 can’t stand being treated like th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u"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7.stand—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忍受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经受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承当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忍耐情况如何或处于某种状态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照目前的情况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s things now st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不经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an’t stand was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目前情况怎么样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ow do things stand at the mom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50920" y="76320"/>
            <a:ext cx="8497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prefer sb to do sth.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想某人干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would prefer that clause(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主语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+were /did)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（从句用虚拟语气）想某人干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have a preference for sth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爱好某物，喜爱某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838080"/>
            <a:ext cx="9144000" cy="45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design sth for sb/ sth.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为某人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/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某物…设计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design sth to do sth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为干…设计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a piece of furniture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一件家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have a taste for sth.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爱好某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have a taste in sth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对某物有鉴赏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81080" y="533520"/>
            <a:ext cx="9144000" cy="60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be convenient to /for sb.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对某人很方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It is convenient for sb to do sth.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对某人干某事很方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live close to sw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住在靠近…的地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stand close to sth.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靠近…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would rather do sth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愿意干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get excited about sth.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对…感到兴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848520" y="0"/>
            <a:ext cx="7561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二．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Rea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all the same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都一样，仍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have personal style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有个人风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can’t stand sth/ one’s doing sth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不能容忍某事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某人干某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take examples from nature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效仿自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have sth done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让某物被…，使…遭受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62120" y="339840"/>
            <a:ext cx="7705440" cy="66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in different styles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以不同的风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go against sth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违反，违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want sth. constructed …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想…建成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be under construction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在建设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look unnatural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看上去不合乎自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685800"/>
            <a:ext cx="914400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impress sth on sb.=impress sb.with sth.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使某人铭记某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act as sth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充当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in the choice of sth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在选择…方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in nature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在自然界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380880"/>
            <a:ext cx="9144000" cy="50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despite the fact that clause  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尽管…的事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despite sth=in spite of sth  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尽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find oneself inspired by sth  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发现自己从…中得到灵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seen/ viewed from the top 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从上面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look as if +clause  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看起来象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9T05:37:53Z</dcterms:created>
  <dc:creator>asiasys</dc:creator>
  <dc:description/>
  <dc:language>en-US</dc:language>
  <cp:lastModifiedBy>Lenovo User</cp:lastModifiedBy>
  <dcterms:modified xsi:type="dcterms:W3CDTF">2005-11-14T08:08:48Z</dcterms:modified>
  <cp:revision>75</cp:revision>
  <dc:subject/>
  <dc:title>  Unit 3  Art and architecture</dc:title>
</cp:coreProperties>
</file>