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CD7-E622-4BE9-806C-3FE24C36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6F7-94EA-4A7A-ADC9-B68940D0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6E7-906B-41FD-983F-9CD6F6B7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5452-82B6-4DA2-A736-DEFBFAEA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492A-B8F8-49E6-9949-3AC6189DF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F5C5-CD19-4F7E-BA40-F2BA656B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C4AE-68E3-441E-B17E-453F877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66C9-4CD6-4957-A8C4-162D1D6B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F8ED-1A19-464B-AD00-80AA43C4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F5F2-EFFB-4912-A89C-D0438324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14BD-A513-435D-9A60-95489A40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C86-C027-48D1-A4D8-FA91686D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0ACB-014E-4EED-8867-BDC022EA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C841-86DD-49FB-83A2-93E58443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35E6-0D5A-4520-9F7D-2BA24DB8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3337-88AF-4AF3-97D5-66D69097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49A5-E825-46E1-8409-E45849AF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96D-62E2-489C-AC3F-F634E39A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FCBE-C435-47C3-92E6-993C0033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13B-7361-47A4-A166-832EFAB8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3DB-E6D6-4D4C-820E-6A4B5666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234-F0D2-4B3E-8001-8B0AC6C7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1AB-7D3A-4C13-8468-210C903C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053-BD16-4717-ABB3-BD88F77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A772-633B-4E89-B0C6-A538C8EC14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7EAA-09EC-4D35-98B8-9F1ED90E08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xnw.com.cn/nyqx/images/nq-gh.jpg&amp;imgrefurl=http://www.nxnw.com.cn/nyqx/nyqx.htm&amp;h=187&amp;w=172&amp;sz=7&amp;tbnid=dCGZvfjSsQQJ:&amp;tbnh=96&amp;tbnw=88&amp;start=15&amp;prev=/images%3Fq%3D%25E5%25B9%25B2%25E6%2597%25B1%26hl%3Dzh-CN%26lr%3D%26ie%3DUTF-8%26newwindow%3D1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125360"/>
            <a:ext cx="7848720" cy="32864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.4  </a:t>
            </a:r>
            <a:r>
              <a:rPr b="1" lang="en-US" sz="9600" spc="-1" strike="noStrike">
                <a:solidFill>
                  <a:srgbClr val="ffff00"/>
                </a:solidFill>
                <a:latin typeface="Freestyle Script"/>
              </a:rPr>
              <a:t>Language points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417080" cy="2966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228600"/>
            <a:ext cx="8893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在人群中很突出，因为他身高两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 stands out in the crowd, for he is two meters  hig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y stood out till victory.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他们坚持到胜利。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56720" y="5562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2920" y="0"/>
            <a:ext cx="88930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2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atur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[Cn]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征，特点；面貌的一部分；相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中国的地理特征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at are the geographical features of Ch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房子最好的特点就是那个漂亮的阳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best feature of the house is the beautiful balco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mouth is her worst fe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她五官中嘴最难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leasing feature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讨人喜欢的相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80160" y="5334120"/>
            <a:ext cx="1563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84120"/>
            <a:ext cx="8820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3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llow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v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遵循；听从；注视；领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你为什么没有听老师的建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y didn’t you follow the teacher’s ad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们密切注意形势的发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y closely followed the development of the sit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的讲座很难听得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is lecture was very difficult to fo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4952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91520" y="5667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8280"/>
            <a:ext cx="8461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4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that is now difficul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underst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修饰形容词作表语的不定式常用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主动表被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e.g.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I think romantic poetry will be very nice to re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足球赛很有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ootball match is interesting to wat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m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很难相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m is difficult to get along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43800" y="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8893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around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the time of ---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ward(s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快天亮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wards da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---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famous for his pl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没有定冠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不表最高级，只表示“极、很、十分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.g.  She is a most beautiful gir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457200"/>
            <a:ext cx="7619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会见在极友好的气氛中进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procee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meeting proceeded in a most friendly atmosp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5920"/>
            <a:ext cx="8839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6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“属于、应归于”时，常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再加宾语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栋房子属于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s house belongs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 “应被放置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合适、适用”时，多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his chair belongs in the corner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把椅子应该放在角落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0"/>
            <a:ext cx="17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.Once published ,his works became famous for th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bsen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rhyme at the end of each lin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623960"/>
            <a:ext cx="86868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在，缺席；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 /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，缺少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1240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很快注意到他缺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88620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soon noticed hi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4648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在时规矩一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410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have yourself during my abs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295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ain caused the plants to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362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.     absen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席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437000"/>
            <a:ext cx="1523880" cy="198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3505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body is absent to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23840" y="996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2060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05000"/>
            <a:ext cx="79200" cy="719280"/>
          </a:xfrm>
          <a:custGeom>
            <a:avLst/>
            <a:gdLst>
              <a:gd name="textAreaLeft" fmla="*/ 50760 w 79200"/>
              <a:gd name="textAreaRight" fmla="*/ 79560 w 792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.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7000" y="45720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英文诗歌传入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7029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ion + of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作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2209680"/>
            <a:ext cx="9829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 interested to do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== be interested in doing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. Translation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e good, but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an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 “理论上的可能性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验丰富的教师也可能会犯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ven experienced teacher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make 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2. 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304920"/>
            <a:ext cx="859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.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 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 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438280"/>
            <a:ext cx="798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pen the do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sth./ doing s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创造条件” “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门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好英语为将来找好工作创造了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ning English well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 door to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good job in the fu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1700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ght up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照亮，点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861048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. Quietly, we embr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worl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t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y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3434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ed (up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 cigarette before spe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590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可省略；表”照亮“时，一般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5812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说话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点燃了一根烟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814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照亮了我的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199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ou have lighted up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4096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come into being 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事物，局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成， 成立，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209680"/>
            <a:ext cx="79200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We do not know when the universe first came into be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73454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n did the first railway come into being in Chin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0384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什么时候有的第一条铁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479736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0492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440"/>
            <a:ext cx="91440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ing A and B togethe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会聚到一块儿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解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loss of their son brought the parents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现代通讯技术能使世界各地的人都会集在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dern technology of communication can __________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59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ring the people from all over the world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631800"/>
            <a:ext cx="88934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)more than: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not only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此句中意为 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胜过于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的表演非常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远远不止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以说是完美的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r performance_____________________; it was 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-31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1814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s more than 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1905120"/>
            <a:ext cx="1143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玩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6162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---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逗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2578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可以利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28600"/>
            <a:ext cx="15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pla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edians often play with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have no brother at home to play wi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urry up!We have little time to play wit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0160"/>
            <a:ext cx="8893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还能汇集梦幻世界中的一切色彩、感情、经历和各种奇妙的意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l up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汇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召唤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唤起对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回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电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747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歌让我忆起了旧时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is song makes me call up old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晚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我给你打电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’ll call you up at 7 tomorrow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609480"/>
            <a:ext cx="889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.g. Our daughter is a good dancer. She stands out above the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： 那帽子因为奇特而引人注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hat stood out because of its strange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31T16:16:20Z</dcterms:created>
  <dc:creator>余幽趣</dc:creator>
  <dc:description/>
  <dc:language>en-US</dc:language>
  <cp:lastModifiedBy>jinma</cp:lastModifiedBy>
  <dcterms:modified xsi:type="dcterms:W3CDTF">2005-11-13T16:14:03Z</dcterms:modified>
  <cp:revision>66</cp:revision>
  <dc:subject/>
  <dc:title>拿来主义</dc:title>
</cp:coreProperties>
</file>