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3361-48C6-4175-8C14-3BA3CDBF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1BBF-3399-4094-899C-D0E847B4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9D1-FB0B-4008-8961-4915B925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4111-F5F0-4473-951B-88A08A90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310-5E9C-4BF2-910B-1FA31815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F56-1367-4EE8-A3B7-F5F6269B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72A-8700-4D95-94E6-E3B1F502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AB8-6B01-4573-91CD-4892F642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AB9-223B-4295-92AA-9B256986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9739-1E66-4DE5-B36D-FFA36CB4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B71-29E4-405F-8874-6FF26CF0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1D1-729E-4546-845F-C5408F7E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A40A-4797-4947-869F-3317D038B4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2971800"/>
            <a:ext cx="6858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Impact"/>
              </a:rPr>
              <a:t>The British Isles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1600200"/>
            <a:ext cx="2438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68686"/>
                  </a:outerShdw>
                </a:effectLst>
                <a:latin typeface="Impact"/>
              </a:rPr>
              <a:t>Unit 5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320" y="303120"/>
            <a:ext cx="891540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 consist of = include, be made up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…组成　（不可用进行时态）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水由氢和氧组成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ater consists of hydrogen and oxy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本书包括十个单元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is book consists of ten un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教育不仅仅在于传授大量知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Education doesn’t consist simply in teaching a lot of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30040"/>
            <a:ext cx="9144000" cy="80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真正的友谊在于帮助处于困境中的朋友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friendship consists in helping a friend in his n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的言行应该一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Your actions should consist with / in your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理论应与实践相结合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ory should consist with pract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. have chance of doing sth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有…可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有成为导演的可能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has a chance of becoming a dir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44520"/>
            <a:ext cx="9144000" cy="64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今天碰巧见到了你哥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had a chance of meeting your brother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. have an advantage over/ have the ~ of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胜过，优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ake advantage of = make use of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利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肯动脑筋的人总能胜过别人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man who can think will always have an advantage over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有健康的强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has the advantage of good heal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173160"/>
            <a:ext cx="8686800" cy="60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别乘虚而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Don’t take advantage of others’ weak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应该好好利用一切机会，在英语学习中取得进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should take advantage of all the opportunities and try to make progress in English stu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must _____ good use of our time to learn our subject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. take     B. have      C. make       D.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724280"/>
            <a:ext cx="1219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28600"/>
            <a:ext cx="9144000" cy="66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reach ( come to, make, arrive at ) an agreement on sth. with s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．．．上与某人达成协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 agreement on/ upon/ about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．．．意见一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于那一点应该与那家公司达成协议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agreement should be reached immediately with the company on that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们在这个计划上意见还是不一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are not in agreement about the pla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’ll never agree _____ what he said ____ that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with; with  B. with; on  C. on; on  D. on;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334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80880"/>
            <a:ext cx="91440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sand for = represent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代表（不用被动语态）主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RC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代表中华人民共和国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RC stands for the People’s Republic of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代表邮局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O stands for Post Off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28600"/>
            <a:ext cx="91440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 the fact that …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是一个同位语从句，表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fac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内容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同位语从句是对与之同位的名词中心词作进一步解释．常见名词有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dea, fact, news, belief, hope, opinion, problem, truth, answer, proposal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建议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 decision, promise, thought, possibility , doubt, chance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连词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at, whether, how, when, where, why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不知道杰克什么时候回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have no idea when Jack will be 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不怀疑他是最好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re is no doubt that he is the best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无法回答这笔钱他是怎样得到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can’t answer the question how he got the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：同位语从句和定语从句的区别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表达了他们曾经表示过的那种希望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expressed the hope (that ) they had expre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表示希望他们再来中国访问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expressed the hope that they would come to visit China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52280"/>
            <a:ext cx="8915400" cy="73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make the most of = make the best o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充分利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要充分利用时间来学习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should make the most of out time to stu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农民们要充分利用这样的好天气来收获庄稼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armers should make the most of the fine weather to get in the cr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要尽量利用我们在这里的这段时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should try to make the best of our stay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的假期很短，好好利用吧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ou have only a short holiday, so make the most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457200"/>
            <a:ext cx="899172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4. hold together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使团结一致，连在一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夫妇往往为了孩子的需要维持婚姻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The needs of the children often hold a marriage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请用大头针把两页纸别在一起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Please use a pin to hold the 2 pages toget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5. Lie in / lie to / lie on / lie of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2536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Within Great Britain for many years now, t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s been a growing movement to 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its cultural diver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The largest island is called Britain, whic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parated from France by the English Channe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ich _____________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一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is only 20 miles w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They realize that it is 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常有价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record and teach them to the younger gen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9414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ke the mos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730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one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5284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f grea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282600"/>
            <a:ext cx="8991720" cy="63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6. at one point 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一度，在某处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= at one ti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我们一度是同学．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We were classmates at one point / tim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舞会进行中，她一度伤过脚．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At one point of the party, she got her foot hur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会议上她一度几乎要大发雷霆．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She nearly lost her temper at one point in the meeting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320" y="228600"/>
            <a:ext cx="8991360" cy="66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in general = generally speaking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体上，一般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言（用作插入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多数女人都喜欢买新衣服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men in general like to buy new clot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 the whol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的说来     　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s a rul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the most cases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情况下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a few words/ in shor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简而言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换句话说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a sen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某重意义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summar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概括地说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my view/ opin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看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the first pla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首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11040"/>
            <a:ext cx="9144000" cy="77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end up with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．．．结束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art/ begin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晚会在流行歌曲中结束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party ended up with a popular song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信尾他祝全家好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ended his letter up with good wishes to his fam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最后吃水果和咖啡结束晚餐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ended the dinner up with fruit and coff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f you go on stealing things, you’ll ______ in priso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end up  B. end up with   C. be ended up   D. be ended up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50594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52280"/>
            <a:ext cx="9144000" cy="354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9. consider : think carefully about sth.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)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考虑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+ n./ do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+how / what 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sider   + that/ wh-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990720"/>
            <a:ext cx="381240" cy="1676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016080"/>
            <a:ext cx="8610480" cy="452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经常考虑别人的感受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always considers the feelings of other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们开始考虑怎样利用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y began to consider what use could be made of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320" y="380880"/>
            <a:ext cx="89154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考虑应当如何回答这些问题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considered how he should answer th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在考虑改变主意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is considering changing his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是否考虑过如何去那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ave you considered how to get t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得考虑用什么材料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have to consider what material to u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320" y="168120"/>
            <a:ext cx="8915400" cy="318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)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认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= regard as / think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at cl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sider     sb/sth to be + adj./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sb. As +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91440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2682720"/>
            <a:ext cx="8839440" cy="499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认为那消息不正确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consider that the news was fa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认为他是我最好的朋友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consider him (to be)/ as my best fri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的意见被认为是宝贵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Our opinion was considered to be valu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272880"/>
            <a:ext cx="883944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0. judge n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法官，裁判员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vt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判断，认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=cons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无法判断她是否说实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couldn’t judge whether she was telling the tru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不该以貌取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You can’t judge a person by his appea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认为他诚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judge him to be hon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380880"/>
            <a:ext cx="9144000" cy="57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judging from/ by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独立成分  “从…看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从他所说的话判断，他一定是个诚实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Judging from /by what he said, he must be an honest m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听他的口音，他一定是河南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Judging from/by his accent, he must be from Hen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222120"/>
            <a:ext cx="8686800" cy="74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11. be on a diet / go on a diet 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节食，吃限定食物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正在节食的人不能吃巧克力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People who are on a diet mustn’t have chocolat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她在一星期前开始节食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She went on a diet a week ago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这病人的饮食有限制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The patient is on a die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123840"/>
            <a:ext cx="8991720" cy="68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ki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2. the (great ) number of… is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表…的巨大数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学校的学生数目已增加到大约四千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number of the students in our school has increased to about 4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表示“许多”可分为三类：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修饰可数名词复数形式，谓语动词用复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any, a good/ great many, quite a few, a large(great)/ small number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great number of new factories have been set up in my homet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776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776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There could be 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多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只羊）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ed within six mile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alisbury , measuring every way round a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wn in the cen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The cathedral 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而出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height of itstower, which is 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疑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highest and the  most handsome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ngland being from the ground 404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3477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 many as six hundred thous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03356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39290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famou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47545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dou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320" y="266760"/>
            <a:ext cx="8915400" cy="71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饰不可数名词，谓语动词用单数形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deal of, quite a little, much, an amount of = amount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has spent a large amount of money on his new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deal / Quite a little has been done to stop the no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)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饰可数或不可数名词，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lot of / lots of, plenty of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用肯定，否定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u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疑问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noug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quantity of + n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谓语用单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quantities of +n.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谓语用复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320" y="450720"/>
            <a:ext cx="899136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great quantity of flour 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面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/ apples has been taken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3. as far as (20 miles 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远到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far as I know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据我所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many / few + c.n + as/ as many as (60books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much as 50 tones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long as 3 metres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长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high as 10 metres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高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280" y="0"/>
            <a:ext cx="89154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4. measure n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尺寸，措施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测量，经过，仔细考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应该按照你自己的尺寸制作衣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You should make clothes to your own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必须采取强硬的措施来防止污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must take strong measures to prevent the pol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教室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宽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classroom measures 5 metres wide ( across) and 7 metres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89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们每天必须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英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must measure 20 mile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她总是努力工作，并不考虑自己的健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 always works hare and doesn’t measure her own heal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. join sth. together / u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，接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oin A to B ( by sth.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nnect … with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联结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parate …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了举晚会，他们把书桌连接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joined the desks together so as to have a par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899172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可以用一条直线把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联结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can join point A to point B with a straight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岛上有座桥与大陆相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island is joined to main land by a bri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铁路把两座城市连接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railway connects the two cities. / A with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好学生必须把学到的知识与周围看到的事物联系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ood student must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what he read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th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e sees around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969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给我接北京大学。 （电话用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nect me with Beijing Univer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村里发出的早班车与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05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火车衔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early bus from the village connects with the 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05 t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6. employ sb.(as…)/ + prep./ phrase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雇佣， 利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使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个四星级酒店聘用的女孩比男孩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four-star hotel employs more girls than bo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49120"/>
            <a:ext cx="9144000" cy="81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们聘用你在我们学校当英语老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We shall employ you as an English teacher in our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他们聘用了两个人来收获庄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They employed two men for the harv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们的老师总是合理使用时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Our teacher always employs his time very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1740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mploy oneself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事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格林先生正忙于写一篇长篇小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r. Green is employing himself in writing a long nov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清洁工正在花园除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cleaner is employing herself in weeding the gar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r hometown is an _______county. It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rrounded by mountains with fresh air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ear rivers and streams. It is rich in na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ources and_______ ___10 towns. 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 the government of our coun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e making every effort to______its peo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and attract the Chinese foreign j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anies to_____ _____ ___its natural re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4382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nsist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876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5821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ke  most 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ope next year all of you can be admit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universities and have a company of your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he fu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1752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Then, through a deep channel they _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some gardens, and _____ to Christchurch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the s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 But I want to tell the reader that these hill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ields are most beautiful, ______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有很多清澈的小河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d rich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生长着水果和粮食的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317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low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07964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1020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38988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ith many small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4645080"/>
            <a:ext cx="251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ear ri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33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ring fruit and g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8991720" cy="70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name v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)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名、给…命名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 give a name to )   name sb sth ( after\ for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的祖父给他取名叫詹姆斯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is grandfather names him J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以自己祖母的名字为女儿取名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named his daughter after his grand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叫出…名字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tell the 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能举出多少国家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ow many countries can you 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8600"/>
            <a:ext cx="9144000" cy="71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田里有好多花我叫不出名字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any of the flowers in the fields I can’t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指命、任命　（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hoose, appoint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都选他当班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all named him (as ) moni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们已选定元旦结婚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y have named New Year as their wed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a matter of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个… 的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是一个职责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 is a matter a du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把这件事看得很严重，这是一个责任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takes this seriously. It is a matter of princ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警察抓住他只是时间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’s only a matter of time before the police get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52280"/>
            <a:ext cx="891540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 confusing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令人糊涂的，使人混乱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fused  (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人感到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糊涂的，混乱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fuse sb ( with sth 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使…糊涂／混淆　　把…和…弄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＝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ix up in mind, mi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路标司机弄糊涂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road signs confused the driv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问了我许多问题，把我都弄糊涂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asked so many questions that I got confu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304920"/>
            <a:ext cx="89154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总是分不清格林先生和怀特先生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always confuse Mr. Green with Mr.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因犯了错而不知所措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was confused with his mist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_______ by his sudden appearance, I had no idea what to do wit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fusing              B. Confused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. Confuse                 D. Con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200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2:12:18Z</dcterms:created>
  <dc:creator>csms</dc:creator>
  <dc:description/>
  <dc:language>en-US</dc:language>
  <cp:lastModifiedBy>jinma</cp:lastModifiedBy>
  <dcterms:modified xsi:type="dcterms:W3CDTF">2005-11-16T08:33:46Z</dcterms:modified>
  <cp:revision>33</cp:revision>
  <dc:subject/>
  <dc:title>PowerPoint 演示文稿</dc:title>
</cp:coreProperties>
</file>