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4.png" ContentType="image/png"/>
  <Override PartName="/ppt/media/image5.png" ContentType="image/png"/>
  <Override PartName="/ppt/media/image6.gif" ContentType="image/gif"/>
  <Override PartName="/ppt/media/image7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9293-318B-4E27-B892-8E038FD2F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C11A-F0B1-499E-ADF2-2BB33BF41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8A2B-C4E9-4E4F-BC59-9DE126B25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CF2C-DF78-4443-BBFF-A31062CC7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7BE7-878F-4A6B-BB7B-F06E156C4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B15E-3453-44BA-9DF2-CBA840087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D01D-A397-4AC4-B8CD-830328C8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1F27-A216-4415-901B-24DF754E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02C4-BE12-45AA-BA1D-46E5BE35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738D-E0D7-4BE8-8952-406916303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0C4B-1825-4E8E-B36E-EFB54C797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F873-94A7-4E6B-BE12-0F0542B11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2880" indent="-2286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B7A29-F7B7-4F53-9F00-6134C746FBF1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2209680" y="1600200"/>
            <a:ext cx="64008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unit 6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in the future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962520" y="3657600"/>
            <a:ext cx="25398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7772400" cy="5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glimpse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630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993366"/>
                </a:solidFill>
                <a:latin typeface="Times New Roman"/>
              </a:rPr>
              <a:t>n.</a:t>
            </a:r>
            <a:r>
              <a:rPr b="0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瞥见</a:t>
            </a:r>
            <a:r>
              <a:rPr b="0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,</a:t>
            </a:r>
            <a:r>
              <a:rPr b="0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一瞥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隶书"/>
              </a:rPr>
              <a:t>catch /get/have a glimpse of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I only caught a glimpse of the thief, so I can’t really describe hi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eg.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他一眼瞥见远处的汽车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He caught a glimpse of a car in the distan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他在人群中瞥见了她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He caught a glimpse of her in the crow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77724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glimpse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630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v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I glimpsed her among the crowd just before she disappeared from sigh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就在她消失前的一杀那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,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我在人群中瞥见了她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971800" y="-36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major/main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6858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Major: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指“较大的，较重要的”。它虽含有比较的意思，但无比较级，不与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than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连用。多用做定语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19051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Main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指“主要的，最重要的”，无比较级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646360"/>
            <a:ext cx="914400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例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1,The car needs _______ repai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2,Our _______meal is in the even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3,Note down the _______ points of the spee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4,There has been a _______ improvement in his wor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91120" y="25909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maj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35053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m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43400" y="4267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m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09680" y="480060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48320" y="56386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maj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772400" cy="54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contemporary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85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400" spc="-1" strike="noStrike">
                <a:solidFill>
                  <a:srgbClr val="993366"/>
                </a:solidFill>
                <a:latin typeface="Times New Roman"/>
              </a:rPr>
              <a:t>adj.</a:t>
            </a:r>
            <a:r>
              <a:rPr b="0" lang="zh-CN" sz="3400" spc="-1" strike="noStrike">
                <a:solidFill>
                  <a:srgbClr val="993366"/>
                </a:solidFill>
                <a:latin typeface="隶书"/>
                <a:ea typeface="隶书"/>
              </a:rPr>
              <a:t>属于该时代或该时期</a:t>
            </a:r>
            <a:r>
              <a:rPr b="0" lang="zh-CN" sz="3400" spc="-1" strike="noStrike">
                <a:solidFill>
                  <a:srgbClr val="993366"/>
                </a:solidFill>
                <a:latin typeface="隶书"/>
                <a:ea typeface="隶书"/>
              </a:rPr>
              <a:t>,</a:t>
            </a:r>
            <a:r>
              <a:rPr b="0" lang="zh-CN" sz="3400" spc="-1" strike="noStrike">
                <a:solidFill>
                  <a:srgbClr val="993366"/>
                </a:solidFill>
                <a:latin typeface="隶书"/>
                <a:ea typeface="隶书"/>
              </a:rPr>
              <a:t>属于同一时代</a:t>
            </a:r>
            <a:r>
              <a:rPr b="0" lang="zh-CN" sz="3400" spc="-1" strike="noStrike">
                <a:solidFill>
                  <a:srgbClr val="993366"/>
                </a:solidFill>
                <a:latin typeface="隶书"/>
                <a:ea typeface="隶书"/>
              </a:rPr>
              <a:t>;</a:t>
            </a:r>
            <a:r>
              <a:rPr b="0" lang="zh-CN" sz="3400" spc="-1" strike="noStrike">
                <a:solidFill>
                  <a:srgbClr val="993366"/>
                </a:solidFill>
                <a:latin typeface="隶书"/>
                <a:ea typeface="隶书"/>
              </a:rPr>
              <a:t>当代的</a:t>
            </a:r>
            <a:r>
              <a:rPr b="0" lang="zh-CN" sz="3400" spc="-1" strike="noStrike">
                <a:solidFill>
                  <a:srgbClr val="993366"/>
                </a:solidFill>
                <a:latin typeface="隶书"/>
                <a:ea typeface="隶书"/>
              </a:rPr>
              <a:t>,</a:t>
            </a:r>
            <a:r>
              <a:rPr b="0" lang="zh-CN" sz="3400" spc="-1" strike="noStrike">
                <a:solidFill>
                  <a:srgbClr val="993366"/>
                </a:solidFill>
                <a:latin typeface="隶书"/>
                <a:ea typeface="隶书"/>
              </a:rPr>
              <a:t>现代的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3400" spc="-1" strike="noStrike">
                <a:solidFill>
                  <a:srgbClr val="000000"/>
                </a:solidFill>
                <a:latin typeface="隶书"/>
                <a:ea typeface="隶书"/>
              </a:rPr>
              <a:t>eg: </a:t>
            </a:r>
            <a:r>
              <a:rPr b="1" lang="zh-CN" sz="3400" spc="-1" strike="noStrike">
                <a:solidFill>
                  <a:srgbClr val="000000"/>
                </a:solidFill>
                <a:latin typeface="隶书"/>
                <a:ea typeface="隶书"/>
              </a:rPr>
              <a:t>Dickens was contemporary with Thackeray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3400" spc="-1" strike="noStrike">
                <a:solidFill>
                  <a:srgbClr val="000000"/>
                </a:solidFill>
                <a:latin typeface="隶书"/>
                <a:ea typeface="隶书"/>
              </a:rPr>
              <a:t>狄更斯和萨克莱属于同一时代</a:t>
            </a:r>
            <a:r>
              <a:rPr b="0" lang="zh-CN" sz="34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3400" spc="-1" strike="noStrike">
                <a:solidFill>
                  <a:srgbClr val="000000"/>
                </a:solidFill>
                <a:latin typeface="隶书"/>
                <a:ea typeface="隶书"/>
              </a:rPr>
              <a:t>contemporary events/building</a:t>
            </a:r>
            <a:r>
              <a:rPr b="0" lang="zh-CN" sz="3400" spc="-1" strike="noStrike">
                <a:solidFill>
                  <a:srgbClr val="000000"/>
                </a:solidFill>
                <a:latin typeface="隶书"/>
                <a:ea typeface="隶书"/>
              </a:rPr>
              <a:t>当代的事件</a:t>
            </a:r>
            <a:r>
              <a:rPr b="0" lang="zh-CN" sz="34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0" lang="zh-CN" sz="3400" spc="-1" strike="noStrike">
                <a:solidFill>
                  <a:srgbClr val="000000"/>
                </a:solidFill>
                <a:latin typeface="隶书"/>
                <a:ea typeface="隶书"/>
              </a:rPr>
              <a:t>建筑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85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400" spc="-1" strike="noStrike">
                <a:solidFill>
                  <a:srgbClr val="993366"/>
                </a:solidFill>
                <a:latin typeface="隶书"/>
                <a:ea typeface="隶书"/>
              </a:rPr>
              <a:t>n.</a:t>
            </a:r>
            <a:r>
              <a:rPr b="0" lang="zh-CN" sz="3400" spc="-1" strike="noStrike">
                <a:solidFill>
                  <a:srgbClr val="993366"/>
                </a:solidFill>
                <a:latin typeface="隶书"/>
                <a:ea typeface="隶书"/>
              </a:rPr>
              <a:t>同时期的人</a:t>
            </a:r>
            <a:r>
              <a:rPr b="0" lang="zh-CN" sz="3400" spc="-1" strike="noStrike">
                <a:solidFill>
                  <a:srgbClr val="993366"/>
                </a:solidFill>
                <a:latin typeface="隶书"/>
                <a:ea typeface="隶书"/>
              </a:rPr>
              <a:t>;</a:t>
            </a:r>
            <a:r>
              <a:rPr b="0" lang="zh-CN" sz="3400" spc="-1" strike="noStrike">
                <a:solidFill>
                  <a:srgbClr val="993366"/>
                </a:solidFill>
                <a:latin typeface="隶书"/>
                <a:ea typeface="隶书"/>
              </a:rPr>
              <a:t>同辈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3400" spc="-1" strike="noStrike">
                <a:solidFill>
                  <a:srgbClr val="000000"/>
                </a:solidFill>
                <a:latin typeface="隶书"/>
                <a:ea typeface="隶书"/>
              </a:rPr>
              <a:t>She and I were contemporaries at college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3400" spc="-1" strike="noStrike">
                <a:solidFill>
                  <a:srgbClr val="000000"/>
                </a:solidFill>
                <a:latin typeface="隶书"/>
                <a:ea typeface="隶书"/>
              </a:rPr>
              <a:t>她和我在大学是同学</a:t>
            </a:r>
            <a:r>
              <a:rPr b="0" lang="zh-CN" sz="34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3000"/>
            <a:ext cx="8305920" cy="698760"/>
          </a:xfrm>
          <a:prstGeom prst="rect">
            <a:avLst/>
          </a:prstGeom>
          <a:solidFill>
            <a:srgbClr val="c9ddf1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.amaze/astonish/surprise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99072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三个词都有“使……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吃惊“的意思，在句型结构上有相同之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22860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）作及物动词，以“事物过它人”作主语。以”人“做宾语，表示“使……吃惊”。例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The news surprised/amazed/astonished 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4495680"/>
            <a:ext cx="83818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2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用现在分词作定语，表示“令人吃惊的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例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The new plane goes at an surprising/amazing/astonishing spe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484200"/>
            <a:ext cx="9144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3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用过去分词作定语或表语，表示“感到吃惊的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例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He was surprised/amazed/astonished at she new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6320" y="370188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从意义上看，第二和第三“吃惊”的程度不同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5087880"/>
            <a:ext cx="8915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surprise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含意较弱，仅表示出乎意料之外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例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I’m surprised that you think this wa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228600"/>
            <a:ext cx="915336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5)amaze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强调“使惊讶”，有时还有“惊叹”“佩服”之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例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Your answer simply amazed 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We were amazed at the ingenuity with which they overcome their difficul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3979800"/>
            <a:ext cx="82296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6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astonish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表示“大吃一惊，几乎无法使人相信”的意味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例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He astonish us by announcing that was going to be married in a few day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04920" y="2286000"/>
            <a:ext cx="784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720900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5.ensure vt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使一定得到，保证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905120"/>
            <a:ext cx="868680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例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1.He wrote a poem which ensured his undying fa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2.Come early to ensure that you catch the plane,take a tax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5410080"/>
            <a:ext cx="8381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51814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Ensure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可接宾语或双宾语，也可接动名词作宾语或宾语从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8480" y="134640"/>
            <a:ext cx="88851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6,Keep in touch with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同……保持联系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280" y="865080"/>
            <a:ext cx="89917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） 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Keep in touch with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同……保持联系，前不加冠词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tou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例：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We have not seen each other since he left here, but I have  always kept in touch with hi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3944880"/>
            <a:ext cx="8610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3625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Bring sb.into touch with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5392800"/>
            <a:ext cx="8153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Get in/into touch with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Come in touch wi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2120" y="449568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使某人与……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接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86400" y="58183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与……取得联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124080" y="3868560"/>
            <a:ext cx="160020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3868560"/>
            <a:ext cx="144792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2895480" y="4402080"/>
            <a:ext cx="190512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124080" y="3868560"/>
            <a:ext cx="167652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5697360"/>
            <a:ext cx="685800" cy="990720"/>
          </a:xfrm>
          <a:custGeom>
            <a:avLst/>
            <a:gdLst>
              <a:gd name="textAreaLeft" fmla="*/ 0 w 685800"/>
              <a:gd name="textAreaRight" fmla="*/ 247680 w 6858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87080" y="685440"/>
            <a:ext cx="83516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6. Keep in touch with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同……保持联系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3657600"/>
            <a:ext cx="8610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520" y="17524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lose  touch wi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31687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Be out of touch wi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648320" y="1752480"/>
            <a:ext cx="2133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失去联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24280" y="3124080"/>
            <a:ext cx="41911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与……没有联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6320" y="-457200"/>
            <a:ext cx="8915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.A good example of ___________________ _________is the new maglev trai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.__________ that things will chang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.We don’t think about the world and rea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______________ you did eith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19720" y="12060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how transportation 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320" y="609480"/>
            <a:ext cx="23619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chang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7524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It is cert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33526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in the same w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3434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.If we learn to accept change and appreci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_____________________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新而不同的东西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) 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we will _________________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为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做好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备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whatever the  future may have in sto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76520" y="541008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be well- prepared fo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280" y="484488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hat is new and differ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9880" y="228240"/>
            <a:ext cx="8885160" cy="6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a3d7a"/>
                </a:solidFill>
                <a:latin typeface="Times New Roman"/>
              </a:rPr>
              <a:t>7.Necessity  n. </a:t>
            </a:r>
            <a:r>
              <a:rPr b="1" lang="zh-CN" sz="3600" spc="-1" strike="noStrike">
                <a:solidFill>
                  <a:srgbClr val="2a3d7a"/>
                </a:solidFill>
                <a:latin typeface="Times New Roman"/>
              </a:rPr>
              <a:t>必要性，必须性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914400"/>
            <a:ext cx="8915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necessity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作“必要性”解时是不可数名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作“必须性”解时是可数名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-76320" y="2362320"/>
            <a:ext cx="769644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Food and clothing are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necessity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2)Large masses of the people lack the necessities of lif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3)Necessity is the mother of inven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4)Is there any necessity for another election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705720" y="23623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可数名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934320" y="32004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可数名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010280" y="460224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不可数名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057400" y="59436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不可数名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58480" y="304560"/>
            <a:ext cx="8885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pay attention to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注意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2280" y="1447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）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pay attention to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中的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TO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介词，后接名词和动名词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ttentio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不可数名词该词组可用于被动语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4920" y="3505320"/>
            <a:ext cx="883908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1.I advise you to lay more attention to recording new uses of old word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2.He paid much attention to his pronunci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5335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2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注意下面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ttentio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的搭配用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600" y="19638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ttract/catch one’s att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7255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ive one’s attention 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356400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vote attention 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44784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x  one’s attention 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91320" y="196380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吸引……注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91320" y="2860560"/>
            <a:ext cx="2209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注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791320" y="3622680"/>
            <a:ext cx="25905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注意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91320" y="4478400"/>
            <a:ext cx="3429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注意力集中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4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3353040" cy="685800"/>
          </a:xfrm>
          <a:prstGeom prst="rect">
            <a:avLst/>
          </a:prstGeom>
          <a:solidFill>
            <a:srgbClr val="c3e684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9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，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certain/sure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132084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Sure/certain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都有“确信，有把握”的意思，两者在句型结构中有许多相同之处，的语气稍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6943680"/>
            <a:ext cx="228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0" y="6943680"/>
            <a:ext cx="220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34320" y="2311560"/>
            <a:ext cx="2209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42160" y="278460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438280" y="292104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不同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2120" y="3911760"/>
            <a:ext cx="74674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Certain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可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it is certain+that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sure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不可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一定，有把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04920" y="655560"/>
            <a:ext cx="883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Sure/certain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都有“确信，有把握”的意思，两者在句型结构中有许多相同之处，的语气稍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0" y="1722600"/>
          <a:ext cx="9144000" cy="5047920"/>
        </p:xfrm>
        <a:graphic>
          <a:graphicData uri="http://schemas.openxmlformats.org/drawingml/2006/table">
            <a:tbl>
              <a:tblPr/>
              <a:tblGrid>
                <a:gridCol w="711360"/>
                <a:gridCol w="4775040"/>
                <a:gridCol w="3657600"/>
              </a:tblGrid>
              <a:tr h="58140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6" name=""/>
          <p:cNvSpPr/>
          <p:nvPr/>
        </p:nvSpPr>
        <p:spPr>
          <a:xfrm>
            <a:off x="4572000" y="6964200"/>
            <a:ext cx="228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0" y="6964200"/>
            <a:ext cx="2209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934320" y="2332080"/>
            <a:ext cx="22096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42160" y="285768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19320" y="3855960"/>
            <a:ext cx="3581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2120" y="18748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e sure/certain of(about sth)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确信，有把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38080" y="2560680"/>
            <a:ext cx="830592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be sure/certain to do sth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一定（表示说话人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看法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66680" y="385596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be sure/certain+that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从句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相信，确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14400" y="46180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do sth for sure/certain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肯定，确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62120" y="560880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be not sure /certain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无把握，不敢肯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14400" y="614196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make sure/certain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弄清，查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4496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9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，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ertain/sur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180200" cy="92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10.Cheat/deceive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9144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hea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指为了占别人的便宜而采取用不诚实的手段进行欺骗，常用句型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heat sb(out) of sth. deceiv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指蓄意歪曲事实造成的错误印象，以达到个人目的。在被动句中常有“被弄错”的意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2895480"/>
            <a:ext cx="91440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Tom ________at the examination,but the teacher was not 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That was simply a blind designed  to_______ the  enem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I was _______ in his apparent compet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The boy _______ his friend (out) his app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90720" y="2666880"/>
            <a:ext cx="7848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heated                            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ecei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400800" y="414504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ece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19320" y="53341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ecei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28800" y="60199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h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158400"/>
            <a:ext cx="9144000" cy="69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search, search for, search…for, in search of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844200"/>
            <a:ext cx="9144000" cy="616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隶书"/>
              </a:rPr>
              <a:t>search </a:t>
            </a:r>
            <a:r>
              <a:rPr b="1" i="1" lang="zh-CN" sz="3600" spc="-1" strike="noStrike">
                <a:solidFill>
                  <a:srgbClr val="990033"/>
                </a:solidFill>
                <a:latin typeface="Times New Roman"/>
                <a:ea typeface="隶书"/>
              </a:rPr>
              <a:t>vt.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隶书"/>
              </a:rPr>
              <a:t> search sb.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隶书"/>
              </a:rPr>
              <a:t>搜某人的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隶书"/>
              </a:rPr>
              <a:t>             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隶书"/>
              </a:rPr>
              <a:t>search a place 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隶书"/>
              </a:rPr>
              <a:t>搜某个地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The policeman is searching a thief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search…for sb./sth. 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搜…寻找某人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/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They searched the woods for a lost chil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search for sb./sth. 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搜寻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,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寻找某人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/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They searched for that man everywhe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in search of 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中的为名词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, “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寻找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;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寻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They went to Australia in search of gol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217440"/>
            <a:ext cx="7772400" cy="6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3300"/>
                </a:solidFill>
                <a:latin typeface="Times New Roman"/>
                <a:ea typeface="隶书"/>
              </a:rPr>
              <a:t>11.</a:t>
            </a:r>
            <a:r>
              <a:rPr b="0" lang="zh-CN" sz="3600" spc="-1" strike="noStrike">
                <a:solidFill>
                  <a:srgbClr val="993300"/>
                </a:solidFill>
                <a:latin typeface="Times New Roman"/>
                <a:ea typeface="隶书"/>
              </a:rPr>
              <a:t>本单元几个前</a:t>
            </a:r>
            <a:r>
              <a:rPr b="0" lang="zh-CN" sz="3600" spc="-1" strike="noStrike">
                <a:solidFill>
                  <a:srgbClr val="993300"/>
                </a:solidFill>
                <a:latin typeface="Times New Roman"/>
                <a:ea typeface="隶书"/>
              </a:rPr>
              <a:t>/</a:t>
            </a:r>
            <a:r>
              <a:rPr b="0" lang="zh-CN" sz="3600" spc="-1" strike="noStrike">
                <a:solidFill>
                  <a:srgbClr val="993300"/>
                </a:solidFill>
                <a:latin typeface="Times New Roman"/>
                <a:ea typeface="隶书"/>
              </a:rPr>
              <a:t>后缀的用法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638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前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fore-: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事先；先前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forecast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－预报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foretell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－预知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forefather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－祖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②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re-: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　“又，再，重新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reform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－改革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retell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－复述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rebuil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－重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③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en-: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　“使．．．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ensur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－确信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enrich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－变富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enlarg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－扩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140760"/>
            <a:ext cx="7772400" cy="6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3300"/>
                </a:solidFill>
                <a:latin typeface="Times New Roman"/>
                <a:ea typeface="隶书"/>
              </a:rPr>
              <a:t>11.</a:t>
            </a:r>
            <a:r>
              <a:rPr b="0" lang="zh-CN" sz="3600" spc="-1" strike="noStrike">
                <a:solidFill>
                  <a:srgbClr val="993300"/>
                </a:solidFill>
                <a:latin typeface="Times New Roman"/>
                <a:ea typeface="隶书"/>
              </a:rPr>
              <a:t>本单元几个前</a:t>
            </a:r>
            <a:r>
              <a:rPr b="0" lang="zh-CN" sz="3600" spc="-1" strike="noStrike">
                <a:solidFill>
                  <a:srgbClr val="993300"/>
                </a:solidFill>
                <a:latin typeface="Times New Roman"/>
                <a:ea typeface="隶书"/>
              </a:rPr>
              <a:t>/</a:t>
            </a:r>
            <a:r>
              <a:rPr b="0" lang="zh-CN" sz="3600" spc="-1" strike="noStrike">
                <a:solidFill>
                  <a:srgbClr val="993300"/>
                </a:solidFill>
                <a:latin typeface="Times New Roman"/>
                <a:ea typeface="隶书"/>
              </a:rPr>
              <a:t>后缀的用法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638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后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-ly: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．．．地”一般作副词后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regularly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定期地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hardly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几乎不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②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-or: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　“．．．人，．．．者，．．．家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educator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教育家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visitor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游客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inventor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发明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7772400" cy="6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purchase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-76320" y="930240"/>
            <a:ext cx="9144000" cy="630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un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.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购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eg: the date of purchase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购买日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他给儿子一些钱去购买教科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He gave his son some money for the purchase of his school book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cn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.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所购买的物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eg: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卡车里装满了买来的东西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The truck was filled with purchas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990720" y="0"/>
            <a:ext cx="3276360" cy="1447920"/>
          </a:xfrm>
          <a:prstGeom prst="cloudCallout">
            <a:avLst>
              <a:gd name="adj1" fmla="val 55523"/>
              <a:gd name="adj2" fmla="val 50986"/>
            </a:avLst>
          </a:prstGeom>
          <a:solidFill>
            <a:srgbClr val="e2f14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1600200"/>
            <a:ext cx="894384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Monotype Corsiva"/>
              </a:rPr>
              <a:t>What you need is more practice      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主从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Monotype Corsiva"/>
              </a:rPr>
              <a:t>I can’t imagine when we will be able to tra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Monotype Corsiva"/>
              </a:rPr>
              <a:t>in space                   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动词宾从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Monotype Corsiva"/>
              </a:rPr>
              <a:t>This reminded me of what he had once told 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介词宾从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Monotype Corsiva"/>
              </a:rPr>
              <a:t>The problem is whether robots will be smar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Monotype Corsiva"/>
              </a:rPr>
              <a:t>than human          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表从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Monotype Corsiva"/>
              </a:rPr>
              <a:t>Scientists haven’t found answers to the question why there is no life on Mars            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同位语从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7772400" cy="6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purchase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630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993366"/>
                </a:solidFill>
                <a:latin typeface="隶书"/>
                <a:ea typeface="隶书"/>
              </a:rPr>
              <a:t>vt</a:t>
            </a:r>
            <a:r>
              <a:rPr b="1" lang="zh-CN" sz="3600" spc="-1" strike="noStrike">
                <a:solidFill>
                  <a:srgbClr val="993366"/>
                </a:solidFill>
                <a:latin typeface="隶书"/>
                <a:ea typeface="隶书"/>
              </a:rPr>
              <a:t>.</a:t>
            </a:r>
            <a:r>
              <a:rPr b="1" lang="zh-CN" sz="3600" spc="-1" strike="noStrike">
                <a:solidFill>
                  <a:srgbClr val="993366"/>
                </a:solidFill>
                <a:latin typeface="隶书"/>
                <a:ea typeface="隶书"/>
              </a:rPr>
              <a:t>购买</a:t>
            </a:r>
            <a:r>
              <a:rPr b="1" lang="zh-CN" sz="3600" spc="-1" strike="noStrike">
                <a:solidFill>
                  <a:srgbClr val="993366"/>
                </a:solidFill>
                <a:latin typeface="隶书"/>
                <a:ea typeface="隶书"/>
              </a:rPr>
              <a:t>,</a:t>
            </a:r>
            <a:r>
              <a:rPr b="1" lang="zh-CN" sz="3600" spc="-1" strike="noStrike">
                <a:solidFill>
                  <a:srgbClr val="993366"/>
                </a:solidFill>
                <a:latin typeface="隶书"/>
                <a:ea typeface="隶书"/>
              </a:rPr>
              <a:t>采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eg: Employees are encouraged t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purchase shares in the compan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该企业号召职工购买其股份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－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i)ty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（无特殊含义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realit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－现实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abilit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－能力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possibilit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－可能性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necessit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－必要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;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必需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1628640"/>
            <a:ext cx="9144000" cy="60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secret of his success is that he does everything 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efficiently                  B. curious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anxiously                   D. sufficien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at surprises me most is that the ____ is also a(an) 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visiter; inventer          B. visiter; inven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visitor; inventer          D. visitor; inven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343080" y="2781360"/>
            <a:ext cx="799920" cy="7999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4762440" y="6134040"/>
            <a:ext cx="80028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58480" y="228240"/>
            <a:ext cx="8885160" cy="19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Regularly </a:t>
            </a:r>
            <a:br>
              <a:rPr sz="3200"/>
            </a:b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 adv. regularly   </a:t>
            </a:r>
            <a:r>
              <a:rPr b="0" lang="zh-CN" sz="3200" spc="-1" strike="noStrike">
                <a:solidFill>
                  <a:srgbClr val="2a3d7a"/>
                </a:solidFill>
                <a:latin typeface="隶书"/>
                <a:ea typeface="隶书"/>
              </a:rPr>
              <a:t>规则地</a:t>
            </a:r>
            <a:r>
              <a:rPr b="0" lang="zh-CN" sz="3200" spc="-1" strike="noStrike">
                <a:solidFill>
                  <a:srgbClr val="2a3d7a"/>
                </a:solidFill>
                <a:latin typeface="隶书"/>
                <a:ea typeface="隶书"/>
              </a:rPr>
              <a:t>,</a:t>
            </a:r>
            <a:r>
              <a:rPr b="0" lang="zh-CN" sz="3200" spc="-1" strike="noStrike">
                <a:solidFill>
                  <a:srgbClr val="2a3d7a"/>
                </a:solidFill>
                <a:latin typeface="隶书"/>
                <a:ea typeface="隶书"/>
              </a:rPr>
              <a:t>定期地</a:t>
            </a: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  </a:t>
            </a:r>
            <a:br>
              <a:rPr sz="3200"/>
            </a:b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adj.  regular      </a:t>
            </a:r>
            <a:r>
              <a:rPr b="0" lang="zh-CN" sz="3200" spc="-1" strike="noStrike">
                <a:solidFill>
                  <a:srgbClr val="2a3d7a"/>
                </a:solidFill>
                <a:latin typeface="Times New Roman"/>
                <a:ea typeface="隶书"/>
              </a:rPr>
              <a:t>规则的，定期的</a:t>
            </a: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n.     regularity    </a:t>
            </a:r>
            <a:r>
              <a:rPr b="0" lang="zh-CN" sz="3200" spc="-1" strike="noStrike">
                <a:solidFill>
                  <a:srgbClr val="2a3d7a"/>
                </a:solidFill>
                <a:latin typeface="隶书"/>
                <a:ea typeface="隶书"/>
              </a:rPr>
              <a:t>正规，规律性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04920" y="2286000"/>
            <a:ext cx="9144000" cy="70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他的心脏有规律的跳动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is heart_____  _____      _____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我们常常见面，但不定时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e meet now and then,____ _____  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每日三次，定时服药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______________________________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905120" y="297180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as     beating  regular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191120" y="444960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ut   not      regular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276720" y="4648320"/>
            <a:ext cx="33526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" y="563868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ake   the   medicine   regularly   three   time   a  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9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762120" y="1442880"/>
            <a:ext cx="784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133200"/>
            <a:ext cx="914400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Require  vt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需要，要求；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requirement n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要求的东西，要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句型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require sth; require  sth of(form)sb;   require sb do sth ;   require+that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从句用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should +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动词原形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3271680"/>
            <a:ext cx="914400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Do you _____________________________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你向我要求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is healthy ______   ______   ______   ______   ___   ______   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他的健康情况要求他早睡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133720" y="3271680"/>
            <a:ext cx="69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equire anything of (from )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9480" y="4629240"/>
            <a:ext cx="8915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                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equire     that          he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go          to      bed           ear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762120" y="1401840"/>
            <a:ext cx="7848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228600"/>
            <a:ext cx="9144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Require  vt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需要，要求；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requirement n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要求的东西，要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句型：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require sth;      require sth of(form)sb;   require sb do sth ;   require+that(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从句用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should +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动词原形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3840120"/>
            <a:ext cx="9144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essential _________   ______   _____   ______   _____   ______and adaptabilit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这个工作的主要要求就是精力充沛，有适应能力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0880" y="379404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                      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equirement   for         the        job          are         ener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885520" cy="199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a3d7a"/>
                </a:solidFill>
                <a:latin typeface="Times New Roman"/>
              </a:rPr>
              <a:t>注意：</a:t>
            </a:r>
            <a:r>
              <a:rPr b="1" lang="zh-CN" sz="3600" spc="-1" strike="noStrike">
                <a:solidFill>
                  <a:srgbClr val="2a3d7a"/>
                </a:solidFill>
                <a:latin typeface="Times New Roman"/>
              </a:rPr>
              <a:t>require </a:t>
            </a:r>
            <a:r>
              <a:rPr b="1" lang="zh-CN" sz="3600" spc="-1" strike="noStrike">
                <a:solidFill>
                  <a:srgbClr val="2a3d7a"/>
                </a:solidFill>
                <a:latin typeface="Times New Roman"/>
              </a:rPr>
              <a:t>作“需要”解时，可接不定式被动式，若接动名词，则要主动式表被动含义。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3520" y="266688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如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floor  require washing (to be washed).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地面需要清洗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4191120"/>
            <a:ext cx="91440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Realit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(1)reality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即可作可数，又可作不可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）短语：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in reality (=in actual fac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4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04920" y="609480"/>
            <a:ext cx="883908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is not imagination but realit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r dream of marrying Dick became a reality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veryone trusted the stranger,but in reality he was a crimin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" y="137160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这不是想象，而是现实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0880" y="35812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方正舒体"/>
                <a:ea typeface="方正舒体"/>
              </a:rPr>
              <a:t>她梦想和</a:t>
            </a:r>
            <a:r>
              <a:rPr b="1" lang="zh-CN" sz="3600" spc="-1" strike="noStrike">
                <a:solidFill>
                  <a:srgbClr val="0000ff"/>
                </a:solidFill>
                <a:latin typeface="方正舒体"/>
                <a:ea typeface="方正舒体"/>
              </a:rPr>
              <a:t>Dick</a:t>
            </a:r>
            <a:r>
              <a:rPr b="1" lang="zh-CN" sz="3600" spc="-1" strike="noStrike">
                <a:solidFill>
                  <a:srgbClr val="0000ff"/>
                </a:solidFill>
                <a:latin typeface="方正舒体"/>
                <a:ea typeface="方正舒体"/>
              </a:rPr>
              <a:t>结婚已成为事实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" y="56674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每个人都相信这个陌生人，但事实上他是个罪犯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6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7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7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8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28600" y="0"/>
            <a:ext cx="892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Determine  vt.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决定，下决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6320" y="533520"/>
            <a:ext cx="8839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句型：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etermine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名词；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etermine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定式；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etermine+th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过去分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etermin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常用作表语，表状态，后接不定式或从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28600" y="2666880"/>
            <a:ext cx="89154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ave you _______     _______  _______  _______  _______ _______  ______   the   holiday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你决定在哪儿度假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She ______     _____      _____   _____    _____  his advice.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她决意不按他的劝告办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2438280"/>
            <a:ext cx="86724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方正舒体"/>
                <a:ea typeface="方正舒体"/>
              </a:rPr>
              <a:t>          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方正舒体"/>
                <a:ea typeface="方正舒体"/>
              </a:rPr>
              <a:t>determined  where    you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方正舒体"/>
                <a:ea typeface="方正舒体"/>
              </a:rPr>
              <a:t>     </a:t>
            </a:r>
            <a:r>
              <a:rPr b="1" lang="zh-CN" sz="3600" spc="-1" strike="noStrike">
                <a:solidFill>
                  <a:srgbClr val="ff0000"/>
                </a:solidFill>
                <a:latin typeface="方正舒体"/>
                <a:ea typeface="方正舒体"/>
              </a:rPr>
              <a:t>are        going        to        spend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8600" y="536256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舒体"/>
                <a:ea typeface="方正舒体"/>
              </a:rPr>
              <a:t>                 </a:t>
            </a:r>
            <a:r>
              <a:rPr b="1" lang="en-US" sz="3600" spc="-1" strike="noStrike">
                <a:solidFill>
                  <a:srgbClr val="ff0000"/>
                </a:solidFill>
                <a:latin typeface="方正舒体"/>
                <a:ea typeface="方正舒体"/>
              </a:rPr>
              <a:t>was     determined   not      to    follow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020160" cy="147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d7a"/>
                </a:solidFill>
                <a:latin typeface="Times New Roman"/>
                <a:ea typeface="楷体_GB2312"/>
              </a:rPr>
              <a:t>1.I remember_______this used to be a quiet village.</a:t>
            </a:r>
            <a:br>
              <a:rPr sz="3200"/>
            </a:br>
            <a:r>
              <a:rPr b="1" lang="en-US" sz="3200" spc="-1" strike="noStrike">
                <a:solidFill>
                  <a:srgbClr val="2a3d7a"/>
                </a:solidFill>
                <a:latin typeface="Times New Roman"/>
                <a:ea typeface="楷体_GB2312"/>
              </a:rPr>
              <a:t>A.When     B.how   C.where   D.what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590920" y="10620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1446120"/>
            <a:ext cx="83818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Please tell me_______you would like to have your coffee-black or whi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.what   B.where   C.when   D.h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895480" y="144612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3198960"/>
            <a:ext cx="91440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_______get such a book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.Where do you think can 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.Do you think where can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.Do you think where I c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.Where do you think I c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322884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1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2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2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228600" y="735120"/>
            <a:ext cx="9448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57200" y="658800"/>
            <a:ext cx="7391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96840"/>
            <a:ext cx="9144000" cy="67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4.-----Do you know_________Mr.Black’s address i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-----He may live at No.18orNo.10 of Bridge Street.I.’m not sure of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.what;which            B.where;which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C.where;what            D.what;wh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5.-----My foot hurts terrible,docto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-----Well,I wonder_____it has been like thi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.since when   B.since then    C.how    D.wh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2030400"/>
            <a:ext cx="2286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4316400"/>
            <a:ext cx="2438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343400" y="1206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191120" y="525780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3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4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4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5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5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84120" y="914400"/>
            <a:ext cx="8369280" cy="642600"/>
          </a:xfrm>
          <a:prstGeom prst="rect">
            <a:avLst/>
          </a:prstGeom>
          <a:solidFill>
            <a:srgbClr val="e2f1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Noun clauses introduced by 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Question Wor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03960" y="1905120"/>
            <a:ext cx="5529600" cy="3385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做从句时的结构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疑问词 ＋ 主语＋ 谓语动词 ＋其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本身是主语的疑问词＋谓语动词＋ 其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467480" y="5334120"/>
            <a:ext cx="13669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609480" y="1311120"/>
            <a:ext cx="800100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6.The reason____their failure you know is____they didn’t get fully prepared for the experime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.why;that               B.that;why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C.for;that                 D.why;beca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42900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76320" y="533520"/>
            <a:ext cx="91440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 good example of how transportation is changing is the new maglev tr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公共交通正在改善的一个很好的例子就是磁悬浮列车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28600" y="3048120"/>
            <a:ext cx="8610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该句为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how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引导的一个名词性从句作介词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的宾语，介词后面跟一般均可接疑问词引起的从句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4419720"/>
            <a:ext cx="91440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例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)He was not conscious of what an important discovery he had ma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)Did she say anything about how the work was to be don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0" y="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Instead of just searching a crowded store for basic goods,such as food and clothing,people want to go a pleasant mall and combine shopping with fu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2438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Instead of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为成语介词（连）词，表“代替”“而不是”，后接、代词、动名词、形容词、介词短语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4294080"/>
            <a:ext cx="9144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aking exercise every day makes him look younger instead of old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)In warm weather he often reads under a tree instead of in the libr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380880"/>
            <a:ext cx="9144000" cy="83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You should_____  _____  ______  ____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持联系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)your friend by letter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e_______  _______  ________ of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匆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一瞥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er before she vanished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消失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)i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crow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Please_________  __________  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注意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what I am saying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e always keeps several baskets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pples_______  _______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贮藏着）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048120" y="3808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.keep/be  in    touch   with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143000" y="20574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caught/got/had    a     glimps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133720" y="370188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pay              attention            t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583560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in             stor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0" y="2095560"/>
            <a:ext cx="914400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6. Smoking cigarettes _____  ____ (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导致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) lu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diseas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7.You should be out playing_______ 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(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而不是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) working indoo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8. _____  _______(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像往常一样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), he stayed 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late last nigh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495680" y="2103480"/>
            <a:ext cx="3200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202716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leads       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0" y="3475080"/>
            <a:ext cx="5425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486400" y="36576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instead     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33520" y="541008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As         usu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228600"/>
            <a:ext cx="91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is dream of being a famous  singe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________  _______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实现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t las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38080" y="9144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came          tru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0" y="30492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. The news which our team had won pleas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everyone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.  I don’t doubt whether he can work out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. I have been worrying about if I have hurt 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feeling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 don’t know that he wants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743200" y="9144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hich→tha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19520" y="251460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hether→th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86000" y="41148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if→whe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95880" y="5334120"/>
            <a:ext cx="3048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248520" y="52578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that→wh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0" y="311040"/>
            <a:ext cx="9144000" cy="84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5. The reason why he didn’t come is beca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he was ill. 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6. Who walks around in such a heavy rain wi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catch a cold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7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I think important that we learn Englis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well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____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8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It’s not certain that the sports meet will b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held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819520" y="111132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because→th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124080" y="278748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ho→Whoe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057400" y="434340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important→it import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209680" y="60642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that→whe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53352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is is the suggestion which we have a tr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day after tomorrow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China is a great socialist country is we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known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638680" y="1111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hich→th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266688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China→That Chi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11448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语法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填上适当的连词完成以下名词性从句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 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______is to take Li Ming’s place is be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discusse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 got very angry with______he sai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My idea is_____we should get more  peo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o finish the work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 wonder_________it is true or no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problem is______we could hel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mokers kick their habi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38080" y="6858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h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724280" y="22860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h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895480" y="3429000"/>
            <a:ext cx="1524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895480" y="34290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514600" y="50292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he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733920" y="56386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h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898560" y="7016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18720" y="1447920"/>
            <a:ext cx="7515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plan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he mad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is practic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ery one of them has made a plan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they will improve their English in  l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than fifty d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0" y="1371600"/>
            <a:ext cx="2057400" cy="642600"/>
          </a:xfrm>
          <a:prstGeom prst="rect">
            <a:avLst/>
          </a:prstGeom>
          <a:solidFill>
            <a:srgbClr val="000000"/>
          </a:solidFill>
          <a:ln w="9360">
            <a:solidFill>
              <a:srgbClr val="cec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ff99"/>
                </a:solidFill>
                <a:latin typeface="Times New Roman"/>
              </a:rPr>
              <a:t>定语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30240" y="3886200"/>
            <a:ext cx="15523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ff99"/>
                </a:solidFill>
                <a:latin typeface="Times New Roman"/>
              </a:rPr>
              <a:t>同位语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523880" y="457200"/>
            <a:ext cx="1371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比较：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1295280" y="4800600"/>
            <a:ext cx="708660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609480"/>
            <a:ext cx="874404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 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我不明白他为什么周末还要去上班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2 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我没有忘记我们什么时候放假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你有没有问他什么时候回家过年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1752480"/>
            <a:ext cx="830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 don’t understand why he always goes to work at the weeke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8800" y="3733920"/>
            <a:ext cx="739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 never forget when we will have a holi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533412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o you ask him when he will go back home to spend the Spring Festival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85160" cy="77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1. forecast v.&amp;n. </a:t>
            </a: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预报，预测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2209680"/>
            <a:ext cx="91440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例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1.Experts rain has been _______ for tomorr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2.He couldn’t_______that his trip would be delayed by bad wea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3.Who can ______what will happen to the world in 1,000years’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4.Did you listen to the weather _______ on TV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00600" y="22096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forec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29718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fores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414504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foret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943600" y="54100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forec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620244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Forecast</a:t>
            </a: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的过去分词有两种：</a:t>
            </a: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forecast</a:t>
            </a: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或</a:t>
            </a: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foreca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8380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forecast</a:t>
            </a: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与</a:t>
            </a: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predict</a:t>
            </a: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意思和用法类似，表示这一意义的词还有</a:t>
            </a: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foresee,foret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8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.exact / actual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exact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强调“准确无误的，正确的，精确的”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ctual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表示“实际的，现实的，确实的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-7632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例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1.You _______height is 5 feet 6 inch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-533520" y="327672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2.It is difficult to tell his _______ag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038480"/>
            <a:ext cx="906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3.The______result differed from our predict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504180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4.You have to be _______ in this job because  a small mistake can make a big differen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09680" y="23623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ex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724280" y="327672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ex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19320" y="40384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actu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29000" y="50292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ex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In store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必将发生，存储备用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75960" y="1294920"/>
            <a:ext cx="883908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)we must____   ____   ____   _____   ____ for a big ra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我们必须储存力量准备长跑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)we have _____________________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我们储存了大量食物过冬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)_____________________________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我希望你前途光明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05120" y="2666880"/>
            <a:ext cx="5715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81080" y="124776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keep    our   strength    in      st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057400" y="312408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a lot of food in store for the win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449568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I hope that a bright future is in store for you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8T05:07:34Z</dcterms:created>
  <dc:creator>政治处</dc:creator>
  <dc:description/>
  <dc:language>en-US</dc:language>
  <cp:lastModifiedBy>jinma</cp:lastModifiedBy>
  <dcterms:modified xsi:type="dcterms:W3CDTF">2005-11-27T15:50:05Z</dcterms:modified>
  <cp:revision>71</cp:revision>
  <dc:subject/>
  <dc:title>PowerPoint 演示文稿</dc:title>
</cp:coreProperties>
</file>