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type.wav" ContentType="audio/x-wav"/>
  <Override PartName="/ppt/media/image10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4.png" ContentType="image/png"/>
  <Override PartName="/ppt/media/image12.gif" ContentType="image/gif"/>
  <Override PartName="/ppt/media/image14.png" ContentType="image/png"/>
  <Override PartName="/ppt/media/image11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hammer.wav" ContentType="audio/x-wav"/>
  <Override PartName="/ppt/media/image8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1D2-976F-49B7-B8B2-3853CC88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857F-81F5-4057-AF06-8E0A2A7F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2B0261-9C56-4691-B064-40DBCDEF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C49E5-A310-45D4-870C-90C621AB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90777-0D41-4DA2-B7D3-66B48E46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DD59C-4CC8-42C9-826F-3D6D117C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5666B-C68E-4318-BA03-472AF95A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EBE47-E0BC-418E-AAFA-FFE292A2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66D9F-8679-43E6-B95D-B46D6218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B36ED-546D-4221-8550-198B6C95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F6875-3ACB-483F-8D5B-7E4E2A33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79123-77B6-4AA3-9CD0-E605EC5E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A9DD-893D-4B8C-9BB7-382313F3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48820-8077-4C65-846E-B2E39D35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F0BE7-E2C7-4558-A5AB-BC166387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BC970-6F7A-4851-865E-114078BC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DB9F8-8250-4EE7-810B-13F948A7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9BCFF-48C1-41B9-8BE3-F9B781C5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AE946-3AAC-49BC-BF07-4419676E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EF430-6BA6-4682-B4F9-16229B96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D09B2-A1BC-41A0-BDF7-464AC569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77841-DCF3-4ECD-AE37-AD4BCAB6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BE411-A22E-4F2C-97E0-E07A30CD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4A6-59A6-45C0-BCDA-64929B4A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BA880-DC26-46A4-A8D1-BD35AC4B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2678D8-D914-4428-BF45-3F2C66B7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0B456B-803F-461A-AC6C-A0A6E1ED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52AEAB-2A7D-404B-B6D6-D3A53CF4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BBD27C-40EB-41BC-AAA0-02EBC876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5B3897-6EEF-470F-BEBA-1C22BFC7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1781A4-DEEE-4E2C-92D6-AF55A89F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5EA68E-236D-4F01-BC88-B6D1224E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158750-6A34-4F1F-A240-4E4EF35F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14C759-5FA4-4CBB-B046-6F823A06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D38ED6-0134-46A9-9685-4D67C284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52F13F-953D-4F92-92C7-85619D5D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87B6F2-3F6C-4E80-91A3-135D86A6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0FC5B-EC04-4D63-ADC4-F596FDB3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4C3E4-5FF7-47E0-97B3-7BC37AB0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D9A78-62A1-4F27-8191-5590E2D0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D4E5B-1E4C-487D-B48E-E60740CD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011A0-EB65-4951-9DC9-2A58198F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9DE25-CC76-4495-8D7A-0C03024B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2C0D1-6435-4422-9BF7-81ADAA2B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20279-7DB3-4E59-ACE4-754211C8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FAB5A-06AE-43A0-B96A-0F2EC511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1308A-1007-4C06-B274-E50EF22D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B11AC-E1DF-4BEA-89E5-87758D9F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221D6-AF46-427A-8AD6-F8F28BD4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405F1-02C3-4493-828B-A23C239A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B8A70-712B-4C4E-A722-47AE096D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F86A6-E5A9-44F7-8E75-4AEA9FF5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9E989-12A7-481C-BA7C-41E59779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32EF6-868F-466B-9040-DACBC8EC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E3EE05-B484-4554-82E9-2B6A5EE4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1AC5F-B30E-4E2E-BD5A-2EE4B0A2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CD570-11B2-4530-A889-0025973C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120AF-922A-4735-A982-F49EA0CA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B8E73-4B7F-4CE2-B4C6-A8F9A0D2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7DA53-C371-4972-9E5C-41D49170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09819-167E-4ED2-8755-17FD3D6E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D60BBA-52E1-4180-A5C8-9EC3A986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CA3FE1-5FC6-4A78-AB55-FFC5AA50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CA4E6-5FB6-40F0-9E1C-083B43DE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1D732-6E44-4123-9B40-BB2F0874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AF1A0E-0979-4B4F-9E11-BEA78227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268FB-B6B6-4D6D-ADB9-B1B31267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7A2C4-9373-4E18-9E76-A9FE7F58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70094-1BBB-4787-ADBA-D19441B3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E7483-C1DD-49E1-87D0-F213AC8A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9AC289-015E-40B6-AAAD-1BCDE4B33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D7459-94D8-408A-8435-D7639080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91A4E-7953-4B5C-9F45-EEBF32AC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14BE4A-6BC9-467B-A6A8-61D3F94F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7EB148-C497-40A5-88AF-CAE934CE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664000-EB28-4C10-9C45-31755910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526161-6271-4274-BC48-8A4ADBC5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1AFFAD-491E-4655-B872-50511021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406DF2-52E0-4FE2-B767-176C41F2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7E61DA-3D9B-494A-A7D8-D87321AD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58D584-41E7-4F6E-8ED7-7AFCF47F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D8E680-7BC7-4A89-B93D-A3C2BEEE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40159-DD37-445E-B0C1-0FF05D6F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98305-C22B-46B0-A015-D60FD437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F42B9A-16DD-430F-BD95-EE168E4F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278284-9639-46E9-8D52-D944BFED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B9CFB4-56FF-45C8-B953-2C40614F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4F44C4-16B4-42D1-8136-15D431CA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C4B8B6-0054-4F2B-AFFF-7C099982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0A70A2-91E9-450F-A22B-653D0293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49BDB8-6113-4770-9207-96A45460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E2F994-BF81-42D4-B268-BD0F7AFB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AF3F23-65C1-4A12-993C-ACD603ED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0F3685-6BE5-4B07-9E29-50228B17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3093F6-47B2-4617-BEDE-BB34AEDB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77E540-4761-4A68-B101-2FE5E5CE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D58447-354B-4893-A469-A0C7ECD8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DAE537-4CCF-49D4-97DA-CF73F66E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8299BA-E1EA-4A5A-975E-8EB2FB68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98E302-7CB2-4350-8BF5-2CD8488F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9C846F-E40A-4A5B-8EA1-4FF7ACE7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F16476-5686-4555-8C6B-4978BFE1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753BD3-B4EA-4C7A-83D3-FB5190E9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483962-1468-4E4D-A020-37863AF6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893-F652-4392-B6C8-803E8CE9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DEBFE1-6F51-41F3-98A8-EDF9C789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5F4232-B65F-495B-A043-24D4FC26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0CB53D-9296-4085-B377-2F8037E1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31C262-AC56-4C5C-A801-405104B9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96D762-82B5-435B-B7F3-F9EA4C7D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8487A7-B6AC-4ACC-953C-196E8D8C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AA70B4-AB97-4EEE-9472-F2918357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F1C5EF-3DCC-4153-81EB-F12E492E4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5D51B9-7534-401C-A241-FE587326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82863F-51EE-4624-B795-6FA43398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21391F-F169-46E7-8EBC-F084ADE4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82887D-068D-4E6E-A8F7-C293859A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F4B566-4FF7-4FE6-9CB3-33EF9CFA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2AC2BD-D749-4F54-B3BC-EEB735CF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B6FBF5-F19C-4F5A-B51A-4118284A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39CE7B-FCBB-4C85-B372-7FCC95E5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C8615B-723A-425E-BCCE-B131A092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2F8703-7CE5-431B-A689-E47B7F78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5F6A44-FDE3-477F-9F43-92288127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5F5D3C-FAB1-4119-B767-04EB960B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296CD0-D40B-4F66-9D62-9D636C76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205A77-3C58-4FA8-BE6F-C04E9104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EAF448-C6B2-4A60-A89C-2F668955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4320E8-8FE6-485A-BBE7-EEA00CC2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577CCF-1E8F-407C-AB45-0D2EBF43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37BD8A-AE9D-4B35-9BC7-F62EED42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9D0E41-53AF-42C5-9EFE-3D0374A1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B30CE6-9364-40C3-BC7B-9572B4F1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8AE818-041E-43AD-AF43-55098B43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2202706-1FCC-4C5B-870E-D222A598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E85A616-10BA-4FCA-968E-9F577C18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A783B4B-DCB4-4739-AB48-67524A98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4796EED-3D56-4A6F-9F1D-53D624E2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6C52418-EEE7-4B96-95A7-281E8F8F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50DF13F-C18D-438E-B98F-6B5B7267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6BAF038-7743-4D7D-AB32-2CC0B1BA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2670D74-57D0-4C9C-A23F-66C03C9E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1506BBB-C284-465C-ADE9-FED16918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1CB399C-7ABF-4B98-A24D-839D1437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956A5D8-6BC4-4AF7-B862-7979B1CB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EDED50A-0E00-4FED-8851-0F7E3214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C275E1-CB97-40A9-A91E-E275CAB7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06A41B-84CA-40F7-A5F3-B8088B62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DC70C4-9D1E-4C7E-AF06-28109343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4DC456-F5DC-47DF-A5EC-1729E6C8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4F8F99-A9A4-4085-877F-8B0E8B0C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C42D87-DFD5-4644-87C5-CE3217DA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57D6AB-EEEF-4103-BB17-1390C1E4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503BDE-E945-40D1-A005-5C31C9C5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28AB06-9439-4A1C-9165-E3BF91DF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B3BB-AF93-4BEE-A99D-C65AEF99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432887-5297-45E6-B471-99C568BE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D46F18-C39B-40C5-9171-78DDC0EC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F14F08-AFDE-4249-AF7D-113158DB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045942-E22D-494D-B7EB-6E40333D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2A2B5D-7CC4-4886-8270-2F65474B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B39425-E6C8-420A-9915-A2A11393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017DA1-02F6-4B04-977D-D6EAC7F7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0E5188-AE98-4928-B8C3-119C7B2D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8AC5E4-FC8E-4756-8533-4012C238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496779-2058-4E24-A6CD-E747EFA7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A29B-96EE-45C6-B13E-4CF80CE0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1BA641-9620-45D3-B327-5BD651C1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5DF1E9-E6A5-4B10-874A-26ED1D0D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0F31AD-D8BD-4A19-ADD1-3A26EF03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98FB44-6AFC-468F-850A-098A5266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88AA60-1FA8-4BF5-89AF-FB0A51E3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A0FE1A-A0DB-48D6-80EC-6669CD21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E72FD2-B693-4093-AE1C-289B4A3B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1CB4FD-F7FB-4D27-A9D1-C19EE79C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E77CF8-558A-44AF-8628-EFE6CE7B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99C74A-37E5-4930-8A4B-3DEEEB46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6227-7151-4CFC-81CB-65B81056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E0E367-BBEE-499A-8011-4270F97D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7AB731-0756-4103-B2D6-1C50E950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9E7FA9-DF7A-44FA-A03C-029F9292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5E0CF6-F7D9-47EE-8573-416AE801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13B565-9C85-4FDA-97A3-E503275E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7CC43E-A6B3-4752-880D-800CC7D1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01FE0B-70FA-47EC-86D6-09334CB5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3BDC18-BC15-4720-9184-27B90845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B69635-5824-491E-A688-B12DF004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5E2B12-D25A-49C0-B253-22D1924B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3D4D-4E1E-46BB-803E-F6D7D703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A57515-F941-40F4-8019-7BB28AF4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AC3C1E-364C-4EBB-B7B9-4ACD8939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851E00-A809-48B8-A31B-F57CF510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EA671D-B292-473B-87E2-81683633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BC6EB0-ECE5-4275-AABB-AB1060D5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2788CF-8FFC-4671-9302-EC1D9799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A0FCD4-E663-400E-AFA0-94B725E6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BC6325-06E0-4B22-9543-EAB520FF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85CFE1-C4E0-4830-B6BB-91313734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BB8B82-8F25-419E-A571-AF4A5F78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D149-789F-4F8E-AAE0-B5A532F8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C07CA9-6394-41AB-99A4-EFC63DA1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62965D-0CC1-49C1-A9F7-7E011BEC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32E726-6537-4719-B65D-03E45DE2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2DA5D2-C1ED-4269-BF0E-644BA32D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940D73-EA6D-4FBE-B685-CBD9E7FF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CB0668-328F-42FF-97A1-F8BFEEEE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0A3653-E2FC-469A-8591-64ACAF4D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84AB9D-A86A-49DC-A44B-B3E40F40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1E3CE9-3051-49FB-9B41-5F2FA8BD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BE3F68-EABC-47FD-8517-AC3D2B13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A364-A986-40B2-94D8-B3996485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B1ED-758B-43EF-B761-731375AD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78DC8F-DDDA-4210-9DC5-69C485EF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2022-49B1-4A65-BAF5-08B8F722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B3DD-2E74-4BBA-B7BD-99E7D112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9862-9FAB-4AF5-956A-72CFFF25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8685-3141-4DBD-9441-95A75BC6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B36B-EC9C-4E3C-B8B6-2D6996BF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3EB7-09C8-464E-9614-8493077C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D9724-0D53-43C3-9B46-A9004F52A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ED557-DD48-4C26-9B60-1566D9DB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AE2F1-F69E-4ADB-9899-AB88BC5A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3AAD-E741-4976-82B9-19F6E891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26727-82C8-4B92-BB7A-F7303F3E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55F9E-80A8-43B2-9849-5F3EB601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1C525-F05D-4E7B-ADCC-9CE75488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C22B9-BC24-44BC-98AB-21BED00F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6FEFD-F043-42DC-B3E8-15E7CFD1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7D202-4C38-4AEE-94A1-C441FC1E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4B9A8-4147-44EC-BC30-AB652471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BE4EC-6E6E-4BD3-BF5D-B14C5137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9DCD7-B6CC-4E30-95B5-3486E43E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C4A0C-C789-4530-AD9E-64ECA20A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23C-5669-40C3-B3BD-C4776470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63EEB-F7BA-419C-9550-FCBEC5EC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D9912-E95C-4CB5-9AB2-15B241C7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C5792-7A68-45B9-AA5C-F176FB16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8C557-09C9-4E2B-B99D-42D9D355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EFC11-FF5F-43E5-BBC3-C9A456D0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22C83-7251-4CD3-8F62-7F8DC904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273FF-86B4-45C4-89B9-64880B91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1CD52-044B-4F3D-9C9E-AE33723F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5E234-1B75-4F4F-B234-540F111A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93941-39F8-4918-BCB3-1FEB4B7B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A485-78A7-412A-B91D-6847B1FF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AD648-0BFA-4F0C-9FF6-96B8071F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8C983-A85D-4FE4-8443-676CA900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99C1E-7141-47F6-B7C8-4851650C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4106D-2304-4D02-82EC-ED8EC291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16799-836E-47FF-8C83-DE7FAD79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1857B-928A-4190-AAF3-EDF35ECE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FD1DB-9F83-4989-A3A2-7F265EFA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B9E6F-BC86-4CDB-93CA-44C16D29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C0608-429B-4C37-9D84-3B47A938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7FC41-A8FA-4981-A891-0DBC8988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8842-32A4-46B9-863B-F1B07637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5DB5F-F028-4D20-8B05-FABE1E07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D8482-1616-47BB-9D05-4DAC6993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4FE67-240D-426C-9B8B-799CF3FE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DFC63-7466-4881-96CE-678EC5F4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05FA5-3C06-4CAD-B8CD-81775873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02913-F9E5-4F6E-AC7C-B1E8F85A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75C9F-0C7D-4E02-95AE-901D3B9D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F95B4-7A99-4B42-B5C6-A011234C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FB37F-768B-4624-B252-AB65EEA5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CDA50-9FE0-4AAC-AFF1-1B7CD9A7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18E1-8E27-4647-9B25-BD2B5CA5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060E4-7206-4906-A009-5DA29AD4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66608-71B2-423B-BD4A-9D35E9A4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BCD2F-197E-4C0D-B3FD-E19AED7F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63439-F68B-4760-A340-8AE03215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FD97C-C0D9-4A21-B61B-A92935FC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CD87F-DF85-4D3C-B1D7-ED7D9D77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1189E-C11E-4630-A5A6-B0EFC068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344D8-2A29-4A23-B2CD-5CEEF3F8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02CC2-D766-4C00-8484-0F95AB7C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5DB78-200C-4A23-9D6A-3644F4B1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387-3389-45FD-AC4D-BEF6F90C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61797-4B2B-4E83-8144-F52451F1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FAE17-360F-4C57-A477-21C82C57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F798C-F280-4C08-8258-24874644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0328F-4F08-4F7D-80CE-553DB349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8820E-2B09-4A4A-B32C-BD59BEB5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2859D-2A67-4FF8-ABC1-A3F20F68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9B6FB-7D82-415A-9213-5D06EE8F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C1347-104E-4D38-9560-D5DBC7BC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B6601-F226-49C7-BE35-B2966AD0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FF57F-D16E-4AD8-B544-73B2A3D3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D1FC-5214-48AC-B3F5-B088E24609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3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74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4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A737-63D2-40B5-8A04-D4A67CDA31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80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80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80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1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F713-F549-412D-A434-D9F82A39104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6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6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8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FF8E-E86D-4A4A-8F32-405AD4B8E58C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93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94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96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3A7A-445B-4442-B7F9-8777C593BC9C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" descr=""/>
          <p:cNvPicPr/>
          <p:nvPr/>
        </p:nvPicPr>
        <p:blipFill>
          <a:blip r:embed="rId2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015" name="PlaceHolder 1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E761-26F2-4258-925B-7D41026537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14E4-63DB-48EB-ABF2-54C8CB4E71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BA34-21DE-4F34-8386-231796676C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dt" idx="4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0F0D-C18F-4650-95E9-C3C2594593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8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0992-8989-4D76-B1CF-27906A39A2EF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23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96DC-04C5-4FA1-A1DC-0CC9C3A8A39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9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ftr" idx="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sldNum" idx="5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A875-752A-475D-84C5-CD4BBDBA5689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dt" idx="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5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E701-D3C6-47A8-B4BF-6B4A72AF3B44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41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6" name="PlaceHolder 1"/>
          <p:cNvSpPr>
            <a:spLocks noGrp="1"/>
          </p:cNvSpPr>
          <p:nvPr>
            <p:ph type="dt" idx="6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ftr" idx="6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 type="sldNum" idx="6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EC9A-677E-4562-98A9-8D20A6D8FA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46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dt" idx="6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ftr" idx="6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9E82-0600-4CB2-AC2B-704F1ACABA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4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515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6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517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0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1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522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7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528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1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532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536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540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3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8D08-1796-40DC-B3FE-9856073E64E7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8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599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600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7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3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614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618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622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5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626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630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3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0" name="PlaceHolder 1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5DFD-4A34-475A-BFD9-32D1F2BF05A9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E2ED-8FA5-476B-9425-D13AEEE1F4E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42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8164-811F-49AC-BD4E-2FC79F1629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187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000E-C05E-4354-BACA-4BC757B68B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DB52-B5FD-4EBA-BF70-9F8AB5C9644C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64DF-848B-49F4-8A68-024BB6286591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9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9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9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9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0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B8AA-1958-4295-84B7-33FC7E038C01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6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6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7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8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4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4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4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7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8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F8DA-985C-4DC7-A1E4-50003FAEECBD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25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" descr="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533520" y="609480"/>
            <a:ext cx="8137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6600" spc="-1" strike="noStrike">
                <a:solidFill>
                  <a:srgbClr val="ff3300"/>
                </a:solidFill>
                <a:latin typeface="华文行楷"/>
                <a:ea typeface="华文行楷"/>
              </a:rPr>
              <a:t>Language Points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              of Unit 8   Senior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28600" y="260280"/>
            <a:ext cx="868680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eep /bear .. in min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lease keep these rules in mi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eep in mind that the petrol can 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ast 2 hour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"/>
          <p:cNvSpPr/>
          <p:nvPr/>
        </p:nvSpPr>
        <p:spPr>
          <a:xfrm>
            <a:off x="2438280" y="228600"/>
            <a:ext cx="5791320" cy="81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ring/call sth. to mind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hange one’s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bsence of mind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bsent-min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eep one’s mind on sth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read one’s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ake up one’s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ind your own 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/>
          <p:nvPr/>
        </p:nvSpPr>
        <p:spPr>
          <a:xfrm>
            <a:off x="457200" y="45720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calm adj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平静的；镇定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a calm, cloudless 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持平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/ stay/ remain cal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平静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镇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go to calm the patient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"/>
          <p:cNvSpPr/>
          <p:nvPr/>
        </p:nvSpPr>
        <p:spPr>
          <a:xfrm>
            <a:off x="1295280" y="304920"/>
            <a:ext cx="78487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panic v.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惊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fire, don’t pan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响雷使马惊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under panicked the horse.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惊慌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恐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陷入恐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/get in a pa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引起恐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 (a) pa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惊慌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nic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"/>
          <p:cNvSpPr/>
          <p:nvPr/>
        </p:nvSpPr>
        <p:spPr>
          <a:xfrm>
            <a:off x="900000" y="1844640"/>
            <a:ext cx="864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0" y="152280"/>
            <a:ext cx="9144000" cy="75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33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respond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作回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反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/give no respons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esponse to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回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回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offered him a cup of coffee but he didn’t respond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e/gave no response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responded  to my suggestion  with a laug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opened the door in response to a Kn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16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/>
          <p:nvPr/>
        </p:nvSpPr>
        <p:spPr>
          <a:xfrm>
            <a:off x="0" y="380880"/>
            <a:ext cx="9144000" cy="63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126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make sure :  find out whether sth. is s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You’d better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make sure of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the time and plac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Can you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make sure of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succes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Before you leave the lab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make sure th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the door is locke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I want to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make sure whether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he is consciou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"/>
          <p:cNvSpPr/>
          <p:nvPr/>
        </p:nvSpPr>
        <p:spPr>
          <a:xfrm>
            <a:off x="0" y="228600"/>
            <a:ext cx="936144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6.on the/ one’s way  on the way to doing s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Christmas is on the/its w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She is on the way to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etting well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recove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He is on the way to succes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0" y="3124080"/>
            <a:ext cx="91440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calm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adj.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平静的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vt.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使平静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We should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stay calm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when we are in dang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I advised him to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calm down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and have a tal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At last I calmed down the crying bab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1" name=""/>
          <p:cNvGraphicFramePr/>
          <p:nvPr/>
        </p:nvGraphicFramePr>
        <p:xfrm>
          <a:off x="324000" y="692280"/>
          <a:ext cx="7561080" cy="5616360"/>
        </p:xfrm>
        <a:graphic>
          <a:graphicData uri="http://schemas.openxmlformats.org/drawingml/2006/table">
            <a:tbl>
              <a:tblPr/>
              <a:tblGrid>
                <a:gridCol w="2222640"/>
                <a:gridCol w="2478240"/>
                <a:gridCol w="2860200"/>
              </a:tblGrid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形容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动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静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平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干净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干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肮脏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弄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干燥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干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空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倒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由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自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暖和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暖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慢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放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2" name=""/>
          <p:cNvSpPr/>
          <p:nvPr/>
        </p:nvSpPr>
        <p:spPr>
          <a:xfrm>
            <a:off x="205092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55640" y="333360"/>
            <a:ext cx="662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/>
          <p:nvPr/>
        </p:nvSpPr>
        <p:spPr>
          <a:xfrm>
            <a:off x="0" y="228600"/>
            <a:ext cx="9144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want to make it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ea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I can do it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eas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dirty on the groun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found the hous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mp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’d better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mp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thing in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0" y="3276720"/>
            <a:ext cx="8820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8.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- to-mouth k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ace-to-fac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eart-to- hea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houlder-to should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ack- to-bac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"/>
          <p:cNvSpPr/>
          <p:nvPr/>
        </p:nvSpPr>
        <p:spPr>
          <a:xfrm>
            <a:off x="0" y="26028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e conscious of sth.     be conscious th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s he conscious enough to answer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ohn isn’t conscious of his bad man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t that time I was conscious of being watc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ean is conscious that she annoys all of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He has lost his consci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0" y="458136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0.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ress   v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挤压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ress sb. to do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ust press the button and the machine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tart right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17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"/>
          <p:cNvSpPr/>
          <p:nvPr/>
        </p:nvSpPr>
        <p:spPr>
          <a:xfrm>
            <a:off x="304920" y="228600"/>
            <a:ext cx="83977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. Listening &amp; Speaking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ive /do first aid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 first aid 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id sb. to do sth.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id sb. with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o/ come to one’s aid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ith the aid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all in one’s 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"/>
          <p:cNvSpPr/>
          <p:nvPr/>
        </p:nvSpPr>
        <p:spPr>
          <a:xfrm>
            <a:off x="0" y="22860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ess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little girl to he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had 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ess 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ound to stop the blee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o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essed the man to p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eb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0" y="321300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vive : make sb. come back to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e should try to revive a person if he l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is consci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on’t revive the wounded unless you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ow to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2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2000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77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770" fill="hold"/>
                                        <p:tgtEl>
                                          <p:spTgt spid="17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52" dur="2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"/>
          <p:cNvSpPr/>
          <p:nvPr/>
        </p:nvSpPr>
        <p:spPr>
          <a:xfrm>
            <a:off x="0" y="0"/>
            <a:ext cx="914400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2.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.He fell asleep while reading in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He fell asleep whil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e wa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ading in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.Be careful when crossing the 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Be careful when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ou 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rossing the 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.Though young, he knows a lot of                                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Though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e 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young, he knows a lo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).   If necessary, you’d better go your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If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t 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cessary, you’d better go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"/>
          <p:cNvSpPr/>
          <p:nvPr/>
        </p:nvSpPr>
        <p:spPr>
          <a:xfrm>
            <a:off x="250920" y="83664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the letters DR ABC to tell your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give first 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79280" y="2421000"/>
            <a:ext cx="878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irst, you shou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3419640" y="2349360"/>
            <a:ext cx="57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that the ac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68360" y="3068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ene is no longer danger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324000" y="378936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econd, you shou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4284720" y="3716280"/>
            <a:ext cx="468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y to get a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468360" y="386064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539640" y="4365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injured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324000" y="508464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ird, you shou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3564000" y="5084640"/>
            <a:ext cx="55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tha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468360" y="573408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’s airway is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2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/>
          <p:nvPr/>
        </p:nvSpPr>
        <p:spPr>
          <a:xfrm>
            <a:off x="0" y="907920"/>
            <a:ext cx="8675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ourth, you should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ast, you should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3851280" y="9079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 if the perso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50920" y="1628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3419640" y="2349360"/>
            <a:ext cx="57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that the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179280" y="3068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circul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7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1726920" cy="1100160"/>
          </a:xfrm>
          <a:prstGeom prst="rect">
            <a:avLst/>
          </a:prstGeom>
          <a:ln w="0">
            <a:noFill/>
          </a:ln>
        </p:spPr>
      </p:pic>
      <p:pic>
        <p:nvPicPr>
          <p:cNvPr id="1728" name="" descr=""/>
          <p:cNvPicPr/>
          <p:nvPr/>
        </p:nvPicPr>
        <p:blipFill>
          <a:blip r:embed="rId2"/>
          <a:stretch/>
        </p:blipFill>
        <p:spPr>
          <a:xfrm>
            <a:off x="4932360" y="4149720"/>
            <a:ext cx="2025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2" dur="2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731" name=""/>
          <p:cNvSpPr/>
          <p:nvPr/>
        </p:nvSpPr>
        <p:spPr>
          <a:xfrm>
            <a:off x="4003920" y="838080"/>
            <a:ext cx="5026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某人的帮助下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with the help/aid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倒转地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颠倒地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杂乱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upside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记住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keep/bear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保持镇定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tay  ca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734" name=""/>
          <p:cNvSpPr/>
          <p:nvPr/>
        </p:nvSpPr>
        <p:spPr>
          <a:xfrm>
            <a:off x="3521520" y="762120"/>
            <a:ext cx="5026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5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陷入恐慌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be/get in (a) pan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6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代表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tand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7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首先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first of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8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回答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回应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in respons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737" name=""/>
          <p:cNvSpPr/>
          <p:nvPr/>
        </p:nvSpPr>
        <p:spPr>
          <a:xfrm>
            <a:off x="3751200" y="990720"/>
            <a:ext cx="4670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9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受伤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get/be h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0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即将来到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on the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1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使情况更糟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make things w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2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翻转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倒转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roll 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740" name=""/>
          <p:cNvSpPr/>
          <p:nvPr/>
        </p:nvSpPr>
        <p:spPr>
          <a:xfrm>
            <a:off x="3602520" y="990720"/>
            <a:ext cx="4853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3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穿破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筋疲力尽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be worn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4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为了纪念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为了庆祝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in honor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5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叫来一辆救护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call for an ambul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6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吐出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pit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"/>
          <p:cNvSpPr/>
          <p:nvPr/>
        </p:nvSpPr>
        <p:spPr>
          <a:xfrm>
            <a:off x="228600" y="380880"/>
            <a:ext cx="7924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 drown vi. &amp; v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man drowned in the ri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man drowned himself in the rive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great flood drowned many houses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借酒浇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rown one’s sp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被淹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溺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get/ be drow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5638680" y="3809880"/>
            <a:ext cx="3124440" cy="2288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落水的男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drowning 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溺死 的男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drowned 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228600" y="3808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reach v./ n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伸手够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某人够的着的范围之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sb.’s rea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within the reach of s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某人够的着的范围之外，某人够不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of sb.’s r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out of the reach of s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250920" y="277920"/>
            <a:ext cx="842472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. upside down: upside-dow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boy held the book upside dow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nd pretended to be readin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ast night all the desks were turned down upside down but noting was los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6320" y="4330800"/>
            <a:ext cx="9144000" cy="29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12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If I had done----  , I would have do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----If I had known how to deal with it ,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would have helped you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/>
          <p:nvPr/>
        </p:nvSpPr>
        <p:spPr>
          <a:xfrm>
            <a:off x="228600" y="343080"/>
            <a:ext cx="89154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he had not been there, he would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t d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I had had enough money, I would have bought the b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he had been sent to hospital in ti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would be alive 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0" y="304920"/>
            <a:ext cx="9144000" cy="63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itness: observe, ob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ness to seeing/ having see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证说看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警察发现了谋杀案的证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police found the witness to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urder c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是事故的目击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was a witness to the accid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你目击了事故经过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id you witness the accid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"/>
          <p:cNvSpPr/>
          <p:nvPr/>
        </p:nvSpPr>
        <p:spPr>
          <a:xfrm>
            <a:off x="228600" y="3808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的眼泪说明他感到羞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tears witnessed the shame he fel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些事实证明了他的粗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facts are a witness to his carelessn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"/>
          <p:cNvSpPr/>
          <p:nvPr/>
        </p:nvSpPr>
        <p:spPr>
          <a:xfrm>
            <a:off x="0" y="128520"/>
            <a:ext cx="9144000" cy="72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count( be valuable/ important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重要，有价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要的不是数量而是质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 quantity but quality that counts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要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事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你记住了多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unts is how much you have remembe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每分钟都很重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minute counts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0:21:07Z</dcterms:created>
  <dc:creator>GYSZ</dc:creator>
  <dc:description/>
  <dc:language>en-US</dc:language>
  <cp:lastModifiedBy>jinma</cp:lastModifiedBy>
  <dcterms:modified xsi:type="dcterms:W3CDTF">2005-12-08T08:08:22Z</dcterms:modified>
  <cp:revision>47</cp:revision>
  <dc:subject/>
  <dc:title>幻灯片 1</dc:title>
</cp:coreProperties>
</file>